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463-15E2-43CC-9570-E2952492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D6E-43D8-4783-8B87-285BC245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0BB-9A97-4C3A-B66A-BB9C504C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CA1-B8F2-4E92-9C65-6AB1DB49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060-D426-41EC-B519-7952EC7D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E54E-6B62-4E7D-879B-D313FA9A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E3AC-B6AF-4404-B8C3-A3270674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0EF-931D-4E5D-91FD-70864FA2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9C6B-FA16-499C-AEEE-6BBE86F1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F501-B927-424F-91C6-9B9B97C5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CC8D-98C0-4DF5-855F-71524056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CB3-FA0C-4713-8E96-B3924D10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1EB6-516E-4E44-9BFE-5632C77BDF5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MARI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A PARA LA PREPARACIÓN DE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S DE PROYECTOS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 INGENIERÍ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71680" y="407196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ller de Diseño de Proces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mestre Primavera 200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. Carta Conduct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odo informe debe ir acompañada de una carta conductora, dirigida a quién corresponda, y con copias a los que correspo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a llamar la atención debe incluirse varias frases claves que entreguen el resumen y sus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r estar siempre firmada en señal de que se reconoce la responsabilidad total de la no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Image11"/>
          <p:cNvPicPr/>
          <p:nvPr/>
        </p:nvPicPr>
        <p:blipFill>
          <a:blip r:embed="rId1"/>
          <a:stretch/>
        </p:blipFill>
        <p:spPr>
          <a:xfrm>
            <a:off x="205740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4"/>
          <p:cNvGrpSpPr/>
          <p:nvPr/>
        </p:nvGrpSpPr>
        <p:grpSpPr>
          <a:xfrm>
            <a:off x="685800" y="685800"/>
            <a:ext cx="8457480" cy="1066680"/>
            <a:chOff x="685800" y="685800"/>
            <a:chExt cx="8457480" cy="1066680"/>
          </a:xfrm>
        </p:grpSpPr>
        <p:sp>
          <p:nvSpPr>
            <p:cNvPr id="65" name="Rectangle 2"/>
            <p:cNvSpPr/>
            <p:nvPr/>
          </p:nvSpPr>
          <p:spPr>
            <a:xfrm>
              <a:off x="685800" y="685800"/>
              <a:ext cx="41583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Señor                                                                                                                                    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 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 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Presente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3"/>
            <p:cNvSpPr/>
            <p:nvPr/>
          </p:nvSpPr>
          <p:spPr>
            <a:xfrm>
              <a:off x="4844160" y="685800"/>
              <a:ext cx="4299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Santiago, ..............................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Rectangle 5"/>
          <p:cNvSpPr/>
          <p:nvPr/>
        </p:nvSpPr>
        <p:spPr>
          <a:xfrm>
            <a:off x="0" y="18223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unto con la presente se adjunta el .......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l estudio de mercado efectuado se obtiene 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l desarrollo de la ingeniería 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 partir de las cotizaciones se estima ..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n vista de todos estos antecedentes se recomienda 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speramos que el contenido de este informe le sea útil para la toma de decisiones, estamos prestos a recibir cualquier opinión y/o sugerencia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Lo saludan atentamen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Firmas</a:t>
            </a:r>
            <a:r>
              <a:rPr b="0" lang="es-ES_tradnl" sz="17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2.  La Carátula del Infor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ítulo completo y auto explicatorio del Infor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mbres completos de los au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mbre de la empresa y dir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ñeta que señale el Número del Informe, la historia de su elaboración, revisión y fechas, junto con las aprobaciones y destinos cuando correspo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guir los procedimientos establecidos en las empresas junto con las normas de calidad ISO 9000 o 14000 cuando exis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age2"/>
          <p:cNvPicPr/>
          <p:nvPr/>
        </p:nvPicPr>
        <p:blipFill>
          <a:blip r:embed="rId1"/>
          <a:stretch/>
        </p:blipFill>
        <p:spPr>
          <a:xfrm>
            <a:off x="2666880" y="380880"/>
            <a:ext cx="3524400" cy="4362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Image11"/>
          <p:cNvPicPr/>
          <p:nvPr/>
        </p:nvPicPr>
        <p:blipFill>
          <a:blip r:embed="rId2"/>
          <a:stretch/>
        </p:blipFill>
        <p:spPr>
          <a:xfrm>
            <a:off x="1143000" y="4753080"/>
            <a:ext cx="70959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age2"/>
          <p:cNvPicPr/>
          <p:nvPr/>
        </p:nvPicPr>
        <p:blipFill>
          <a:blip r:embed="rId1"/>
          <a:stretch/>
        </p:blipFill>
        <p:spPr>
          <a:xfrm>
            <a:off x="2971800" y="914400"/>
            <a:ext cx="3067200" cy="469584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399960" y="-152280"/>
            <a:ext cx="8744040" cy="6553080"/>
            <a:chOff x="399960" y="-152280"/>
            <a:chExt cx="8744040" cy="6553080"/>
          </a:xfrm>
        </p:grpSpPr>
        <p:pic>
          <p:nvPicPr>
            <p:cNvPr id="74" name="Picture 3" descr="Image2"/>
            <p:cNvPicPr/>
            <p:nvPr/>
          </p:nvPicPr>
          <p:blipFill>
            <a:blip r:embed="rId2"/>
            <a:stretch/>
          </p:blipFill>
          <p:spPr>
            <a:xfrm>
              <a:off x="447840" y="5638680"/>
              <a:ext cx="86961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4" descr="Image3"/>
            <p:cNvPicPr/>
            <p:nvPr/>
          </p:nvPicPr>
          <p:blipFill>
            <a:blip r:embed="rId3"/>
            <a:stretch/>
          </p:blipFill>
          <p:spPr>
            <a:xfrm>
              <a:off x="399960" y="-152280"/>
              <a:ext cx="8744040" cy="104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3. El 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la parte crucial del Informe, preparado para responder las inquietudes de la alta ger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las conclusiones y las recomend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ir detalles sólo en el caso de que estos sean significativos para la evaluación del riesgo y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3. El 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permitir establecer qué se hizo, cómo se hizo y que se recomienda o concluy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discuta procedimientos a menos que se hayan obtenidos resultados inespe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ya gráficos de alt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mpezarse en página aparte, y ser de la menor extensión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os ingenieros jóvenes deben requerir ayuda para saber que tipo de información contendrá el Resumen Ejecutiv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4. Los Índices de 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ólo los informes largos requieren de incluir subsecciones, índices de Tablas y Fig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páginas del Informe deben estar siempre numeradas, de preferencia al centro o el costado izquierdo superior, y una viñeta descriptiva y el número del documento y revisión al pie de pág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introducción debe estar en la págin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5. 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ser un recordatorio y una guía para la lectura del informe compl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incluir la definición del problema, los antecedentes previos, las limitantes claves que determinan la solución y el cómo el proyecto fue desarrol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sta donde sea posible, entregue información de como el proyecto impacta a la empresa o la organización que lo encarg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11280" y="1484280"/>
            <a:ext cx="7920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143000" y="4392720"/>
            <a:ext cx="7643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1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Diagrama de Bloqu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2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Diagrama de Flujos Prelimina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3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Sistema de Separa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Integración de Energía del Proces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5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Completo del Diagrama de Fluj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n forma precisa e ilustrada entre otr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Diagramas de flujo completos, con identificación y viñetas claramente legi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2521080"/>
            <a:ext cx="90392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Balances de masa y energía en forma de tablas asignadas a cada corriente, con indicación de temperatura, presión, fases y flujos totales molares y másicos para cada componente y la corriente to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10203" t="16572" r="9185" b="17029"/>
          <a:stretch/>
        </p:blipFill>
        <p:spPr>
          <a:xfrm>
            <a:off x="152280" y="914400"/>
            <a:ext cx="8763120" cy="5638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agrama de Fluj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Informe Final se debe plot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528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trad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09308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Salid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diagram"/>
          <p:cNvPicPr/>
          <p:nvPr/>
        </p:nvPicPr>
        <p:blipFill>
          <a:blip r:embed="rId1"/>
          <a:stretch/>
        </p:blipFill>
        <p:spPr>
          <a:xfrm>
            <a:off x="403200" y="0"/>
            <a:ext cx="8740800" cy="430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58640" y="4292640"/>
          <a:ext cx="8226720" cy="2617920"/>
        </p:xfrm>
        <a:graphic>
          <a:graphicData uri="http://schemas.openxmlformats.org/drawingml/2006/table">
            <a:tbl>
              <a:tblPr/>
              <a:tblGrid>
                <a:gridCol w="1175040"/>
                <a:gridCol w="471240"/>
                <a:gridCol w="820800"/>
                <a:gridCol w="824040"/>
                <a:gridCol w="822240"/>
                <a:gridCol w="822240"/>
                <a:gridCol w="824040"/>
                <a:gridCol w="820800"/>
                <a:gridCol w="823680"/>
                <a:gridCol w="822600"/>
              </a:tblGrid>
              <a:tr h="572040"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mpuesto/Corrien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1[kg/día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3 [kg/día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lujo tot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 gridSpan="5"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ª (BALANCE DE ENERGIA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Oval 69"/>
          <p:cNvSpPr/>
          <p:nvPr/>
        </p:nvSpPr>
        <p:spPr>
          <a:xfrm>
            <a:off x="4957920" y="3068640"/>
            <a:ext cx="4186080" cy="1211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840" y="3362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iagrama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5881" t="12550" r="5881" b="12156"/>
          <a:stretch/>
        </p:blipFill>
        <p:spPr>
          <a:xfrm>
            <a:off x="220680" y="1209600"/>
            <a:ext cx="844560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 ...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inal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No es sólo un listado de tablas y figu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texto debe servir de guía al lec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os resultados se incluyen en figuras o tablas (que no aparezcan en forma duplicad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Sea consistente con los forma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Utilice con cuidado el color (las copias son hechas normalmente mediante fotocopia monocolor) y buena calidad de figur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Utilice los Anexos para las memorias de cálculo y no entregue detalles innecesari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7. Disc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egue más detalles sobre la forma en que obtuvo los resultados, incluyendo las razones del porqué de la selección de los procedimientos y el descarte de altern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uta los métodos específicos y las limitaciones de cualquier tipo (falta de datos, dificultades en los algoritm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8. 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incluya nunca nuevos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escribirla, discuta seriamente los resultados con los co-autores (ayuda que uno de los miembros prepare previamente una pauta de discus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resumen completo de las conclusiones debe aparecer en el Informe Ejecu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9. Recomend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acciones a seguir a partir de los resul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forma separada, la necesidad de continuar los estudios, si procede, con el alcance de estos estu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0. Referencias bibliográf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e ponen antes de los Anexos, estos deben tener una bibliografía separ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haga referencias a materiales que no ha utiliz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software no se cita, a  menos que contenga datos utilizados en los cálcu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tilice (nombre, año) en el texto, y Nombre, año, “titulo del artículo”, fuente o revista, pagin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11280" y="1484280"/>
            <a:ext cx="7920000" cy="3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sto del trabajo y Justifica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lan de Trabajo (Carta Gantt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1. Otras se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el caso de Informes extensos, incluir secciones separadas sobre seguridad industrial, estudios ambientales, los supuestos del estudio, evaluación del riesgo y los aspectos comerciales y de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2. Anex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cluya todos los anexos necesarios con los detalles del cálculo, los programas computacion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títulos auto explicativos deben ser incluidos en el Índice de los Conten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86806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Inform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971640" y="1268280"/>
            <a:ext cx="712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Introducción y objetiv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ntecedentes y Descripción del proceso diseña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Resultad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I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conomía Potenc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de Bloq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Fluj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Balances Masa y Energí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scusiones y Conclusion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Referenci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Memorias de cálcul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86806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11280" y="1484280"/>
            <a:ext cx="792000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Costo del trabajo y Justificació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Plan de Trabajo (Carta Gantt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Bibliografí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3 CuadroTexto"/>
          <p:cNvSpPr/>
          <p:nvPr/>
        </p:nvSpPr>
        <p:spPr>
          <a:xfrm>
            <a:off x="1357200" y="50007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Viernes 14 de Agosto, presentan grupo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( 10 minutos por grupo)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4 , 5 y 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A PARA LA PREPARACIÓN DE</a:t>
            </a: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S DE PROYECTOS 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 INGENIERÍ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 FINA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INFORME TÉCNICO</a:t>
            </a:r>
            <a:br>
              <a:rPr sz="2800"/>
            </a:b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REPORTE DE ACTIVIDADAES DEL PROY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990720" y="19890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1- Página de Encabezamient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2- Resumen Ejecutiv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3- Antecedentes (Introducción)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4- Objetivos y Alcanc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5- Actividades. Planos y Descripción del Proces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6- Discusión y Comentari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7- Conclusion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8- Bibliografí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9- Anexos. Memoria de Cálcul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y muchas formas de hacer estos informes ésta es una de ell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162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omendaciones gener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t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 usar lenguaje coloqu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Estructura de un Informe Técnico e Informes parciales (Tare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5639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ta conduc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át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sumen Ej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Índice de los Conten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roducción al In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resultado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scusión de l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lusione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ferencias bibli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tras s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l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9-08-06T17:36:26Z</dcterms:modified>
  <cp:revision>72</cp:revision>
  <dc:subject/>
  <dc:title>El ingeniero, etica y sociedad</dc:title>
</cp:coreProperties>
</file>