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1.xlsx" ContentType="application/vnd.openxmlformats-officedocument.spreadsheetml.shee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2A5-967C-4D3E-A1A1-019AE8AB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BB3-E873-4C4C-BEA1-4A38260F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169-FD0B-42DA-B718-54E88D02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D10-943E-4745-9FE7-6768A209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473-6666-45EC-9BAB-E75AEDF5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BFD-12BF-468E-8367-BA7DBCE8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390-3F63-434D-926B-16C191C2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C4A-42F8-4E6E-B993-13A9AFDE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C68-D525-46AA-96DB-06F8E080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96A-6D51-4EDD-B09D-C006413B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F0C-7613-40B0-B7D0-4482AA1B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E40-8325-45B2-8AE0-8ADA0E69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023C-68A2-4156-AFD0-3AAE4E16D43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-533520" y="22860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TRODUCCION A LOS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DUSTR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457200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una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Recurs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íntesis-Anális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ara Definir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formación de Recursos e Insum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ecesidades Huma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3962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Diseño Conceptual de Procesos Industr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43000" y="304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DISEÑO DE PROCESOS INDUST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10666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Times New Roman"/>
              </a:rPr>
              <a:t>Diseño en Ingeni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ctividad Recursiva de Acción-Decisición para producir los Planes por los cuales los Recursos sean Convertidos en Sistemas o Artefactos que Resuelven Necesidade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144" name="Rectangle 6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147" name="Rectangle 9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0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-228600" y="4724280"/>
          <a:ext cx="7807320" cy="98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724280"/>
                    <a:ext cx="78073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762120" y="304920"/>
          <a:ext cx="7750080" cy="95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920"/>
                    <a:ext cx="775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888840" y="838080"/>
          <a:ext cx="8255160" cy="563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8840" y="838080"/>
                    <a:ext cx="8255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685800" y="1523880"/>
          <a:ext cx="8067600" cy="779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523880"/>
                    <a:ext cx="80676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0" y="2666880"/>
          <a:ext cx="7951680" cy="1111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666880"/>
                    <a:ext cx="7951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7"/>
          <p:cNvGraphicFramePr/>
          <p:nvPr/>
        </p:nvGraphicFramePr>
        <p:xfrm>
          <a:off x="5943600" y="3581280"/>
          <a:ext cx="2928960" cy="7938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3581280"/>
                    <a:ext cx="2928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8"/>
          <p:cNvSpPr/>
          <p:nvPr/>
        </p:nvSpPr>
        <p:spPr>
          <a:xfrm>
            <a:off x="4572000" y="5867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de lo Chico a lo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-762120" y="457200"/>
          <a:ext cx="10972800" cy="5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457200"/>
                    <a:ext cx="109728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6"/>
          <a:stretch/>
        </p:blipFill>
        <p:spPr>
          <a:xfrm>
            <a:off x="2971800" y="3124080"/>
            <a:ext cx="30481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6"/>
          <p:cNvGrpSpPr/>
          <p:nvPr/>
        </p:nvGrpSpPr>
        <p:grpSpPr>
          <a:xfrm>
            <a:off x="152280" y="3733920"/>
            <a:ext cx="3047760" cy="1447200"/>
            <a:chOff x="152280" y="3733920"/>
            <a:chExt cx="3047760" cy="1447200"/>
          </a:xfrm>
        </p:grpSpPr>
        <p:sp>
          <p:nvSpPr>
            <p:cNvPr id="171" name="Text Box 7"/>
            <p:cNvSpPr/>
            <p:nvPr/>
          </p:nvSpPr>
          <p:spPr>
            <a:xfrm>
              <a:off x="2159280" y="3990960"/>
              <a:ext cx="104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8"/>
            <p:cNvGrpSpPr/>
            <p:nvPr/>
          </p:nvGrpSpPr>
          <p:grpSpPr>
            <a:xfrm>
              <a:off x="226440" y="3990960"/>
              <a:ext cx="2750040" cy="1019880"/>
              <a:chOff x="226440" y="3990960"/>
              <a:chExt cx="2750040" cy="1019880"/>
            </a:xfrm>
          </p:grpSpPr>
          <p:sp>
            <p:nvSpPr>
              <p:cNvPr id="173" name="Oval 9"/>
              <p:cNvSpPr/>
              <p:nvPr/>
            </p:nvSpPr>
            <p:spPr>
              <a:xfrm>
                <a:off x="1043640" y="4074120"/>
                <a:ext cx="1114920" cy="936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226440" y="4500000"/>
                <a:ext cx="81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>
                <a:off x="2158920" y="4500000"/>
                <a:ext cx="81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226440" y="3990960"/>
                <a:ext cx="894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13"/>
              <p:cNvSpPr/>
              <p:nvPr/>
            </p:nvSpPr>
            <p:spPr>
              <a:xfrm>
                <a:off x="1043640" y="433152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OCES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152280" y="3733920"/>
              <a:ext cx="2973600" cy="14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286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ntrada-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809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0199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Diagrama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1588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63520" y="99540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8956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4240" y="99540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2500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54720" y="99540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8788320" y="99540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878832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8788320" y="1003320"/>
            <a:ext cx="4680" cy="61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8788320" y="16207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163520" y="382284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38956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5394240" y="382284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500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254720" y="382284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8788320" y="1627200"/>
            <a:ext cx="4680" cy="21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IPOS DE DISEÑO EN INGENI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3"/>
          <p:cNvGrpSpPr/>
          <p:nvPr/>
        </p:nvGrpSpPr>
        <p:grpSpPr>
          <a:xfrm>
            <a:off x="1158840" y="995400"/>
            <a:ext cx="7629480" cy="5636520"/>
            <a:chOff x="1158840" y="995400"/>
            <a:chExt cx="7629480" cy="5636520"/>
          </a:xfrm>
        </p:grpSpPr>
        <p:sp>
          <p:nvSpPr>
            <p:cNvPr id="205" name="Rectangle 24"/>
            <p:cNvSpPr/>
            <p:nvPr/>
          </p:nvSpPr>
          <p:spPr>
            <a:xfrm>
              <a:off x="3055680" y="1008000"/>
              <a:ext cx="57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5"/>
            <p:cNvSpPr/>
            <p:nvPr/>
          </p:nvSpPr>
          <p:spPr>
            <a:xfrm>
              <a:off x="5768640" y="1008000"/>
              <a:ext cx="1256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rror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6"/>
            <p:cNvSpPr/>
            <p:nvPr/>
          </p:nvSpPr>
          <p:spPr>
            <a:xfrm>
              <a:off x="7431120" y="1008000"/>
              <a:ext cx="132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sto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158840" y="995400"/>
              <a:ext cx="4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538956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725004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11588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538956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2500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33"/>
            <p:cNvSpPr/>
            <p:nvPr/>
          </p:nvSpPr>
          <p:spPr>
            <a:xfrm>
              <a:off x="1289880" y="1633680"/>
              <a:ext cx="239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rden de Magnit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34"/>
            <p:cNvSpPr/>
            <p:nvPr/>
          </p:nvSpPr>
          <p:spPr>
            <a:xfrm>
              <a:off x="1289520" y="1978200"/>
              <a:ext cx="405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Conceptual o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5"/>
            <p:cNvSpPr/>
            <p:nvPr/>
          </p:nvSpPr>
          <p:spPr>
            <a:xfrm>
              <a:off x="1287720" y="2322360"/>
              <a:ext cx="212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Bá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36"/>
            <p:cNvSpPr/>
            <p:nvPr/>
          </p:nvSpPr>
          <p:spPr>
            <a:xfrm>
              <a:off x="1288080" y="2666880"/>
              <a:ext cx="268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de Detal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37"/>
            <p:cNvSpPr/>
            <p:nvPr/>
          </p:nvSpPr>
          <p:spPr>
            <a:xfrm>
              <a:off x="1290240" y="3013200"/>
              <a:ext cx="243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lanta Funcion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8"/>
            <p:cNvSpPr/>
            <p:nvPr/>
          </p:nvSpPr>
          <p:spPr>
            <a:xfrm>
              <a:off x="5958720" y="163368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-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39"/>
            <p:cNvSpPr/>
            <p:nvPr/>
          </p:nvSpPr>
          <p:spPr>
            <a:xfrm>
              <a:off x="6033240" y="197820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30-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40"/>
            <p:cNvSpPr/>
            <p:nvPr/>
          </p:nvSpPr>
          <p:spPr>
            <a:xfrm>
              <a:off x="6033240" y="232236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5-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41"/>
            <p:cNvSpPr/>
            <p:nvPr/>
          </p:nvSpPr>
          <p:spPr>
            <a:xfrm>
              <a:off x="6108120" y="2666880"/>
              <a:ext cx="56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-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42"/>
            <p:cNvSpPr/>
            <p:nvPr/>
          </p:nvSpPr>
          <p:spPr>
            <a:xfrm>
              <a:off x="6182640" y="30132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43"/>
            <p:cNvSpPr/>
            <p:nvPr/>
          </p:nvSpPr>
          <p:spPr>
            <a:xfrm>
              <a:off x="8006400" y="1633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44"/>
            <p:cNvSpPr/>
            <p:nvPr/>
          </p:nvSpPr>
          <p:spPr>
            <a:xfrm>
              <a:off x="7929720" y="19782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45"/>
            <p:cNvSpPr/>
            <p:nvPr/>
          </p:nvSpPr>
          <p:spPr>
            <a:xfrm>
              <a:off x="7929720" y="23223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6"/>
            <p:cNvSpPr/>
            <p:nvPr/>
          </p:nvSpPr>
          <p:spPr>
            <a:xfrm>
              <a:off x="7929720" y="26668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47"/>
            <p:cNvSpPr/>
            <p:nvPr/>
          </p:nvSpPr>
          <p:spPr>
            <a:xfrm>
              <a:off x="8006400" y="3013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8"/>
            <p:cNvSpPr/>
            <p:nvPr/>
          </p:nvSpPr>
          <p:spPr>
            <a:xfrm>
              <a:off x="11588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9"/>
            <p:cNvSpPr/>
            <p:nvPr/>
          </p:nvSpPr>
          <p:spPr>
            <a:xfrm>
              <a:off x="1163520" y="1620720"/>
              <a:ext cx="42260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50"/>
            <p:cNvSpPr/>
            <p:nvPr/>
          </p:nvSpPr>
          <p:spPr>
            <a:xfrm>
              <a:off x="538956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51"/>
            <p:cNvSpPr/>
            <p:nvPr/>
          </p:nvSpPr>
          <p:spPr>
            <a:xfrm>
              <a:off x="5394240" y="1620720"/>
              <a:ext cx="18558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2"/>
            <p:cNvSpPr/>
            <p:nvPr/>
          </p:nvSpPr>
          <p:spPr>
            <a:xfrm>
              <a:off x="72500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53"/>
            <p:cNvSpPr/>
            <p:nvPr/>
          </p:nvSpPr>
          <p:spPr>
            <a:xfrm>
              <a:off x="7254720" y="1620720"/>
              <a:ext cx="15336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4"/>
            <p:cNvSpPr/>
            <p:nvPr/>
          </p:nvSpPr>
          <p:spPr>
            <a:xfrm>
              <a:off x="11588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55"/>
            <p:cNvSpPr/>
            <p:nvPr/>
          </p:nvSpPr>
          <p:spPr>
            <a:xfrm>
              <a:off x="538956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56"/>
            <p:cNvSpPr/>
            <p:nvPr/>
          </p:nvSpPr>
          <p:spPr>
            <a:xfrm>
              <a:off x="72500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7"/>
            <p:cNvGrpSpPr/>
            <p:nvPr/>
          </p:nvGrpSpPr>
          <p:grpSpPr>
            <a:xfrm>
              <a:off x="1295280" y="2362320"/>
              <a:ext cx="7467840" cy="4269600"/>
              <a:chOff x="1295280" y="2362320"/>
              <a:chExt cx="7467840" cy="4269600"/>
            </a:xfrm>
          </p:grpSpPr>
          <p:grpSp>
            <p:nvGrpSpPr>
              <p:cNvPr id="239" name="Group 58"/>
              <p:cNvGrpSpPr/>
              <p:nvPr/>
            </p:nvGrpSpPr>
            <p:grpSpPr>
              <a:xfrm>
                <a:off x="1295280" y="4266720"/>
                <a:ext cx="7467840" cy="2365200"/>
                <a:chOff x="1295280" y="4266720"/>
                <a:chExt cx="7467840" cy="2365200"/>
              </a:xfrm>
            </p:grpSpPr>
            <p:sp>
              <p:nvSpPr>
                <p:cNvPr id="240" name="Line 59"/>
                <p:cNvSpPr/>
                <p:nvPr/>
              </p:nvSpPr>
              <p:spPr>
                <a:xfrm flipV="1">
                  <a:off x="3352680" y="4266720"/>
                  <a:ext cx="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60"/>
                <p:cNvSpPr/>
                <p:nvPr/>
              </p:nvSpPr>
              <p:spPr>
                <a:xfrm>
                  <a:off x="3352680" y="6019920"/>
                  <a:ext cx="487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rc 61"/>
                <p:cNvSpPr/>
                <p:nvPr/>
              </p:nvSpPr>
              <p:spPr>
                <a:xfrm>
                  <a:off x="3733920" y="4267080"/>
                  <a:ext cx="3695760" cy="1602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Text Box 62"/>
                <p:cNvSpPr/>
                <p:nvPr/>
              </p:nvSpPr>
              <p:spPr>
                <a:xfrm>
                  <a:off x="1295280" y="4343400"/>
                  <a:ext cx="1905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rror del Proyecto, (%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Text Box 63"/>
                <p:cNvSpPr/>
                <p:nvPr/>
              </p:nvSpPr>
              <p:spPr>
                <a:xfrm>
                  <a:off x="3962520" y="6172200"/>
                  <a:ext cx="480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antidad de Ingeniería Realiz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64"/>
              <p:cNvGrpSpPr/>
              <p:nvPr/>
            </p:nvGrpSpPr>
            <p:grpSpPr>
              <a:xfrm>
                <a:off x="3962520" y="2362320"/>
                <a:ext cx="2057400" cy="3429000"/>
                <a:chOff x="3962520" y="2362320"/>
                <a:chExt cx="2057400" cy="3429000"/>
              </a:xfrm>
            </p:grpSpPr>
            <p:sp>
              <p:nvSpPr>
                <p:cNvPr id="246" name="Line 65"/>
                <p:cNvSpPr/>
                <p:nvPr/>
              </p:nvSpPr>
              <p:spPr>
                <a:xfrm>
                  <a:off x="3962520" y="236232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6"/>
                <p:cNvSpPr/>
                <p:nvPr/>
              </p:nvSpPr>
              <p:spPr>
                <a:xfrm>
                  <a:off x="4495680" y="2514600"/>
                  <a:ext cx="38124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67"/>
                <p:cNvSpPr/>
                <p:nvPr/>
              </p:nvSpPr>
              <p:spPr>
                <a:xfrm>
                  <a:off x="5029200" y="2895480"/>
                  <a:ext cx="990720" cy="289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68"/>
                <p:cNvSpPr/>
                <p:nvPr/>
              </p:nvSpPr>
              <p:spPr>
                <a:xfrm>
                  <a:off x="4724280" y="2895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9"/>
                <p:cNvSpPr/>
                <p:nvPr/>
              </p:nvSpPr>
              <p:spPr>
                <a:xfrm>
                  <a:off x="4114800" y="2514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stos de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533520" y="1536840"/>
            <a:ext cx="8228160" cy="4846320"/>
            <a:chOff x="533520" y="1536840"/>
            <a:chExt cx="8228160" cy="4846320"/>
          </a:xfrm>
        </p:grpSpPr>
        <p:sp>
          <p:nvSpPr>
            <p:cNvPr id="253" name="Rectangle 4"/>
            <p:cNvSpPr/>
            <p:nvPr/>
          </p:nvSpPr>
          <p:spPr>
            <a:xfrm>
              <a:off x="933480" y="1882800"/>
              <a:ext cx="133020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912240" y="1905120"/>
              <a:ext cx="124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800080"/>
                  </a:solidFill>
                  <a:latin typeface="Arial"/>
                </a:rPr>
                <a:t>Concep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209680" y="1600200"/>
              <a:ext cx="1013040" cy="608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2346840" y="1668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437920" y="160020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Ing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2284200" y="1905120"/>
              <a:ext cx="927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Concep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3200400" y="1752480"/>
              <a:ext cx="220968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3581280" y="1828800"/>
              <a:ext cx="144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0000"/>
                  </a:solidFill>
                  <a:latin typeface="Arial"/>
                </a:rPr>
                <a:t>Ing. Básic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5334120" y="1752480"/>
              <a:ext cx="213336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5638680" y="1828800"/>
              <a:ext cx="1572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00ff00"/>
                  </a:solidFill>
                  <a:latin typeface="Arial"/>
                </a:rPr>
                <a:t>Ing. Detal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541440" y="1536840"/>
              <a:ext cx="8062920" cy="4846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2878200" y="2228760"/>
              <a:ext cx="23760" cy="862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4052880" y="2228760"/>
              <a:ext cx="23760" cy="86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5931000" y="2228760"/>
              <a:ext cx="23760" cy="862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8"/>
            <p:cNvGrpSpPr/>
            <p:nvPr/>
          </p:nvGrpSpPr>
          <p:grpSpPr>
            <a:xfrm>
              <a:off x="2498760" y="3019320"/>
              <a:ext cx="782640" cy="146160"/>
              <a:chOff x="2498760" y="3019320"/>
              <a:chExt cx="782640" cy="146160"/>
            </a:xfrm>
          </p:grpSpPr>
          <p:sp>
            <p:nvSpPr>
              <p:cNvPr id="268" name="Freeform 19"/>
              <p:cNvSpPr/>
              <p:nvPr/>
            </p:nvSpPr>
            <p:spPr>
              <a:xfrm>
                <a:off x="2619360" y="3079800"/>
                <a:ext cx="539640" cy="28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2498760" y="3019320"/>
                <a:ext cx="125280" cy="141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>
                <a:off x="3154320" y="3024360"/>
                <a:ext cx="127080" cy="1411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22"/>
            <p:cNvGrpSpPr/>
            <p:nvPr/>
          </p:nvGrpSpPr>
          <p:grpSpPr>
            <a:xfrm>
              <a:off x="3281400" y="3019320"/>
              <a:ext cx="1798560" cy="146160"/>
              <a:chOff x="3281400" y="3019320"/>
              <a:chExt cx="1798560" cy="146160"/>
            </a:xfrm>
          </p:grpSpPr>
          <p:sp>
            <p:nvSpPr>
              <p:cNvPr id="272" name="Freeform 23"/>
              <p:cNvSpPr/>
              <p:nvPr/>
            </p:nvSpPr>
            <p:spPr>
              <a:xfrm>
                <a:off x="3402000" y="3079800"/>
                <a:ext cx="1557360" cy="28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>
                <a:off x="3281400" y="3019320"/>
                <a:ext cx="12528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>
                <a:off x="4954680" y="3024360"/>
                <a:ext cx="125280" cy="141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6"/>
            <p:cNvGrpSpPr/>
            <p:nvPr/>
          </p:nvGrpSpPr>
          <p:grpSpPr>
            <a:xfrm>
              <a:off x="5079960" y="3019320"/>
              <a:ext cx="2035080" cy="146160"/>
              <a:chOff x="5079960" y="3019320"/>
              <a:chExt cx="2035080" cy="146160"/>
            </a:xfrm>
          </p:grpSpPr>
          <p:sp>
            <p:nvSpPr>
              <p:cNvPr id="276" name="Freeform 27"/>
              <p:cNvSpPr/>
              <p:nvPr/>
            </p:nvSpPr>
            <p:spPr>
              <a:xfrm>
                <a:off x="5202360" y="3079800"/>
                <a:ext cx="1790640" cy="28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8"/>
              <p:cNvSpPr/>
              <p:nvPr/>
            </p:nvSpPr>
            <p:spPr>
              <a:xfrm>
                <a:off x="5079960" y="3019320"/>
                <a:ext cx="127080" cy="14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9"/>
              <p:cNvSpPr/>
              <p:nvPr/>
            </p:nvSpPr>
            <p:spPr>
              <a:xfrm>
                <a:off x="6989760" y="3024360"/>
                <a:ext cx="125280" cy="141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Rectangle 30"/>
            <p:cNvSpPr/>
            <p:nvPr/>
          </p:nvSpPr>
          <p:spPr>
            <a:xfrm>
              <a:off x="7387920" y="2133720"/>
              <a:ext cx="137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Funcio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0" name="Object 31"/>
            <p:cNvGraphicFramePr/>
            <p:nvPr/>
          </p:nvGraphicFramePr>
          <p:xfrm>
            <a:off x="533520" y="2286000"/>
            <a:ext cx="7391160" cy="392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81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7391160" cy="39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Line 32"/>
            <p:cNvSpPr/>
            <p:nvPr/>
          </p:nvSpPr>
          <p:spPr>
            <a:xfrm>
              <a:off x="1676520" y="2133720"/>
              <a:ext cx="838080" cy="6094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3"/>
            <p:cNvSpPr/>
            <p:nvPr/>
          </p:nvSpPr>
          <p:spPr>
            <a:xfrm>
              <a:off x="2895480" y="2209680"/>
              <a:ext cx="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4"/>
            <p:cNvSpPr/>
            <p:nvPr/>
          </p:nvSpPr>
          <p:spPr>
            <a:xfrm>
              <a:off x="2438280" y="31240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35"/>
            <p:cNvSpPr/>
            <p:nvPr/>
          </p:nvSpPr>
          <p:spPr>
            <a:xfrm>
              <a:off x="4038480" y="220968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6"/>
            <p:cNvSpPr/>
            <p:nvPr/>
          </p:nvSpPr>
          <p:spPr>
            <a:xfrm>
              <a:off x="3200400" y="3124080"/>
              <a:ext cx="213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7"/>
            <p:cNvSpPr/>
            <p:nvPr/>
          </p:nvSpPr>
          <p:spPr>
            <a:xfrm>
              <a:off x="5943600" y="2209680"/>
              <a:ext cx="0" cy="9144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8"/>
            <p:cNvSpPr/>
            <p:nvPr/>
          </p:nvSpPr>
          <p:spPr>
            <a:xfrm>
              <a:off x="5334120" y="3124080"/>
              <a:ext cx="20574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39"/>
            <p:cNvSpPr/>
            <p:nvPr/>
          </p:nvSpPr>
          <p:spPr>
            <a:xfrm flipH="1">
              <a:off x="7467120" y="2362320"/>
              <a:ext cx="68580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 partir de tolueno (Proceso H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50920" y="1197000"/>
            <a:ext cx="889308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acciones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olueno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-----&gt;     Benceno + C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Bencen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&lt;====&gt;     Difenilo +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mperatura de reacción &gt; 1150ºC  (velocidad de reacción alt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ión en el reactor: 500 p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lectividad (S)  = moles de benceno en la salida del reactor / moles de tolueno convert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 = 1 - 0.0036 / (1 -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)1.544 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&lt;  0.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versión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moles de tolueno convertidos en el reactor / moles de tolueno alimentados al re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se gas y no se utilizan cataliz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AGRAMA DE ENTRADA-SALIDA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412920" y="2250360"/>
            <a:ext cx="8150400" cy="2731320"/>
            <a:chOff x="412920" y="2250360"/>
            <a:chExt cx="8150400" cy="2731320"/>
          </a:xfrm>
        </p:grpSpPr>
        <p:sp>
          <p:nvSpPr>
            <p:cNvPr id="294" name="Rectangle 5"/>
            <p:cNvSpPr/>
            <p:nvPr/>
          </p:nvSpPr>
          <p:spPr>
            <a:xfrm>
              <a:off x="2959200" y="326700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>
              <a:off x="1351080" y="36464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1351080" y="40924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8"/>
            <p:cNvSpPr/>
            <p:nvPr/>
          </p:nvSpPr>
          <p:spPr>
            <a:xfrm>
              <a:off x="5330880" y="3773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>
              <a:off x="5078520" y="49816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0"/>
            <p:cNvSpPr/>
            <p:nvPr/>
          </p:nvSpPr>
          <p:spPr>
            <a:xfrm flipV="1">
              <a:off x="5078520" y="447336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 flipV="1">
              <a:off x="5962680" y="282060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5330880" y="332892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H="1">
              <a:off x="3371400" y="282096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3371760" y="282096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>
              <a:off x="4033800" y="227556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6"/>
            <p:cNvSpPr/>
            <p:nvPr/>
          </p:nvSpPr>
          <p:spPr>
            <a:xfrm>
              <a:off x="412920" y="316476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>
              <a:off x="723240" y="409176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6396840" y="324072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>
              <a:off x="5245200" y="438372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5962680" y="282096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>
              <a:off x="5626800" y="225036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2"/>
            <p:cNvSpPr/>
            <p:nvPr/>
          </p:nvSpPr>
          <p:spPr>
            <a:xfrm>
              <a:off x="3219480" y="333792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>
              <a:off x="6160680" y="380052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457200" y="29718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6" name="Group 4"/>
          <p:cNvGrpSpPr/>
          <p:nvPr/>
        </p:nvGrpSpPr>
        <p:grpSpPr>
          <a:xfrm>
            <a:off x="1477440" y="259200"/>
            <a:ext cx="6417000" cy="2706120"/>
            <a:chOff x="1477440" y="259200"/>
            <a:chExt cx="6417000" cy="2706120"/>
          </a:xfrm>
        </p:grpSpPr>
        <p:sp>
          <p:nvSpPr>
            <p:cNvPr id="317" name="Text Box 5"/>
            <p:cNvSpPr/>
            <p:nvPr/>
          </p:nvSpPr>
          <p:spPr>
            <a:xfrm>
              <a:off x="4168440" y="2592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6555600" y="25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7"/>
            <p:cNvGrpSpPr/>
            <p:nvPr/>
          </p:nvGrpSpPr>
          <p:grpSpPr>
            <a:xfrm>
              <a:off x="1477440" y="804240"/>
              <a:ext cx="6417000" cy="2161080"/>
              <a:chOff x="1477440" y="804240"/>
              <a:chExt cx="6417000" cy="216108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3093840" y="125064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9"/>
              <p:cNvSpPr/>
              <p:nvPr/>
            </p:nvSpPr>
            <p:spPr>
              <a:xfrm>
                <a:off x="1485720" y="1630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10"/>
              <p:cNvSpPr/>
              <p:nvPr/>
            </p:nvSpPr>
            <p:spPr>
              <a:xfrm>
                <a:off x="1485720" y="20761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11"/>
              <p:cNvSpPr/>
              <p:nvPr/>
            </p:nvSpPr>
            <p:spPr>
              <a:xfrm>
                <a:off x="5465520" y="175716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2"/>
              <p:cNvSpPr/>
              <p:nvPr/>
            </p:nvSpPr>
            <p:spPr>
              <a:xfrm>
                <a:off x="5213160" y="29653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3"/>
              <p:cNvSpPr/>
              <p:nvPr/>
            </p:nvSpPr>
            <p:spPr>
              <a:xfrm flipV="1">
                <a:off x="5213160" y="245700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4"/>
              <p:cNvSpPr/>
              <p:nvPr/>
            </p:nvSpPr>
            <p:spPr>
              <a:xfrm flipV="1">
                <a:off x="6097320" y="80424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5"/>
              <p:cNvSpPr/>
              <p:nvPr/>
            </p:nvSpPr>
            <p:spPr>
              <a:xfrm>
                <a:off x="5465520" y="131256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6"/>
              <p:cNvSpPr/>
              <p:nvPr/>
            </p:nvSpPr>
            <p:spPr>
              <a:xfrm flipH="1">
                <a:off x="3506760" y="80460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7"/>
              <p:cNvSpPr/>
              <p:nvPr/>
            </p:nvSpPr>
            <p:spPr>
              <a:xfrm>
                <a:off x="3506760" y="80460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Text Box 18"/>
              <p:cNvSpPr/>
              <p:nvPr/>
            </p:nvSpPr>
            <p:spPr>
              <a:xfrm>
                <a:off x="1477440" y="1173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19"/>
              <p:cNvSpPr/>
              <p:nvPr/>
            </p:nvSpPr>
            <p:spPr>
              <a:xfrm>
                <a:off x="1689840" y="2100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0"/>
              <p:cNvSpPr/>
              <p:nvPr/>
            </p:nvSpPr>
            <p:spPr>
              <a:xfrm>
                <a:off x="5379840" y="239256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21"/>
              <p:cNvSpPr/>
              <p:nvPr/>
            </p:nvSpPr>
            <p:spPr>
              <a:xfrm>
                <a:off x="6097320" y="80460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22"/>
              <p:cNvSpPr/>
              <p:nvPr/>
            </p:nvSpPr>
            <p:spPr>
              <a:xfrm>
                <a:off x="3354120" y="132156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23"/>
              <p:cNvSpPr/>
              <p:nvPr/>
            </p:nvSpPr>
            <p:spPr>
              <a:xfrm>
                <a:off x="6627240" y="125064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920" y="486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otencial Económico d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2"/>
          <p:cNvSpPr/>
          <p:nvPr/>
        </p:nvSpPr>
        <p:spPr>
          <a:xfrm>
            <a:off x="0" y="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80"/>
                </a:solidFill>
                <a:latin typeface="Times New Roman"/>
              </a:rPr>
              <a:t>Combusti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5"/>
          <p:cNvSpPr/>
          <p:nvPr/>
        </p:nvSpPr>
        <p:spPr>
          <a:xfrm>
            <a:off x="6675480" y="182520"/>
            <a:ext cx="2468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Times New Roman"/>
              </a:rPr>
              <a:t>Fárma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92"/>
          <p:cNvGrpSpPr/>
          <p:nvPr/>
        </p:nvGrpSpPr>
        <p:grpSpPr>
          <a:xfrm>
            <a:off x="228600" y="92160"/>
            <a:ext cx="8640720" cy="6216480"/>
            <a:chOff x="228600" y="92160"/>
            <a:chExt cx="8640720" cy="6216480"/>
          </a:xfrm>
        </p:grpSpPr>
        <p:sp>
          <p:nvSpPr>
            <p:cNvPr id="45" name="Oval 73"/>
            <p:cNvSpPr/>
            <p:nvPr/>
          </p:nvSpPr>
          <p:spPr>
            <a:xfrm>
              <a:off x="3200400" y="1646280"/>
              <a:ext cx="3567240" cy="201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4"/>
            <p:cNvSpPr/>
            <p:nvPr/>
          </p:nvSpPr>
          <p:spPr>
            <a:xfrm>
              <a:off x="27468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5"/>
            <p:cNvSpPr/>
            <p:nvPr/>
          </p:nvSpPr>
          <p:spPr>
            <a:xfrm>
              <a:off x="329256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76"/>
            <p:cNvSpPr/>
            <p:nvPr/>
          </p:nvSpPr>
          <p:spPr>
            <a:xfrm>
              <a:off x="639720" y="5029200"/>
              <a:ext cx="246852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básic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77"/>
            <p:cNvSpPr/>
            <p:nvPr/>
          </p:nvSpPr>
          <p:spPr>
            <a:xfrm>
              <a:off x="3429000" y="4952880"/>
              <a:ext cx="2835360" cy="12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unitar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78"/>
            <p:cNvSpPr/>
            <p:nvPr/>
          </p:nvSpPr>
          <p:spPr>
            <a:xfrm>
              <a:off x="3749760" y="22860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ff"/>
                  </a:solidFill>
                  <a:latin typeface="Times New Roman"/>
                </a:rPr>
                <a:t>PROCES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79"/>
            <p:cNvSpPr/>
            <p:nvPr/>
          </p:nvSpPr>
          <p:spPr>
            <a:xfrm flipV="1">
              <a:off x="1279440" y="3382560"/>
              <a:ext cx="256068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80"/>
            <p:cNvSpPr/>
            <p:nvPr/>
          </p:nvSpPr>
          <p:spPr>
            <a:xfrm>
              <a:off x="6310440" y="3382920"/>
              <a:ext cx="2558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4938840" y="374976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2"/>
            <p:cNvSpPr/>
            <p:nvPr/>
          </p:nvSpPr>
          <p:spPr>
            <a:xfrm flipV="1">
              <a:off x="6218280" y="1066320"/>
              <a:ext cx="79200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3"/>
            <p:cNvSpPr/>
            <p:nvPr/>
          </p:nvSpPr>
          <p:spPr>
            <a:xfrm>
              <a:off x="2743200" y="1096920"/>
              <a:ext cx="100656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84"/>
            <p:cNvSpPr/>
            <p:nvPr/>
          </p:nvSpPr>
          <p:spPr>
            <a:xfrm>
              <a:off x="3840120" y="914400"/>
              <a:ext cx="2470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ff00"/>
                  </a:solidFill>
                  <a:latin typeface="Times New Roman"/>
                </a:rPr>
                <a:t>Aliment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86"/>
            <p:cNvSpPr/>
            <p:nvPr/>
          </p:nvSpPr>
          <p:spPr>
            <a:xfrm>
              <a:off x="3840120" y="92160"/>
              <a:ext cx="2470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Chemical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6095880" y="5029200"/>
              <a:ext cx="274320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88"/>
            <p:cNvSpPr/>
            <p:nvPr/>
          </p:nvSpPr>
          <p:spPr>
            <a:xfrm>
              <a:off x="6095880" y="50292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 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la ingenierí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0"/>
            <p:cNvSpPr/>
            <p:nvPr/>
          </p:nvSpPr>
          <p:spPr>
            <a:xfrm>
              <a:off x="228600" y="990720"/>
              <a:ext cx="2925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Meta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91"/>
          <p:cNvSpPr/>
          <p:nvPr/>
        </p:nvSpPr>
        <p:spPr>
          <a:xfrm>
            <a:off x="7162920" y="91440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Times New Roman"/>
              </a:rPr>
              <a:t>Plás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769440" cy="59389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1547640" y="62784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8072280" cy="51768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1835280" y="57340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 y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25146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cubrimiento Científ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Experimentales  1-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Piloto 1-3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ente 10- 1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ocimiento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216000" y="1484280"/>
            <a:ext cx="87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ubrimiento científico:  años 40-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Experimentales: años 6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Piloto: años 7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Pequeña Escala: años 86-00 (SM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Mediana Escala: años 94-0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Cerro Colorado, Quebrada Blanca, SBL Chuquicama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s Plantas : años 95–hasta ho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Zaldívar, Ivan-Zar, Los Bronces SBL, Escondida SBL, Collahuasi SBL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5640" y="4046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Proceso de Bio-Lixiv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de Minerales de Cobre en Pi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G Times"/>
              </a:rPr>
              <a:t>Etapas en el Desarrollo de un Proceso Industrial (Niveles del Diseño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457200" y="1752480"/>
            <a:ext cx="8305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ción y Defin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Conceptual (diagramas PFD y P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Impact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de Equipos, Instrumentación y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Económica Detal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timización Técnico-Econó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ón y Constr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miento, Ajuste, Re-Diseño y Re-Eval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457200" y="1447920"/>
          <a:ext cx="8283600" cy="502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836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Contenidos de un Proyecto de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304920" y="380880"/>
            <a:ext cx="8610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3- Fundamentos del Proceso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Reacciones químicas principal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ecanismos de regeneración de reactiv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Antecedentes termodinámicos y cinétic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4- Resultados Experimentales de Etapas Principale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diseño de las etap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escalamient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onsumos específicos de principales insum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5- Diseño de Diagramas y Evaluación de Alternativ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Diagramas: Entrada-Salida, Bloques, Flujos, Instrument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Balances de Masa y Energí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Evaluación Económica Simplifica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 Comparación y Selección de Alternativ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6- Memoria de Cálculo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étodos de Cálcul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Tablas de Balan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28600" y="838080"/>
            <a:ext cx="85345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Proyec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la realización de una actividad en forma programada y organizada de acuerdo a una cierta necesidad ó problema a resol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trabajo en proyectos es una de las principales actividades que hoy en día todo profesional debe enfrentar en su mundo lab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royecto consta de varias partes, com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 Una propuesta de proyecto que un cliente debe especific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 Informes de actividades contratados de acue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 Entrega de la obra final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studio completo, Pla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228600"/>
            <a:ext cx="883908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Industrias de Procesos Quím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men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bebidas, azúcar, jugos, conservas, congelados, lácte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Vi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cervez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ustibl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róleo, carbón, gas natural, gasolina,  lubricantes y deriv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iodiesel, bietanol, biogas, H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os Quím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ánicos (petroquímicos, solventes, caucho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orgánicos (sales, fertilizante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Li, I, B, KN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losivos. Detergentes y Jabones. Pinturas y Pi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ción de Vapor y Energía Termo-Eléctric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(cemento, vidrio, cerámica, adhesivos, construc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etalurg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acero y aleaciones, metales: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Ag, Au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o, 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apel ,Celulosa, 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esque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harina y aceite de pescado, conserva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alm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ásticos, Textiles y Fibras Sint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mientos Aguas, Efluentes Industriales (Gases, RILes, RIS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ármacos, Esencias, Aceite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06600" y="2511360"/>
          <a:ext cx="8370720" cy="22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3707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442880" y="4878360"/>
          <a:ext cx="6840720" cy="1558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4878360"/>
                    <a:ext cx="684072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4"/>
          <p:cNvSpPr/>
          <p:nvPr/>
        </p:nvSpPr>
        <p:spPr>
          <a:xfrm>
            <a:off x="380880" y="228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Un proyecto de ingeniería conceptual de un proceso industrial consiste en realizar un conjunto de actividades para generar un diagrama de flujos e instrumentación del proce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Este Proyecto sirve para realizar una evaluación preliminar de un posible nuevo negocio industrial ó lograr una mejora técnica, “ambiental” y/o económica de un proceso exist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143000" y="480060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609480" y="1523880"/>
            <a:ext cx="8153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 (a lo menos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 y/o cientifcas (a lo menos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, 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  (OPCIONAL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609480" y="15238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428840" y="2714760"/>
            <a:ext cx="2404800" cy="3824280"/>
          </a:xfrm>
          <a:prstGeom prst="rect">
            <a:avLst/>
          </a:prstGeom>
          <a:ln w="0">
            <a:noFill/>
          </a:ln>
        </p:spPr>
      </p:pic>
      <p:sp>
        <p:nvSpPr>
          <p:cNvPr id="374" name="4 CuadroTexto"/>
          <p:cNvSpPr/>
          <p:nvPr/>
        </p:nvSpPr>
        <p:spPr>
          <a:xfrm>
            <a:off x="4071960" y="3143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ICLOPEDIA QUIMICA KIRK OT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5 CuadroTexto"/>
          <p:cNvSpPr/>
          <p:nvPr/>
        </p:nvSpPr>
        <p:spPr>
          <a:xfrm>
            <a:off x="4500720" y="457200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7 de Agosto, presentan grupos, justificando la selección del mate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3 minutos por integr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,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1143000" y="439272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611280" y="1484280"/>
            <a:ext cx="79200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Trabajo (Carta Gant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3 CuadroTexto"/>
          <p:cNvSpPr/>
          <p:nvPr/>
        </p:nvSpPr>
        <p:spPr>
          <a:xfrm>
            <a:off x="1357200" y="5500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14 de Agosto, presentan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10 minutos por grupo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 , 5 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- Página de Encabez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 Resumen Ejecu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 Antecedentes (Introduc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 Objetivos y Alc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 Actividades. Planos y Descripción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 Discusión y Co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 Bibliograf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- Anexos. Memoria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Fco. Graci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mila Cabezas, Jorge Lascani, Daniela López,Felipe Zuñig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roducción de combustibles a partir de Macroalgas (M.Elena y M. 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los Aguilera M., Osvaldo Rodriguez C.,Diego Guiachetti T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Bracho, Javier Carrillo,Francisco Contreras,Rodrigo Varel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4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on de bioga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bastian Juri, Daniela Robledo, Elisa Rubí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3 Rectángulo"/>
          <p:cNvSpPr/>
          <p:nvPr/>
        </p:nvSpPr>
        <p:spPr>
          <a:xfrm>
            <a:off x="2796120" y="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MAS Y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424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tías Ortega, José Miguel Carrasco, Sing-hi Wang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6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 (M. Elena y M.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Díaz, Natalia Moraga, Sebastián Porra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7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3/d, 2 g/L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lfato, Norma aguas superficiales).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aniela Ugalde H.,Igor Saavedra, Constanza Cohen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8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talia Jiménez, María Loreto Rodríguez, Javier Pérez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143000" y="0"/>
          <a:ext cx="737244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737244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838080" y="171360"/>
          <a:ext cx="7867800" cy="668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1360"/>
                    <a:ext cx="78678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a50021"/>
                </a:solidFill>
                <a:latin typeface="Times New Roman"/>
              </a:rPr>
              <a:t>DISEÑO CONCEPTUAL DE PROCESOS INDUSTRI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4"/>
          <p:cNvGrpSpPr/>
          <p:nvPr/>
        </p:nvGrpSpPr>
        <p:grpSpPr>
          <a:xfrm>
            <a:off x="1175760" y="2071800"/>
            <a:ext cx="7071840" cy="4126320"/>
            <a:chOff x="1175760" y="2071800"/>
            <a:chExt cx="7071840" cy="4126320"/>
          </a:xfrm>
        </p:grpSpPr>
        <p:sp>
          <p:nvSpPr>
            <p:cNvPr id="69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1175760" y="2141640"/>
              <a:ext cx="2447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MATERIAS PRIM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1326240" y="3132000"/>
              <a:ext cx="12650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6594120" y="2395440"/>
              <a:ext cx="1653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3333cc"/>
                  </a:solidFill>
                  <a:latin typeface="Times New Roman"/>
                </a:rPr>
                <a:t>PRODUCT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3924360" y="2565360"/>
              <a:ext cx="22017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000000"/>
                  </a:solidFill>
                  <a:latin typeface="Times New Roman"/>
                </a:rPr>
                <a:t>PROCES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536120" y="4681440"/>
              <a:ext cx="27709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ONOCIMI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GENIER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RECURSOS HUMAN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ENERG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APITAL, $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6334920" y="4448160"/>
              <a:ext cx="16477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0000"/>
                  </a:solidFill>
                  <a:latin typeface="Times New Roman"/>
                </a:rPr>
                <a:t>DISEÑ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533520" y="514440"/>
          <a:ext cx="8076960" cy="28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4440"/>
                    <a:ext cx="807696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533520" y="2590920"/>
          <a:ext cx="8076960" cy="40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8076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TRUCTURA GENERAL DE UN PROCES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219320" y="457200"/>
          <a:ext cx="73152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3152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4"/>
          <p:cNvSpPr/>
          <p:nvPr/>
        </p:nvSpPr>
        <p:spPr>
          <a:xfrm>
            <a:off x="684360" y="333360"/>
            <a:ext cx="143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732720" y="40464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403280" y="3429000"/>
            <a:ext cx="727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8728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Tratamientos de RILes, 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549360" y="-228600"/>
            <a:ext cx="8594280" cy="5562720"/>
            <a:chOff x="549360" y="-228600"/>
            <a:chExt cx="8594280" cy="5562720"/>
          </a:xfrm>
        </p:grpSpPr>
        <p:grpSp>
          <p:nvGrpSpPr>
            <p:cNvPr id="92" name="Group 3"/>
            <p:cNvGrpSpPr/>
            <p:nvPr/>
          </p:nvGrpSpPr>
          <p:grpSpPr>
            <a:xfrm>
              <a:off x="549360" y="242640"/>
              <a:ext cx="8594280" cy="5091480"/>
              <a:chOff x="549360" y="242640"/>
              <a:chExt cx="8594280" cy="509148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1555200" y="969840"/>
                <a:ext cx="2926080" cy="19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5761800" y="1060920"/>
                <a:ext cx="2468880" cy="1636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6"/>
              <p:cNvSpPr/>
              <p:nvPr/>
            </p:nvSpPr>
            <p:spPr>
              <a:xfrm>
                <a:off x="5853240" y="1424520"/>
                <a:ext cx="246888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D DE INTERCAMBIADO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 CA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 flipV="1">
                <a:off x="384120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549360" y="160632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1463760" y="46976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0"/>
              <p:cNvSpPr/>
              <p:nvPr/>
            </p:nvSpPr>
            <p:spPr>
              <a:xfrm>
                <a:off x="1463760" y="524340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1"/>
              <p:cNvSpPr/>
              <p:nvPr/>
            </p:nvSpPr>
            <p:spPr>
              <a:xfrm>
                <a:off x="384120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2"/>
              <p:cNvSpPr/>
              <p:nvPr/>
            </p:nvSpPr>
            <p:spPr>
              <a:xfrm>
                <a:off x="329256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3"/>
              <p:cNvSpPr/>
              <p:nvPr/>
            </p:nvSpPr>
            <p:spPr>
              <a:xfrm>
                <a:off x="4481640" y="124272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>
                <a:off x="4481640" y="251568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>
                <a:off x="640188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676764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H="1">
                <a:off x="8230680" y="1424520"/>
                <a:ext cx="73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 flipH="1">
                <a:off x="7682040" y="469764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9"/>
              <p:cNvSpPr/>
              <p:nvPr/>
            </p:nvSpPr>
            <p:spPr>
              <a:xfrm>
                <a:off x="8962560" y="1424520"/>
                <a:ext cx="0" cy="32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>
                <a:off x="1463760" y="41522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1"/>
              <p:cNvSpPr/>
              <p:nvPr/>
            </p:nvSpPr>
            <p:spPr>
              <a:xfrm>
                <a:off x="549360" y="251568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549360" y="206100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23"/>
              <p:cNvSpPr/>
              <p:nvPr/>
            </p:nvSpPr>
            <p:spPr>
              <a:xfrm>
                <a:off x="1463760" y="1333440"/>
                <a:ext cx="320040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   D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CESOS   QUIMI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24"/>
              <p:cNvSpPr/>
              <p:nvPr/>
            </p:nvSpPr>
            <p:spPr>
              <a:xfrm>
                <a:off x="2926800" y="3788640"/>
                <a:ext cx="4755240" cy="154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5"/>
              <p:cNvSpPr/>
              <p:nvPr/>
            </p:nvSpPr>
            <p:spPr>
              <a:xfrm>
                <a:off x="549360" y="115164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Mater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6"/>
              <p:cNvSpPr/>
              <p:nvPr/>
            </p:nvSpPr>
            <p:spPr>
              <a:xfrm>
                <a:off x="549360" y="169740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im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27"/>
              <p:cNvSpPr/>
              <p:nvPr/>
            </p:nvSpPr>
            <p:spPr>
              <a:xfrm>
                <a:off x="549360" y="215172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8"/>
              <p:cNvSpPr/>
              <p:nvPr/>
            </p:nvSpPr>
            <p:spPr>
              <a:xfrm flipV="1">
                <a:off x="256104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2652480" y="24264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30"/>
              <p:cNvSpPr/>
              <p:nvPr/>
            </p:nvSpPr>
            <p:spPr>
              <a:xfrm>
                <a:off x="3841200" y="3333960"/>
                <a:ext cx="118872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1"/>
              <p:cNvSpPr/>
              <p:nvPr/>
            </p:nvSpPr>
            <p:spPr>
              <a:xfrm>
                <a:off x="38412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uministr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32"/>
              <p:cNvSpPr/>
              <p:nvPr/>
            </p:nvSpPr>
            <p:spPr>
              <a:xfrm>
                <a:off x="20124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lectr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1920960" y="3788640"/>
                <a:ext cx="8229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u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1555200" y="4334040"/>
                <a:ext cx="13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mbusti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35"/>
              <p:cNvSpPr/>
              <p:nvPr/>
            </p:nvSpPr>
            <p:spPr>
              <a:xfrm>
                <a:off x="2012400" y="4879440"/>
                <a:ext cx="640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36"/>
              <p:cNvSpPr/>
              <p:nvPr/>
            </p:nvSpPr>
            <p:spPr>
              <a:xfrm>
                <a:off x="4573080" y="196992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Frí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37"/>
              <p:cNvSpPr/>
              <p:nvPr/>
            </p:nvSpPr>
            <p:spPr>
              <a:xfrm>
                <a:off x="4573080" y="69696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38"/>
              <p:cNvSpPr/>
              <p:nvPr/>
            </p:nvSpPr>
            <p:spPr>
              <a:xfrm>
                <a:off x="6676200" y="287928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en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39"/>
              <p:cNvSpPr/>
              <p:nvPr/>
            </p:nvSpPr>
            <p:spPr>
              <a:xfrm>
                <a:off x="7682040" y="378864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fri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40"/>
              <p:cNvSpPr/>
              <p:nvPr/>
            </p:nvSpPr>
            <p:spPr>
              <a:xfrm>
                <a:off x="3841200" y="3970440"/>
                <a:ext cx="2651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S DE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41"/>
              <p:cNvSpPr/>
              <p:nvPr/>
            </p:nvSpPr>
            <p:spPr>
              <a:xfrm>
                <a:off x="4115520" y="4424760"/>
                <a:ext cx="25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deras, Turbi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 Comprim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Oxígeno, Vací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42"/>
            <p:cNvSpPr/>
            <p:nvPr/>
          </p:nvSpPr>
          <p:spPr>
            <a:xfrm>
              <a:off x="2194920" y="-228600"/>
              <a:ext cx="576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43"/>
          <p:cNvGraphicFramePr/>
          <p:nvPr/>
        </p:nvGraphicFramePr>
        <p:xfrm>
          <a:off x="876240" y="6172200"/>
          <a:ext cx="802008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6172200"/>
                    <a:ext cx="8020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Oval 44"/>
          <p:cNvSpPr/>
          <p:nvPr/>
        </p:nvSpPr>
        <p:spPr>
          <a:xfrm>
            <a:off x="5364000" y="54936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45"/>
          <p:cNvSpPr/>
          <p:nvPr/>
        </p:nvSpPr>
        <p:spPr>
          <a:xfrm>
            <a:off x="1476360" y="69228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4:00:31Z</dcterms:created>
  <dc:creator>Jesús Casas</dc:creator>
  <dc:description/>
  <dc:language>en-US</dc:language>
  <cp:lastModifiedBy>Ing Quimica</cp:lastModifiedBy>
  <dcterms:modified xsi:type="dcterms:W3CDTF">2009-08-03T18:59:04Z</dcterms:modified>
  <cp:revision>19</cp:revision>
  <dc:subject/>
  <dc:title>Sin título de diapositiva</dc:title>
</cp:coreProperties>
</file>