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E81-BF77-4D64-8C91-1B2193C4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123-771C-4C4B-82B4-F17DF4FD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1F5-8DD7-427D-AA16-4B474CA7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244-9554-4233-8DDE-3F4B5980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CAE-4867-436F-A827-BE9E06DF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BFC-AEE7-4E3F-B83A-DB92A1D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9DD-AA2E-4B3F-9C1C-2F30B11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0DB-0D0A-4A49-B00B-7E753B48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1A3-022B-4755-9ABC-3EF46E45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A86-0446-4E75-BD63-9D59F04B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93F-0EF2-491E-A94D-911ED54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CF7-7532-496A-8D9A-638B3015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4B96-D66B-414D-9A7F-D9374450407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28600" y="380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9"/>
          <p:cNvGraphicFramePr/>
          <p:nvPr/>
        </p:nvGraphicFramePr>
        <p:xfrm>
          <a:off x="1371600" y="2209680"/>
          <a:ext cx="7010280" cy="33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0102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Text Box 10" descr=""/>
          <p:cNvPicPr/>
          <p:nvPr/>
        </p:nvPicPr>
        <p:blipFill>
          <a:blip r:embed="rId3"/>
          <a:stretch/>
        </p:blipFill>
        <p:spPr>
          <a:xfrm>
            <a:off x="907920" y="2919240"/>
            <a:ext cx="7712280" cy="347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438280" y="1600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IQ-58B y BT-65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RABAJOS (SEMANAL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700280"/>
            <a:ext cx="8839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Elaboración de una Propuesta de Proyecto (2 part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Entrada-Sal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Bloq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Separa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Integración de Energí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Programación y Planificación de la Produc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Flujos  completo (infor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P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esenta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ción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al y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scrita en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84360" y="1844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ción y 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idades a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Trabajo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arta Gant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cc"/>
                </a:solidFill>
                <a:latin typeface="Times New Roman"/>
              </a:rPr>
              <a:t>PROPUESTA DE PROYECTO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ealizar un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iseño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onceptual de Proces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52388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533520" y="536400"/>
            <a:ext cx="82296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a50021"/>
                </a:solidFill>
                <a:uFillTx/>
                <a:latin typeface="Times New Roman"/>
              </a:rPr>
              <a:t>General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sarrollo de un proyecto grupal de diseño conceptual para un proceso producti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- Elaboración de un diagrama de flujos e instrumentación para un proceso productivo con los estándares de ingenie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7"/>
          <p:cNvSpPr/>
          <p:nvPr/>
        </p:nvSpPr>
        <p:spPr>
          <a:xfrm>
            <a:off x="285840" y="7858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cc99"/>
                </a:solidFill>
                <a:uFillTx/>
                <a:latin typeface="Times New Roman"/>
              </a:rPr>
              <a:t>Específ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metodologías de ing. de procesos y criterios de diseño heurísticos de procesos productivos y tratamiento de efluentes, de modo de concebir y crear nuevos diagramas de flujos e instrumentación, así como también mejorar los diagramas de procesos exist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y utilizar métodos de integración de energía, diseño de sistemas de separación y elaboración de diagramas de flujos con los estándares de ingeniería para la síntesis de productos y tratamiento de efluentes de la industria de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0"/>
          <p:cNvGraphicFramePr/>
          <p:nvPr/>
        </p:nvGraphicFramePr>
        <p:xfrm>
          <a:off x="838080" y="457200"/>
          <a:ext cx="80200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8020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971640" y="0"/>
            <a:ext cx="770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CONTENIDO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1-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2- Diseño del Diagrama de 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3- Sistema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4- Diseño de Sistemas de Sepa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5- Diseño del Sistema de Integración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6- Programación de Procesos Discontin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7- Estudio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7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 JERARQU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DISEÑ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onion-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380880" y="1447920"/>
          <a:ext cx="81918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380880" y="12952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Douglas J.M. "Conceptual Design of Chemical Processe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cGraw-Hill, New York, USA, 198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ah R.S.H., "Chemical Process Structures an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Flows".  Butterworths. Boston, USA, 199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Rudd D.F., G.J. Powers and J.J. Siirola. "Process Synthesi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rentice-Hall. Englewood Cliffs, 197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erry R.H. and D.W. Green (eds.). "Perry's Chemical Engineers' 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Handbook". 7th Edition, McGraw Hill, USA, 199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innott  R.K. "Chemical Engineering Design". Chemic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Engineering,  Vol. 6, Pergamon Press, Oxford, UK., 199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mith R.  "Chemical Process Design". McGraw-Hill, USA, 199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Seider W.D., J.D. Seader and D.R, Lewin "Process Design Principles - Synthesis, Analysis and Evaluation". John Wiley and Sons, USA., 1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2997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5800" y="304920"/>
            <a:ext cx="800100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átedras-Talle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1-2 sesiones /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eas y Presentaciones Semanales 7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de  Diseño PFD-                 1 proyecto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un Proceso Productiv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(2 Info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39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E  = Tare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C = Nota de Contro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Informes Parcial + Informe Final + Exa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F =  Nota Final (NC*0.7 + NE*0.3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/u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alización de una actividad en forma programada de acuerdo a una cierta nec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es de un Proye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Una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pues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yecto que un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Cl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be especificar, 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formes Técnic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actividades contra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trega de la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ra Fin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o estudio comple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jetiv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Realizar un Proyecto de Ingeniería Conceptual de un Proceso Industrial para generar un Diagrama de Flujos (PFD) e Instrumentación (PID) del Sistema produ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9528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ROYECTOS: Diseño Conceptual de un Proces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ara producir, recuperar, o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285840" y="14288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anticuerpos monocl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vacunas (influenza, artritis, cáncer, alcoho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combustibles a partir de Macroal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Biog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s de Renio F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de soluciones metalúrgicas mediante extracción por solventes (8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 12 g/L de 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lavalozas, limpiadores, detergentes líquidos, .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 g/L de sulfato, Norma aguas superfici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PUESTO POR 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/>
  <dc:description/>
  <dc:language>en-US</dc:language>
  <cp:lastModifiedBy>Ing Quimica</cp:lastModifiedBy>
  <cp:lastPrinted>2000-11-24T00:59:13Z</cp:lastPrinted>
  <dcterms:modified xsi:type="dcterms:W3CDTF">2009-07-23T23:05:28Z</dcterms:modified>
  <cp:revision>97</cp:revision>
  <dc:subject/>
  <dc:title>Sin título de diapositiva</dc:title>
</cp:coreProperties>
</file>