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A6D-9B2A-42EC-8049-0B4886C9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9ED-CFD5-403A-8134-883282D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828-A72A-435D-85BC-83C89A3B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D18-CCCA-4B85-93DF-94A874DC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5BC-C4DB-46D2-ADD0-61CBDAC7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BFD-C45B-4E8E-AD7F-1F6B6285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DAF-6D4A-4EA5-9836-DEEFA1C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1E7-8FC4-4AB5-A268-E846FCDD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9CB-28D0-4538-B875-C2E99B1E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814-1D06-4694-B849-799AAB2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35D-C26F-44EA-984F-5E18C824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679-886F-47B1-A443-2F4EFDD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2FD8-0ED3-4DBF-AF70-FAF2E27AE13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28600" y="380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9"/>
          <p:cNvGraphicFramePr/>
          <p:nvPr/>
        </p:nvGraphicFramePr>
        <p:xfrm>
          <a:off x="1371600" y="2209680"/>
          <a:ext cx="7010280" cy="33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701028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Text Box 10" descr=""/>
          <p:cNvPicPr/>
          <p:nvPr/>
        </p:nvPicPr>
        <p:blipFill>
          <a:blip r:embed="rId3"/>
          <a:stretch/>
        </p:blipFill>
        <p:spPr>
          <a:xfrm>
            <a:off x="907920" y="2919240"/>
            <a:ext cx="7712280" cy="347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2438280" y="1600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IQ-58B y BT-65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RABAJOS (SEMANAL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700280"/>
            <a:ext cx="8839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Elaboración de una Propuesta de Proyecto (2 part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Entrada-Sal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Bloq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Separa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 los Sistemas de Integración de Energí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Programación y Planificación de la Producc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MX" sz="2600" spc="-1" strike="noStrike">
                <a:solidFill>
                  <a:srgbClr val="a50021"/>
                </a:solidFill>
                <a:latin typeface="Times New Roman"/>
              </a:rPr>
              <a:t>Diseño del Diagrama de Flujos  completo (infor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P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esenta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ción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O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ral y </a:t>
            </a:r>
            <a:r>
              <a:rPr b="1" lang="es-MX" sz="2800" spc="-1" strike="noStrike">
                <a:solidFill>
                  <a:srgbClr val="3333cc"/>
                </a:solidFill>
                <a:latin typeface="Arial"/>
                <a:ea typeface="Arial"/>
              </a:rPr>
              <a:t>E</a:t>
            </a: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scrita en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4360" y="1844640"/>
            <a:ext cx="7696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ción y Antecedentes Bibli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tividades a Rea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sto del Trabajo y Just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lan de Trabajo 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arta Gant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ibliograf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cc"/>
                </a:solidFill>
                <a:latin typeface="Times New Roman"/>
              </a:rPr>
              <a:t>PROPUESTA DE PROYECTO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ealizar un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iseño </a:t>
            </a:r>
            <a:r>
              <a:rPr b="1" lang="es-MX" sz="32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es-ES" sz="3200" spc="-1" strike="noStrike">
                <a:solidFill>
                  <a:srgbClr val="a50021"/>
                </a:solidFill>
                <a:latin typeface="Times New Roman"/>
              </a:rPr>
              <a:t>onceptual de Proces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úsqueda Bibliográfica del Tema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152388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  <a:ea typeface="Arial"/>
              </a:rPr>
              <a:t>Búsqueda e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nciclopedias Tecno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ib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emorias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Revis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 (sitios universit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Oficina de Patentes (Nacionales e Interna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isión Nacional del Medio Ambiente (DIA, EIA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6"/>
          <p:cNvSpPr/>
          <p:nvPr/>
        </p:nvSpPr>
        <p:spPr>
          <a:xfrm>
            <a:off x="533520" y="536400"/>
            <a:ext cx="822960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a50021"/>
                </a:solidFill>
                <a:uFillTx/>
                <a:latin typeface="Times New Roman"/>
              </a:rPr>
              <a:t>General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sarrollo de un proyecto grupal de diseño conceptual para un proceso productiv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- Elaboración de un diagrama de flujos e instrumentación para un proceso productivo con los estándares de ingenier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OBJETIVO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0"/>
          <p:cNvGraphicFramePr/>
          <p:nvPr/>
        </p:nvGraphicFramePr>
        <p:xfrm>
          <a:off x="457200" y="1295280"/>
          <a:ext cx="809640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096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7"/>
          <p:cNvSpPr/>
          <p:nvPr/>
        </p:nvSpPr>
        <p:spPr>
          <a:xfrm>
            <a:off x="285840" y="7858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cc99"/>
                </a:solidFill>
                <a:uFillTx/>
                <a:latin typeface="Times New Roman"/>
              </a:rPr>
              <a:t>Específ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metodologías de ing. de procesos y criterios de diseño heurísticos de procesos productivos y tratamiento de efluentes, de modo de concebir y crear nuevos diagramas de flujos e instrumentación, así como también mejorar los diagramas de procesos exist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- Aprender y utilizar métodos de integración de energía, diseño de sistemas de separación y elaboración de diagramas de flujos con los estándares de ingeniería para la síntesis de productos y tratamiento de efluentes de la industria de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0"/>
          <p:cNvGraphicFramePr/>
          <p:nvPr/>
        </p:nvGraphicFramePr>
        <p:xfrm>
          <a:off x="838080" y="4572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971640" y="0"/>
            <a:ext cx="770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TENIDOS</a:t>
            </a: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1- Int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2- Diseño del Diagrama de  Flu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3- Sistema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4- Diseño de Sistemas de Sepa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5- Diseño del Sistema de Integración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6- Programación de Procesos Discontinu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7- Estudio de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7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 JERARQU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DISEÑO DE PROCES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onion-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380880" y="1447920"/>
          <a:ext cx="81918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1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380880" y="12952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1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Douglas J.M. "Conceptual Design of Chemical Processe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cGraw-Hill, New York, USA, 198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2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Mah R.S.H., "Chemical Process Structures and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Flows".  Butterworths. Boston, USA, 199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3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Rudd D.F., G.J. Powers and J.J. Siirola. "Process Synthesis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rentice-Hall. Englewood Cliffs, 197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4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Perry R.H. and D.W. Green (eds.). "Perry's Chemical Engineers' 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Handbook". 7th Edition, McGraw Hill, USA, 199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5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innott  R.K. "Chemical Engineering Design". Chemic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Engineering,  Vol. 6, Pergamon Press, Oxford, UK., 199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6-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a50021"/>
                </a:solidFill>
                <a:latin typeface="Times New Roman"/>
              </a:rPr>
              <a:t>Smith R.  "Chemical Process Design". McGraw-Hill, USA, 199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7-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Seider W.D., J.D. Seader and D.R, Lewin "Process Design Principles - Synthesis, Analysis and Evaluation". John Wiley and Sons, USA., 1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55640" y="29973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VAL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304920"/>
            <a:ext cx="800100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átedras-Talle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1-2 sesiones /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eas y Presentaciones Semanales 7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de  Diseño PFD-                 1 proyecto / semes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un Proceso Productiv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(2 In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00000" y="39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E  = Tare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C = Nota de Contro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Informes Parcial + Informe Final + Exa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F =  Nota Final (NC*0.7 + NE*0.3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/u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114300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alización de una actividad en forma programada de acuerdo a una cier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es de un Proye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Una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pues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yecto que un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be especificar, aprobar y con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formes Técnic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actividades contrat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aprob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trega de la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ra Fin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o estudio comple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644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acuerdo a la propuesta con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Objetivo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Realizar un Proyecto de Ingeniería Conceptual de un Proceso Industrial para generar un Diagrama de Flujos (PFD) e Instrumentación (PID) del Sistema produ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95280" y="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ROYECTOS: Diseño Conceptual de un Proces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a50021"/>
                </a:solidFill>
                <a:latin typeface="Arial"/>
              </a:rPr>
              <a:t>para producir, recuperar, o tra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4 CuadroTexto"/>
          <p:cNvSpPr/>
          <p:nvPr/>
        </p:nvSpPr>
        <p:spPr>
          <a:xfrm>
            <a:off x="285840" y="14288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anticuerpos monocl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vacunas (influenza, artritis, cáncer, alcoh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etanol segunda generación y de productos biorefin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combustibles a partir de Macro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Biog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Plásticos degrad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uestos de Renio F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uperación de Aluminio de soluciones metalúrgicas mediante extracción por solventes (8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 12 g/L de 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tos de Limpieza mediante planta multipropósit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lavalozas, limpiadores, detergentes líquidos, .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ducción de sulfihidrato de sodio (NaS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remoción de sulfato de aguas, (100,00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d,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 g/L de sulfato, Norma aguas superficia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PUESTO POR 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/>
  <dc:description/>
  <dc:language>en-US</dc:language>
  <cp:lastModifiedBy>Ing Quimica</cp:lastModifiedBy>
  <cp:lastPrinted>2000-11-24T00:59:13Z</cp:lastPrinted>
  <dcterms:modified xsi:type="dcterms:W3CDTF">2009-07-23T23:05:28Z</dcterms:modified>
  <cp:revision>97</cp:revision>
  <dc:subject/>
  <dc:title>Sin título de diapositiva</dc:title>
</cp:coreProperties>
</file>