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11.png" ContentType="image/png"/>
  <Override PartName="/ppt/media/image9.png" ContentType="image/png"/>
  <Override PartName="/ppt/media/image7.png" ContentType="image/png"/>
  <Override PartName="/ppt/media/image8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jpeg" ContentType="image/jpe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CF1F1-E5CA-462E-AEFA-516C02974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A9904-ADB8-4357-B1F0-3636B98BF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70745-A187-40D6-AD03-F9A80088D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9EEA9-312D-4F25-9EC3-C0A616E21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9DA3E-99E5-4A3D-9995-7C27E2AC2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A4041-9772-4A21-BB59-45F5515EE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FDC5E-A634-43AF-9ED5-A706C6F6C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C95E6-B0A8-44C0-B0E7-10120ABCB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25462-9B0C-4F05-968E-7C11164FB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75681-DD37-4BCD-9D32-45E7FA2C7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0425B-3986-48DE-BCAD-12F52CC2D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B97F6-CD70-4969-9444-9C9AF157B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00309-453E-48D5-86B2-FA386FEB4436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Diseño de Fermentado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Dimensionamiento, V o D o</a:t>
            </a:r>
            <a:r>
              <a:rPr b="0" lang="es-ES_tradnl" sz="3200" spc="-1" strike="noStrike">
                <a:solidFill>
                  <a:srgbClr val="3333cc"/>
                </a:solidFill>
                <a:latin typeface="Symbol"/>
                <a:ea typeface="Symbol"/>
              </a:rPr>
              <a:t>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amaño del fermentador    Ecuaciones de Diseño OK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ireación y Agitación, P y 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mite una adecuada Transferencia de O</a:t>
            </a:r>
            <a:r>
              <a:rPr b="0" lang="es-ES_tradnl" sz="16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 energía y una buena mezcl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00"/>
              </a:spcBef>
              <a:buClr>
                <a:srgbClr val="ff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e determinan potencias, velocidad de agit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00"/>
              </a:spcBef>
              <a:buClr>
                <a:srgbClr val="ff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lujos de Ai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scalamiento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oratorio </a:t>
            </a:r>
            <a:r>
              <a:rPr b="0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lanta Piloto</a:t>
            </a:r>
            <a:r>
              <a:rPr b="0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Escala Industri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Instrumentación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ar variables del proce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Control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a las variables del proce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68360" y="404640"/>
            <a:ext cx="820728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7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Por otra parte, el crecimiento microbiano se puede representar po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7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1C</a:t>
            </a:r>
            <a:r>
              <a:rPr b="0" lang="es-ES_tradnl" sz="3200" spc="-1" strike="noStrike" baseline="-25000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0" lang="es-ES_tradnl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H</a:t>
            </a:r>
            <a:r>
              <a:rPr b="0" lang="es-ES_tradnl" sz="3200" spc="-1" strike="noStrike" baseline="-25000">
                <a:solidFill>
                  <a:srgbClr val="3333cc"/>
                </a:solidFill>
                <a:latin typeface="Times New Roman"/>
                <a:ea typeface="Times New Roman"/>
              </a:rPr>
              <a:t>b</a:t>
            </a:r>
            <a:r>
              <a:rPr b="0" lang="es-ES_tradnl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O</a:t>
            </a:r>
            <a:r>
              <a:rPr b="0" lang="es-ES_tradnl" sz="3200" spc="-1" strike="noStrike" baseline="-25000">
                <a:solidFill>
                  <a:srgbClr val="3333cc"/>
                </a:solidFill>
                <a:latin typeface="Times New Roman"/>
                <a:ea typeface="Times New Roman"/>
              </a:rPr>
              <a:t>C</a:t>
            </a:r>
            <a:r>
              <a:rPr b="0" lang="es-ES_tradnl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+ m</a:t>
            </a:r>
            <a:r>
              <a:rPr b="0" lang="es-ES_tradnl" sz="3200" spc="-1" strike="noStrike" baseline="-25000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r>
              <a:rPr b="0" lang="es-ES_tradnl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H</a:t>
            </a:r>
            <a:r>
              <a:rPr b="0" lang="es-ES_tradnl" sz="3200" spc="-1" strike="noStrike" baseline="-25000">
                <a:solidFill>
                  <a:srgbClr val="3333cc"/>
                </a:solidFill>
                <a:latin typeface="Times New Roman"/>
                <a:ea typeface="Times New Roman"/>
              </a:rPr>
              <a:t>3</a:t>
            </a:r>
            <a:r>
              <a:rPr b="0" lang="es-ES_tradnl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+ </a:t>
            </a:r>
            <a:r>
              <a:rPr b="0" lang="es-ES_tradnl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 O</a:t>
            </a:r>
            <a:r>
              <a:rPr b="0" lang="es-ES_tradnl" sz="32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0" lang="es-ES_tradnl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r>
              <a:rPr b="0" lang="es-ES_tradnl" sz="32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0" lang="es-ES_tradnl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r>
              <a:rPr b="0" lang="es-ES_tradnl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 C</a:t>
            </a:r>
            <a:r>
              <a:rPr b="0" lang="es-ES_tradnl" sz="32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d</a:t>
            </a:r>
            <a:r>
              <a:rPr b="0" lang="es-ES_tradnl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</a:t>
            </a:r>
            <a:r>
              <a:rPr b="0" lang="es-ES_tradnl" sz="32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e</a:t>
            </a:r>
            <a:r>
              <a:rPr b="0" lang="es-ES_tradnl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</a:t>
            </a:r>
            <a:r>
              <a:rPr b="0" lang="es-ES_tradnl" sz="32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f</a:t>
            </a:r>
            <a:r>
              <a:rPr b="0" lang="es-ES_tradnl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</a:t>
            </a:r>
            <a:r>
              <a:rPr b="0" lang="es-ES_tradnl" sz="32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g</a:t>
            </a:r>
            <a:r>
              <a:rPr b="0" lang="es-ES_tradnl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+ </a:t>
            </a:r>
            <a:r>
              <a:rPr b="0" lang="es-ES_tradnl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r CO</a:t>
            </a:r>
            <a:r>
              <a:rPr b="0" lang="es-ES_tradnl" sz="3200" spc="-1" strike="noStrike" baseline="-25000">
                <a:solidFill>
                  <a:srgbClr val="3333cc"/>
                </a:solidFill>
                <a:latin typeface="Times New Roman"/>
                <a:ea typeface="Times New Roman"/>
              </a:rPr>
              <a:t>2</a:t>
            </a:r>
            <a:r>
              <a:rPr b="0" lang="es-ES_tradnl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+ t H</a:t>
            </a:r>
            <a:r>
              <a:rPr b="0" lang="es-ES_tradnl" sz="3200" spc="-1" strike="noStrike" baseline="-25000">
                <a:solidFill>
                  <a:srgbClr val="3333cc"/>
                </a:solidFill>
                <a:latin typeface="Times New Roman"/>
                <a:ea typeface="Times New Roman"/>
              </a:rPr>
              <a:t>2</a:t>
            </a:r>
            <a:r>
              <a:rPr b="0" lang="es-ES_tradnl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O + u C</a:t>
            </a:r>
            <a:r>
              <a:rPr b="0" lang="es-ES_tradnl" sz="3200" spc="-1" strike="noStrike" baseline="-25000">
                <a:solidFill>
                  <a:srgbClr val="3333cc"/>
                </a:solidFill>
                <a:latin typeface="Times New Roman"/>
                <a:ea typeface="Times New Roman"/>
              </a:rPr>
              <a:t>h</a:t>
            </a:r>
            <a:r>
              <a:rPr b="0" lang="es-ES_tradnl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H</a:t>
            </a:r>
            <a:r>
              <a:rPr b="0" lang="es-ES_tradnl" sz="3200" spc="-1" strike="noStrike" baseline="-25000">
                <a:solidFill>
                  <a:srgbClr val="3333cc"/>
                </a:solidFill>
                <a:latin typeface="Times New Roman"/>
                <a:ea typeface="Times New Roman"/>
              </a:rPr>
              <a:t>i</a:t>
            </a:r>
            <a:r>
              <a:rPr b="0" lang="es-ES_tradnl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O</a:t>
            </a:r>
            <a:r>
              <a:rPr b="0" lang="es-ES_tradnl" sz="3200" spc="-1" strike="noStrike" baseline="-25000">
                <a:solidFill>
                  <a:srgbClr val="3333cc"/>
                </a:solidFill>
                <a:latin typeface="Times New Roman"/>
                <a:ea typeface="Times New Roman"/>
              </a:rPr>
              <a:t>j</a:t>
            </a:r>
            <a:r>
              <a:rPr b="0" lang="es-ES_tradnl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</a:t>
            </a:r>
            <a:r>
              <a:rPr b="0" lang="es-ES_tradnl" sz="3200" spc="-1" strike="noStrike" baseline="-25000">
                <a:solidFill>
                  <a:srgbClr val="3333cc"/>
                </a:solidFill>
                <a:latin typeface="Times New Roman"/>
                <a:ea typeface="Times New Roman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7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C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Times New Roman"/>
                <a:ea typeface="Times New Roman"/>
              </a:rPr>
              <a:t>d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H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Times New Roman"/>
                <a:ea typeface="Times New Roman"/>
              </a:rPr>
              <a:t>e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O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Times New Roman"/>
                <a:ea typeface="Times New Roman"/>
              </a:rPr>
              <a:t>f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Times New Roman"/>
                <a:ea typeface="Times New Roman"/>
              </a:rPr>
              <a:t>g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: Biomas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7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C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Times New Roman"/>
                <a:ea typeface="Times New Roman"/>
              </a:rPr>
              <a:t>h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H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Times New Roman"/>
                <a:ea typeface="Times New Roman"/>
              </a:rPr>
              <a:t>i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O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Times New Roman"/>
                <a:ea typeface="Times New Roman"/>
              </a:rPr>
              <a:t>j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Times New Roman"/>
                <a:ea typeface="Times New Roman"/>
              </a:rPr>
              <a:t>k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: Metabolito extracelu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7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539640" y="404280"/>
            <a:ext cx="813600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7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De acuerdo con la ecuación anterior, el rendimiento de oxígeno en células se puede calcular por medio de la  relación entre “n” y “q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7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Si no se producen Metabolito extracelular, “u” igual a cero </a:t>
            </a:r>
            <a:r>
              <a:rPr b="0" lang="es-ES_tradnl" sz="2800" spc="-1" strike="noStrike">
                <a:solidFill>
                  <a:srgbClr val="3333cc"/>
                </a:solidFill>
                <a:latin typeface="Wingdings"/>
                <a:ea typeface="Wingdings"/>
              </a:rPr>
              <a:t>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1835280" y="4437000"/>
                <a:ext cx="5689440" cy="85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O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8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c</m:t>
                        </m:r>
                      </m:num>
                      <m:den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x</m:t>
                            </m:r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w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1</m:t>
                    </m:r>
                    <m:r>
                      <m:t xml:space="preserve">f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3</m:t>
                    </m:r>
                    <m:r>
                      <m:t xml:space="preserve">d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2</m:t>
                    </m:r>
                    <m:r>
                      <m:t xml:space="preserve">g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8</m:t>
                    </m:r>
                    <m:r>
                      <m:t xml:space="preserve">e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" name=""/>
          <p:cNvSpPr/>
          <p:nvPr/>
        </p:nvSpPr>
        <p:spPr>
          <a:xfrm>
            <a:off x="1116000" y="5373720"/>
            <a:ext cx="7128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w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: Peso molecular de la fuente de carbono y energ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0" y="64008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Ref: Acevedo F.,Gentina JC., Illanes A (2002) Fundamentos de Ingeniería Bioquímica, Ed. Universitarias de Valparaís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539640" y="404640"/>
            <a:ext cx="813600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7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Los valores más usuales de N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Times New Roman"/>
                <a:ea typeface="Times New Roman"/>
              </a:rPr>
              <a:t>o2</a:t>
            </a:r>
            <a:r>
              <a:rPr b="0" lang="es-ES_tradnl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están alrededor de 50 a 200 m-moles de O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Times New Roman"/>
                <a:ea typeface="Times New Roman"/>
              </a:rPr>
              <a:t>2</a:t>
            </a:r>
            <a:r>
              <a:rPr b="0" lang="es-ES_tradnl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/L h (1.6-3.2 g O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Times New Roman"/>
                <a:ea typeface="Times New Roman"/>
              </a:rPr>
              <a:t>2</a:t>
            </a:r>
            <a:r>
              <a:rPr b="0" lang="es-ES_tradnl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/ L h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7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Valores superiores a 120 m-moles de O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Times New Roman"/>
                <a:ea typeface="Times New Roman"/>
              </a:rPr>
              <a:t>2</a:t>
            </a:r>
            <a:r>
              <a:rPr b="0" lang="es-ES_tradnl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/L h son difíciles de satisfacer en equipos de diseño estándar y en condiciones de operación económic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0" y="64008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Ref: Acevedo F.,Gentina JC., Illanes A (2002) Fundamentos de Ingeniería Bioquímica, Ed. Universitarias de Valparaís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685800" y="22860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Proceso de transferencia de oxígeno (OFERT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105520" y="1066680"/>
            <a:ext cx="3733560" cy="43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Etap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i)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 seno de la burbuja a una capa interna de g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ii)  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usión en la capa interna de ga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iii) </a:t>
            </a:r>
            <a:r>
              <a:rPr b="1" lang="es-ES_tradnl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ifusión a través de una capa externa de líquido que rodea a la burbuja ¡Etapa limitante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iv)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ferencia al seno del líqui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v)</a:t>
            </a:r>
            <a:r>
              <a:rPr b="1" lang="es-ES_tradnl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ifusión a través de la capa de líquido que rodea a los microorganismos ¡Etapa limitante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vi)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usión en el interior de los microorganismos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962520"/>
            <a:ext cx="554040" cy="83808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-684360" y="1341360"/>
            <a:ext cx="5637240" cy="495324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539640" y="3429000"/>
            <a:ext cx="762120" cy="990720"/>
          </a:xfrm>
          <a:prstGeom prst="ellipse">
            <a:avLst/>
          </a:prstGeom>
          <a:noFill/>
          <a:ln cap="rnd" w="7632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666880" y="3086280"/>
            <a:ext cx="533520" cy="685800"/>
          </a:xfrm>
          <a:prstGeom prst="ellipse">
            <a:avLst/>
          </a:prstGeom>
          <a:noFill/>
          <a:ln cap="rnd" w="7632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" name=""/>
          <p:cNvGraphicFramePr/>
          <p:nvPr/>
        </p:nvGraphicFramePr>
        <p:xfrm>
          <a:off x="3924360" y="1427040"/>
          <a:ext cx="4822920" cy="284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24360" y="1427040"/>
                    <a:ext cx="4822920" cy="284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" name=""/>
          <p:cNvSpPr/>
          <p:nvPr/>
        </p:nvSpPr>
        <p:spPr>
          <a:xfrm>
            <a:off x="684360" y="907920"/>
            <a:ext cx="815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La velocidad de transferencia por unidad de área interfacial, W,  está dada por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39640" y="1413000"/>
            <a:ext cx="3672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ff0000"/>
                </a:solidFill>
                <a:latin typeface="Times New Roman"/>
              </a:rPr>
              <a:t>W = k</a:t>
            </a:r>
            <a:r>
              <a:rPr b="1" lang="es-ES_tradnl" sz="2400" spc="-1" strike="noStrike" baseline="-25000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s-ES_tradnl" sz="2400" spc="-1" strike="noStrike">
                <a:solidFill>
                  <a:srgbClr val="ff0000"/>
                </a:solidFill>
                <a:latin typeface="Times New Roman"/>
              </a:rPr>
              <a:t> (C</a:t>
            </a:r>
            <a:r>
              <a:rPr b="1" lang="es-ES_tradnl" sz="24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s-ES_tradnl" sz="2400" spc="-1" strike="noStrike">
                <a:solidFill>
                  <a:srgbClr val="ff0000"/>
                </a:solidFill>
                <a:latin typeface="Times New Roman"/>
              </a:rPr>
              <a:t> – 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9880" y="260280"/>
            <a:ext cx="791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ff0000"/>
                </a:solidFill>
                <a:uFillTx/>
                <a:latin typeface="Times New Roman"/>
              </a:rPr>
              <a:t>Velocidad de Transferencia de Oxígeno por área interfa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1280" y="2492280"/>
            <a:ext cx="3673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Como en la interfase se supone que hay equilibrio entre el oxígeno en el gas y el disuel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8360" y="3860640"/>
            <a:ext cx="4392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 </a:t>
            </a:r>
            <a:r>
              <a:rPr b="1" lang="es-ES_tradnl" sz="2400" spc="-1" strike="noStrike">
                <a:solidFill>
                  <a:srgbClr val="ff0000"/>
                </a:solidFill>
                <a:latin typeface="Times New Roman"/>
              </a:rPr>
              <a:t>W = k</a:t>
            </a:r>
            <a:r>
              <a:rPr b="1" lang="es-ES_tradnl" sz="2400" spc="-1" strike="noStrike" baseline="-25000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s-ES_tradnl" sz="2400" spc="-1" strike="noStrike">
                <a:solidFill>
                  <a:srgbClr val="ff0000"/>
                </a:solidFill>
                <a:latin typeface="Times New Roman"/>
              </a:rPr>
              <a:t> (C</a:t>
            </a:r>
            <a:r>
              <a:rPr b="1" lang="es-ES_tradnl" sz="24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s-ES_tradnl" sz="2400" spc="-1" strike="noStrike">
                <a:solidFill>
                  <a:srgbClr val="ff0000"/>
                </a:solidFill>
                <a:latin typeface="Times New Roman"/>
              </a:rPr>
              <a:t> – C)= k</a:t>
            </a:r>
            <a:r>
              <a:rPr b="1" lang="es-ES_tradnl" sz="2400" spc="-1" strike="noStrike" baseline="-25000">
                <a:solidFill>
                  <a:srgbClr val="ff0000"/>
                </a:solidFill>
                <a:latin typeface="Times New Roman"/>
              </a:rPr>
              <a:t>G</a:t>
            </a:r>
            <a:r>
              <a:rPr b="1" lang="es-ES_tradnl" sz="2400" spc="-1" strike="noStrike">
                <a:solidFill>
                  <a:srgbClr val="ff0000"/>
                </a:solidFill>
                <a:latin typeface="Times New Roman"/>
              </a:rPr>
              <a:t> (P – P</a:t>
            </a:r>
            <a:r>
              <a:rPr b="1" lang="es-ES_tradnl" sz="24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s-ES_tradnl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11280" y="4724280"/>
            <a:ext cx="7848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Las cantidades Pi y Ci resultan difíciles de determinar en la práctica, se prefiere hacer uso de las relaciones de  equilibrio, trabajando con las concentraciones y presiones de equilibrio C*  y P*. Con ello se trabaja con la “ Velocidad de transferencia de oxígeno volumétrica”, 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4360" y="33336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Velocidad de Transferencia de oxígeno volumétr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ando el control de la transferencia de O</a:t>
            </a:r>
            <a:r>
              <a:rPr b="0" lang="es-ES_tradnl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 encuentra en el film líquido que rodea a la burbuja o  a los microorganismos, </a:t>
            </a:r>
            <a:r>
              <a:rPr b="1" lang="es-ES_tradnl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a velocidad de transferencia de oxígeno, N</a:t>
            </a:r>
            <a:r>
              <a:rPr b="1" lang="es-ES_tradnl" sz="18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 puede expresar com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</a:t>
            </a:r>
            <a:r>
              <a:rPr b="1" lang="es-ES_tradnl" sz="28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1" lang="es-ES_tradnl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= k</a:t>
            </a:r>
            <a:r>
              <a:rPr b="1" lang="es-ES_tradnl" sz="2800" spc="-1" strike="noStrike" baseline="-30000">
                <a:solidFill>
                  <a:srgbClr val="ff0000"/>
                </a:solidFill>
                <a:latin typeface="Times New Roman"/>
                <a:ea typeface="Times New Roman"/>
              </a:rPr>
              <a:t>L</a:t>
            </a:r>
            <a:r>
              <a:rPr b="1" lang="es-ES_tradnl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 (C* - C)  = H k</a:t>
            </a:r>
            <a:r>
              <a:rPr b="1" lang="es-ES_tradnl" sz="2800" spc="-1" strike="noStrike" baseline="-30000">
                <a:solidFill>
                  <a:srgbClr val="ff0000"/>
                </a:solidFill>
                <a:latin typeface="Times New Roman"/>
                <a:ea typeface="Times New Roman"/>
              </a:rPr>
              <a:t>L</a:t>
            </a:r>
            <a:r>
              <a:rPr b="1" lang="es-ES_tradnl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 (P – P*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supone que hay equilibrio entre el oxígeno de el gas y el disuelto en el líquid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es-ES_tradn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Coef volumétrico de transferencia de O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la fase líquida (cm/h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 : Area interfacial específica (cm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m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Resulta difícil de medir </a:t>
            </a:r>
            <a:r>
              <a:rPr b="0" lang="es-ES_tradn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k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*: Conc. de O</a:t>
            </a:r>
            <a:r>
              <a:rPr b="0" lang="es-ES_tradn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n el equilibrio (mM/L) (Hipotétic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 : Conc. de O</a:t>
            </a:r>
            <a:r>
              <a:rPr b="0" lang="es-ES_tradn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isueltro en el seno de la fase líquida  (Este valor no puede ser inferior C</a:t>
            </a:r>
            <a:r>
              <a:rPr b="0" lang="es-ES_tradn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crítico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mg/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* : Presión de O</a:t>
            </a:r>
            <a:r>
              <a:rPr b="0" lang="es-ES_tradn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n el equilib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  : Presión de O</a:t>
            </a:r>
            <a:r>
              <a:rPr b="0" lang="es-ES_tradn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n el seno de la fase g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  : cte. de Henry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4000" y="-360"/>
            <a:ext cx="350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Balance de Oxíge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610920" y="1052640"/>
            <a:ext cx="3809880" cy="11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Se puede plantear una ecuación de balance de oxígeno en el fermentado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5105520" y="0"/>
            <a:ext cx="3504960" cy="2362320"/>
            <a:chOff x="5105520" y="0"/>
            <a:chExt cx="3504960" cy="2362320"/>
          </a:xfrm>
        </p:grpSpPr>
        <p:graphicFrame>
          <p:nvGraphicFramePr>
            <p:cNvPr id="93" name=""/>
            <p:cNvGraphicFramePr/>
            <p:nvPr/>
          </p:nvGraphicFramePr>
          <p:xfrm>
            <a:off x="5105520" y="0"/>
            <a:ext cx="3504960" cy="23623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9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0"/>
                      <a:ext cx="3504960" cy="2362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5" name=""/>
            <p:cNvSpPr/>
            <p:nvPr/>
          </p:nvSpPr>
          <p:spPr>
            <a:xfrm>
              <a:off x="6251400" y="725400"/>
              <a:ext cx="1347840" cy="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060320" y="181080"/>
              <a:ext cx="673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O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2819520" y="3581280"/>
                <a:ext cx="3352680" cy="102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a</m:t>
                    </m:r>
                    <m:r>
                      <m:t xml:space="preserve">⋅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C</m:t>
                        </m:r>
                      </m:e>
                      <m:sup/>
                    </m:sSup>
                    <m:r>
                      <m:t xml:space="preserve">−</m:t>
                    </m:r>
                    <m:r>
                      <m:t xml:space="preserve">C</m:t>
                    </m:r>
                    <m:r>
                      <m:t xml:space="preserve">)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μ</m:t>
                        </m:r>
                        <m:r>
                          <m:t xml:space="preserve">⋅</m:t>
                        </m:r>
                        <m:r>
                          <m:t xml:space="preserve">x</m:t>
                        </m:r>
                      </m:num>
                      <m:den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o</m:t>
                            </m:r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8" name=""/>
          <p:cNvSpPr/>
          <p:nvPr/>
        </p:nvSpPr>
        <p:spPr>
          <a:xfrm>
            <a:off x="455040" y="2286000"/>
            <a:ext cx="822600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</a:t>
            </a:r>
            <a:r>
              <a:rPr b="0" lang="es-ES_tradnl" sz="20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0" lang="es-ES_tradnl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que entra – O</a:t>
            </a:r>
            <a:r>
              <a:rPr b="0" lang="es-ES_tradnl" sz="20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2 </a:t>
            </a:r>
            <a:r>
              <a:rPr b="0" lang="es-ES_tradnl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que sale – O</a:t>
            </a:r>
            <a:r>
              <a:rPr b="0" lang="es-ES_tradnl" sz="20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0" lang="es-ES_tradnl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onsumido por unidad de volum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= Acumulación</a:t>
            </a: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925920" y="3048120"/>
            <a:ext cx="58158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O</a:t>
            </a:r>
            <a:r>
              <a:rPr b="0" lang="es-ES_tradnl" sz="2000" spc="-1" strike="noStrike" baseline="-25000">
                <a:solidFill>
                  <a:srgbClr val="3333cc"/>
                </a:solidFill>
                <a:latin typeface="Times New Roman"/>
                <a:ea typeface="Times New Roman"/>
              </a:rPr>
              <a:t>2</a:t>
            </a: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que entra – O</a:t>
            </a:r>
            <a:r>
              <a:rPr b="0" lang="es-ES_tradnl" sz="2000" spc="-1" strike="noStrike" baseline="-25000">
                <a:solidFill>
                  <a:srgbClr val="3333cc"/>
                </a:solidFill>
                <a:latin typeface="Times New Roman"/>
                <a:ea typeface="Times New Roman"/>
              </a:rPr>
              <a:t>2 </a:t>
            </a: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que sale = O</a:t>
            </a:r>
            <a:r>
              <a:rPr b="0" lang="es-ES_tradnl" sz="2000" spc="-1" strike="noStrike" baseline="-25000">
                <a:solidFill>
                  <a:srgbClr val="3333cc"/>
                </a:solidFill>
                <a:latin typeface="Times New Roman"/>
                <a:ea typeface="Times New Roman"/>
              </a:rPr>
              <a:t>2 </a:t>
            </a: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que se transfiere = N</a:t>
            </a:r>
            <a:r>
              <a:rPr b="0" lang="es-ES_tradnl" sz="2000" spc="-1" strike="noStrike" baseline="-25000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33520" y="4648320"/>
            <a:ext cx="8227800" cy="11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Para que el cultivo pueda crecer sin limitación de Oxígeno, el suministro debe ser igual a la demand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3048120" y="5486400"/>
                <a:ext cx="2647800" cy="102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a</m:t>
                    </m:r>
                    <m:r>
                      <m:t xml:space="preserve">⋅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C</m:t>
                        </m:r>
                      </m:e>
                      <m:sup/>
                    </m:sSup>
                    <m:r>
                      <m:t xml:space="preserve">−</m:t>
                    </m:r>
                    <m:r>
                      <m:t xml:space="preserve">C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μ</m:t>
                        </m:r>
                        <m:r>
                          <m:t xml:space="preserve">⋅</m:t>
                        </m:r>
                        <m:r>
                          <m:t xml:space="preserve">x</m:t>
                        </m:r>
                      </m:num>
                      <m:den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o</m:t>
                            </m:r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609480" y="22860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Métodos de determinación k</a:t>
            </a:r>
            <a:r>
              <a:rPr b="1" lang="es-ES_tradnl" sz="2400" spc="-1" strike="noStrike" u="sng" baseline="-30000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L</a:t>
            </a:r>
            <a:r>
              <a:rPr b="1" lang="es-ES_tradnl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Para la adecuada operación de un fermentador se hace necesario conocer el valor del coeficiente volumetrico de transferencia de O2</a:t>
            </a: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dición de los flujos de Oxíge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es-ES_tradnl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imado mediante  Correla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1828800" y="2057040"/>
            <a:ext cx="457200" cy="914760"/>
            <a:chOff x="1828800" y="2057040"/>
            <a:chExt cx="457200" cy="914760"/>
          </a:xfrm>
        </p:grpSpPr>
        <p:sp>
          <p:nvSpPr>
            <p:cNvPr id="104" name=""/>
            <p:cNvSpPr/>
            <p:nvPr/>
          </p:nvSpPr>
          <p:spPr>
            <a:xfrm flipV="1">
              <a:off x="1828800" y="2057040"/>
              <a:ext cx="457200" cy="6094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828800" y="2666880"/>
              <a:ext cx="457200" cy="3049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" name=""/>
          <p:cNvSpPr/>
          <p:nvPr/>
        </p:nvSpPr>
        <p:spPr>
          <a:xfrm>
            <a:off x="2419200" y="527364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22440" y="4994280"/>
            <a:ext cx="6035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95640" y="3860640"/>
            <a:ext cx="475272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es-ES_tradnl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f (S</a:t>
            </a:r>
            <a:r>
              <a:rPr b="0" lang="es-ES_tradnl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S</a:t>
            </a:r>
            <a:r>
              <a:rPr b="0" lang="es-ES_tradnl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G</a:t>
            </a:r>
            <a:r>
              <a:rPr b="0" lang="es-ES_tradnl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es-ES_tradnl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 = f (D</a:t>
            </a:r>
            <a:r>
              <a:rPr b="0" lang="es-ES_tradnl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H)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Métodos de determinación k</a:t>
            </a:r>
            <a:r>
              <a:rPr b="1" lang="es-ES_tradnl" sz="2400" spc="-1" strike="noStrike" u="sng" baseline="-30000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L</a:t>
            </a:r>
            <a:r>
              <a:rPr b="1" lang="es-ES_tradnl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</a:t>
            </a:r>
            <a:r>
              <a:rPr b="1" lang="es-ES_tradnl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dición de los flujo de Oxíge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419200" y="527364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422440" y="4994280"/>
            <a:ext cx="6035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7200" y="1981080"/>
            <a:ext cx="8229600" cy="14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ulación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Oxidación de sulfito de sod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iminación del O</a:t>
            </a:r>
            <a:r>
              <a:rPr b="0" lang="es-ES_tradn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Método Dinámico.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lances de masa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Medición Directa con analizador de O</a:t>
            </a:r>
            <a:r>
              <a:rPr b="0" lang="es-ES_tradn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Método del sulfito de sod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1" lang="es-E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Se basa en la rápida reacción química de oxidación del sulfito a sulfato mediante O</a:t>
            </a:r>
            <a:r>
              <a:rPr b="1" lang="es-ES" sz="2400" spc="-1" strike="noStrike" baseline="-25000">
                <a:solidFill>
                  <a:srgbClr val="3333cc"/>
                </a:solidFill>
                <a:latin typeface="Times New Roman"/>
                <a:ea typeface="Times New Roman"/>
              </a:rPr>
              <a:t>2</a:t>
            </a:r>
            <a:r>
              <a:rPr b="1" lang="es-E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1" lang="es-E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Se </a:t>
            </a:r>
            <a:r>
              <a:rPr b="1" lang="es-E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eemplaza el medio por solución de sulfito de sodio </a:t>
            </a:r>
            <a:r>
              <a:rPr b="1" lang="es-E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( sulfato cúprico como catalizador) y se burbujea aire por un cierto tiemp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1" lang="es-E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1" lang="es-E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1" lang="es-E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Sulfito + O</a:t>
            </a:r>
            <a:r>
              <a:rPr b="1" lang="es-ES" sz="2400" spc="-1" strike="noStrike" baseline="-25000">
                <a:solidFill>
                  <a:srgbClr val="3333cc"/>
                </a:solidFill>
                <a:latin typeface="Times New Roman"/>
                <a:ea typeface="Times New Roman"/>
              </a:rPr>
              <a:t>2</a:t>
            </a:r>
            <a:r>
              <a:rPr b="1" lang="es-E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r>
              <a:rPr b="1" lang="es-ES" sz="24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1" lang="es-E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Sulfa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419200" y="527364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422440" y="4994280"/>
            <a:ext cx="6035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2347920" y="3963960"/>
                <a:ext cx="429588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a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C</m:t>
                        </m:r>
                      </m:e>
                      <m:sup/>
                    </m:sSup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ulfito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icial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Sulfito</m:t>
                        </m:r>
                      </m:num>
                      <m:den>
                        <m:r>
                          <m:t xml:space="preserve">Δ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7" name=""/>
          <p:cNvSpPr/>
          <p:nvPr/>
        </p:nvSpPr>
        <p:spPr>
          <a:xfrm>
            <a:off x="914400" y="5257800"/>
            <a:ext cx="754380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k</a:t>
            </a:r>
            <a:r>
              <a:rPr b="1" lang="es-ES" sz="2400" spc="-1" strike="noStrike" baseline="-25000">
                <a:solidFill>
                  <a:srgbClr val="3333cc"/>
                </a:solidFill>
                <a:latin typeface="Times New Roman"/>
                <a:ea typeface="Times New Roman"/>
              </a:rPr>
              <a:t>L</a:t>
            </a:r>
            <a:r>
              <a:rPr b="1" lang="es-E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 C</a:t>
            </a:r>
            <a:r>
              <a:rPr b="1" lang="es-ES" sz="2400" spc="-1" strike="noStrike" baseline="30000">
                <a:solidFill>
                  <a:srgbClr val="3333cc"/>
                </a:solidFill>
                <a:latin typeface="Times New Roman"/>
                <a:ea typeface="Times New Roman"/>
              </a:rPr>
              <a:t>*</a:t>
            </a:r>
            <a:r>
              <a:rPr b="1" lang="es-E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: Representa la máxima velocidad volumétrica de transferencia de O</a:t>
            </a:r>
            <a:r>
              <a:rPr b="1" lang="es-ES" sz="2400" spc="-1" strike="noStrike" baseline="-25000">
                <a:solidFill>
                  <a:srgbClr val="3333cc"/>
                </a:solidFill>
                <a:latin typeface="Times New Roman"/>
                <a:ea typeface="Times New Roman"/>
              </a:rPr>
              <a:t>2</a:t>
            </a:r>
            <a:r>
              <a:rPr b="1" lang="es-E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en un sistema dado (fermentador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380880" y="304920"/>
            <a:ext cx="83059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Aireación y Agitació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3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Agita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15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ezclar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l caldo de fermentación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 obtener una suspensión unifor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15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15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celerando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as velocidades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ransferencia de masa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nutrient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</a:t>
            </a:r>
            <a:r>
              <a:rPr b="0" lang="es-ES_tradnl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alor.</a:t>
            </a:r>
            <a:r>
              <a:rPr b="0" lang="es-E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588000" y="1989000"/>
            <a:ext cx="2386080" cy="32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Método dinámico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4932360" y="2133720"/>
          <a:ext cx="3594240" cy="267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32360" y="2133720"/>
                    <a:ext cx="3594240" cy="267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2419200" y="527364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422440" y="4994280"/>
            <a:ext cx="6035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84360" y="2060640"/>
            <a:ext cx="3962160" cy="233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tapa 1: Durante la fermentación se corta el suministro de aire  (T1) y se registra la disminución de O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disuelto.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n este caso el suministro es nulo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Wingdings"/>
                <a:ea typeface="Wingdings"/>
              </a:rPr>
              <a:t>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1981080" y="4572000"/>
                <a:ext cx="2227320" cy="4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a</m:t>
                    </m:r>
                    <m:r>
                      <m:t xml:space="preserve">⋅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C</m:t>
                        </m:r>
                      </m:e>
                      <m:sup/>
                    </m:sSup>
                    <m:r>
                      <m:t xml:space="preserve">−</m:t>
                    </m:r>
                    <m:r>
                      <m:t xml:space="preserve">C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5" name=""/>
          <p:cNvSpPr/>
          <p:nvPr/>
        </p:nvSpPr>
        <p:spPr>
          <a:xfrm>
            <a:off x="990720" y="5257800"/>
            <a:ext cx="7543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La pendiente de la curva es la demanda de O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  <a:ea typeface="Times New Roman"/>
              </a:rPr>
              <a:t>2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038480" y="5835600"/>
                <a:ext cx="1441440" cy="102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μ</m:t>
                        </m:r>
                        <m:r>
                          <m:t xml:space="preserve">⋅</m:t>
                        </m:r>
                        <m:r>
                          <m:t xml:space="preserve">x</m:t>
                        </m:r>
                      </m:num>
                      <m:den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o</m:t>
                            </m:r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7" name=""/>
          <p:cNvSpPr/>
          <p:nvPr/>
        </p:nvSpPr>
        <p:spPr>
          <a:xfrm>
            <a:off x="971640" y="692280"/>
            <a:ext cx="7488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Times New Roman"/>
              </a:rPr>
              <a:t>En este caso la medición se realiza en el fermentador durante el crecimiento de un cultivo activo, registrándose el oxígeno disuelto. El proceso tiene 2 etap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5435640" y="3213000"/>
                <a:ext cx="69840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μ</m:t>
                        </m:r>
                        <m:r>
                          <m:t xml:space="preserve">⋅</m:t>
                        </m:r>
                        <m:r>
                          <m:t xml:space="preserve">x</m:t>
                        </m:r>
                      </m:num>
                      <m:den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o</m:t>
                            </m:r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Método dinámico (cont.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419200" y="527364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422440" y="4994280"/>
            <a:ext cx="6035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1187280" y="3573360"/>
                <a:ext cx="3353040" cy="125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C</m:t>
                        </m:r>
                      </m:e>
                      <m:sup/>
                    </m:sSup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a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μ</m:t>
                            </m:r>
                            <m:r>
                              <m:t xml:space="preserve">⋅</m:t>
                            </m:r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x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C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134" name=""/>
          <p:cNvGraphicFramePr/>
          <p:nvPr/>
        </p:nvGraphicFramePr>
        <p:xfrm>
          <a:off x="5219640" y="2276640"/>
          <a:ext cx="3267000" cy="274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19640" y="2276640"/>
                    <a:ext cx="3267000" cy="27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611280" y="1052640"/>
            <a:ext cx="7561080" cy="29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Times New Roman"/>
              </a:rPr>
              <a:t>El flujo de aire se repone antes que se alcance la concentración crítica de oxígeno, C</a:t>
            </a:r>
            <a:r>
              <a:rPr b="1" lang="es-ES" sz="2000" spc="-1" strike="noStrike" baseline="-25000">
                <a:solidFill>
                  <a:srgbClr val="3333cc"/>
                </a:solidFill>
                <a:latin typeface="Times New Roman"/>
              </a:rPr>
              <a:t>c</a:t>
            </a:r>
            <a:r>
              <a:rPr b="1" lang="es-ES" sz="2000" spc="-1" strike="noStrike">
                <a:solidFill>
                  <a:srgbClr val="3333cc"/>
                </a:solidFill>
                <a:latin typeface="Times New Roman"/>
              </a:rPr>
              <a:t> (bajo este valor la velocidad de metabolismo se hace dependiente de la concentración C, pudiéndose causar daños irreversibles en los m.o.)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1" lang="es-ES" sz="2000" spc="-1" strike="noStrike" baseline="-25000">
                <a:solidFill>
                  <a:srgbClr val="3333cc"/>
                </a:solidFill>
                <a:latin typeface="Times New Roman"/>
              </a:rPr>
              <a:t>c</a:t>
            </a:r>
            <a:r>
              <a:rPr b="1" lang="es-ES" sz="2000" spc="-1" strike="noStrike">
                <a:solidFill>
                  <a:srgbClr val="3333cc"/>
                </a:solidFill>
                <a:latin typeface="Times New Roman"/>
              </a:rPr>
              <a:t> ≈ 0.1*Concentración de Satu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Times New Roman"/>
              </a:rPr>
              <a:t>Bajo estas condiciones se cumple</a:t>
            </a:r>
            <a:r>
              <a:rPr b="1" lang="es-ES" sz="2400" spc="-1" strike="noStrike">
                <a:solidFill>
                  <a:srgbClr val="3333cc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55640" y="5373720"/>
            <a:ext cx="7704000" cy="10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Times New Roman"/>
              </a:rPr>
              <a:t>Desde la cual se despeja el término (-1/k</a:t>
            </a:r>
            <a:r>
              <a:rPr b="1" lang="es-ES" sz="2400" spc="-1" strike="noStrike" baseline="-25000">
                <a:solidFill>
                  <a:srgbClr val="3333cc"/>
                </a:solidFill>
                <a:latin typeface="Times New Roman"/>
              </a:rPr>
              <a:t>L</a:t>
            </a:r>
            <a:r>
              <a:rPr b="1" lang="es-ES" sz="2400" spc="-1" strike="noStrike">
                <a:solidFill>
                  <a:srgbClr val="3333cc"/>
                </a:solidFill>
                <a:latin typeface="Times New Roman"/>
              </a:rPr>
              <a:t>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11280" y="6093000"/>
            <a:ext cx="80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Times New Roman"/>
              </a:rPr>
              <a:t>Depende de la velocidad de respuesta de los electrodos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Método medición directa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419200" y="527364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47640" y="5300640"/>
            <a:ext cx="6035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971640" y="692280"/>
            <a:ext cx="7488000" cy="32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Times New Roman"/>
              </a:rPr>
              <a:t>Para aplicar este método se utiliza un electrodo de oxígeno disuelto y sistemas para determinar oxígeno en la fase gaseos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Times New Roman"/>
              </a:rPr>
              <a:t>En este método se calcula la demanda de oxígeno midiendo el flujo de aire y la concentración de oxígeno en las corrientes gaseosas de entrada y salid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Times New Roman"/>
              </a:rPr>
              <a:t>Con estos valores y la lectura de oxígeno disuelta, se calcula k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Times New Roman"/>
              </a:rPr>
              <a:t>L</a:t>
            </a:r>
            <a:r>
              <a:rPr b="1" lang="es-ES_tradnl" sz="2000" spc="-1" strike="noStrike">
                <a:solidFill>
                  <a:srgbClr val="3333cc"/>
                </a:solidFill>
                <a:latin typeface="Times New Roman"/>
              </a:rPr>
              <a:t>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25000" y="4365720"/>
            <a:ext cx="7187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</a:t>
            </a:r>
            <a:r>
              <a:rPr b="1" lang="es-ES_tradnl" sz="20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1" lang="es-ES_tradnl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que entra – O</a:t>
            </a:r>
            <a:r>
              <a:rPr b="1" lang="es-ES_tradnl" sz="20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2 </a:t>
            </a:r>
            <a:r>
              <a:rPr b="1" lang="es-ES_tradnl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que sale = O</a:t>
            </a:r>
            <a:r>
              <a:rPr b="1" lang="es-ES_tradnl" sz="20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2 </a:t>
            </a:r>
            <a:r>
              <a:rPr b="1" lang="es-ES_tradnl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que se transfiere = k</a:t>
            </a:r>
            <a:r>
              <a:rPr b="1" lang="es-ES_tradnl" sz="20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L </a:t>
            </a:r>
            <a:r>
              <a:rPr b="1" lang="es-ES_tradnl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 (C* - C)</a:t>
            </a: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900000" y="5229360"/>
            <a:ext cx="73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Times New Roman"/>
              </a:rPr>
              <a:t>Método de alto costo debido al equipamiento analítico requerid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Factores que afectan k</a:t>
            </a:r>
            <a:r>
              <a:rPr b="1" lang="es-ES_tradnl" sz="2800" spc="-1" strike="noStrike" u="sng" baseline="-30000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L</a:t>
            </a:r>
            <a:r>
              <a:rPr b="1" lang="es-ES_tradnl" sz="2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es-ES_tradnl" sz="28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</a:t>
            </a:r>
            <a:r>
              <a:rPr b="1" lang="es-ES_tradnl" sz="2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Temperatura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s aumentos de temperatura se producen aumentos en el coeficiente de transferencia, es así como se tien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es-ES_tradn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L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 (30ºC)  = 1.15 k</a:t>
            </a:r>
            <a:r>
              <a:rPr b="0" lang="es-ES_tradn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(20ºC)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es-ES_tradn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L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 (20ºC)  = 1.15 k</a:t>
            </a:r>
            <a:r>
              <a:rPr b="0" lang="es-ES_tradn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 (10º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Fermentación con formación de micel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 formarse micelas se produce un aumento de la viscosidad lo que conlleva a una disminución del k</a:t>
            </a:r>
            <a:r>
              <a:rPr b="0" lang="es-ES_tradn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.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685800" y="838080"/>
            <a:ext cx="762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14400" y="380880"/>
            <a:ext cx="7772400" cy="22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s-ES_tradnl" sz="2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Sustancias Orgán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adición de compuestos orgánicos produce una disminución tanto del k</a:t>
            </a:r>
            <a:r>
              <a:rPr b="0" lang="es-ES_tradn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L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o del área especifica, a. Es así com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agua + 1% peptona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es-ES_tradnl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L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cre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s-ES_tradnl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diámetro de burbuja) entonces  a</a:t>
            </a:r>
            <a:r>
              <a:rPr b="0" lang="es-ES_tradnl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cre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ecto combinado implica que  k</a:t>
            </a:r>
            <a:r>
              <a:rPr b="0" lang="es-ES_tradnl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(orgánico) = 0,4 k</a:t>
            </a:r>
            <a:r>
              <a:rPr b="0" lang="es-ES_tradnl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(agu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838080" y="2743200"/>
            <a:ext cx="7315200" cy="3628800"/>
            <a:chOff x="838080" y="2743200"/>
            <a:chExt cx="7315200" cy="3628800"/>
          </a:xfrm>
        </p:grpSpPr>
        <p:sp>
          <p:nvSpPr>
            <p:cNvPr id="149" name=""/>
            <p:cNvSpPr/>
            <p:nvPr/>
          </p:nvSpPr>
          <p:spPr>
            <a:xfrm>
              <a:off x="838080" y="2743200"/>
              <a:ext cx="7315200" cy="14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r>
                <a:rPr b="0" lang="es-ES_tradnl" sz="20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Agentes sufactan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a adición de agentes surfactantes que evitan la producción de espuma alterar el valor de k</a:t>
              </a:r>
              <a:r>
                <a:rPr b="0" lang="es-ES_tradnl" sz="2000" spc="-1" strike="noStrike" baseline="-30000">
                  <a:solidFill>
                    <a:srgbClr val="000000"/>
                  </a:solidFill>
                  <a:latin typeface="Times New Roman"/>
                  <a:ea typeface="Times New Roman"/>
                </a:rPr>
                <a:t>L</a:t>
              </a:r>
              <a:r>
                <a:rPr b="0" lang="es-ES_tradnl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. Afectando tanto al k</a:t>
              </a:r>
              <a:r>
                <a:rPr b="0" lang="es-ES_tradnl" sz="2000" spc="-1" strike="noStrike" baseline="-30000">
                  <a:solidFill>
                    <a:srgbClr val="000000"/>
                  </a:solidFill>
                  <a:latin typeface="Times New Roman"/>
                  <a:ea typeface="Times New Roman"/>
                </a:rPr>
                <a:t>L</a:t>
              </a:r>
              <a:r>
                <a:rPr b="0" lang="es-ES_tradnl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mo al diámetro de las burbujas, d</a:t>
              </a:r>
              <a:r>
                <a:rPr b="0" lang="es-ES_tradnl" sz="2000" spc="-1" strike="noStrike" baseline="-30000">
                  <a:solidFill>
                    <a:srgbClr val="000000"/>
                  </a:solidFill>
                  <a:latin typeface="Times New Roman"/>
                  <a:ea typeface="Times New Roman"/>
                </a:rPr>
                <a:t>b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0" name=""/>
            <p:cNvGrpSpPr/>
            <p:nvPr/>
          </p:nvGrpSpPr>
          <p:grpSpPr>
            <a:xfrm>
              <a:off x="914400" y="4038480"/>
              <a:ext cx="6858000" cy="2333520"/>
              <a:chOff x="914400" y="4038480"/>
              <a:chExt cx="6858000" cy="2333520"/>
            </a:xfrm>
          </p:grpSpPr>
          <p:graphicFrame>
            <p:nvGraphicFramePr>
              <p:cNvPr id="151" name=""/>
              <p:cNvGraphicFramePr/>
              <p:nvPr/>
            </p:nvGraphicFramePr>
            <p:xfrm>
              <a:off x="914400" y="4038480"/>
              <a:ext cx="2895480" cy="233352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52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914400" y="4038480"/>
                        <a:ext cx="2895480" cy="23335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53" name=""/>
              <p:cNvGraphicFramePr/>
              <p:nvPr/>
            </p:nvGraphicFramePr>
            <p:xfrm>
              <a:off x="4800600" y="4343400"/>
              <a:ext cx="2971800" cy="176832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154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4800600" y="4343400"/>
                        <a:ext cx="2971800" cy="17683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Condiciones de Oper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Matraz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VTO = 30-60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 moles/L 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 = 200-400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lang="es-ES_tradnl" sz="2800" spc="-1" strike="noStrike" baseline="30000">
                <a:solidFill>
                  <a:srgbClr val="000000"/>
                </a:solidFill>
                <a:latin typeface="Times New Roman"/>
              </a:rPr>
              <a:t>-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Laboratorio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VTO = 60-120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 moles/L 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 = 60-500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lang="es-ES_tradnl" sz="2800" spc="-1" strike="noStrike" baseline="30000">
                <a:solidFill>
                  <a:srgbClr val="000000"/>
                </a:solidFill>
                <a:latin typeface="Times New Roman"/>
              </a:rPr>
              <a:t>-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Industrial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VTO = 70-100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 moles/L 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Times New Roman"/>
              </a:rPr>
              <a:t>Más eficiente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 = 100-400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lang="es-ES_tradnl" sz="2800" spc="-1" strike="noStrike" baseline="30000">
                <a:solidFill>
                  <a:srgbClr val="000000"/>
                </a:solidFill>
                <a:latin typeface="Times New Roman"/>
              </a:rPr>
              <a:t>-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TO: Velocidad de transferencia de Oxíge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64008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Ref: Acevedo F.,Gentina JC., Illanes A (2002) Fundamentos de Ingeniería Bioquímica, Ed. Universitarias de Valparaís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Velocidad de Flujo de Ai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4000" y="1413000"/>
            <a:ext cx="8062920" cy="18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ara determinar la velocidad de flujo de aire necesario se puede tomar como dato la demanda de oxígeno, considerando la eficiencia de absorción, E (3-30%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La tasa especifica de aireación se entrega en “volumenes de aire por volumen de líquido por minto”, vv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2268360" y="3284640"/>
                <a:ext cx="4464360" cy="80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vm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ire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quido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T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  <m:r>
                          <m:t xml:space="preserve">⋅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  <m:r>
                          <m:t xml:space="preserve">⋅</m:t>
                        </m:r>
                        <m:r>
                          <m:t xml:space="preserve">E</m:t>
                        </m:r>
                        <m:r>
                          <m:t xml:space="preserve">⋅</m:t>
                        </m:r>
                        <m:r>
                          <m:t xml:space="preserve">π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273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1" name=""/>
          <p:cNvSpPr/>
          <p:nvPr/>
        </p:nvSpPr>
        <p:spPr>
          <a:xfrm>
            <a:off x="468360" y="4221000"/>
            <a:ext cx="8280360" cy="19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e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milimoles 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 h L]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K]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π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Presión en [at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lm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laboratori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ireación = 1.5 vv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 Nivel Indust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eación = 0.2-0.7 vv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64008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Ref: Acevedo F.,Gentina JC., Illanes A (2002) Fundamentos de Ingeniería Bioquímica, Ed. Universitarias de Valparaís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Velocidad de Flujo de Ai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000" y="1413000"/>
            <a:ext cx="8062920" cy="18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Otra forma es expresar la aireación como velocidad superficial del aire, v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3203640" y="1989000"/>
                <a:ext cx="2160360" cy="66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ire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6" name=""/>
          <p:cNvSpPr/>
          <p:nvPr/>
        </p:nvSpPr>
        <p:spPr>
          <a:xfrm>
            <a:off x="468360" y="3141720"/>
            <a:ext cx="7920000" cy="95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: Area de la sección transversal  del fermentad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sualmente “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” está entre 30 -300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m/m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64008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Ref: Acevedo F.,Gentina JC., Illanes A (2002) Fundamentos de Ingeniería Bioquímica, Ed. Universitarias de Valparaís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Agita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716000" y="1125000"/>
            <a:ext cx="42814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erentes clases de RODE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e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240080" y="2205000"/>
            <a:ext cx="4903920" cy="33703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468360" y="1268280"/>
            <a:ext cx="3456000" cy="50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a agitación es una operación muy importante tanto del punto de vista técnico como económic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a agitación es importante par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n mezclado homogéne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na buena transferencia de masa y de calor, permite disminuir el espesor de la película líquida estátic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900000" y="259920"/>
            <a:ext cx="78487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Diseño del sistema de agita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68360" y="1268280"/>
            <a:ext cx="345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1042920" y="2708280"/>
          <a:ext cx="3495600" cy="3666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2708280"/>
                    <a:ext cx="3495600" cy="366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6" name=""/>
          <p:cNvGraphicFramePr/>
          <p:nvPr/>
        </p:nvGraphicFramePr>
        <p:xfrm>
          <a:off x="6516720" y="2925720"/>
          <a:ext cx="2247840" cy="3114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516720" y="2925720"/>
                    <a:ext cx="2247840" cy="311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" name=""/>
          <p:cNvSpPr/>
          <p:nvPr/>
        </p:nvSpPr>
        <p:spPr>
          <a:xfrm>
            <a:off x="4788000" y="2997360"/>
            <a:ext cx="158436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Times New Roman"/>
              </a:rPr>
              <a:t>Placa deflecto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Times New Roman"/>
              </a:rPr>
              <a:t>Baf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724360" y="4221000"/>
            <a:ext cx="865440" cy="144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116000" y="981000"/>
            <a:ext cx="755964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os agitadores cuentan generalmente con 2 o 3 rotores en un mismo ej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ara obtener un alto grado de mezclado se utilizan placas deflectoras para romper las líneas de fluj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68360" y="1341360"/>
            <a:ext cx="33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gitación por pale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4932360" y="2421000"/>
          <a:ext cx="3828960" cy="332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32360" y="2421000"/>
                    <a:ext cx="3828960" cy="332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"/>
          <p:cNvSpPr/>
          <p:nvPr/>
        </p:nvSpPr>
        <p:spPr>
          <a:xfrm>
            <a:off x="5076720" y="1341360"/>
            <a:ext cx="33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gitación por a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684360" y="2205000"/>
          <a:ext cx="3495600" cy="3667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4360" y="2205000"/>
                    <a:ext cx="3495600" cy="366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692360" y="189000"/>
            <a:ext cx="61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3333cc"/>
                </a:solidFill>
                <a:uFillTx/>
                <a:latin typeface="Times New Roman"/>
              </a:rPr>
              <a:t>Diferentes sistemas de agitación y Aire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685800" y="914400"/>
            <a:ext cx="76960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Cálculo de Potencia para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la agitación en un Reacto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istema sin G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istema con G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old-u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762120" y="304920"/>
            <a:ext cx="7619760" cy="47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Cálculo de Potencia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Mecanismos de Agitación en Sistemas sin G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define el Número de Potencia, Np. Dicho valor determina la potencia absorbida por el fluid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p = </a:t>
            </a:r>
            <a:r>
              <a:rPr b="0" lang="es-ES_tradnl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Fuerza Externa Aplic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erza Inercial del Fluido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4568760" y="2367000"/>
                <a:ext cx="2884680" cy="85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e>
                        </m:d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N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/</m:t>
                            </m:r>
                            <m:sSubSup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3</m:t>
                                </m:r>
                              </m:sup>
                            </m:sSubSup>
                          </m:e>
                        </m:d>
                      </m:num>
                      <m:den>
                        <m:r>
                          <m:t xml:space="preserve">ρ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4" name=""/>
          <p:cNvSpPr/>
          <p:nvPr/>
        </p:nvSpPr>
        <p:spPr>
          <a:xfrm>
            <a:off x="800280" y="3046320"/>
            <a:ext cx="7543800" cy="41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nde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o : Potencia externa entregada por el agitador [Kgf m /s]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HP = 76 Kgf m/s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:Factor de conversión : 9.8 kg m/Kgf sec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   :Velocidad de rotación del impeler [rps 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s-ES_tradn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       :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ámetro del impeler [m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nsidad del Fluído [kg/m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p = f( N</a:t>
            </a:r>
            <a:r>
              <a:rPr b="0" lang="es-ES_tradn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Re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odificado  nD</a:t>
            </a:r>
            <a:r>
              <a:rPr b="0" lang="es-ES_tradn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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geometría del sistema)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762120" y="304920"/>
            <a:ext cx="76197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Cálculo de Potencia</a:t>
            </a:r>
            <a:r>
              <a:rPr b="0" lang="es-ES_tradnl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es-ES_tradnl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Mecanismos de Agitación en Sistemas sin G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3220920" y="1725480"/>
                <a:ext cx="2320920" cy="97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r>
                          <m:t xml:space="preserve">ρ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i</m:t>
                                </m:r>
                              </m:e>
                              <m:sup>
                                <m:r>
                                  <m:t xml:space="preserve">5</m:t>
                                </m:r>
                              </m:sup>
                            </m:sSup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7" name=""/>
          <p:cNvSpPr/>
          <p:nvPr/>
        </p:nvSpPr>
        <p:spPr>
          <a:xfrm>
            <a:off x="800280" y="3124080"/>
            <a:ext cx="7543800" cy="38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nde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o : Potencia externa entregada por el agitador [Kgf m /s]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HP = 76 Kgf m/s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:Factor de conversión : 9.8 kg m/Kgf sec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   :Velocidad de rotación del impeler [rps 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s-ES_tradnl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       :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ámetro del impeler [m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nsidad del Fluído [kg/m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p = f( N</a:t>
            </a:r>
            <a:r>
              <a:rPr b="0" lang="es-ES_tradnl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Re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odificado  nD</a:t>
            </a:r>
            <a:r>
              <a:rPr b="0" lang="es-ES_tradnl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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geometría del sistema)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8" name=""/>
          <p:cNvGraphicFramePr/>
          <p:nvPr/>
        </p:nvGraphicFramePr>
        <p:xfrm>
          <a:off x="87480" y="0"/>
          <a:ext cx="9056520" cy="6608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7480" y="0"/>
                    <a:ext cx="9056520" cy="660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380880" y="228600"/>
            <a:ext cx="8458200" cy="70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Diferentes Configur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 la configuración es diferente se deben aplicar los siguientes factor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 :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gnifica condiciones re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real) = Fc * P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i el número de impeler es mayor qu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*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real) = N impeler * P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rea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Determinación del  Número de Impeler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0" lang="es-ES_tradnl" sz="2000" spc="-1" strike="noStrike" u="sng" baseline="-30000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L</a:t>
            </a:r>
            <a:r>
              <a:rPr b="0" lang="es-ES_tradnl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- D</a:t>
            </a:r>
            <a:r>
              <a:rPr b="0" lang="es-ES_tradnl" sz="2000" spc="-1" strike="noStrike" u="sng" baseline="-30000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i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&gt;   N impeler  &gt;  </a:t>
            </a:r>
            <a:r>
              <a:rPr b="0" lang="es-ES_tradnl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0" lang="es-ES_tradnl" sz="2000" spc="-1" strike="noStrike" u="sng" baseline="-30000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L</a:t>
            </a:r>
            <a:r>
              <a:rPr b="0" lang="es-ES_tradnl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- 2*D</a:t>
            </a:r>
            <a:r>
              <a:rPr b="0" lang="es-ES_tradnl" sz="2000" spc="-1" strike="noStrike" u="sng" baseline="-30000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i</a:t>
            </a:r>
            <a:r>
              <a:rPr b="0" lang="es-ES_tradnl" sz="2000" spc="-1" strike="noStrike" u="sng" baseline="-30000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s-ES_tradn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s-ES_tradn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</a:t>
            </a:r>
            <a:r>
              <a:rPr b="0" lang="es-ES_tradn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spaciamiento entre impeler</a:t>
            </a:r>
            <a:r>
              <a:rPr b="0" lang="es-ES_tradnl" sz="2000" spc="-1" strike="noStrike" u="sng" baseline="-30000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es-ES_tradnl" sz="2000" spc="-1" strike="noStrike" u="sng" baseline="-30000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s-ES_tradn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lt; L &lt; 2* D</a:t>
            </a:r>
            <a:r>
              <a:rPr b="0" lang="es-ES_tradn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914400" y="1143000"/>
                <a:ext cx="2590920" cy="200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sSub>
                                          <m:e>
                                            <m:r>
                                              <m:t xml:space="preserve">D</m:t>
                                            </m:r>
                                          </m:e>
                                          <m:sub>
                                            <m:r>
                                              <m:t xml:space="preserve">t</m:t>
                                            </m:r>
                                          </m:sub>
                                        </m:sSub>
                                      </m:num>
                                      <m:den>
                                        <m:r>
                                          <m:t xml:space="preserve">D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p/>
                            </m:sSup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sSub>
                                          <m:e>
                                            <m:r>
                                              <m:t xml:space="preserve">H</m:t>
                                            </m:r>
                                          </m:e>
                                          <m:sub>
                                            <m:r>
                                              <m:t xml:space="preserve">L</m:t>
                                            </m:r>
                                          </m:sub>
                                        </m:sSub>
                                      </m:num>
                                      <m:den>
                                        <m:sSub>
                                          <m:e>
                                            <m:r>
                                              <m:t xml:space="preserve">D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</m:e>
                                </m:d>
                              </m:e>
                              <m:sup/>
                            </m:sSup>
                          </m:num>
                          <m:den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D</m:t>
                                        </m:r>
                                      </m:e>
                                      <m:sub>
                                        <m:r>
                                          <m:t xml:space="preserve">t</m:t>
                                        </m:r>
                                      </m:sub>
                                    </m:sSub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D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L</m:t>
                                        </m:r>
                                      </m:sub>
                                    </m:sSub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D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8534160" cy="679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457200" y="0"/>
            <a:ext cx="8153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rrelaci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685800" y="1981080"/>
          <a:ext cx="7696080" cy="3641760"/>
        </p:xfrm>
        <a:graphic>
          <a:graphicData uri="http://schemas.openxmlformats.org/drawingml/2006/table">
            <a:tbl>
              <a:tblPr/>
              <a:tblGrid>
                <a:gridCol w="1981080"/>
                <a:gridCol w="838440"/>
                <a:gridCol w="1066680"/>
                <a:gridCol w="1143000"/>
                <a:gridCol w="914400"/>
                <a:gridCol w="838080"/>
                <a:gridCol w="914400"/>
              </a:tblGrid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 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urbi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ale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él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cl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in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mina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lores de K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2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 =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</a:t>
                      </a:r>
                      <a:r>
                        <a:rPr b="0" lang="es-E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</a:t>
                      </a: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D</a:t>
                      </a:r>
                      <a:r>
                        <a:rPr b="0" lang="es-ES" sz="2400" spc="-1" strike="noStrike" baseline="-25000">
                          <a:solidFill>
                            <a:srgbClr val="000000"/>
                          </a:solidFill>
                          <a:latin typeface="Century Schoolbook"/>
                        </a:rPr>
                        <a:t>i</a:t>
                      </a:r>
                      <a:r>
                        <a:rPr b="0" lang="es-ES" sz="2400" spc="-1" strike="noStrike" baseline="30000">
                          <a:solidFill>
                            <a:srgbClr val="000000"/>
                          </a:solidFill>
                          <a:latin typeface="Century Schoolbook"/>
                        </a:rPr>
                        <a:t>3</a:t>
                      </a: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*N</a:t>
                      </a:r>
                      <a:r>
                        <a:rPr b="0" lang="es-ES" sz="2400" spc="-1" strike="noStrike" baseline="30000">
                          <a:solidFill>
                            <a:srgbClr val="000000"/>
                          </a:solidFill>
                          <a:latin typeface="Century Schoolbook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urbulen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lores de K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2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 =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</a:t>
                      </a:r>
                      <a:r>
                        <a:rPr b="0" lang="es-E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</a:t>
                      </a: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D</a:t>
                      </a:r>
                      <a:r>
                        <a:rPr b="0" lang="es-ES" sz="2400" spc="-1" strike="noStrike" baseline="-25000">
                          <a:solidFill>
                            <a:srgbClr val="000000"/>
                          </a:solidFill>
                          <a:latin typeface="Century Schoolbook"/>
                        </a:rPr>
                        <a:t>i</a:t>
                      </a:r>
                      <a:r>
                        <a:rPr b="0" lang="es-ES" sz="2400" spc="-1" strike="noStrike" baseline="30000">
                          <a:solidFill>
                            <a:srgbClr val="000000"/>
                          </a:solidFill>
                          <a:latin typeface="Century Schoolbook"/>
                        </a:rPr>
                        <a:t>5</a:t>
                      </a: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*N</a:t>
                      </a:r>
                      <a:r>
                        <a:rPr b="0" lang="es-ES" sz="2400" spc="-1" strike="noStrike" baseline="30000">
                          <a:solidFill>
                            <a:srgbClr val="000000"/>
                          </a:solidFill>
                          <a:latin typeface="Century Schoolbook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-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3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5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3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Efecto de aireación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tencia necesaria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¿Aumenta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o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Disminuy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228600" y="304920"/>
            <a:ext cx="8610480" cy="64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Disminución de la  potencia consumida debido a la aire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presencia de un gas produce </a:t>
            </a:r>
            <a:r>
              <a:rPr b="0" lang="es-ES_tradnl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ambios en la densidad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lrededor del agitador, principalmente por la presencia de burbuja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s </a:t>
            </a:r>
            <a:r>
              <a:rPr b="0" lang="es-ES_tradnl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ambios producidos son bastante significativos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l comparar los niveles de potencia requeridos en un sistema sin aireació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 P = 0.3 – 1: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just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pendiendo del tipo de agitador y la velocidad de aireación, lo cual se traduce en el grado de dispersión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 las burbujas alrededor del agitador y del tanqu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 P = f (N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Número de aireación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"/>
          <p:cNvGraphicFramePr/>
          <p:nvPr/>
        </p:nvGraphicFramePr>
        <p:xfrm>
          <a:off x="395280" y="1341360"/>
          <a:ext cx="3809880" cy="363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341360"/>
                    <a:ext cx="3809880" cy="363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" name=""/>
          <p:cNvGraphicFramePr/>
          <p:nvPr/>
        </p:nvGraphicFramePr>
        <p:xfrm>
          <a:off x="4500720" y="1268280"/>
          <a:ext cx="4228920" cy="3867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00720" y="1268280"/>
                    <a:ext cx="4228920" cy="386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28600" y="304920"/>
            <a:ext cx="8610480" cy="22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Disminución de la  potencia consumida debido a la aire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 P = f (N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Número de aireación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914400" y="2657520"/>
                <a:ext cx="7696080" cy="77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Velocidad Aparente del aire a través de una sección del tanque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Velocidad de agitació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3387600" y="3886200"/>
                <a:ext cx="2281320" cy="9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/</m:t>
                        </m:r>
                        <m:sSubSup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t xml:space="preserve">N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num>
                      <m:den>
                        <m:r>
                          <m:t xml:space="preserve">N</m:t>
                        </m:r>
                        <m:r>
                          <m:t xml:space="preserve">⋅</m:t>
                        </m:r>
                        <m:sSubSup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3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1" name=""/>
          <p:cNvSpPr/>
          <p:nvPr/>
        </p:nvSpPr>
        <p:spPr>
          <a:xfrm>
            <a:off x="990720" y="5638680"/>
            <a:ext cx="438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Donde Fa : Flujo de aireación [m</a:t>
            </a:r>
            <a:r>
              <a:rPr b="0" lang="es-E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/seg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762120" y="304920"/>
            <a:ext cx="7467480" cy="122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Cálculo de Potenc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Mecanismos de Agitación en Sistemas </a:t>
            </a:r>
            <a:r>
              <a:rPr b="1" lang="es-ES_tradnl" sz="2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con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es-ES_tradnl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G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95360" y="1706400"/>
            <a:ext cx="8153280" cy="48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orrel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 Turbina de paletas planas en un sistema aire-agua, se han determinado la siguiente correlació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G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= 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 ( P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o</a:t>
            </a:r>
            <a:r>
              <a:rPr b="0" lang="en-US" sz="32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* N  *Di</a:t>
            </a:r>
            <a:r>
              <a:rPr b="0" lang="en-US" sz="32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3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/ F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aire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0.56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0" lang="en-US" sz="32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0.45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n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Constante, si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 &gt;1000 L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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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 &lt;1000 L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0.7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nsidad del líquido : 0.8- 1.65 g/cm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scosidad del líquido : 0.9 – 100 c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nsión superficial : 27-72 dinas/c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762120" y="304920"/>
            <a:ext cx="7467480" cy="122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Cálculo de Potenc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Mecanismos de Agitación en Sistemas </a:t>
            </a:r>
            <a:r>
              <a:rPr b="1" lang="es-ES_tradnl" sz="2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con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es-ES_tradnl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G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" y="1706400"/>
            <a:ext cx="8686800" cy="443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orrel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</a:t>
            </a:r>
            <a:r>
              <a:rPr b="0" lang="es-ES" sz="28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G</a:t>
            </a:r>
            <a:r>
              <a:rPr b="0" lang="es-E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/P</a:t>
            </a:r>
            <a:r>
              <a:rPr b="0" lang="es-ES" sz="28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o</a:t>
            </a:r>
            <a:r>
              <a:rPr b="0" lang="es-E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= 0.10* (F</a:t>
            </a:r>
            <a:r>
              <a:rPr b="0" lang="es-ES" sz="28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g</a:t>
            </a:r>
            <a:r>
              <a:rPr b="0" lang="es-E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/N* V)</a:t>
            </a:r>
            <a:r>
              <a:rPr b="0" lang="es-ES" sz="28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-0.25 </a:t>
            </a:r>
            <a:r>
              <a:rPr b="0" lang="es-E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/ (N</a:t>
            </a:r>
            <a:r>
              <a:rPr b="0" lang="es-ES" sz="28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0" lang="es-E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D</a:t>
            </a:r>
            <a:r>
              <a:rPr b="0" lang="es-ES" sz="28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0" lang="es-ES" sz="28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4</a:t>
            </a:r>
            <a:r>
              <a:rPr b="0" lang="es-E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/g*w</a:t>
            </a:r>
            <a:r>
              <a:rPr b="0" lang="es-ES" sz="28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0" lang="es-E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 V</a:t>
            </a:r>
            <a:r>
              <a:rPr b="0" lang="es-ES" sz="28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2/3</a:t>
            </a:r>
            <a:r>
              <a:rPr b="0" lang="es-E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0" lang="es-ES" sz="28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0.20</a:t>
            </a:r>
            <a:r>
              <a:rPr b="0" lang="es-E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n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caudal volumétrico del g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. Aceleración de grave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ncho del rode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6" name=""/>
          <p:cNvGraphicFramePr/>
          <p:nvPr/>
        </p:nvGraphicFramePr>
        <p:xfrm>
          <a:off x="228600" y="304920"/>
          <a:ext cx="8915400" cy="655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304920"/>
                    <a:ext cx="8915400" cy="655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8" name=""/>
          <p:cNvSpPr/>
          <p:nvPr/>
        </p:nvSpPr>
        <p:spPr>
          <a:xfrm>
            <a:off x="228600" y="304920"/>
            <a:ext cx="289548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 las condiciones de Na : 0 – 12 * 10</a:t>
            </a:r>
            <a:r>
              <a:rPr b="0" lang="es-E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P:  0.3  -  1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00400" y="15228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Ref: Aiba S (1973)” Biochemical Engineering” Academic Press, NY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33520" y="487692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np: Número de pale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533520" y="533520"/>
            <a:ext cx="7772400" cy="43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 baseline="-25000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 </a:t>
            </a:r>
            <a:r>
              <a:rPr b="1" lang="es-ES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Correlaciones entre variables de diseño y el Coeficiente de Transferencias de O</a:t>
            </a:r>
            <a:r>
              <a:rPr b="1" lang="es-ES" sz="2400" spc="-1" strike="noStrike" u="sng" baseline="-25000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2</a:t>
            </a:r>
            <a:r>
              <a:rPr b="1" lang="es-ES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 k</a:t>
            </a:r>
            <a:r>
              <a:rPr b="1" lang="es-ES" sz="2400" spc="-1" strike="noStrike" u="sng" baseline="-25000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l</a:t>
            </a:r>
            <a:r>
              <a:rPr b="1" lang="es-ES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rrelaciones del tip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 =  Cte ( 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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mpeler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( P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/V )</a:t>
            </a:r>
            <a:r>
              <a:rPr b="0" lang="es-E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v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s-E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n</a:t>
            </a:r>
            <a:r>
              <a:rPr b="0" lang="es-E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nde (P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V): Potencia por unidad de volumen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 Velocidad del aire a través del estanque vacío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N: velocidad de agitación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      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610920" y="1196640"/>
            <a:ext cx="7543800" cy="586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i son impeler tipo turbina pla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Kv</a:t>
            </a:r>
            <a:r>
              <a:rPr b="1" lang="es-E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=  0.0318 ( P</a:t>
            </a:r>
            <a:r>
              <a:rPr b="1" lang="es-ES" sz="18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G</a:t>
            </a:r>
            <a:r>
              <a:rPr b="1" lang="es-E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/V )</a:t>
            </a:r>
            <a:r>
              <a:rPr b="1" lang="es-ES" sz="18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0.95</a:t>
            </a:r>
            <a:r>
              <a:rPr b="1" lang="es-E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v</a:t>
            </a:r>
            <a:r>
              <a:rPr b="1" lang="es-ES" sz="18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s</a:t>
            </a:r>
            <a:r>
              <a:rPr b="1" lang="es-E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s-ES" sz="18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0.67</a:t>
            </a:r>
            <a:r>
              <a:rPr b="1" lang="es-E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s-E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s-E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[Kgmol / hr m</a:t>
            </a:r>
            <a:r>
              <a:rPr b="1" lang="es-ES" sz="18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3</a:t>
            </a:r>
            <a:r>
              <a:rPr b="1" lang="es-E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atm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i son impeler tipo vele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Kv =  0.0635 ( P</a:t>
            </a:r>
            <a:r>
              <a:rPr b="1" lang="es-ES" sz="18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G</a:t>
            </a:r>
            <a:r>
              <a:rPr b="1" lang="es-E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/V )</a:t>
            </a:r>
            <a:r>
              <a:rPr b="1" lang="es-ES" sz="18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0.95</a:t>
            </a:r>
            <a:r>
              <a:rPr b="1" lang="es-E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v</a:t>
            </a:r>
            <a:r>
              <a:rPr b="1" lang="es-ES" sz="18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s</a:t>
            </a:r>
            <a:r>
              <a:rPr b="1" lang="es-E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s-ES" sz="18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0.67</a:t>
            </a:r>
            <a:r>
              <a:rPr b="1" lang="es-E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s-E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s-E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[Kgmol / hr m</a:t>
            </a:r>
            <a:r>
              <a:rPr b="1" lang="es-ES" sz="18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3</a:t>
            </a:r>
            <a:r>
              <a:rPr b="1" lang="es-E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atm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debe cumplir las restricciones que: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g/V &gt; 0.1 HP/m3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L/DT = 1.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1 agitador 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lt; 90 m/hr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agitador 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lt; 150 m/h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nde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P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V): Potencia por unidad de volumen [HP/m3]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 Velocidad del aire a través del estanque vacío [m/hr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328760" y="189000"/>
            <a:ext cx="6109200" cy="10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Correlaciones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para el coeficiente volumétric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de absorción de oxíge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685440" y="30492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s-ES_tradnl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i son impeler tipo paleta sola (Paddl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es-E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K</a:t>
            </a:r>
            <a:r>
              <a:rPr b="1" lang="es-ES" sz="20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V</a:t>
            </a:r>
            <a:r>
              <a:rPr b="1" lang="es-E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=  0.038 ( P</a:t>
            </a:r>
            <a:r>
              <a:rPr b="1" lang="es-ES" sz="20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G</a:t>
            </a:r>
            <a:r>
              <a:rPr b="1" lang="es-E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/V )</a:t>
            </a:r>
            <a:r>
              <a:rPr b="1" lang="es-ES" sz="20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0.53</a:t>
            </a:r>
            <a:r>
              <a:rPr b="1" lang="es-E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v</a:t>
            </a:r>
            <a:r>
              <a:rPr b="1" lang="es-ES" sz="20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s</a:t>
            </a:r>
            <a:r>
              <a:rPr b="1" lang="es-ES" sz="20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0.67</a:t>
            </a:r>
            <a:r>
              <a:rPr b="1" lang="es-E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s-E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[Kgmol / hr m</a:t>
            </a:r>
            <a:r>
              <a:rPr b="1" lang="es-ES" sz="20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3</a:t>
            </a:r>
            <a:r>
              <a:rPr b="1" lang="es-E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atm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debe cumplir las restricciones qu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g/V &gt; 0.06 HP/m3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L/DT = 1.0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lt; 21 m/h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nde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P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V): Potencia por unidad de volumen [HP/m3]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 Velocidad del aire a través del estanque vacío [m/hr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5" name=""/>
          <p:cNvGraphicFramePr/>
          <p:nvPr/>
        </p:nvGraphicFramePr>
        <p:xfrm>
          <a:off x="471600" y="771480"/>
          <a:ext cx="8202600" cy="531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1600" y="771480"/>
                    <a:ext cx="8202600" cy="531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685800" y="380880"/>
            <a:ext cx="5257800" cy="41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Hold-up de las burbuj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 adicionar aire a un tanque agitado las burbujas tienden a </a:t>
            </a:r>
            <a:r>
              <a:rPr b="0" lang="es-E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rrastrar un volumen de liquido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La altura a la cuales arrastrada se llama </a:t>
            </a:r>
            <a:r>
              <a:rPr b="0" lang="es-E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old-up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H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cho valor es un porcentaje de la altura  total de líquido en el tanque, H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Para determinar este valor es necesario aplicar la siguiente correlació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%) = (P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V)</a:t>
            </a:r>
            <a:r>
              <a:rPr b="0" lang="es-E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0.4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s-E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0.5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33520" y="4648320"/>
            <a:ext cx="7543800" cy="19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n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V : 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tencia por unidad de volumen del sistemas sin gasificar (HP/m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locidad lineal de aire en el tanque vacío (m/h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6033960" y="838080"/>
            <a:ext cx="3109680" cy="3017880"/>
            <a:chOff x="6033960" y="838080"/>
            <a:chExt cx="3109680" cy="3017880"/>
          </a:xfrm>
        </p:grpSpPr>
        <p:grpSp>
          <p:nvGrpSpPr>
            <p:cNvPr id="220" name=""/>
            <p:cNvGrpSpPr/>
            <p:nvPr/>
          </p:nvGrpSpPr>
          <p:grpSpPr>
            <a:xfrm>
              <a:off x="6033960" y="838080"/>
              <a:ext cx="3109680" cy="3017880"/>
              <a:chOff x="6033960" y="838080"/>
              <a:chExt cx="3109680" cy="3017880"/>
            </a:xfrm>
          </p:grpSpPr>
          <p:grpSp>
            <p:nvGrpSpPr>
              <p:cNvPr id="221" name=""/>
              <p:cNvGrpSpPr/>
              <p:nvPr/>
            </p:nvGrpSpPr>
            <p:grpSpPr>
              <a:xfrm>
                <a:off x="6033960" y="838080"/>
                <a:ext cx="3109680" cy="3017880"/>
                <a:chOff x="6033960" y="838080"/>
                <a:chExt cx="3109680" cy="3017880"/>
              </a:xfrm>
            </p:grpSpPr>
            <p:sp>
              <p:nvSpPr>
                <p:cNvPr id="222" name=""/>
                <p:cNvSpPr/>
                <p:nvPr/>
              </p:nvSpPr>
              <p:spPr>
                <a:xfrm>
                  <a:off x="7407720" y="3490200"/>
                  <a:ext cx="731520" cy="3657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200" spc="-1" strike="noStrike">
                      <a:solidFill>
                        <a:srgbClr val="000000"/>
                      </a:solidFill>
                      <a:latin typeface="Times New Roman"/>
                    </a:rPr>
                    <a:t>v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23" name=""/>
                <p:cNvGrpSpPr/>
                <p:nvPr/>
              </p:nvGrpSpPr>
              <p:grpSpPr>
                <a:xfrm>
                  <a:off x="6033960" y="838080"/>
                  <a:ext cx="3109680" cy="3017880"/>
                  <a:chOff x="6033960" y="838080"/>
                  <a:chExt cx="3109680" cy="3017880"/>
                </a:xfrm>
              </p:grpSpPr>
              <p:grpSp>
                <p:nvGrpSpPr>
                  <p:cNvPr id="224" name=""/>
                  <p:cNvGrpSpPr/>
                  <p:nvPr/>
                </p:nvGrpSpPr>
                <p:grpSpPr>
                  <a:xfrm>
                    <a:off x="6033960" y="838080"/>
                    <a:ext cx="3109680" cy="3017880"/>
                    <a:chOff x="6033960" y="838080"/>
                    <a:chExt cx="3109680" cy="3017880"/>
                  </a:xfrm>
                </p:grpSpPr>
                <p:graphicFrame>
                  <p:nvGraphicFramePr>
                    <p:cNvPr id="225" name=""/>
                    <p:cNvGraphicFramePr/>
                    <p:nvPr/>
                  </p:nvGraphicFramePr>
                  <p:xfrm>
                    <a:off x="6033960" y="929520"/>
                    <a:ext cx="2000880" cy="2314800"/>
                  </p:xfrm>
                  <a:graphic>
                    <a:graphicData uri="http://schemas.openxmlformats.org/presentationml/2006/ole">
                      <p:oleObj r:id="rId1" spid="">
                        <p:embed/>
                        <p:pic>
                          <p:nvPicPr>
                            <p:cNvPr id="226" name="" descr=""/>
                            <p:cNvPicPr/>
                            <p:nvPr/>
                          </p:nvPicPr>
                          <p:blipFill>
                            <a:blip r:embed="rId2"/>
                            <a:stretch/>
                          </p:blipFill>
                          <p:spPr>
                            <a:xfrm>
                              <a:off x="6033960" y="929520"/>
                              <a:ext cx="2000880" cy="2314800"/>
                            </a:xfrm>
                            <a:prstGeom prst="rect">
                              <a:avLst/>
                            </a:prstGeom>
                            <a:ln w="0">
                              <a:noFill/>
                            </a:ln>
                          </p:spPr>
                        </p:pic>
                      </p:oleObj>
                    </a:graphicData>
                  </a:graphic>
                </p:graphicFrame>
                <p:sp>
                  <p:nvSpPr>
                    <p:cNvPr id="227" name=""/>
                    <p:cNvSpPr/>
                    <p:nvPr/>
                  </p:nvSpPr>
                  <p:spPr>
                    <a:xfrm flipV="1">
                      <a:off x="7131600" y="3307320"/>
                      <a:ext cx="0" cy="548640"/>
                    </a:xfrm>
                    <a:prstGeom prst="line">
                      <a:avLst/>
                    </a:prstGeom>
                    <a:ln w="7632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8" name=""/>
                    <p:cNvSpPr/>
                    <p:nvPr/>
                  </p:nvSpPr>
                  <p:spPr>
                    <a:xfrm flipV="1">
                      <a:off x="7040160" y="838080"/>
                      <a:ext cx="0" cy="54864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9" name=""/>
                    <p:cNvSpPr/>
                    <p:nvPr/>
                  </p:nvSpPr>
                  <p:spPr>
                    <a:xfrm>
                      <a:off x="8137800" y="1386720"/>
                      <a:ext cx="0" cy="5486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headEnd len="med" type="triangle" w="med"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>
                      <a:off x="8412120" y="1386720"/>
                      <a:ext cx="731520" cy="54864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 (%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1" name=""/>
                  <p:cNvSpPr/>
                  <p:nvPr/>
                </p:nvSpPr>
                <p:spPr>
                  <a:xfrm>
                    <a:off x="6216840" y="2209680"/>
                    <a:ext cx="731520" cy="3657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V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2" name=""/>
                  <p:cNvSpPr/>
                  <p:nvPr/>
                </p:nvSpPr>
                <p:spPr>
                  <a:xfrm>
                    <a:off x="7040160" y="1569600"/>
                    <a:ext cx="0" cy="1097280"/>
                  </a:xfrm>
                  <a:prstGeom prst="line">
                    <a:avLst/>
                  </a:prstGeom>
                  <a:ln w="763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33" name=""/>
                  <p:cNvGrpSpPr/>
                  <p:nvPr/>
                </p:nvGrpSpPr>
                <p:grpSpPr>
                  <a:xfrm>
                    <a:off x="6674040" y="2575440"/>
                    <a:ext cx="731520" cy="121680"/>
                    <a:chOff x="6674040" y="2575440"/>
                    <a:chExt cx="731520" cy="121680"/>
                  </a:xfrm>
                </p:grpSpPr>
                <p:sp>
                  <p:nvSpPr>
                    <p:cNvPr id="234" name=""/>
                    <p:cNvSpPr/>
                    <p:nvPr/>
                  </p:nvSpPr>
                  <p:spPr>
                    <a:xfrm>
                      <a:off x="6674040" y="2575440"/>
                      <a:ext cx="365760" cy="9108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7640" bIns="17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7039800" y="2575440"/>
                      <a:ext cx="365760" cy="12168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600" bIns="39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6" name=""/>
                  <p:cNvSpPr/>
                  <p:nvPr/>
                </p:nvSpPr>
                <p:spPr>
                  <a:xfrm>
                    <a:off x="7314480" y="2209680"/>
                    <a:ext cx="457200" cy="2743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" sz="1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Po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237" name=""/>
              <p:cNvSpPr/>
              <p:nvPr/>
            </p:nvSpPr>
            <p:spPr>
              <a:xfrm>
                <a:off x="8413920" y="2301120"/>
                <a:ext cx="548640" cy="27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r>
                  <a:rPr b="0" lang="en-US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8" name=""/>
            <p:cNvSpPr/>
            <p:nvPr/>
          </p:nvSpPr>
          <p:spPr>
            <a:xfrm>
              <a:off x="8153280" y="1905120"/>
              <a:ext cx="0" cy="9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457200" y="228600"/>
            <a:ext cx="8229600" cy="65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  <a:ea typeface="Arial"/>
              </a:rPr>
              <a:t>Ejemp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tiene un fermentador equipado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 2 set de turbinas de paletas planas y 4 baffles. Las dimensiones del fermentador son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ámetro del fermentador 3m (D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ámetro del agitador 1.5m (D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cho de los baffles 0.3 m (w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tura del líquido 5 m (H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s características del caldo de cultivo son una densidad de 1200 kg/m</a:t>
            </a:r>
            <a:r>
              <a:rPr b="0" lang="es-E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 una viscosidad de 0.02 kg/m s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s condiciones de operación son una velocidad de rotación de 60rpm y una velocidad de aireación de 0.4 vv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requiere calcul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potencia requerida para un sistema sin g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potencia para un sistema aire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coeficiente de transferencia de Oxígeno, K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ld up del sistema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Airea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lgunas consideraciones que se debe tomar s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174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Proporcionar a los microorganismos el oxígeno necesario para llevar a cabo su proceso respiratorio.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a solubilidad del O</a:t>
            </a:r>
            <a:r>
              <a:rPr b="0" lang="es-ES_tradnl" sz="2800" spc="-1" strike="noStrike" baseline="-30000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0" lang="es-ES_tradnl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es baja &lt; 10mg/l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 necesita alimentar en forma continua este </a:t>
            </a:r>
            <a:r>
              <a:rPr b="0" lang="es-ES_tradnl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“nutriente”,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ado que su demanda  es aproximadamente de </a:t>
            </a:r>
            <a:r>
              <a:rPr b="0" lang="es-ES_tradnl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g/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Airea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20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Se pueden tener sistemas  donde los microorganismos crecen con múltiples sustratos, pero en el caso que todos son limitantes. Ej, C,N,</a:t>
            </a:r>
            <a:r>
              <a:rPr b="1" lang="es-ES" sz="4000" spc="-1" strike="noStrike">
                <a:solidFill>
                  <a:srgbClr val="ff0000"/>
                </a:solidFill>
                <a:latin typeface="Times New Roman"/>
              </a:rPr>
              <a:t>O</a:t>
            </a:r>
            <a:r>
              <a:rPr b="1" lang="es-ES" sz="40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s-ES" sz="3200" spc="-1" strike="noStrike" baseline="-25000">
                <a:solidFill>
                  <a:srgbClr val="3333cc"/>
                </a:solidFill>
                <a:latin typeface="Times New Roman"/>
              </a:rPr>
              <a:t> , </a:t>
            </a:r>
            <a:r>
              <a:rPr b="1" lang="es-ES" sz="3200" spc="-1" strike="noStrike">
                <a:solidFill>
                  <a:srgbClr val="3333cc"/>
                </a:solidFill>
                <a:latin typeface="Times New Roman"/>
              </a:rPr>
              <a:t>luego la cantidad de cada uno de ellos afecta la cinética de crecimient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1547640" y="4724280"/>
                <a:ext cx="5958000" cy="110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G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G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G</m:t>
                            </m:r>
                          </m:den>
                        </m:f>
                      </m:e>
                    </m: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N</m:t>
                            </m:r>
                          </m:den>
                        </m:f>
                      </m:e>
                    </m: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O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O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Transferencia de Oxígen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94920" y="990720"/>
            <a:ext cx="8209080" cy="54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7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l comportamiento de las fermentaciones está fuertemente influenciado por una serie de operaciones de transferenc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7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s posible que una determinada fermentación, en especial las aeróbicas, esté limitada en sus posibilidades de mejorar su rendimiento y productividad, no por razones propias de las características de las células sino que por </a:t>
            </a:r>
            <a:r>
              <a:rPr b="1" lang="es-ES_tradnl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roblemas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en el diseño que permita </a:t>
            </a:r>
            <a:r>
              <a:rPr b="0" lang="es-ES_tradnl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atisfacer la alta demanda de transferencia de masa, y en especial de oxígeno</a:t>
            </a:r>
            <a:r>
              <a:rPr b="0" lang="es-ES_tradnl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Necesidades de Diseñ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94920" y="990720"/>
            <a:ext cx="8209080" cy="54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4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3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Se diseño de un sistema de aireación-agitación debería satisfacer que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7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r>
              <a:rPr b="0" lang="es-ES_tradnl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EMANDA DE OXIGENO = OFERTA DE OXIGE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Demanda de Oxígeno de un Cultiv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1280" y="1125360"/>
            <a:ext cx="7557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7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Un cultivo aeróbico de células requiere del suministro de oxígeno a una determinada velocidad para asegurar la plena satisfacción de sus requerimientos metabólic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7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La demanda de oxígeno, N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Times New Roman"/>
                <a:ea typeface="Times New Roman"/>
              </a:rPr>
              <a:t>O2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,se define como: “ La cantidad de oxígeno requerida por unidad de tiempo y por unidad de volumen de cultivo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7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7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3492360" y="5445000"/>
                <a:ext cx="1859040" cy="9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o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μ</m:t>
                        </m:r>
                        <m:r>
                          <m:t xml:space="preserve">⋅</m:t>
                        </m:r>
                        <m:r>
                          <m:t xml:space="preserve">x</m:t>
                        </m:r>
                      </m:num>
                      <m:den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o</m:t>
                            </m:r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6T14:12:42Z</dcterms:created>
  <dc:creator>Maria Elena Lienqueo C.</dc:creator>
  <dc:description/>
  <dc:language>en-US</dc:language>
  <cp:lastModifiedBy>Usuario final del equipo</cp:lastModifiedBy>
  <dcterms:modified xsi:type="dcterms:W3CDTF">2009-09-18T06:07:38Z</dcterms:modified>
  <cp:revision>59</cp:revision>
  <dc:subject/>
  <dc:title>Agitacion y Aireación de Fermentadores</dc:title>
</cp:coreProperties>
</file>