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3A69-0CED-4F1B-9CCE-20D3A7C81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47E9-982A-4C90-B349-28DA817D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943A-00E1-476F-8CBC-292B4744B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D552-3918-4A8B-99A4-AF7CDE934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B01D-DEF7-4D3A-BE0C-6CD53478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A98A-934B-4881-991F-ABF3ACEA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CAF5-2BD9-4C26-B571-1C1F8783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1A66-0A94-4F8F-B84C-8F648A39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AE4E-D461-40EE-886B-A149E04A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B734-BFB5-4E75-BC7E-FE72208A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1DF4-1099-4E04-8929-A970EF47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3F98-AA5B-47BB-89B3-CBAE9251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FA54-808D-4731-B389-B0AD0F2B830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iseño de Fermenta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imensionamiento, V o D o</a:t>
            </a:r>
            <a:r>
              <a:rPr b="0" lang="es-ES_tradnl" sz="3200" spc="-1" strike="noStrike">
                <a:solidFill>
                  <a:srgbClr val="3333cc"/>
                </a:solidFill>
                <a:latin typeface="Symbol"/>
                <a:ea typeface="Symbol"/>
              </a:rPr>
              <a:t>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amaño del fermentador    Ecuaciones de Diseño O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ireación y Agitación, P y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e una adecuada Transferencia de O</a:t>
            </a:r>
            <a:r>
              <a:rPr b="0" lang="es-ES_tradnl" sz="16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energía y una buena mezc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00"/>
              </a:spcBef>
              <a:buClr>
                <a:srgbClr val="ff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 determinan potencias, velocidad de agi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00"/>
              </a:spcBef>
              <a:buClr>
                <a:srgbClr val="ff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lujos de A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calamient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io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nta Piloto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Escala Indust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strumentació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r variables del proc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trol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a las variables del proc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072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or otra parte, el crecimiento microbiano se puede representar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C</a:t>
            </a:r>
            <a:r>
              <a:rPr b="0" lang="es-ES_tradnl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b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</a:t>
            </a:r>
            <a:r>
              <a:rPr b="0" lang="es-ES_tradnl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C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+ m</a:t>
            </a:r>
            <a:r>
              <a:rPr b="0" lang="es-ES_tradnl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H</a:t>
            </a:r>
            <a:r>
              <a:rPr b="0" lang="es-ES_tradnl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3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 O</a:t>
            </a:r>
            <a:r>
              <a:rPr b="0" lang="es-ES_tradnl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 C</a:t>
            </a:r>
            <a:r>
              <a:rPr b="0" lang="es-ES_tradnl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 CO</a:t>
            </a:r>
            <a:r>
              <a:rPr b="0" lang="es-ES_tradnl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+ t H</a:t>
            </a:r>
            <a:r>
              <a:rPr b="0" lang="es-ES_tradnl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 + u C</a:t>
            </a:r>
            <a:r>
              <a:rPr b="0" lang="es-ES_tradnl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h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</a:t>
            </a:r>
            <a:r>
              <a:rPr b="0" lang="es-ES_tradnl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j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s-ES_tradnl" sz="32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d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e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g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Bioma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h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j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 Metabolito extracel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 acuerdo con la ecuación anterior, el rendimiento de oxígeno en células se puede calcular por medio de la  relación entre “n” y “q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 no se producen Metabolito extracelular, “u” igual a cero </a:t>
            </a:r>
            <a:r>
              <a:rPr b="0" lang="es-ES_tradnl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835280" y="4437000"/>
                <a:ext cx="56894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c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d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1116000" y="5373720"/>
            <a:ext cx="712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w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Peso molecular de la fuente de carbono y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f: Acevedo F.,Gentina JC., Illanes A (2002) Fundamentos de Ingeniería Bioquímica, Ed. Universitarias de Valparaí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1360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os valores más usuales de N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o2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están alrededor de 50 a 200 m-moles de O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/L h (1.6-3.2 g O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/ L h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alores superiores a 120 m-moles de O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/L h son difíciles de satisfacer en equipos de diseño estándar y en condiciones de operación económ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f: Acevedo F.,Gentina JC., Illanes A (2002) Fundamentos de Ingeniería Bioquímica, Ed. Universitarias de Valparaí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228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oceso de transferencia de oxígeno (OFER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1066680"/>
            <a:ext cx="37335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ta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)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seno de la burbuja a una capa interna de 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usión en la capa interna de g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i) 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fusión a través de una capa externa de líquido que rodea a la burbuja ¡Etapa limitant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v)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encia al seno del líqu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)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fusión a través de la capa de líquido que rodea a los microorganismos ¡Etapa limitant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i)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usión en el interior de los microorganismos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962520"/>
            <a:ext cx="554040" cy="83808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684360" y="1341360"/>
            <a:ext cx="5637240" cy="4953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39640" y="3429000"/>
            <a:ext cx="762120" cy="990720"/>
          </a:xfrm>
          <a:prstGeom prst="ellips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3086280"/>
            <a:ext cx="533520" cy="685800"/>
          </a:xfrm>
          <a:prstGeom prst="ellipse">
            <a:avLst/>
          </a:prstGeom>
          <a:noFill/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924360" y="1427040"/>
          <a:ext cx="4822920" cy="28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427040"/>
                    <a:ext cx="482292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684360" y="907920"/>
            <a:ext cx="815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 velocidad de transferencia por unidad de área interfacial, W,  está dada por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413000"/>
            <a:ext cx="367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W = k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 (C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 –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9880" y="26028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</a:rPr>
              <a:t>Velocidad de Transferencia de Oxígeno por área interfa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2492280"/>
            <a:ext cx="367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mo en la interfase se supone que hay equilibrio entre el oxígeno en el gas y el disuel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3860640"/>
            <a:ext cx="4392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W = k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 (C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 – C)= k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 (P – P</a:t>
            </a:r>
            <a:r>
              <a:rPr b="1" lang="es-ES_tradnl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4724280"/>
            <a:ext cx="78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s cantidades Pi y Ci resultan difíciles de determinar en la práctica, se prefiere hacer uso de las relaciones de  equilibrio, trabajando con las concentraciones y presiones de equilibrio C*  y P*. Con ello se trabaja con la “ Velocidad de transferencia de oxígeno volumétrica”, 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4360" y="33336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Velocidad de Transferencia de oxígeno volumé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el control de la transferencia de O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encuentra en el film líquido que rodea a la burbuja o  a los microorganismos, 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 velocidad de transferencia de oxígeno, N</a:t>
            </a:r>
            <a:r>
              <a:rPr b="1" lang="es-ES_tradnl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puede expresar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s-ES_tradnl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k</a:t>
            </a:r>
            <a:r>
              <a:rPr b="1" lang="es-ES_tradnl" sz="2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L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(C* - C)  = H k</a:t>
            </a:r>
            <a:r>
              <a:rPr b="1" lang="es-ES_tradnl" sz="2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L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(P – P*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supone que hay equilibrio entre el oxígeno de el gas y el disuelto en el líqui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ef volumétrico de transferencia de 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la fase líquida (cm/h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: Area interfacial específica (c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Resulta difícil de medir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*: Conc. de O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el equilibrio (mM/L) (Hipotéti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 : Conc. de O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sueltro en el seno de la fase líquida  (Este valor no puede ser inferior C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rític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mg/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* : Presión de O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el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 : Presión de O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el seno de la fase g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: cte. de Henry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350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alance de Oxí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10920" y="1052640"/>
            <a:ext cx="3809880" cy="11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puede plantear una ecuación de balance de oxígeno en el fermentad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105520" y="0"/>
            <a:ext cx="3504960" cy="2362320"/>
            <a:chOff x="5105520" y="0"/>
            <a:chExt cx="3504960" cy="2362320"/>
          </a:xfrm>
        </p:grpSpPr>
        <p:graphicFrame>
          <p:nvGraphicFramePr>
            <p:cNvPr id="93" name=""/>
            <p:cNvGraphicFramePr/>
            <p:nvPr/>
          </p:nvGraphicFramePr>
          <p:xfrm>
            <a:off x="5105520" y="0"/>
            <a:ext cx="3504960" cy="2362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0"/>
                      <a:ext cx="350496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" name=""/>
            <p:cNvSpPr/>
            <p:nvPr/>
          </p:nvSpPr>
          <p:spPr>
            <a:xfrm>
              <a:off x="6251400" y="725400"/>
              <a:ext cx="13478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60320" y="181080"/>
              <a:ext cx="673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O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819520" y="3581280"/>
                <a:ext cx="335268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C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455040" y="2286000"/>
            <a:ext cx="8226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que entra – O</a:t>
            </a:r>
            <a:r>
              <a:rPr b="0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 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que sale – O</a:t>
            </a:r>
            <a:r>
              <a:rPr b="0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sumido por unidad de volum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Acumulación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25920" y="3048120"/>
            <a:ext cx="581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que entra – O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 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que sale = O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 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que se transfiere = N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4648320"/>
            <a:ext cx="8227800" cy="11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ra que el cultivo pueda crecer sin limitación de Oxígeno, el suministro debe ser igual a la deman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048120" y="5486400"/>
                <a:ext cx="264780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C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09480" y="228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étodos de determinación k</a:t>
            </a:r>
            <a:r>
              <a:rPr b="1" lang="es-ES_tradnl" sz="2400" spc="-1" strike="noStrike" u="sng" baseline="-30000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ra la adecuada operación de un fermentador se hace necesario conocer el valor del coeficiente volumetrico de transferencia de O2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ión de los flujos de Oxí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do mediante  Corre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828800" y="2057040"/>
            <a:ext cx="457200" cy="914760"/>
            <a:chOff x="1828800" y="2057040"/>
            <a:chExt cx="457200" cy="914760"/>
          </a:xfrm>
        </p:grpSpPr>
        <p:sp>
          <p:nvSpPr>
            <p:cNvPr id="104" name=""/>
            <p:cNvSpPr/>
            <p:nvPr/>
          </p:nvSpPr>
          <p:spPr>
            <a:xfrm flipV="1">
              <a:off x="1828800" y="2057040"/>
              <a:ext cx="457200" cy="609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28800" y="2666880"/>
              <a:ext cx="45720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419200" y="52736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22440" y="4994280"/>
            <a:ext cx="603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95640" y="3860640"/>
            <a:ext cx="47527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f (S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G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= f (D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)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étodos de determinación k</a:t>
            </a:r>
            <a:r>
              <a:rPr b="1" lang="es-ES_tradnl" sz="2400" spc="-1" strike="noStrike" u="sng" baseline="-30000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</a:t>
            </a: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ión de los flujo de Oxí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19200" y="52736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2440" y="4994280"/>
            <a:ext cx="603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981080"/>
            <a:ext cx="82296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ulació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Oxidación de sulfito de so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minación del O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Método Dinámico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s de mas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Medición Directa con analizador de O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étodo del sulfito de so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basa en la rápida reacción química de oxidación del sulfito a sulfato mediante O</a:t>
            </a:r>
            <a:r>
              <a:rPr b="1" lang="es-E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emplaza el medio por solución de sulfito de sodio 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 sulfato cúprico como catalizador) y se burbujea aire por un cierto ti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ulfito + O</a:t>
            </a:r>
            <a:r>
              <a:rPr b="1" lang="es-E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Sulf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19200" y="52736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2440" y="4994280"/>
            <a:ext cx="603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347920" y="3963960"/>
                <a:ext cx="42958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C</m:t>
                        </m:r>
                      </m:e>
                      <m:sup/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ulfit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icial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ulfito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914400" y="5257800"/>
            <a:ext cx="75438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</a:t>
            </a:r>
            <a:r>
              <a:rPr b="1" lang="es-E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L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C</a:t>
            </a:r>
            <a:r>
              <a:rPr b="1" lang="es-E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*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: Representa la máxima velocidad volumétrica de transferencia de O</a:t>
            </a:r>
            <a:r>
              <a:rPr b="1" lang="es-E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en un sistema dado (fermentado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80880" y="30492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Aireación y Agit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gi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zcla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 caldo de fermentació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obtener una suspensión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elerand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s velocidad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ansferencia de mas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utrien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lor.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588000" y="1989000"/>
            <a:ext cx="238608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étodo dinámic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932360" y="2133720"/>
          <a:ext cx="3594240" cy="26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133720"/>
                    <a:ext cx="3594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2419200" y="52736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22440" y="4994280"/>
            <a:ext cx="603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2060640"/>
            <a:ext cx="39621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tapa 1: Durante la fermentación se corta el suministro de aire  (T1) y se registra la disminución de 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disuelto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 este caso el suministro es nulo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981080" y="4572000"/>
                <a:ext cx="22273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C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990720" y="5257800"/>
            <a:ext cx="75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 pendiente de la curva es la demanda de 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038480" y="5835600"/>
                <a:ext cx="14414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971640" y="692280"/>
            <a:ext cx="74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En este caso la medición se realiza en el fermentador durante el crecimiento de un cultivo activo, registrándose el oxígeno disuelto. El proceso tiene 2 etap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435640" y="3213000"/>
                <a:ext cx="6984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étodo dinámico (cont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19200" y="52736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22440" y="4994280"/>
            <a:ext cx="603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187280" y="3573360"/>
                <a:ext cx="33530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/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μ</m:t>
                            </m:r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34" name=""/>
          <p:cNvGraphicFramePr/>
          <p:nvPr/>
        </p:nvGraphicFramePr>
        <p:xfrm>
          <a:off x="5219640" y="2276640"/>
          <a:ext cx="32670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276640"/>
                    <a:ext cx="32670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611280" y="1052640"/>
            <a:ext cx="75610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El flujo de aire se repone antes que se alcance la concentración crítica de oxígeno, C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 (bajo este valor la velocidad de metabolismo se hace dependiente de la concentración C, pudiéndose causar daños irreversibles en los m.o.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s-ES" sz="2000" spc="-1" strike="noStrike" baseline="-25000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 ≈ 0.1*Concentración de Sat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Bajo estas condiciones se cumple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5373720"/>
            <a:ext cx="7704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Desde la cual se despeja el término (-1/k</a:t>
            </a:r>
            <a:r>
              <a:rPr b="1" lang="es-ES" sz="2400" spc="-1" strike="noStrike" baseline="-25000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s-ES" sz="2400" spc="-1" strike="noStrike">
                <a:solidFill>
                  <a:srgbClr val="3333cc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6093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Depende de la velocidad de respuesta de los electrodo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étodo medición direc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19200" y="52736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47640" y="5300640"/>
            <a:ext cx="603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692280"/>
            <a:ext cx="7488000" cy="32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imes New Roman"/>
              </a:rPr>
              <a:t>Para aplicar este método se utiliza un electrodo de oxígeno disuelto y sistemas para determinar oxígeno en la fase gaseo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En este método se calcula la demanda de oxígeno midiendo el flujo de aire y la concentración de oxígeno en las corrientes gaseosas de entrada y sal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Con estos valores y la lectura de oxígeno disuelta, se calcula k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25000" y="4365720"/>
            <a:ext cx="7187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que entra – O</a:t>
            </a:r>
            <a:r>
              <a:rPr b="1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 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que sale = O</a:t>
            </a:r>
            <a:r>
              <a:rPr b="1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 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que se transfiere = k</a:t>
            </a:r>
            <a:r>
              <a:rPr b="1" lang="es-ES_tradnl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L </a:t>
            </a: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(C* - C)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00000" y="5229360"/>
            <a:ext cx="73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Método de alto costo debido al equipamiento analítico requer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ctores que afectan k</a:t>
            </a:r>
            <a:r>
              <a:rPr b="1" lang="es-ES_tradnl" sz="2800" spc="-1" strike="noStrike" u="sng" baseline="-30000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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emperatur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aumentos de temperatura se producen aumentos en el coeficiente de transferencia, es así como se tie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(30ºC)  = 1.15 k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(20ºC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(20ºC)  = 1.15 k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 (10º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ermentación con formación de mice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formarse micelas se produce un aumento de la viscosidad lo que conlleva a una disminución del k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83808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80880"/>
            <a:ext cx="7772400" cy="22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s-ES_tradnl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ustancias Orgá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adición de compuestos orgánicos produce una disminución tanto del k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del área especifica, a. Es así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gua + 1% peptona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iámetro de burbuja) entonces  a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 combinado implica que  k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(orgánico) = 0,4 k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(agu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838080" y="2743200"/>
            <a:ext cx="7315200" cy="3628800"/>
            <a:chOff x="838080" y="2743200"/>
            <a:chExt cx="7315200" cy="3628800"/>
          </a:xfrm>
        </p:grpSpPr>
        <p:sp>
          <p:nvSpPr>
            <p:cNvPr id="149" name=""/>
            <p:cNvSpPr/>
            <p:nvPr/>
          </p:nvSpPr>
          <p:spPr>
            <a:xfrm>
              <a:off x="838080" y="2743200"/>
              <a:ext cx="73152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r>
                <a:rPr b="0" lang="es-ES_tradnl" sz="2000" spc="-1" strike="noStrike" u="sng">
                  <a:solidFill>
                    <a:srgbClr val="ff0000"/>
                  </a:solidFill>
                  <a:uFillTx/>
                  <a:latin typeface="Times New Roman"/>
                  <a:ea typeface="Times New Roman"/>
                </a:rPr>
                <a:t>Agentes sufactan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 adición de agentes surfactantes que evitan la producción de espuma alterar el valor de k</a:t>
              </a:r>
              <a:r>
                <a:rPr b="0" lang="es-ES_tradnl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. Afectando tanto al k</a:t>
              </a:r>
              <a:r>
                <a:rPr b="0" lang="es-ES_tradnl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mo al diámetro de las burbujas, d</a:t>
              </a:r>
              <a:r>
                <a:rPr b="0" lang="es-ES_tradnl" sz="2000" spc="-1" strike="noStrike" baseline="-30000">
                  <a:solidFill>
                    <a:srgbClr val="000000"/>
                  </a:solidFill>
                  <a:latin typeface="Times New Roman"/>
                  <a:ea typeface="Times New Roman"/>
                </a:rPr>
                <a:t>b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914400" y="4038480"/>
              <a:ext cx="6858000" cy="2333520"/>
              <a:chOff x="914400" y="4038480"/>
              <a:chExt cx="6858000" cy="2333520"/>
            </a:xfrm>
          </p:grpSpPr>
          <p:graphicFrame>
            <p:nvGraphicFramePr>
              <p:cNvPr id="151" name=""/>
              <p:cNvGraphicFramePr/>
              <p:nvPr/>
            </p:nvGraphicFramePr>
            <p:xfrm>
              <a:off x="914400" y="4038480"/>
              <a:ext cx="2895480" cy="23335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5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914400" y="4038480"/>
                        <a:ext cx="2895480" cy="233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53" name=""/>
              <p:cNvGraphicFramePr/>
              <p:nvPr/>
            </p:nvGraphicFramePr>
            <p:xfrm>
              <a:off x="4800600" y="4343400"/>
              <a:ext cx="2971800" cy="17683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5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800600" y="4343400"/>
                        <a:ext cx="2971800" cy="1768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ondicione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atraz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TO = 30-6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 moles/L 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= 200-4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boratori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TO = 60-12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 moles/L 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= 60-5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dustrial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TO = 70-1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 moles/L 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Más eficient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= 100-4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TO: Velocidad de transferencia de Oxí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f: Acevedo F.,Gentina JC., Illanes A (2002) Fundamentos de Ingeniería Bioquímica, Ed. Universitarias de Valparaí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Velocidad de Flujo de 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062920" cy="18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ra determinar la velocidad de flujo de aire necesario se puede tomar como dato la demanda de oxígeno, considerando la eficiencia de absorción, E (3-30%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tasa especifica de aireación se entrega en “volumenes de aire por volumen de líquido por minto”, vv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268360" y="3284640"/>
                <a:ext cx="44643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v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ir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quid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⋅</m:t>
                        </m:r>
                        <m:r>
                          <m:t xml:space="preserve">E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468360" y="4221000"/>
            <a:ext cx="8280360" cy="19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ilimoles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h L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K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Presión en [at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boratori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eación = 1.5 v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Nivel Indust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eación = 0.2-0.7 v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f: Acevedo F.,Gentina JC., Illanes A (2002) Fundamentos de Ingeniería Bioquímica, Ed. Universitarias de Valparaí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Velocidad de Flujo de 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062920" cy="18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ra forma es expresar la aireación como velocidad superficial del aire, 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203640" y="1989000"/>
                <a:ext cx="21603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ir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468360" y="3141720"/>
            <a:ext cx="792000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: Area de la sección transversal  del ferment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ualmente “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” está entre 30 -3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m/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f: Acevedo F.,Gentina JC., Illanes A (2002) Fundamentos de Ingeniería Bioquímica, Ed. Universitarias de Valparaí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gi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716000" y="1125000"/>
            <a:ext cx="4281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erentes clases de ROD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e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240080" y="2205000"/>
            <a:ext cx="4903920" cy="33703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68360" y="1268280"/>
            <a:ext cx="34560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agitación es una operación muy importante tanto del punto de vista técnico como econó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agitación es importante pa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 mezclado homogé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a buena transferencia de masa y de calor, permite disminuir el espesor de la película líquida está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900000" y="259920"/>
            <a:ext cx="78487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Diseño del sistema de agi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1268280"/>
            <a:ext cx="34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042920" y="2708280"/>
          <a:ext cx="3495600" cy="36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708280"/>
                    <a:ext cx="349560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516720" y="2925720"/>
          <a:ext cx="2247840" cy="311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6720" y="2925720"/>
                    <a:ext cx="224784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4788000" y="2997360"/>
            <a:ext cx="1584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imes New Roman"/>
              </a:rPr>
              <a:t>Placa deflect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imes New Roman"/>
              </a:rPr>
              <a:t>Baf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24360" y="4221000"/>
            <a:ext cx="865440" cy="14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16000" y="981000"/>
            <a:ext cx="7559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agitadores cuentan generalmente con 2 o 3 rotores en un mismo e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obtener un alto grado de mezclado se utilizan placas deflectoras para romper las líneas de flu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134136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itación por pal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932360" y="2421000"/>
          <a:ext cx="3828960" cy="33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421000"/>
                    <a:ext cx="382896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5076720" y="134136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itación por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84360" y="2205000"/>
          <a:ext cx="3495600" cy="366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2205000"/>
                    <a:ext cx="3495600" cy="36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692360" y="18900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Diferentes sistemas de agitación y Aire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914400"/>
            <a:ext cx="7696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álculo de Potencia par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a agitación en un Rea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stema sin G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stema con G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ld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62120" y="304920"/>
            <a:ext cx="7619760" cy="47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álculo de Potenci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canismos de Agitación en Sistemas sin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fine el Número de Potencia, Np. Dicho valor determina la potencia absorbida por el flu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 =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uerza Externa Aplic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rza Inercial del Fluid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568760" y="2367000"/>
                <a:ext cx="28846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</m:e>
                        </m:d>
                      </m:num>
                      <m:den>
                        <m:r>
                          <m:t xml:space="preserve">ρ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800280" y="3046320"/>
            <a:ext cx="75438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 : Potencia externa entregada por el agitador [Kgf m /s]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HP = 76 Kgf m/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:Factor de conversión : 9.8 kg m/Kgf sec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   :Velocidad de rotación del impeler [rps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     :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ámetro del impeler [m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sidad del Fluído [kg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 = f( N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e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ificado  nD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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geometría del sistema)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62120" y="304920"/>
            <a:ext cx="7619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álculo de Potencia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canismos de Agitación en Sistemas sin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220920" y="1725480"/>
                <a:ext cx="2320920" cy="9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ρ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800280" y="3124080"/>
            <a:ext cx="7543800" cy="38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 : Potencia externa entregada por el agitador [Kgf m /s]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HP = 76 Kgf m/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:Factor de conversión : 9.8 kg m/Kgf sec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   :Velocidad de rotación del impeler [rps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     :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ámetro del impeler [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sidad del Fluído [kg/m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 = f( N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ificado  nD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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geometría del sistema)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87480" y="0"/>
          <a:ext cx="9056520" cy="660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" y="0"/>
                    <a:ext cx="9056520" cy="660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0880" y="228600"/>
            <a:ext cx="8458200" cy="70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ferentes Configu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la configuración es diferente se deben aplicar los siguientes facto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 :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 condiciones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eal) = Fc * 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 el número de impeler es mayor qu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*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real) = N impeler * 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e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terminación del  Número de Impeler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0" lang="es-ES_tradnl" sz="20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- D</a:t>
            </a:r>
            <a:r>
              <a:rPr b="0" lang="es-ES_tradnl" sz="20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&gt;   N impeler  &gt; 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0" lang="es-ES_tradnl" sz="20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- 2*D</a:t>
            </a:r>
            <a:r>
              <a:rPr b="0" lang="es-ES_tradnl" sz="20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lang="es-ES_tradnl" sz="20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spaciamiento entre impeler</a:t>
            </a:r>
            <a:r>
              <a:rPr b="0" lang="es-ES_tradnl" sz="20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_tradnl" sz="20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L &lt; 2* D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914400" y="1143000"/>
                <a:ext cx="2590920" cy="20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D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D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/>
                            </m:s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b>
                                            <m:r>
                                              <m:t xml:space="preserve">L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D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/>
                            </m:sSup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L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7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15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rel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85800" y="1981080"/>
          <a:ext cx="7696080" cy="3641760"/>
        </p:xfrm>
        <a:graphic>
          <a:graphicData uri="http://schemas.openxmlformats.org/drawingml/2006/table">
            <a:tbl>
              <a:tblPr/>
              <a:tblGrid>
                <a:gridCol w="1981080"/>
                <a:gridCol w="838440"/>
                <a:gridCol w="1066680"/>
                <a:gridCol w="1143000"/>
                <a:gridCol w="914400"/>
                <a:gridCol w="838080"/>
                <a:gridCol w="9144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 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rb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al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él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c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n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in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ores de K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 =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s-E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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0" lang="es-ES" sz="2400" spc="-1" strike="noStrike" baseline="-25000">
                          <a:solidFill>
                            <a:srgbClr val="000000"/>
                          </a:solidFill>
                          <a:latin typeface="Century Schoolbook"/>
                        </a:rPr>
                        <a:t>i</a:t>
                      </a:r>
                      <a:r>
                        <a:rPr b="0" lang="es-ES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*N</a:t>
                      </a:r>
                      <a:r>
                        <a:rPr b="0" lang="es-ES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rbul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ores de K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 =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s-E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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</a:t>
                      </a:r>
                      <a:r>
                        <a:rPr b="0" lang="es-ES" sz="2400" spc="-1" strike="noStrike" baseline="-25000">
                          <a:solidFill>
                            <a:srgbClr val="000000"/>
                          </a:solidFill>
                          <a:latin typeface="Century Schoolbook"/>
                        </a:rPr>
                        <a:t>i</a:t>
                      </a:r>
                      <a:r>
                        <a:rPr b="0" lang="es-ES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*N</a:t>
                      </a:r>
                      <a:r>
                        <a:rPr b="0" lang="es-ES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Efecto de aireació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tencia necesaria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¿Aumenta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o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isminuy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28600" y="304920"/>
            <a:ext cx="8610480" cy="64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minución de la  potencia consumida debido a la aire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esencia de un gas produce 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mbios en la densidad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lrededor del agitador, principalmente por la presencia de burbuj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</a:t>
            </a:r>
            <a:r>
              <a:rPr b="0" lang="es-ES_tradn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mbios producidos son bastante significativo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 comparar los niveles de potencia requeridos en un sistema sin aire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P = 0.3 – 1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iendo del tipo de agitador y la velocidad de aireación, lo cual se traduce en el grado de dispersión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as burbujas alrededor del agitador y del tan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P = f (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úmero de airea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95280" y="1341360"/>
          <a:ext cx="3809880" cy="36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341360"/>
                    <a:ext cx="380988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500720" y="1268280"/>
          <a:ext cx="4228920" cy="386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1268280"/>
                    <a:ext cx="422892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8600" y="304920"/>
            <a:ext cx="861048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minución de la  potencia consumida debido a la aire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P = f (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úmero de airea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914400" y="2657520"/>
                <a:ext cx="76960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locidad Aparente del aire a través de una sección del tanqu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elocidad de agitació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387600" y="3886200"/>
                <a:ext cx="22813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/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N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990720" y="5638680"/>
            <a:ext cx="43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onde Fa : Flujo de aireación [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/seg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62120" y="304920"/>
            <a:ext cx="746748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álculo de Pot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canismos de Agitación en Sistemas 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on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5360" y="1706400"/>
            <a:ext cx="815328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rrel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Turbina de paletas planas en un sistema aire-agua, se han determinado la siguiente correl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 ( P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* N  *Di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 F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air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.56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.4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stante, s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&gt;1000 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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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 &lt;1000 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.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sidad del líquido : 0.8- 1.65 g/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cosidad del líquido : 0.9 – 100 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sión superficial : 27-72 dinas/c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62120" y="304920"/>
            <a:ext cx="746748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álculo de Pot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canismos de Agitación en Sistemas </a:t>
            </a:r>
            <a:r>
              <a:rPr b="1" lang="es-ES_tradnl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on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1706400"/>
            <a:ext cx="8686800" cy="44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rrel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P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0.10* (F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N* V)</a:t>
            </a:r>
            <a:r>
              <a:rPr b="0" lang="es-E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-0.25 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 (N</a:t>
            </a:r>
            <a:r>
              <a:rPr b="0" lang="es-E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D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s-E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g*w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* V</a:t>
            </a:r>
            <a:r>
              <a:rPr b="0" lang="es-E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/3</a:t>
            </a:r>
            <a:r>
              <a:rPr b="0" lang="es-E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es-E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.20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audal volumétrico del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. Aceleración de grav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ncho del rod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228600" y="304920"/>
          <a:ext cx="8915400" cy="65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891540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228600" y="304920"/>
            <a:ext cx="289548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las condiciones de Na : 0 – 12 * 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:  0.3  -  1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00400" y="1522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Ref: Aiba S (1973)” Biochemical Engineering” Academic Press, N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48769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p: Número de pale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33520" y="533520"/>
            <a:ext cx="777240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 baseline="-25000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orrelaciones entre variables de diseño y el Coeficiente de Transferencias de O</a:t>
            </a:r>
            <a:r>
              <a:rPr b="1" lang="es-ES" sz="2400" spc="-1" strike="noStrike" u="sng" baseline="-25000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k</a:t>
            </a:r>
            <a:r>
              <a:rPr b="1" lang="es-ES" sz="2400" spc="-1" strike="noStrike" u="sng" baseline="-25000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laciones del 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=  Cte (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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mpeler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 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V )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n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(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V): Potencia por unidad de volumen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Velocidad del aire a través del estanque vacío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: velocidad de agitación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10920" y="1196640"/>
            <a:ext cx="7543800" cy="58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 son impeler tipo turbina pl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v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 0.0318 (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/V )</a:t>
            </a:r>
            <a:r>
              <a:rPr b="1" lang="es-ES" sz="1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.95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v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s-ES" sz="1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.67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Kgmol / hr m</a:t>
            </a:r>
            <a:r>
              <a:rPr b="1" lang="es-ES" sz="1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t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 son impeler tipo vel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v =  0.0635 (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/V )</a:t>
            </a:r>
            <a:r>
              <a:rPr b="1" lang="es-ES" sz="1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.95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v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s-ES" sz="1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.67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Kgmol / hr m</a:t>
            </a:r>
            <a:r>
              <a:rPr b="1" lang="es-ES" sz="1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t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be cumplir las restricciones que: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/V &gt; 0.1 HP/m3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L/DT = 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1 agitador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90 m/hr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agitador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150 m/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V): Potencia por unidad de volumen [HP/m3]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Velocidad del aire a través del estanque vacío [m/hr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28760" y="189000"/>
            <a:ext cx="61092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orrelacione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ara el coeficiente volumétri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de absorción de oxí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85440" y="304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 son impeler tipo paleta sola (Padd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1" lang="es-E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 0.038 ( P</a:t>
            </a:r>
            <a:r>
              <a:rPr b="1" lang="es-E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G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/V )</a:t>
            </a:r>
            <a:r>
              <a:rPr b="1" lang="es-E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.53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v</a:t>
            </a:r>
            <a:r>
              <a:rPr b="1" lang="es-E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1" lang="es-E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0.67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Kgmol / hr m</a:t>
            </a:r>
            <a:r>
              <a:rPr b="1" lang="es-E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tm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be cumplir las restricciones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/V &gt; 0.06 HP/m3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L/DT = 1.0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21 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V): Potencia por unidad de volumen [HP/m3]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Velocidad del aire a través del estanque vacío [m/h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471600" y="771480"/>
          <a:ext cx="8202600" cy="531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771480"/>
                    <a:ext cx="8202600" cy="53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380880"/>
            <a:ext cx="525780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old-up de las burbu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adicionar aire a un tanque agitado las burbujas tienden a 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rastrar un volumen de liquid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La altura a la cuales arrastrada se llama 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ld-up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ho valor es un porcentaje de la altura  total de líquido en el tanque, 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ara determinar este valor es necesario aplicar la siguiente correl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%) = (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V)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.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.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4648320"/>
            <a:ext cx="7543800" cy="19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V :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cia por unidad de volumen del sistemas sin gasificar (HP/m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ocidad lineal de aire en el tanque vacío (m/h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033960" y="838080"/>
            <a:ext cx="3109680" cy="3017880"/>
            <a:chOff x="6033960" y="838080"/>
            <a:chExt cx="3109680" cy="3017880"/>
          </a:xfrm>
        </p:grpSpPr>
        <p:grpSp>
          <p:nvGrpSpPr>
            <p:cNvPr id="220" name=""/>
            <p:cNvGrpSpPr/>
            <p:nvPr/>
          </p:nvGrpSpPr>
          <p:grpSpPr>
            <a:xfrm>
              <a:off x="6033960" y="838080"/>
              <a:ext cx="3109680" cy="3017880"/>
              <a:chOff x="6033960" y="838080"/>
              <a:chExt cx="3109680" cy="301788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6033960" y="838080"/>
                <a:ext cx="3109680" cy="3017880"/>
                <a:chOff x="6033960" y="838080"/>
                <a:chExt cx="3109680" cy="301788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7407720" y="3490200"/>
                  <a:ext cx="731520" cy="3657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</a:rPr>
                    <a:t>v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6033960" y="838080"/>
                  <a:ext cx="3109680" cy="3017880"/>
                  <a:chOff x="6033960" y="838080"/>
                  <a:chExt cx="3109680" cy="3017880"/>
                </a:xfrm>
              </p:grpSpPr>
              <p:grpSp>
                <p:nvGrpSpPr>
                  <p:cNvPr id="224" name=""/>
                  <p:cNvGrpSpPr/>
                  <p:nvPr/>
                </p:nvGrpSpPr>
                <p:grpSpPr>
                  <a:xfrm>
                    <a:off x="6033960" y="838080"/>
                    <a:ext cx="3109680" cy="3017880"/>
                    <a:chOff x="6033960" y="838080"/>
                    <a:chExt cx="3109680" cy="3017880"/>
                  </a:xfrm>
                </p:grpSpPr>
                <p:graphicFrame>
                  <p:nvGraphicFramePr>
                    <p:cNvPr id="225" name=""/>
                    <p:cNvGraphicFramePr/>
                    <p:nvPr/>
                  </p:nvGraphicFramePr>
                  <p:xfrm>
                    <a:off x="6033960" y="929520"/>
                    <a:ext cx="2000880" cy="2314800"/>
                  </p:xfrm>
                  <a:graphic>
                    <a:graphicData uri="http://schemas.openxmlformats.org/presentationml/2006/ole">
                      <p:oleObj r:id="rId1" spid="">
                        <p:embed/>
                        <p:pic>
                          <p:nvPicPr>
                            <p:cNvPr id="226" name="" descr=""/>
                            <p:cNvPicPr/>
                            <p:nvPr/>
                          </p:nvPicPr>
                          <p:blipFill>
                            <a:blip r:embed="rId2"/>
                            <a:stretch/>
                          </p:blipFill>
                          <p:spPr>
                            <a:xfrm>
                              <a:off x="6033960" y="929520"/>
                              <a:ext cx="2000880" cy="231480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  <p:sp>
                  <p:nvSpPr>
                    <p:cNvPr id="227" name=""/>
                    <p:cNvSpPr/>
                    <p:nvPr/>
                  </p:nvSpPr>
                  <p:spPr>
                    <a:xfrm flipV="1">
                      <a:off x="7131600" y="3307320"/>
                      <a:ext cx="0" cy="548640"/>
                    </a:xfrm>
                    <a:prstGeom prst="line">
                      <a:avLst/>
                    </a:prstGeom>
                    <a:ln w="7632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 flipV="1">
                      <a:off x="7040160" y="838080"/>
                      <a:ext cx="0" cy="5486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8137800" y="1386720"/>
                      <a:ext cx="0" cy="548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8412120" y="1386720"/>
                      <a:ext cx="731520" cy="5486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 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1" name=""/>
                  <p:cNvSpPr/>
                  <p:nvPr/>
                </p:nvSpPr>
                <p:spPr>
                  <a:xfrm>
                    <a:off x="6216840" y="2209680"/>
                    <a:ext cx="731520" cy="365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7040160" y="1569600"/>
                    <a:ext cx="0" cy="109728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6674040" y="2575440"/>
                    <a:ext cx="731520" cy="121680"/>
                    <a:chOff x="6674040" y="2575440"/>
                    <a:chExt cx="731520" cy="12168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6674040" y="2575440"/>
                      <a:ext cx="365760" cy="910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7039800" y="2575440"/>
                      <a:ext cx="365760" cy="1216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0" bIns="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6" name=""/>
                  <p:cNvSpPr/>
                  <p:nvPr/>
                </p:nvSpPr>
                <p:spPr>
                  <a:xfrm>
                    <a:off x="7314480" y="2209680"/>
                    <a:ext cx="457200" cy="27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o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7" name=""/>
              <p:cNvSpPr/>
              <p:nvPr/>
            </p:nvSpPr>
            <p:spPr>
              <a:xfrm>
                <a:off x="8413920" y="2301120"/>
                <a:ext cx="54864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8153280" y="19051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57200" y="228600"/>
            <a:ext cx="8229600" cy="65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tiene un fermentador equipad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2 set de turbinas de paletas planas y 4 baffles. Las dimensiones del fermentador so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ámetro del fermentador 3m (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ámetro del agitador 1.5m (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ho de los baffles 0.3 m (w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ura del líquido 5 m (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características del caldo de cultivo son una densidad de 1200 kg/m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una viscosidad de 0.02 kg/m s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condiciones de operación son una velocidad de rotación de 60rpm y una velocidad de aireación de 0.4 vv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quiere calc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otencia requerida para un sistema sin g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otencia para un sistema aire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oeficiente de transferencia de Oxígeno, K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d up del sistema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ire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lgunas consideraciones que se debe tomar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7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oporcionar a los microorganismos el oxígeno necesario para llevar a cabo su proceso respiratorio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 solubilidad del O</a:t>
            </a:r>
            <a:r>
              <a:rPr b="0" lang="es-ES_tradnl" sz="2800" spc="-1" strike="noStrike" baseline="-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es baja &lt; 10mg/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necesita alimentar en forma continua este 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nutriente”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do que su demanda  es aproximadamente de </a:t>
            </a:r>
            <a:r>
              <a:rPr b="0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g/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ire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2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e pueden tener sistemas  donde los microorganismos crecen con múltiples sustratos, pero en el caso que todos son limitantes. Ej, C,N,</a:t>
            </a:r>
            <a:r>
              <a:rPr b="1" lang="es-ES" sz="4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s-ES" sz="4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s-ES" sz="3200" spc="-1" strike="noStrike" baseline="-25000">
                <a:solidFill>
                  <a:srgbClr val="3333cc"/>
                </a:solidFill>
                <a:latin typeface="Times New Roman"/>
              </a:rPr>
              <a:t> , </a:t>
            </a: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luego la cantidad de cada uno de ellos afecta la cinética de creci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547640" y="4724280"/>
                <a:ext cx="595800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O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O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ransferencia de Oxíg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990720"/>
            <a:ext cx="820908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l comportamiento de las fermentaciones está fuertemente influenciado por una serie de operaciones de transfer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s posible que una determinada fermentación, en especial las aeróbicas, esté limitada en sus posibilidades de mejorar su rendimiento y productividad, no por razones propias de las características de las células sino que por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blemas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en el diseño que permita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tisfacer la alta demanda de transferencia de masa, y en especial de oxígeno</a:t>
            </a:r>
            <a:r>
              <a:rPr b="0" lang="es-ES_tradnl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Necesidades de Diseñ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990720"/>
            <a:ext cx="820908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 diseño de un sistema de aireación-agitación debería satisfacer qu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MANDA DE OXIGENO = OFERTA DE OXI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Demanda de Oxígeno de un Culti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55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n cultivo aeróbico de células requiere del suministro de oxígeno a una determinada velocidad para asegurar la plena satisfacción de sus requerimientos metaból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 demanda de oxígeno, N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O2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,se define como: “ La cantidad de oxígeno requerida por unidad de tiempo y por unidad de volumen de cultiv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492360" y="5445000"/>
                <a:ext cx="1859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4:12:42Z</dcterms:created>
  <dc:creator>Maria Elena Lienqueo C.</dc:creator>
  <dc:description/>
  <dc:language>en-US</dc:language>
  <cp:lastModifiedBy>Usuario final del equipo</cp:lastModifiedBy>
  <dcterms:modified xsi:type="dcterms:W3CDTF">2009-09-18T06:07:38Z</dcterms:modified>
  <cp:revision>59</cp:revision>
  <dc:subject/>
  <dc:title>Agitacion y Aireación de Fermentadores</dc:title>
</cp:coreProperties>
</file>