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4DE-74D0-47DE-9057-D225034D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8D5-A9AD-4E6E-BC03-DF8BB31E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0AA-8797-4F4A-A1DE-A58440CB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3AE-5F71-43E9-9A21-94F044B8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BB6-F6CF-48BB-8070-F6FB862C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AA7-A873-430C-AF58-01B3BA66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2D8-8F77-4A12-9CEE-520F8C68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EB8-3392-4425-BB2F-D72D8B60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EA2-C0CC-40B8-AED9-E0F33157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F21-24E8-4BBF-832C-57B5E1D9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C16-BCF9-42F2-BDD5-8BCDE6D2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3A0-2A35-4627-BE16-AD2D6C3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B63B-7BF1-41F5-AAAC-6BE7FCEF68B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iseño de Fermen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mensionamiento, V o D o</a:t>
            </a:r>
            <a:r>
              <a:rPr b="0" lang="es-ES_tradnl" sz="3200" spc="-1" strike="noStrike">
                <a:solidFill>
                  <a:srgbClr val="3333cc"/>
                </a:solidFill>
                <a:latin typeface="Symbol"/>
                <a:ea typeface="Symbol"/>
              </a:rPr>
              <a:t>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amaño del fermentador    Ecuaciones de Diseño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ireación y Agitación, P y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una adecuada Transferencia de O</a:t>
            </a:r>
            <a:r>
              <a:rPr b="0" lang="es-ES_tradnl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nergía y una buena mezc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ff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 determinan potencias, velocidad de ag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ff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ujos de 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mi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o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ta Piloto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scal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trumentació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r variables del 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o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a las variables del 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072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r otra parte, el crecimiento microbiano se puede representar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C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m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O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C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 C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t 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 + u C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Biom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Metabolito extra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 acuerdo con la ecuación anterior, el rendimiento de oxígeno en células se puede calcular por medio de la  relación entre “n” y “q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o se producen Metabolito extracelular, “u” igual a cero </a:t>
            </a:r>
            <a:r>
              <a:rPr b="0" lang="es-ES_tradnl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835280" y="4437000"/>
                <a:ext cx="5689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116000" y="5373720"/>
            <a:ext cx="71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w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Peso molecular de la fuente de carbono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136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valores más usuales de N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o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stán alrededor de 50 a 200 m-moles de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L h (1.6-3.2 g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 L 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lores superiores a 120 m-moles de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L h son difíciles de satisfacer en equipos de diseño estándar y en condiciones de operación económ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so de transferencia de oxígeno (OFER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066680"/>
            <a:ext cx="37335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seno de la burbuja a una capa interna de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ión en la capa interna de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usión a través de una capa externa de líquido que rodea a la burbuja ¡Etapa limit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encia al seno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usión a través de la capa de líquido que rodea a los microorganismos ¡Etapa limit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ión en el interior de los microorganismo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962520"/>
            <a:ext cx="554040" cy="838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684360" y="1341360"/>
            <a:ext cx="5637240" cy="4953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3429000"/>
            <a:ext cx="762120" cy="99072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3086280"/>
            <a:ext cx="533520" cy="6858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24360" y="1427040"/>
          <a:ext cx="482292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427040"/>
                    <a:ext cx="482292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84360" y="907920"/>
            <a:ext cx="81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velocidad de transferencia por unidad de área interfacial, W,  está dada po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36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W 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–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9880" y="26028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locidad de Transferencia de Oxígeno por área interfa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49228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o en la interfase se supone que hay equilibrio entre el oxígeno en el gas y el disue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860640"/>
            <a:ext cx="439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W 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– C)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P – P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7242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antidades Pi y Ci resultan difíciles de determinar en la práctica, se prefiere hacer uso de las relaciones de  equilibrio, trabajando con las concentraciones y presiones de equilibrio C*  y P*. Con ello se trabaja con la “ Velocidad de transferencia de oxígeno volumétrica”, 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4360" y="33336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Transferencia de oxígeno volu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control de la transferencia de O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encuentra en el film líquido que rodea a la burbuja o  a los microorganismos,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elocidad de transferencia de oxígeno, N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uede expresar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k</a:t>
            </a:r>
            <a:r>
              <a:rPr b="1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C* - C)  = H k</a:t>
            </a:r>
            <a:r>
              <a:rPr b="1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P – P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upone que hay equilibrio entre el oxígeno de el gas y el disuelto en el 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ef volumétrico de transferencia de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a fase líquida (cm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: Area interfacial específica (c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esulta difícil de medir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*: Conc.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equilibrio (mM/L) (Hipotét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: Conc.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ueltro en el seno de la fase líquida  (Este valor no puede ser inferior C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rít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mg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* : Presión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: Presión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eno de la fase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: cte. de Henry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alance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0920" y="1052640"/>
            <a:ext cx="38098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plantear una ecuación de balance de oxígeno en el ferment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105520" y="0"/>
            <a:ext cx="3504960" cy="2362320"/>
            <a:chOff x="5105520" y="0"/>
            <a:chExt cx="3504960" cy="2362320"/>
          </a:xfrm>
        </p:grpSpPr>
        <p:graphicFrame>
          <p:nvGraphicFramePr>
            <p:cNvPr id="93" name=""/>
            <p:cNvGraphicFramePr/>
            <p:nvPr/>
          </p:nvGraphicFramePr>
          <p:xfrm>
            <a:off x="5105520" y="0"/>
            <a:ext cx="3504960" cy="236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0"/>
                      <a:ext cx="350496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6251400" y="725400"/>
              <a:ext cx="13478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60320" y="181080"/>
              <a:ext cx="67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19520" y="3581280"/>
                <a:ext cx="33526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55040" y="2286000"/>
            <a:ext cx="822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entra – 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ale – 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umido por unidad de volu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Acumulación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5920" y="3048120"/>
            <a:ext cx="581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entra – 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sale = 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se transfiere = N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648320"/>
            <a:ext cx="822780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a que el cultivo pueda crecer sin limitación de Oxígeno, el suministro debe ser igual a la dema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8120" y="5486400"/>
                <a:ext cx="26478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948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s de determinación k</a:t>
            </a:r>
            <a:r>
              <a:rPr b="1" lang="es-ES_tradnl" sz="24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a la adecuada operación de un fermentador se hace necesario conocer el valor del coeficiente volumetrico de transferencia de O2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ón de los flujos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 mediante  Cor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28800" y="2057040"/>
            <a:ext cx="457200" cy="914760"/>
            <a:chOff x="1828800" y="2057040"/>
            <a:chExt cx="457200" cy="914760"/>
          </a:xfrm>
        </p:grpSpPr>
        <p:sp>
          <p:nvSpPr>
            <p:cNvPr id="104" name=""/>
            <p:cNvSpPr/>
            <p:nvPr/>
          </p:nvSpPr>
          <p:spPr>
            <a:xfrm flipV="1">
              <a:off x="1828800" y="2057040"/>
              <a:ext cx="457200" cy="60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8800" y="2666880"/>
              <a:ext cx="45720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3860640"/>
            <a:ext cx="4752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 (S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= f (D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)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s de determinación k</a:t>
            </a:r>
            <a:r>
              <a:rPr b="1" lang="es-ES_tradnl" sz="24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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ón de los flujo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ul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xidación de sulfito de so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ción del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Método Dinámic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mas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Medición Directa con analizador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el sulfito de so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basa en la rápida reacción química de oxidación del sulfito a sulfato mediante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emplaza el medio por solución de sulfito de sodio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 sulfato cúprico como catalizador) y se burbujea aire por un cierto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lfito +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ulf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47920" y="3963960"/>
                <a:ext cx="42958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ulfit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icia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ulfito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5257800"/>
            <a:ext cx="754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L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C</a:t>
            </a:r>
            <a:r>
              <a:rPr b="1" lang="es-E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Representa la máxima velocidad volumétrica de transferencia de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n un sistema dado (fermentad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3049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ireación y Agi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zcl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caldo de fermentació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uspensión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leran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s velocidad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ferencia de m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utrie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or.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88000" y="1989000"/>
            <a:ext cx="23860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inámic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32360" y="2133720"/>
          <a:ext cx="359424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3594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2060640"/>
            <a:ext cx="3962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pa 1: Durante la fermentación se corta el suministro de aire  (T1) y se registra la disminución de 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isuelto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 este caso el suministro es nul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81080" y="4572000"/>
                <a:ext cx="22273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90720" y="525780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pendiente de la curva es la demanda de 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38480" y="5835600"/>
                <a:ext cx="1441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971640" y="692280"/>
            <a:ext cx="74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En este caso la medición se realiza en el fermentador durante el crecimiento de un cultivo activo, registrándose el oxígeno disuelto. El proceso tiene 2 etap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35640" y="3213000"/>
                <a:ext cx="698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inámico (cont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87280" y="3573360"/>
                <a:ext cx="33530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5219640" y="2276640"/>
          <a:ext cx="3267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276640"/>
                    <a:ext cx="3267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11280" y="1052640"/>
            <a:ext cx="75610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El flujo de aire se repone antes que se alcance la concentración crítica de oxígeno, C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(bajo este valor la velocidad de metabolismo se hace dependiente de la concentración C, pudiéndose causar daños irreversibles en los m.o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≈ 0.1*Concentración de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Bajo estas condiciones se cumple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5373720"/>
            <a:ext cx="770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esde la cual se despeja el término (-1/k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093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pende de la velocidad de respuesta de los electrodo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medición direc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530064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692280"/>
            <a:ext cx="748800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Para aplicar este método se utiliza un electrodo de oxígeno disuelto y sistemas para determinar oxígeno en la fase gase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n este método se calcula la demanda de oxígeno midiendo el flujo de aire y la concentración de oxígeno en las corrientes gaseosas de entrada y sa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n estos valores y la lectura de oxígeno disuelta, se calcula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25000" y="4365720"/>
            <a:ext cx="718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entra – 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ale = 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e transfiere = k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C* - C)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5229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Método de alto costo debido al equipamiento analítico requer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ctores que afectan k</a:t>
            </a:r>
            <a:r>
              <a:rPr b="1" lang="es-ES_tradnl" sz="28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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mperatur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aumentos de temperatura se producen aumentos en el coeficiente de transferencia, es así como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(30ºC)  = 1.15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20ºC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(20ºC)  = 1.15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 (10º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ermentación con formación de mice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ormarse micelas se produce un aumento de la viscosidad lo que conlleva a una disminución del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838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77240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stancias Orgá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dición de compuestos orgánicos produce una disminución tanto del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del área especifica, a. Es así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gua + 1% pepton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ámetro de burbuja) entonces  a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combinado implica que  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orgánico) = 0,4 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agu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38080" y="2743200"/>
            <a:ext cx="7315200" cy="3628800"/>
            <a:chOff x="838080" y="2743200"/>
            <a:chExt cx="7315200" cy="3628800"/>
          </a:xfrm>
        </p:grpSpPr>
        <p:sp>
          <p:nvSpPr>
            <p:cNvPr id="149" name=""/>
            <p:cNvSpPr/>
            <p:nvPr/>
          </p:nvSpPr>
          <p:spPr>
            <a:xfrm>
              <a:off x="838080" y="2743200"/>
              <a:ext cx="73152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s-ES_tradnl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Agentes sufact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adición de agentes surfactantes que evitan la producción de espuma alterar el valor de k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. Afectando tanto al k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o al diámetro de las burbujas, d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914400" y="4038480"/>
              <a:ext cx="6858000" cy="2333520"/>
              <a:chOff x="914400" y="4038480"/>
              <a:chExt cx="6858000" cy="2333520"/>
            </a:xfrm>
          </p:grpSpPr>
          <p:graphicFrame>
            <p:nvGraphicFramePr>
              <p:cNvPr id="151" name=""/>
              <p:cNvGraphicFramePr/>
              <p:nvPr/>
            </p:nvGraphicFramePr>
            <p:xfrm>
              <a:off x="914400" y="4038480"/>
              <a:ext cx="2895480" cy="2333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" y="4038480"/>
                        <a:ext cx="2895480" cy="233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3" name=""/>
              <p:cNvGraphicFramePr/>
              <p:nvPr/>
            </p:nvGraphicFramePr>
            <p:xfrm>
              <a:off x="4800600" y="4343400"/>
              <a:ext cx="2971800" cy="1768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00600" y="4343400"/>
                        <a:ext cx="2971800" cy="176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dic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raz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30-6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200-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60-12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60-5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70-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Más eficien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100-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O: Velocidad de transferencia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Flujo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6292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determinar la velocidad de flujo de aire necesario se puede tomar como dato la demanda de oxígeno, considerando la eficiencia de absorción, E (3-30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tasa especifica de aireación se entrega en “volumenes de aire por volumen de líquido por minto”, vv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268360" y="3284640"/>
                <a:ext cx="44643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v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r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quid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68360" y="4221000"/>
            <a:ext cx="828036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ilimol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h L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K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esión en [a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borato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eación = 1.5 v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Nivel Indust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eación = 0.2-0.7 v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Flujo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6292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ra forma es expresar la aireación como velocidad superficial del aire,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203640" y="1989000"/>
                <a:ext cx="2160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68360" y="3141720"/>
            <a:ext cx="79200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: Area de la sección transversal  del ferment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lmente “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 está entre 30 -3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/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716000" y="1125000"/>
            <a:ext cx="4281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erentes clases de ROD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240080" y="2205000"/>
            <a:ext cx="4903920" cy="3370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8360" y="1268280"/>
            <a:ext cx="3456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agitación es una operación muy importante tanto del punto de vista técnico como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agitación es importante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mezclado homogé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buena transferencia de masa y de calor, permite disminuir el espesor de la película líquida est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iseño del sistema de 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268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42920" y="2708280"/>
          <a:ext cx="349560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08280"/>
                    <a:ext cx="34956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516720" y="2925720"/>
          <a:ext cx="2247840" cy="31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925720"/>
                    <a:ext cx="224784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788000" y="2997360"/>
            <a:ext cx="158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Placa defle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a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221000"/>
            <a:ext cx="86544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981000"/>
            <a:ext cx="7559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gitadores cuentan generalmente con 2 o 3 rotores en un mismo 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obtener un alto grado de mezclado se utilizan placas deflectoras para romper las líneas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34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itación por p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932360" y="2421000"/>
          <a:ext cx="382896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421000"/>
                    <a:ext cx="382896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076720" y="134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itación por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2205000"/>
          <a:ext cx="3495600" cy="366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05000"/>
                    <a:ext cx="349560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692360" y="189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ferentes sistemas de agitación y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914400"/>
            <a:ext cx="769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 par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a agitación en un Re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stema sin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stema con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ld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304920"/>
            <a:ext cx="761976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sin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el Número de Potencia, Np. Dicho valor determina la potencia absorbida por 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erza Externa Apl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Inercial del Fluid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68760" y="2367000"/>
                <a:ext cx="2884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800280" y="3046320"/>
            <a:ext cx="75438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 : Potencia externa entregada por el agitador [Kgf m /s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HP = 76 Kgf m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:Factor de conversión : 9.8 kg m/Kgf se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:Velocidad de rotación del impeler [rps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impeler [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Fluído [kg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f( N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icado  n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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ometría del sistema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04920"/>
            <a:ext cx="761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sin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20920" y="1725480"/>
                <a:ext cx="232092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800280" y="3124080"/>
            <a:ext cx="75438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 : Potencia externa entregada por el agitador [Kgf m /s]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HP = 76 Kgf m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:Factor de conversión : 9.8 kg m/Kgf sec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:Velocidad de rotación del impeler [rps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: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impeler [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Fluído [kg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f( N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icado  nD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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ometría del sistema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87480" y="0"/>
          <a:ext cx="9056520" cy="660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0"/>
                    <a:ext cx="9056520" cy="66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228600"/>
            <a:ext cx="8458200" cy="70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ferentes Configu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configuración es diferente se deben aplicar los siguientes fa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 condicione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al) = Fc *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el número de impeler es mayor q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eal) = N impeler * 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terminación del  Número de Impel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D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&gt;   N impeler  &gt;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2*D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ciamiento entre impeler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L &lt; 2* 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914400" y="1143000"/>
                <a:ext cx="2590920" cy="20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D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/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/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1981080"/>
          <a:ext cx="7696080" cy="3641760"/>
        </p:xfrm>
        <a:graphic>
          <a:graphicData uri="http://schemas.openxmlformats.org/drawingml/2006/table">
            <a:tbl>
              <a:tblPr/>
              <a:tblGrid>
                <a:gridCol w="1981080"/>
                <a:gridCol w="838440"/>
                <a:gridCol w="1066680"/>
                <a:gridCol w="1143000"/>
                <a:gridCol w="914400"/>
                <a:gridCol w="838080"/>
                <a:gridCol w="9144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b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l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l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s de 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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*N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bul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s de 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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*N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fecto de aireació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cia necesari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¿Aumenta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sminuy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04920"/>
            <a:ext cx="8610480" cy="64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minución de la  potencia consumida debido a la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esencia de un gas produce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mbios en la densida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rededor del agitador, principalmente por la presencia de burbuj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mbios producidos son bastante significativ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comparar los niveles de potencia requeridos en un sistema sin aire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0.3 – 1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tipo de agitador y la velocidad de aireación, lo cual se traduce en el grado de dispers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burbujas alrededor del agitador y del tan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f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úmero de aire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1341360"/>
          <a:ext cx="380988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380988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00720" y="1268280"/>
          <a:ext cx="4228920" cy="38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268280"/>
                    <a:ext cx="42289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304920"/>
            <a:ext cx="86104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minución de la  potencia consumida debido a la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f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úmero de aire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14400" y="2657520"/>
                <a:ext cx="7696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locidad Aparente del aire a través de una sección del tanqu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locidad de agi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387600" y="3886200"/>
                <a:ext cx="2281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/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990720" y="563868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onde Fa : Flujo de aireación [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se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304920"/>
            <a:ext cx="7467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360" y="1706400"/>
            <a:ext cx="81532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re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urbina de paletas planas en un sistema aire-agua, se han determinado la siguiente correl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( 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N  *Di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 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i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56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stante, s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&gt;1000 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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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&lt;1000 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líquido : 0.8- 1.65 g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cosidad del líquido : 0.9 – 100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ión superficial : 27-72 dinas/c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304920"/>
            <a:ext cx="7467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706400"/>
            <a:ext cx="868680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re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P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0.10* (F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N* V)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0.25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 (N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D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g*w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V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/3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2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udal volumétrico del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Aceleración de grav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ncho del rod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304920"/>
          <a:ext cx="8915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915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228600" y="304920"/>
            <a:ext cx="28954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s condiciones de Na : 0 – 12 *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:  0.3  - 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152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f: Aiba S (1973)” Biochemical Engineering” Academic Press, N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4876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p: Número de pal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533520"/>
            <a:ext cx="77724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relaciones entre variables de diseño y el Coeficiente de Transferencias de O</a:t>
            </a: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k</a:t>
            </a: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cione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=  Cte (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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mpele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 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V 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(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: velocidad de agitac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54380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turbina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v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0.0318 (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95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ve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v =  0.0635 (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95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umplir las restricciones que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/V &gt; 0.1 HP/m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/DT =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1 agitador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90 m/h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gitador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150 m/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 [HP/m3]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 [m/h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28760" y="189000"/>
            <a:ext cx="6109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relacione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el coeficiente volumétr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 absorción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paleta sola (Padd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0.038 ( P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53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umplir las restriccione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/V &gt; 0.06 HP/m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/DT = 1.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21 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 [HP/m3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 [m/h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71600" y="771480"/>
          <a:ext cx="8202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771480"/>
                    <a:ext cx="8202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380880"/>
            <a:ext cx="5257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old-up de las burbu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dicionar aire a un tanque agitado las burbujas tienden a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astrar un volumen de li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 altura a la cuales arrastrada se llama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ld-u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ho valor es un porcentaje de la altura  total de líquido en el tanque,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ra determinar este valor es necesario aplicar la siguiente correl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%) = (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.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648320"/>
            <a:ext cx="7543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 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por unidad de volumen del sistemas sin gasificar (HP/m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lineal de aire en el tanque vacío (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033960" y="838080"/>
            <a:ext cx="3109680" cy="3017880"/>
            <a:chOff x="6033960" y="838080"/>
            <a:chExt cx="3109680" cy="3017880"/>
          </a:xfrm>
        </p:grpSpPr>
        <p:grpSp>
          <p:nvGrpSpPr>
            <p:cNvPr id="220" name=""/>
            <p:cNvGrpSpPr/>
            <p:nvPr/>
          </p:nvGrpSpPr>
          <p:grpSpPr>
            <a:xfrm>
              <a:off x="6033960" y="838080"/>
              <a:ext cx="3109680" cy="3017880"/>
              <a:chOff x="6033960" y="838080"/>
              <a:chExt cx="3109680" cy="30178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6033960" y="838080"/>
                <a:ext cx="3109680" cy="3017880"/>
                <a:chOff x="6033960" y="838080"/>
                <a:chExt cx="3109680" cy="3017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407720" y="3490200"/>
                  <a:ext cx="731520" cy="36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v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6033960" y="838080"/>
                  <a:ext cx="3109680" cy="3017880"/>
                  <a:chOff x="6033960" y="838080"/>
                  <a:chExt cx="3109680" cy="301788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033960" y="838080"/>
                    <a:ext cx="3109680" cy="3017880"/>
                    <a:chOff x="6033960" y="838080"/>
                    <a:chExt cx="3109680" cy="3017880"/>
                  </a:xfrm>
                </p:grpSpPr>
                <p:graphicFrame>
                  <p:nvGraphicFramePr>
                    <p:cNvPr id="225" name=""/>
                    <p:cNvGraphicFramePr/>
                    <p:nvPr/>
                  </p:nvGraphicFramePr>
                  <p:xfrm>
                    <a:off x="6033960" y="929520"/>
                    <a:ext cx="2000880" cy="23148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26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6033960" y="929520"/>
                              <a:ext cx="2000880" cy="23148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227" name=""/>
                    <p:cNvSpPr/>
                    <p:nvPr/>
                  </p:nvSpPr>
                  <p:spPr>
                    <a:xfrm flipV="1">
                      <a:off x="7131600" y="3307320"/>
                      <a:ext cx="0" cy="54864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V="1">
                      <a:off x="7040160" y="838080"/>
                      <a:ext cx="0" cy="54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8137800" y="1386720"/>
                      <a:ext cx="0" cy="548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412120" y="1386720"/>
                      <a:ext cx="731520" cy="54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1" name=""/>
                  <p:cNvSpPr/>
                  <p:nvPr/>
                </p:nvSpPr>
                <p:spPr>
                  <a:xfrm>
                    <a:off x="6216840" y="2209680"/>
                    <a:ext cx="731520" cy="36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040160" y="1569600"/>
                    <a:ext cx="0" cy="10972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6674040" y="2575440"/>
                    <a:ext cx="731520" cy="121680"/>
                    <a:chOff x="6674040" y="2575440"/>
                    <a:chExt cx="731520" cy="12168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674040" y="2575440"/>
                      <a:ext cx="365760" cy="91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039800" y="2575440"/>
                      <a:ext cx="365760" cy="121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6" name=""/>
                  <p:cNvSpPr/>
                  <p:nvPr/>
                </p:nvSpPr>
                <p:spPr>
                  <a:xfrm>
                    <a:off x="7314480" y="2209680"/>
                    <a:ext cx="45720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7" name=""/>
              <p:cNvSpPr/>
              <p:nvPr/>
            </p:nvSpPr>
            <p:spPr>
              <a:xfrm>
                <a:off x="8413920" y="2301120"/>
                <a:ext cx="5486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8153280" y="19051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228600"/>
            <a:ext cx="822960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un fermentador equipa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2 set de turbinas de paletas planas y 4 baffles. Las dimensiones del fermentador s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fermentador 3m (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agitador 1.5m (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los baffles 0.3 m (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ura del líquido 5 m (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aracterísticas del caldo de cultivo son una densidad de 1200 kg/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viscosidad de 0.02 kg/m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ondiciones de operación son una velocidad de rotación de 60rpm y una velocidad de aireación de 0.4 vv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cal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tencia requerida para un sistema sin 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tencia para un sistema aire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eficiente de transferencia de Oxígeno, K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 up del sistem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ire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gunas consideraciones que se debe tomar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porcionar a los microorganismos el oxígeno necesario para llevar a cabo su proceso respiratorio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solubilidad del O</a:t>
            </a:r>
            <a:r>
              <a:rPr b="0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es baja &lt; 10mg/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necesita alimentar en forma continua este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nutriente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do que su demanda  es aproximadamente de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g/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ire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e pueden tener sistemas  donde los microorganismos crecen con múltiples sustratos, pero en el caso que todos son limitantes. Ej, C,N,</a:t>
            </a: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s-ES" sz="4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" sz="3200" spc="-1" strike="noStrike" baseline="-25000">
                <a:solidFill>
                  <a:srgbClr val="3333cc"/>
                </a:solidFill>
                <a:latin typeface="Times New Roman"/>
              </a:rPr>
              <a:t> , 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luego la cantidad de cada uno de ellos afecta la cinética de cre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47640" y="4724280"/>
                <a:ext cx="595800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O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ansferencia de Oxí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990720"/>
            <a:ext cx="82090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comportamiento de las fermentaciones está fuertemente influenciado por una serie de operaciones de transf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posible que una determinada fermentación, en especial las aeróbicas, esté limitada en sus posibilidades de mejorar su rendimiento y productividad, no por razones propias de las características de las células sino que por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blemas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n el diseño que permit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tisfacer la alta demanda de transferencia de masa, y en especial de oxígeno</a:t>
            </a:r>
            <a:r>
              <a:rPr b="0" lang="es-ES_tradnl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cesidades de Dis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90720"/>
            <a:ext cx="82090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iseño de un sistema de aireación-agitación debería satisfacer q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MANDA DE OXIGENO = OFERTA DE OXI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manda de Oxígeno de un Cul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55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cultivo aeróbico de células requiere del suministro de oxígeno a una determinada velocidad para asegurar la plena satisfacción de sus requerimientos metabó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manda de oxígeno, 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O2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,se define como: “ La cantidad de oxígeno requerida por unidad de tiempo y por unidad de volumen de cultiv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492360" y="5445000"/>
                <a:ext cx="1859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4:12:42Z</dcterms:created>
  <dc:creator>Maria Elena Lienqueo C.</dc:creator>
  <dc:description/>
  <dc:language>en-US</dc:language>
  <cp:lastModifiedBy>Usuario final del equipo</cp:lastModifiedBy>
  <dcterms:modified xsi:type="dcterms:W3CDTF">2009-09-18T06:07:38Z</dcterms:modified>
  <cp:revision>59</cp:revision>
  <dc:subject/>
  <dc:title>Agitacion y Aireación de Fermentadores</dc:title>
</cp:coreProperties>
</file>