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8EB-FF4F-4A82-89AF-2A52B172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935-A18E-4A57-B61D-7434187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FE5-50BA-4D23-9E0F-46875AC3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DA9-915D-4A5B-8DCF-649DA0EE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74A-563A-49BC-A40F-54ED85D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520-FF40-462D-894C-542A660F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911-6D66-4264-9820-6E6D3AFD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B2A-91A1-4FBE-A6F6-EDCF1BE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23E-66C1-4999-B266-83078E79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D76-4F24-47E3-AD3C-CB726B2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434-8715-4515-9753-007BE65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DA0-B59E-42D5-ADC9-66CEF69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74C5-74B6-4FE4-A5AA-7D267DB563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Fermen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mensionamiento, V o D o</a:t>
            </a:r>
            <a:r>
              <a:rPr b="0" lang="es-ES_tradnl" sz="3200" spc="-1" strike="noStrike">
                <a:solidFill>
                  <a:srgbClr val="3333cc"/>
                </a:solidFill>
                <a:latin typeface="Symbol"/>
                <a:ea typeface="Symbol"/>
              </a:rPr>
              <a:t>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maño del fermentador    Ecuaciones de Diseño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ireación y Agitación, P y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una adecuada Transferencia de O</a:t>
            </a:r>
            <a:r>
              <a:rPr b="0" lang="es-ES_tradnl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nergía y una buena mezc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determinan potencias, velocidad de ag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ujos de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a Piloto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scal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mentació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a las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r otra parte, el crecimiento microbiano se puede representar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m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C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 C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t 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 + u 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Biom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Metabolit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 acuerdo con la ecuación anterior, el rendimiento de oxígeno en células se puede calcular por medio de la  relación entre “n” y “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o se producen Metabolito extracelular, “u” igual a cero </a:t>
            </a:r>
            <a:r>
              <a:rPr b="0" lang="es-ES_tradnl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35280" y="4437000"/>
                <a:ext cx="5689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116000" y="5373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eso molecular de la fuente de carbono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valores más usuales de N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stán alrededor de 50 a 20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(1.6-3.2 g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 L 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lores superiores a 12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son difíciles de satisfacer en equipos de diseño estándar y en condiciones de operación económ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so de transferencia de oxígeno (OFER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066680"/>
            <a:ext cx="37335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no de la burbuja a una capa interna de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la capa interna de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una capa externa de líquido que rodea a la burbuja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al seno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la capa de líquido que rodea a los microorganismos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el interior de los microorganism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962520"/>
            <a:ext cx="5540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84360" y="1341360"/>
            <a:ext cx="5637240" cy="495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3429000"/>
            <a:ext cx="762120" cy="99072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086280"/>
            <a:ext cx="533520" cy="6858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24360" y="1427040"/>
          <a:ext cx="4822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27040"/>
                    <a:ext cx="4822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4360" y="907920"/>
            <a:ext cx="81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velocidad de transferencia por unidad de área interfacial, W,  está dada po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36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26028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locidad de Transferencia de Oxígeno por área interf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4922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en la interfase se supone que hay equilibrio entre el oxígeno en el gas y el disue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860640"/>
            <a:ext cx="43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P – P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7242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antidades Pi y Ci resultan difíciles de determinar en la práctica, se prefiere hacer uso de las relaciones de  equilibrio, trabajando con las concentraciones y presiones de equilibrio C*  y P*. Con ello se trabaja con la “ Velocidad de transferencia de oxígeno volumétrica”,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333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Transferencia de oxígeno volu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control de la transferencia de O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encuentra en el film líquido que rodea a la burbuja o  a los microorganism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elocidad de transferencia de oxígeno, N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expresa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  = H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P – P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hay equilibrio entre el oxígeno de el gas y el disuelto en el 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ef volumétrico de transferencia de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ase líquida (cm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: Area interfacial específica (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a difícil de medir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 (mM/L) (Hipoté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ueltro en el seno de la fase líquida  (Este valor no puede ser inferior C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rít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mg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eno de la fase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: cte. de Henry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1052640"/>
            <a:ext cx="3809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plantear una ecuación de balance de oxígeno en el ferment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105520" y="0"/>
            <a:ext cx="3504960" cy="2362320"/>
            <a:chOff x="5105520" y="0"/>
            <a:chExt cx="3504960" cy="2362320"/>
          </a:xfrm>
        </p:grpSpPr>
        <p:graphicFrame>
          <p:nvGraphicFramePr>
            <p:cNvPr id="93" name=""/>
            <p:cNvGraphicFramePr/>
            <p:nvPr/>
          </p:nvGraphicFramePr>
          <p:xfrm>
            <a:off x="5105520" y="0"/>
            <a:ext cx="350496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50496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6251400" y="725400"/>
              <a:ext cx="13478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320" y="181080"/>
              <a:ext cx="67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19520" y="3581280"/>
                <a:ext cx="33526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55040" y="2286000"/>
            <a:ext cx="82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umido por unidad de volu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cumulación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920" y="3048120"/>
            <a:ext cx="581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ale =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e transfiere = N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648320"/>
            <a:ext cx="82278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que el cultivo pueda crecer sin limitación de Oxígeno, el suministro debe ser igual a la dem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5486400"/>
                <a:ext cx="2647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la adecuada operación de un fermentador se hace necesario conocer el valor del coeficiente volumetrico de transferencia de O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s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 mediante  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057040"/>
            <a:ext cx="457200" cy="914760"/>
            <a:chOff x="1828800" y="2057040"/>
            <a:chExt cx="457200" cy="914760"/>
          </a:xfrm>
        </p:grpSpPr>
        <p:sp>
          <p:nvSpPr>
            <p:cNvPr id="104" name=""/>
            <p:cNvSpPr/>
            <p:nvPr/>
          </p:nvSpPr>
          <p:spPr>
            <a:xfrm flipV="1">
              <a:off x="1828800" y="2057040"/>
              <a:ext cx="45720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2666880"/>
              <a:ext cx="4572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3860640"/>
            <a:ext cx="4752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 (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f (D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)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l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xidación de sulfito de so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ón del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étodo Dinámic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mas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edición Directa con analizador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el sulfi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basa en la rápida reacción química de oxidación del sulfito a sulfato mediant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mplaza el medio por solución de sulfito de sodio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 sulfato cúprico como catalizador) y se burbujea aire por un ciert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lfito +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ulf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7920" y="3963960"/>
                <a:ext cx="4295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lfit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lfito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5257800"/>
            <a:ext cx="754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C</a:t>
            </a:r>
            <a:r>
              <a:rPr b="1" lang="es-E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Representa la máxima velocidad volumétrica de transferencia d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un sistema dado (ferment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ireación y Ag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zcl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aldo de fermentaci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uspensión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lera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velocida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ferencia de m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utri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or.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8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32360" y="2133720"/>
          <a:ext cx="359424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594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060640"/>
            <a:ext cx="3962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pa 1: Durante la fermentación se corta el suministro de aire  (T1) y se registra la disminución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suelto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 este caso el suministro es nul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4572000"/>
                <a:ext cx="2227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90720" y="525780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pendiente de la curva es la demanda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38480" y="5835600"/>
                <a:ext cx="14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71640" y="6922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n este caso la medición se realiza en el fermentador durante el crecimiento de un cultivo activo, registrándose el oxígeno disuelto. El proceso tiene 2 et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35640" y="3213000"/>
                <a:ext cx="698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 (cont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87280" y="3573360"/>
                <a:ext cx="33530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219640" y="2276640"/>
          <a:ext cx="3267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276640"/>
                    <a:ext cx="3267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11280" y="1052640"/>
            <a:ext cx="7561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l flujo de aire se repone antes que se alcance la concentración crítica de oxígeno, 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(bajo este valor la velocidad de metabolismo se hace dependiente de la concentración C, pudiéndose causar daños irreversibles en los m.o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≈ 0.1*Concentración de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Bajo estas condiciones se cumple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373720"/>
            <a:ext cx="770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esde la cual se despeja el término (-1/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pende de la velocidad de respuesta de los electrodo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medición direc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530064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692280"/>
            <a:ext cx="7488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 aplicar este método se utiliza un electrodo de oxígeno disuelto y sistemas para determinar oxígeno en la fase gase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n este método se calcula la demanda de oxígeno midiendo el flujo de aire y la concentración de oxígeno en las corrientes gaseosas de entrada y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 estos valores y la lectura de oxígeno disuelta, se calcula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5000" y="4365720"/>
            <a:ext cx="718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=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e transfiere = k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229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étodo de alto costo debido al equipamiento analítico reque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ctores que afectan k</a:t>
            </a:r>
            <a:r>
              <a:rPr b="1" lang="es-ES_tradnl" sz="28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mperatu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umentos de temperatura se producen aumentos en el coeficiente de transferencia, es así como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3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20ºC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2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 (10º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ermentación con formación de mic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ormarse micelas se produce un aumento de la viscosidad lo que conlleva a una disminución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77240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stancias Orgá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ición de compuestos orgánicos produce una disminución tanto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el área especifica, a. Es así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gua + 1% pepton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ámetro de burbuja) entonces  a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combinado implica que 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rgánico) = 0,4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a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743200"/>
            <a:ext cx="7315200" cy="3628800"/>
            <a:chOff x="838080" y="2743200"/>
            <a:chExt cx="7315200" cy="3628800"/>
          </a:xfrm>
        </p:grpSpPr>
        <p:sp>
          <p:nvSpPr>
            <p:cNvPr id="149" name=""/>
            <p:cNvSpPr/>
            <p:nvPr/>
          </p:nvSpPr>
          <p:spPr>
            <a:xfrm>
              <a:off x="838080" y="2743200"/>
              <a:ext cx="73152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s-ES_tradnl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Agentes sufac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adición de agentes surfactantes que evitan la producción de espuma alterar el valor de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. Afectando tanto al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o al diámetro de las burbujas, d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14400" y="4038480"/>
              <a:ext cx="6858000" cy="2333520"/>
              <a:chOff x="914400" y="4038480"/>
              <a:chExt cx="6858000" cy="2333520"/>
            </a:xfrm>
          </p:grpSpPr>
          <p:graphicFrame>
            <p:nvGraphicFramePr>
              <p:cNvPr id="151" name=""/>
              <p:cNvGraphicFramePr/>
              <p:nvPr/>
            </p:nvGraphicFramePr>
            <p:xfrm>
              <a:off x="914400" y="4038480"/>
              <a:ext cx="2895480" cy="2333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4038480"/>
                        <a:ext cx="2895480" cy="23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3" name=""/>
              <p:cNvGraphicFramePr/>
              <p:nvPr/>
            </p:nvGraphicFramePr>
            <p:xfrm>
              <a:off x="4800600" y="4343400"/>
              <a:ext cx="2971800" cy="1768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0600" y="4343400"/>
                        <a:ext cx="2971800" cy="176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dic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az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30-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2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60-12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60-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70-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Más eficien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1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O: Velocidad de transferenci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determinar la velocidad de flujo de aire necesario se puede tomar como dato la demanda de oxígeno, considerando la eficiencia de absorción, E (3-3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sa especifica de aireación se entrega en “volumenes de aire por volumen de líquido por minto”, vv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3284640"/>
                <a:ext cx="4464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v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quid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68360" y="4221000"/>
            <a:ext cx="828036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ilimol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 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ión en [a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borato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ación = 1.5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l Indust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eación = 0.2-0.7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ra forma es expresar la aireación como velocidad superficial del aire,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3640" y="1989000"/>
                <a:ext cx="2160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68360" y="3141720"/>
            <a:ext cx="7920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Area de la sección transversal  del fermen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lmente “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está entre 30 -3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716000" y="1125000"/>
            <a:ext cx="4281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clases de ROD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240080" y="2205000"/>
            <a:ext cx="4903920" cy="337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1268280"/>
            <a:ext cx="345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una operación muy importante tanto del punto de vista técnico como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importante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mezclado hom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buena transferencia de masa y de calor, permite disminuir el espesor de la película líquida e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del sistema de 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268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2708280"/>
          <a:ext cx="3495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3495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516720" y="2925720"/>
          <a:ext cx="224784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925720"/>
                    <a:ext cx="22478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788000" y="299736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Placa defle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221000"/>
            <a:ext cx="86544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981000"/>
            <a:ext cx="75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gitadores cuentan generalmente con 2 o 3 rotores en un mismo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btener un alto grado de mezclado se utilizan placas deflectoras para romper las línea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p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932360" y="2421000"/>
          <a:ext cx="382896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421000"/>
                    <a:ext cx="382896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7672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205000"/>
          <a:ext cx="3495600" cy="366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05000"/>
                    <a:ext cx="3495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9236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ferentes sistemas de agitación y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9144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 pa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 agitación en un 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si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co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76197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el Número de Potencia, Np. Dicho valor determina la potencia absorbida por 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za Externa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Inercial del Flui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68760" y="2367000"/>
                <a:ext cx="2884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00280" y="3046320"/>
            <a:ext cx="7543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0492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20920" y="1725480"/>
                <a:ext cx="23209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00280" y="3124080"/>
            <a:ext cx="75438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87480" y="0"/>
          <a:ext cx="9056520" cy="66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0"/>
                    <a:ext cx="9056520" cy="66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228600"/>
            <a:ext cx="84582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erentes Config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configuración es diferente se deben aplicar los siguientes f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 condicione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 = Fc *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el número de impeler es mayor q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eal) = N impeler * 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erminación del  Número de Impel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&gt;   N impeler  &gt;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2*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ciamiento entre impeler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L &lt; 2*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14400" y="1143000"/>
                <a:ext cx="2590920" cy="20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981080"/>
          <a:ext cx="7696080" cy="364176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066680"/>
                <a:gridCol w="1143000"/>
                <a:gridCol w="914400"/>
                <a:gridCol w="838080"/>
                <a:gridCol w="914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ul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fecto de aireació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a necesa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¿Aument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sminuy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61048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encia de un gas produc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en la densid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rededor del agitador, principalmente por la presencia de burbuj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producidos son bastante significa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comparar los niveles de potencia requeridos en un sistema sin aire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0.3 –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tipo de agitador y la velocidad de aireación, lo cual se traduce en el grado de dispers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burbujas alrededor del agitador y del tan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341360"/>
          <a:ext cx="380988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38098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00720" y="1268280"/>
          <a:ext cx="4228920" cy="38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268280"/>
                    <a:ext cx="42289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04920"/>
            <a:ext cx="86104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2657520"/>
                <a:ext cx="7696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Aparente del aire a través de una sección del tanq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agi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87600" y="3886200"/>
                <a:ext cx="2281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990720" y="563868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Fa : Flujo de aireación 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se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706400"/>
            <a:ext cx="815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urbina de paletas planas en un sistema aire-agua, se han determinado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(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N  *Di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i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6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stante, 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&gt;1000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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&lt;1000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líquido : 0.8- 1.65 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idad del líquido : 0.9 – 100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ón superficial : 27-72 dinas/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706400"/>
            <a:ext cx="86868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0.10* (F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* V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0.25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(N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D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g*w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V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/3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2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udal volumétrico del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eleración de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cho del rod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304920"/>
          <a:ext cx="891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91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8600" y="304920"/>
            <a:ext cx="28954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ondiciones de Na : 0 – 12 *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:  0.3  - 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52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: Aiba S (1973)” Biochemical Engineering” Academic Press, N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p: Número de pal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 entre variables de diseño y el Coeficiente de Transferencias de O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cione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 Cte (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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mpe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 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V 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: velocidad de agit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54380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turbin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18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ve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 =  0.0635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1 HP/m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1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90 m/h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150 m/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189000"/>
            <a:ext cx="6109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el coeficiente volumétr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 absorción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paleta sola (Padd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8 ( P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06 HP/m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1 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71600" y="771480"/>
          <a:ext cx="8202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771480"/>
                    <a:ext cx="8202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80880"/>
            <a:ext cx="525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ld-up de las burbu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dicionar aire a un tanque agitado las burbujas tienden 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strar un volumen de li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altura a la cuales arrastrada se llam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o valor es un porcentaje de la altura  total de líquido en el tanque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ra determinar este valor es necesario aplicar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%) = (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64832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 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por unidad de volumen del sistemas sin gasificar (HP/m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lineal de aire en el tanque vacío (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33960" y="838080"/>
            <a:ext cx="3109680" cy="3017880"/>
            <a:chOff x="6033960" y="838080"/>
            <a:chExt cx="3109680" cy="3017880"/>
          </a:xfrm>
        </p:grpSpPr>
        <p:grpSp>
          <p:nvGrpSpPr>
            <p:cNvPr id="220" name=""/>
            <p:cNvGrpSpPr/>
            <p:nvPr/>
          </p:nvGrpSpPr>
          <p:grpSpPr>
            <a:xfrm>
              <a:off x="6033960" y="838080"/>
              <a:ext cx="3109680" cy="3017880"/>
              <a:chOff x="6033960" y="838080"/>
              <a:chExt cx="3109680" cy="3017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033960" y="838080"/>
                <a:ext cx="3109680" cy="3017880"/>
                <a:chOff x="6033960" y="838080"/>
                <a:chExt cx="3109680" cy="3017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407720" y="3490200"/>
                  <a:ext cx="731520" cy="36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v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6033960" y="838080"/>
                  <a:ext cx="3109680" cy="3017880"/>
                  <a:chOff x="6033960" y="838080"/>
                  <a:chExt cx="3109680" cy="30178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033960" y="838080"/>
                    <a:ext cx="3109680" cy="3017880"/>
                    <a:chOff x="6033960" y="838080"/>
                    <a:chExt cx="3109680" cy="3017880"/>
                  </a:xfrm>
                </p:grpSpPr>
                <p:graphicFrame>
                  <p:nvGraphicFramePr>
                    <p:cNvPr id="225" name=""/>
                    <p:cNvGraphicFramePr/>
                    <p:nvPr/>
                  </p:nvGraphicFramePr>
                  <p:xfrm>
                    <a:off x="6033960" y="929520"/>
                    <a:ext cx="2000880" cy="23148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6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033960" y="929520"/>
                              <a:ext cx="2000880" cy="2314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27" name=""/>
                    <p:cNvSpPr/>
                    <p:nvPr/>
                  </p:nvSpPr>
                  <p:spPr>
                    <a:xfrm flipV="1">
                      <a:off x="7131600" y="3307320"/>
                      <a:ext cx="0" cy="54864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V="1">
                      <a:off x="7040160" y="838080"/>
                      <a:ext cx="0" cy="54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137800" y="1386720"/>
                      <a:ext cx="0" cy="54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412120" y="1386720"/>
                      <a:ext cx="731520" cy="54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6216840" y="2209680"/>
                    <a:ext cx="731520" cy="36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040160" y="1569600"/>
                    <a:ext cx="0" cy="1097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6674040" y="2575440"/>
                    <a:ext cx="731520" cy="121680"/>
                    <a:chOff x="6674040" y="2575440"/>
                    <a:chExt cx="731520" cy="12168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74040" y="2575440"/>
                      <a:ext cx="365760" cy="9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039800" y="2575440"/>
                      <a:ext cx="365760" cy="12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7314480" y="2209680"/>
                    <a:ext cx="45720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7" name=""/>
              <p:cNvSpPr/>
              <p:nvPr/>
            </p:nvSpPr>
            <p:spPr>
              <a:xfrm>
                <a:off x="8413920" y="230112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153280" y="1905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un fermentador equip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2 set de turbinas de paletas planas y 4 baffles. Las dimensiones del fermentador s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fermentador 3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agitador 1.5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los baffles 0.3 m (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ura del líquido 5 m (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aracterísticas del caldo de cultivo son una densidad de 1200 kg/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viscosidad de 0.02 kg/m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ndiciones de operación son una velocidad de rotación de 60rpm y una velocidad de aireación de 0.4 vv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cal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requerida para un sistema sin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para un sistema aire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transferencia de Oxígeno,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up del sistem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as consideraciones que se debe tomar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porcionar a los microorganismos el oxígeno necesario para llevar a cabo su proceso respiratorio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solubilidad del O</a:t>
            </a:r>
            <a:r>
              <a:rPr b="0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 baja &lt; 10mg/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necesita alimentar en forma continua est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nutriente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su demanda  es aproximadamente d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pueden tener sistemas  donde los microorganismos crecen con múltiples sustratos, pero en el caso que todos son limitantes. Ej, C,N,</a:t>
            </a: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3200" spc="-1" strike="noStrike" baseline="-25000">
                <a:solidFill>
                  <a:srgbClr val="3333cc"/>
                </a:solidFill>
                <a:latin typeface="Times New Roman"/>
              </a:rPr>
              <a:t> ,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luego la cantidad de cada uno de ellos afecta la cinética de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47640" y="4724280"/>
                <a:ext cx="5958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ferencia de Ox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comportamiento de las fermentaciones está fuertemente influenciado por una serie de operaciones de transf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posible que una determinada fermentación, en especial las aeróbicas, esté limitada en sus posibilidades de mejorar su rendimiento y productividad, no por razones propias de las características de las células sino que por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blema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diseño que permit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acer la alta demanda de transferencia de masa, y en especial de oxígeno</a:t>
            </a:r>
            <a:r>
              <a:rPr b="0" lang="es-ES_tradn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cesidades de Dis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iseño de un sistema de aireación-agitación debería satisfacer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MANDA DE OXIGENO = OFERTA DE OXI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manda de Oxígeno de un Cul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5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ultivo aeróbico de células requiere del suministro de oxígeno a una determinada velocidad para asegurar la plena satisfacción de sus requerimientos metabó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manda de oxígeno, 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,se define como: “ La cantidad de oxígeno requerida por unidad de tiempo y por unidad de volumen de cul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92360" y="5445000"/>
                <a:ext cx="185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Usuario final del equipo</cp:lastModifiedBy>
  <dcterms:modified xsi:type="dcterms:W3CDTF">2009-09-18T06:07:38Z</dcterms:modified>
  <cp:revision>59</cp:revision>
  <dc:subject/>
  <dc:title>Agitacion y Aireación de Fermentadores</dc:title>
</cp:coreProperties>
</file>