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F82-6715-4B48-BAB4-4D9E6340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ABC-7658-4C39-9F39-2FDC5E88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D13-6EA4-4496-B42C-24426C7F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DEF-BC67-4910-81BB-1605CDF9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6B2-238A-443A-8D1F-BC3345B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029-98DE-4592-9141-1DA37F46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91D-CC87-4C43-83F1-928B9C41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C29-C393-47E0-9CAC-C72D2EDE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EBB-7649-4051-9496-DDE1CF05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6C9-E291-436B-B3D7-88542382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E5D-0C17-4DC4-8361-18EF79C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808-D869-4552-8C63-36BAF73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E9E-DF83-4A0A-9C0A-22B0A6FB16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6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47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Oval 5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Oval 16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19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24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25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26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27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31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34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37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38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Oval 49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0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51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23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Oval 2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9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28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7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0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3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0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Object 1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9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4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Text Box 12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6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Text Box 7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FCFM</cp:lastModifiedBy>
  <dcterms:modified xsi:type="dcterms:W3CDTF">2009-08-03T22:37:40Z</dcterms:modified>
  <cp:revision>13</cp:revision>
  <dc:subject/>
  <dc:title>Presentación de PowerPoint</dc:title>
</cp:coreProperties>
</file>