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gif" ContentType="image/gif"/>
  <Override PartName="/ppt/media/image7.png" ContentType="image/png"/>
  <Override PartName="/ppt/media/image8.gif" ContentType="image/gif"/>
  <Override PartName="/ppt/media/image9.png" ContentType="image/png"/>
  <Override PartName="/ppt/media/image10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EF7B-EF0A-44A6-A629-3FD427840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0433-2A81-4176-9C1B-0DDC10AA2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1FDC-4138-4478-BE76-10178766C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9A68-39FD-4CA5-91EA-6FCEF5095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05C38-DBA1-41ED-90A0-43827C8E4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B5111-E97A-491E-95AD-B36EDA6A3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DECE9-54FD-42C8-B1DA-545D11EF3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3FE8D-2DC3-4816-9850-0002FF36C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C7058-3AF9-4629-9953-15CF7F8A3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3AF38-B84A-4B48-B59C-00DE17B35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A295B-EAFE-40A4-B121-CD172D532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8DC8-387C-4ECC-BC86-53752B2C7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A6510-1226-49FC-9A61-E4728FA7A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4532E-AEEE-4DF2-B466-E2C864D7B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5B800-AA42-4CA9-9AE2-0C814E749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3F283-CD90-4432-9874-2494DEE9B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CEDDD-8530-4E16-BE6E-F13674CB2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38EA49-F4CC-429C-8D9E-1AC630BC3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3DCBE6-7D98-48C1-B607-75C7EA2CB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250125-DDBD-4CEC-B7C3-8D889D3BC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5D31A0-FDF6-4F42-B511-DB0F2A501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5D60E6-8B89-461C-B8A5-EF2BD349D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532E-2266-4CE8-A44D-7CAB939C6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D19C84-C7E7-4DEB-B747-E1D193556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837C3B-F53C-4CF9-AD7E-BBEDEF743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31B403-ADB0-4CCA-878F-E6BC71532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A5462F-8BE3-47AA-B861-4DE3A5453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998BA8-6F49-4B5F-8B0D-641071538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832A17-5A2A-4CDB-ABBC-D39B2FC1E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A2D384-52A9-4E6E-9307-02941803D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AC54C1E-127C-4FDD-BA74-399A9BA88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6333F3F-AFBF-4DF6-9ED5-1BD4A3B48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DC1DF5D-ED72-4002-B550-A0DBBCD17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42BE-CDCA-4D01-9CBD-DA594DCAF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7461BFC-4350-41FD-899D-AB5A745BC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C508277-F804-47FF-8D2B-7C1AD688C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F4F9027-4EDB-41B4-96FF-8B35A6FD2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22F3884-7650-4D92-B697-BC23E5C14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72B9DD8-1B1B-4A84-A152-32205DA89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7C0ED26-BF60-4FD4-B853-730981594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5D8BD31-DD99-4418-B117-1A1BF6A6E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90907F9-B00F-4461-BC69-EB94F5536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F0BA2F4-C90B-41E7-9EA4-0FF4EE18F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103AEE-83A4-4AD9-9462-75C6C164D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7843-32B6-4F2A-B7C7-9A6DC0FB4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A0B880E-125A-4A0B-9D88-00CB9C03F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32DFCC-DC7D-4DE5-B3C6-55D45EA4D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516254-70FF-448D-9745-AB2A10593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5B2539-A7E6-454A-A51E-D7115D303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35C3D2-BE88-4A53-86A6-3D800413C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EEA587-EAF9-4E19-AC68-BF11D32B5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98F172-2B40-414B-8A3E-C18FB9A05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4B8A9E-2121-4165-958B-FF70BDF43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FD2508-C918-42D3-BF06-4A91B27FC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E3EFD4-7D9E-4098-84FA-1908DEE4C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CBCB-F87E-4E19-9C9B-3ACA8865C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39AC82-E9DE-484A-9D44-771CB880E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EB1F0F-ABD8-4711-B520-7B7C1F5F5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B8BB20-190F-4CA4-8A17-2A919BABE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499469-52D2-4991-848A-F5B8EF0F7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752817-5B96-4CDD-90AA-1B3FAFB23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0EC2CD-5372-4025-BF92-0DCD9FFED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D3B0CD-89A1-43D0-9E0C-3C1C2FD88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6A36E8-5A01-441C-BFD7-98205149C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785541-235A-41CA-B5E1-187D35FA8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9F4E90-2D80-4DE6-9DF7-F2664C7C7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E64C-9D62-4A72-9038-635259884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41951E-88E0-42D4-91B1-F8B9E55B8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993801-8FCE-40C2-B669-6DF27010C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4493DA-DC12-462F-9878-1DB7876C1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D40AB2B-C12A-4D36-BA82-598AA9A87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FC3A45C-2FC4-4F1D-AAC6-E1E975A12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AF51C8B-0574-4640-9C75-301F8F579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4FB008B-6DF8-4486-86BC-4D23C5B54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0C8412B-B2FB-44BF-8792-173C15282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9F657EE-30E6-4493-AACA-4B369DAB6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F03936E-B198-4CA2-9AED-6BCB8CD6C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FE48-4D00-468A-979C-C10DA7036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AF43B57-376F-47A9-A3B0-B3D5AB060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48D2551-C0A6-4319-8C61-3B02E3141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E28A66F-4074-4A95-8A11-81C02484F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E4B3940-5B82-4D72-BA0D-1E615FB2F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6521A7C-23F0-4BF3-8B10-DCDC36E3B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F911CC-B0BF-4F29-AF90-A2AD0641A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1DD075-6B09-4DD2-9C4E-6A32302FA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A4C280-1557-4F46-B55D-7BB21E2B5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3B7D71-3804-44F7-BCD2-173508EEA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233573-F80A-47F6-B614-171F1B828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C103-995A-43D8-9995-FC1B70C2D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EDF0D4-630C-4CD3-8124-565423E34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4BD971-4B1E-4996-8479-D4532D34D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A8D99B-11EF-4B47-9762-0D1E42C65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54CCA3-CD38-4A7F-A988-DA914E346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E68BAB-B37A-49D6-A946-CAFE5133A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C42990-9133-46E2-9815-8426997C2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18A848-9685-4102-BD66-783993A2A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6 Rectángulo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7 Rectángulo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8 Rectángulo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B2AD3-E33F-4936-BF91-2A10FED81C4A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9 Rectángulo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10 Rectángulo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11 Rectángulo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0A6E6-7F3E-4D1E-8644-4D650C0CEE06}" type="slidenum">
              <a:rPr b="1" lang="es-ES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9 Rectángulo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10 Rectángulo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11 Rectángulo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4BE88-D269-433C-947B-74E88BD3F87C}" type="slidenum"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6 Rectángulo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7 Rectángulo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8 Rectángulo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BD0AF-ABD5-411D-993E-D3DCBF28BD0F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6 Rectángulo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7 Rectángulo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8 Rectángulo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09D91-111F-41E6-8E55-52ED6ACC7440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94DCB-7E46-481E-A9F1-59D87FA9D24F}" type="slidenum">
              <a:rPr b="1" lang="es-ES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9 Rectángulo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10 Rectángulo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11 Rectángulo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12 Rectángulo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DB32C-10FF-4554-842F-03E7DA616BF9}" type="slidenum"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9 Rectángulo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10 Rectángulo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11 Rectángulo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CA77E-3EE4-4DF1-9341-8E15EA5D7B6B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143080" y="3143160"/>
            <a:ext cx="669600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Arial"/>
                <a:ea typeface="Arial"/>
              </a:rPr>
              <a:t>UNIDAD 1: </a:t>
            </a:r>
            <a:br>
              <a:rPr sz="3600"/>
            </a:br>
            <a:r>
              <a:rPr b="0" lang="es-CL" sz="3600" spc="-1" strike="noStrike">
                <a:solidFill>
                  <a:srgbClr val="ffffff"/>
                </a:solidFill>
                <a:latin typeface="Arial"/>
                <a:ea typeface="Arial"/>
              </a:rPr>
              <a:t>TRANSFERENCIA DE CALOR</a:t>
            </a:r>
            <a:endParaRPr b="0" lang="en-US" sz="36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214720" y="49287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Calibri"/>
              </a:rPr>
              <a:t>Cátedra Introductoria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52" name="5 CuadroTexto"/>
          <p:cNvSpPr/>
          <p:nvPr/>
        </p:nvSpPr>
        <p:spPr>
          <a:xfrm>
            <a:off x="149040" y="169920"/>
            <a:ext cx="3787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  <a:ea typeface="Arial"/>
              </a:rPr>
              <a:t>Universidad de C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  <a:ea typeface="Arial"/>
              </a:rPr>
              <a:t>Facultad de Ciencias Físicas y Matemátic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  <a:ea typeface="Arial"/>
              </a:rPr>
              <a:t>Departamento de Ingeniería Química y Biotecnologí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  <a:ea typeface="Arial"/>
              </a:rPr>
              <a:t>IQ46B  - Operaciones de Transferencia 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2 Subtítulo"/>
          <p:cNvSpPr/>
          <p:nvPr/>
        </p:nvSpPr>
        <p:spPr>
          <a:xfrm>
            <a:off x="2514600" y="6029280"/>
            <a:ext cx="6705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rofeso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Arial"/>
              </a:rPr>
              <a:t>: Tomás Vargas Vale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10"/>
          <p:cNvSpPr/>
          <p:nvPr/>
        </p:nvSpPr>
        <p:spPr>
          <a:xfrm>
            <a:off x="422928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Rectangle 12"/>
          <p:cNvSpPr/>
          <p:nvPr/>
        </p:nvSpPr>
        <p:spPr>
          <a:xfrm>
            <a:off x="472428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Rectangle 31"/>
          <p:cNvSpPr/>
          <p:nvPr/>
        </p:nvSpPr>
        <p:spPr>
          <a:xfrm>
            <a:off x="3610080" y="795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Rectangle 37"/>
          <p:cNvSpPr/>
          <p:nvPr/>
        </p:nvSpPr>
        <p:spPr>
          <a:xfrm>
            <a:off x="3552840" y="795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Rectangle 39"/>
          <p:cNvSpPr/>
          <p:nvPr/>
        </p:nvSpPr>
        <p:spPr>
          <a:xfrm>
            <a:off x="3500280" y="795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09120" y="2952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775f55"/>
                </a:solidFill>
                <a:latin typeface="Arial"/>
                <a:ea typeface="Arial"/>
              </a:rPr>
              <a:t>Mecanismos de Transferencia de Calor</a:t>
            </a:r>
            <a:endParaRPr b="0" lang="en-US" sz="2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0" name="30 CuadroTexto"/>
          <p:cNvSpPr/>
          <p:nvPr/>
        </p:nvSpPr>
        <p:spPr>
          <a:xfrm>
            <a:off x="262080" y="1714680"/>
            <a:ext cx="87256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  <a:ea typeface="Arial"/>
              </a:rPr>
              <a:t>La transferencia de calor siempre se produce del sistema de temperatura más elevada ha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  <a:ea typeface="Arial"/>
              </a:rPr>
              <a:t>el de temperatura más baja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  <a:ea typeface="Arial"/>
              </a:rPr>
              <a:t>- La transferencia de calor se detiene cuando ambos sistemas alcanzan la misma temperatur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1" name="31 Imagen" descr="olla.GIF"/>
          <p:cNvPicPr/>
          <p:nvPr/>
        </p:nvPicPr>
        <p:blipFill>
          <a:blip r:embed="rId1"/>
          <a:srcRect l="0" t="0" r="48867" b="4424"/>
          <a:stretch/>
        </p:blipFill>
        <p:spPr>
          <a:xfrm>
            <a:off x="1449360" y="3643200"/>
            <a:ext cx="2622600" cy="2714760"/>
          </a:xfrm>
          <a:prstGeom prst="rect">
            <a:avLst/>
          </a:prstGeom>
          <a:ln w="0">
            <a:noFill/>
          </a:ln>
        </p:spPr>
      </p:pic>
      <p:pic>
        <p:nvPicPr>
          <p:cNvPr id="362" name="32 Imagen" descr="plancha.gif"/>
          <p:cNvPicPr/>
          <p:nvPr/>
        </p:nvPicPr>
        <p:blipFill>
          <a:blip r:embed="rId2"/>
          <a:stretch/>
        </p:blipFill>
        <p:spPr>
          <a:xfrm>
            <a:off x="4405320" y="3500280"/>
            <a:ext cx="3095640" cy="2857680"/>
          </a:xfrm>
          <a:prstGeom prst="rect">
            <a:avLst/>
          </a:prstGeom>
          <a:ln w="0">
            <a:noFill/>
          </a:ln>
        </p:spPr>
      </p:pic>
      <p:sp>
        <p:nvSpPr>
          <p:cNvPr id="363" name="33 CuadroTexto"/>
          <p:cNvSpPr/>
          <p:nvPr/>
        </p:nvSpPr>
        <p:spPr>
          <a:xfrm>
            <a:off x="2434320" y="3071880"/>
            <a:ext cx="367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 u="sng">
                <a:solidFill>
                  <a:srgbClr val="355d7e"/>
                </a:solidFill>
                <a:uFillTx/>
                <a:latin typeface="Arial"/>
                <a:ea typeface="Arial"/>
              </a:rPr>
              <a:t>Figura 1</a:t>
            </a:r>
            <a:r>
              <a:rPr b="1" lang="es-CL" sz="1400" spc="-1" strike="noStrike">
                <a:solidFill>
                  <a:srgbClr val="355d7e"/>
                </a:solidFill>
                <a:latin typeface="Arial"/>
                <a:ea typeface="Arial"/>
              </a:rPr>
              <a:t>.</a:t>
            </a:r>
            <a:r>
              <a:rPr b="0" lang="es-CL" sz="1400" spc="-1" strike="noStrike">
                <a:solidFill>
                  <a:srgbClr val="355d7e"/>
                </a:solidFill>
                <a:latin typeface="Arial"/>
                <a:ea typeface="Arial"/>
              </a:rPr>
              <a:t>Ejemplos de transferencia de cal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775f55"/>
                </a:solidFill>
                <a:latin typeface="Arial"/>
                <a:ea typeface="Arial"/>
              </a:rPr>
              <a:t>Mecanismos de Transferencia de Calor</a:t>
            </a:r>
            <a:br>
              <a:rPr sz="2400"/>
            </a:br>
            <a:r>
              <a:rPr b="1" lang="es-CL" sz="1400" spc="-1" strike="noStrike">
                <a:solidFill>
                  <a:srgbClr val="775f55"/>
                </a:solidFill>
                <a:latin typeface="Arial"/>
                <a:ea typeface="Arial"/>
              </a:rPr>
              <a:t>Conducción</a:t>
            </a:r>
            <a:endParaRPr b="0" lang="en-US" sz="1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5" name="2 CuadroTexto"/>
          <p:cNvSpPr/>
          <p:nvPr/>
        </p:nvSpPr>
        <p:spPr>
          <a:xfrm>
            <a:off x="573120" y="1833480"/>
            <a:ext cx="81482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La </a:t>
            </a:r>
            <a:r>
              <a:rPr b="1" lang="es-CL" sz="1400" spc="-1" strike="noStrike">
                <a:solidFill>
                  <a:srgbClr val="355d7e"/>
                </a:solidFill>
                <a:latin typeface="Arial"/>
                <a:ea typeface="Arial"/>
              </a:rPr>
              <a:t>conducción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 es el mecanismo de transferencia de calor debido a la interacción entre partícul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adyacentes del medio. Tiene lugar preferencialmente en sólidos, ya que en líquidos y gases tiende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relacionarse con la convección, no estando asociada al desplazamiento de las partículas sino qu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a su </a:t>
            </a:r>
            <a:r>
              <a:rPr b="0" i="1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colisión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3 Imagen" descr="conduccion.gif"/>
          <p:cNvPicPr/>
          <p:nvPr/>
        </p:nvPicPr>
        <p:blipFill>
          <a:blip r:embed="rId1"/>
          <a:srcRect l="-15758" t="-2374" r="-10481" b="-4894"/>
          <a:stretch/>
        </p:blipFill>
        <p:spPr>
          <a:xfrm>
            <a:off x="3571920" y="3429000"/>
            <a:ext cx="1714320" cy="3214800"/>
          </a:xfrm>
          <a:prstGeom prst="rect">
            <a:avLst/>
          </a:prstGeom>
          <a:ln w="0">
            <a:noFill/>
          </a:ln>
        </p:spPr>
      </p:pic>
      <p:sp>
        <p:nvSpPr>
          <p:cNvPr id="367" name="4 CuadroTexto"/>
          <p:cNvSpPr/>
          <p:nvPr/>
        </p:nvSpPr>
        <p:spPr>
          <a:xfrm>
            <a:off x="2593440" y="3071880"/>
            <a:ext cx="361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 u="sng">
                <a:solidFill>
                  <a:srgbClr val="355d7e"/>
                </a:solidFill>
                <a:uFillTx/>
                <a:latin typeface="Arial"/>
                <a:ea typeface="Arial"/>
              </a:rPr>
              <a:t>Figura 2</a:t>
            </a:r>
            <a:r>
              <a:rPr b="1" lang="es-CL" sz="1400" spc="-1" strike="noStrike">
                <a:solidFill>
                  <a:srgbClr val="355d7e"/>
                </a:solidFill>
                <a:latin typeface="Arial"/>
                <a:ea typeface="Arial"/>
              </a:rPr>
              <a:t>.</a:t>
            </a:r>
            <a:r>
              <a:rPr b="0" lang="es-CL" sz="1400" spc="-1" strike="noStrike">
                <a:solidFill>
                  <a:srgbClr val="355d7e"/>
                </a:solidFill>
                <a:latin typeface="Arial"/>
                <a:ea typeface="Arial"/>
              </a:rPr>
              <a:t> Conducción a través de un sóli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775f55"/>
                </a:solidFill>
                <a:latin typeface="Arial"/>
                <a:ea typeface="Arial"/>
              </a:rPr>
              <a:t>Mecanismos de Transferencia de Calor</a:t>
            </a:r>
            <a:br>
              <a:rPr sz="2400"/>
            </a:br>
            <a:r>
              <a:rPr b="1" lang="es-CL" sz="1400" spc="-1" strike="noStrike">
                <a:solidFill>
                  <a:srgbClr val="775f55"/>
                </a:solidFill>
                <a:latin typeface="Arial"/>
                <a:ea typeface="Arial"/>
              </a:rPr>
              <a:t>Convección</a:t>
            </a:r>
            <a:endParaRPr b="0" lang="en-US" sz="1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9" name="3 CuadroTexto"/>
          <p:cNvSpPr/>
          <p:nvPr/>
        </p:nvSpPr>
        <p:spPr>
          <a:xfrm>
            <a:off x="614520" y="1833480"/>
            <a:ext cx="791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La </a:t>
            </a:r>
            <a:r>
              <a:rPr b="1" lang="es-CL" sz="1400" spc="-1" strike="noStrike">
                <a:solidFill>
                  <a:srgbClr val="355d7e"/>
                </a:solidFill>
                <a:latin typeface="Arial"/>
                <a:ea typeface="Arial"/>
              </a:rPr>
              <a:t>convección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 es el modo en que se transfiere la energía entre una superficie sólida y el flui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adyacente (líquido o gas). Existe un movimiento macroscópico del fluido que mientras más rápi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mayor es la transferencia de calor por este mecanism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0" name="4 Imagen" descr="conveccion.gif"/>
          <p:cNvPicPr/>
          <p:nvPr/>
        </p:nvPicPr>
        <p:blipFill>
          <a:blip r:embed="rId1"/>
          <a:stretch/>
        </p:blipFill>
        <p:spPr>
          <a:xfrm>
            <a:off x="2571840" y="3429000"/>
            <a:ext cx="3809880" cy="2857680"/>
          </a:xfrm>
          <a:prstGeom prst="rect">
            <a:avLst/>
          </a:prstGeom>
          <a:ln w="0">
            <a:noFill/>
          </a:ln>
        </p:spPr>
      </p:pic>
      <p:sp>
        <p:nvSpPr>
          <p:cNvPr id="371" name="5 CuadroTexto"/>
          <p:cNvSpPr/>
          <p:nvPr/>
        </p:nvSpPr>
        <p:spPr>
          <a:xfrm>
            <a:off x="2467080" y="2978280"/>
            <a:ext cx="400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 u="sng">
                <a:solidFill>
                  <a:srgbClr val="355d7e"/>
                </a:solidFill>
                <a:uFillTx/>
                <a:latin typeface="Arial"/>
                <a:ea typeface="Arial"/>
              </a:rPr>
              <a:t>Figura 3. </a:t>
            </a:r>
            <a:r>
              <a:rPr b="0" lang="es-CL" sz="1400" spc="-1" strike="noStrike">
                <a:solidFill>
                  <a:srgbClr val="355d7e"/>
                </a:solidFill>
                <a:latin typeface="Arial"/>
                <a:ea typeface="Arial"/>
              </a:rPr>
              <a:t>Transferencia de calor por convec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775f55"/>
                </a:solidFill>
                <a:latin typeface="Arial"/>
                <a:ea typeface="Arial"/>
              </a:rPr>
              <a:t>Mecanismos de Transferencia de Calor</a:t>
            </a:r>
            <a:br>
              <a:rPr sz="2400"/>
            </a:br>
            <a:r>
              <a:rPr b="1" lang="es-CL" sz="1400" spc="-1" strike="noStrike">
                <a:solidFill>
                  <a:srgbClr val="775f55"/>
                </a:solidFill>
                <a:latin typeface="Arial"/>
                <a:ea typeface="Arial"/>
              </a:rPr>
              <a:t>Conducción – Convección </a:t>
            </a:r>
            <a:endParaRPr b="0" lang="en-US" sz="1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3" name="2 CuadroTexto"/>
          <p:cNvSpPr/>
          <p:nvPr/>
        </p:nvSpPr>
        <p:spPr>
          <a:xfrm>
            <a:off x="316080" y="1785960"/>
            <a:ext cx="856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  <a:ea typeface="Arial"/>
              </a:rPr>
              <a:t>Nuestra vida cotidiana también se ve afectada por los fenómenos de transferencia de calor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4" name="3 Imagen" descr="mono.gif"/>
          <p:cNvPicPr/>
          <p:nvPr/>
        </p:nvPicPr>
        <p:blipFill>
          <a:blip r:embed="rId1"/>
          <a:stretch/>
        </p:blipFill>
        <p:spPr>
          <a:xfrm>
            <a:off x="1785960" y="2276640"/>
            <a:ext cx="5435640" cy="1652400"/>
          </a:xfrm>
          <a:prstGeom prst="rect">
            <a:avLst/>
          </a:prstGeom>
          <a:ln w="25560">
            <a:solidFill>
              <a:srgbClr val="bfd3e4"/>
            </a:solidFill>
            <a:miter/>
          </a:ln>
        </p:spPr>
      </p:pic>
      <p:sp>
        <p:nvSpPr>
          <p:cNvPr id="375" name="4 Flecha abajo"/>
          <p:cNvSpPr/>
          <p:nvPr/>
        </p:nvSpPr>
        <p:spPr>
          <a:xfrm>
            <a:off x="4286160" y="4000680"/>
            <a:ext cx="285840" cy="500040"/>
          </a:xfrm>
          <a:prstGeom prst="downArrow">
            <a:avLst>
              <a:gd name="adj1" fmla="val 50000"/>
              <a:gd name="adj2" fmla="val 49979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6" name="5 Imagen" descr="conduccion conveccion.gif"/>
          <p:cNvPicPr/>
          <p:nvPr/>
        </p:nvPicPr>
        <p:blipFill>
          <a:blip r:embed="rId2"/>
          <a:stretch/>
        </p:blipFill>
        <p:spPr>
          <a:xfrm>
            <a:off x="2286000" y="4572000"/>
            <a:ext cx="4334040" cy="2089080"/>
          </a:xfrm>
          <a:prstGeom prst="rect">
            <a:avLst/>
          </a:prstGeom>
          <a:ln w="25560">
            <a:solidFill>
              <a:srgbClr val="bfd3e4"/>
            </a:solidFill>
            <a:miter/>
          </a:ln>
        </p:spPr>
      </p:pic>
      <p:cxnSp>
        <p:nvCxnSpPr>
          <p:cNvPr id="377" name="7 Conector recto de flecha"/>
          <p:cNvCxnSpPr/>
          <p:nvPr/>
        </p:nvCxnSpPr>
        <p:spPr>
          <a:xfrm flipV="1">
            <a:off x="1857240" y="6071760"/>
            <a:ext cx="858240" cy="286560"/>
          </a:xfrm>
          <a:prstGeom prst="straightConnector1">
            <a:avLst/>
          </a:prstGeom>
          <a:ln w="25560">
            <a:solidFill>
              <a:srgbClr val="558bb8"/>
            </a:solidFill>
            <a:miter/>
            <a:tailEnd len="med" type="arrow" w="med"/>
          </a:ln>
        </p:spPr>
      </p:cxnSp>
      <p:sp>
        <p:nvSpPr>
          <p:cNvPr id="378" name="9 CuadroTexto"/>
          <p:cNvSpPr/>
          <p:nvPr/>
        </p:nvSpPr>
        <p:spPr>
          <a:xfrm>
            <a:off x="641880" y="6234120"/>
            <a:ext cx="120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55d7e"/>
                </a:solidFill>
                <a:latin typeface="Arial"/>
                <a:ea typeface="Arial"/>
              </a:rPr>
              <a:t>condu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9" name="10 Conector recto de flecha"/>
          <p:cNvCxnSpPr/>
          <p:nvPr/>
        </p:nvCxnSpPr>
        <p:spPr>
          <a:xfrm flipH="1">
            <a:off x="5428800" y="5428080"/>
            <a:ext cx="1572480" cy="143640"/>
          </a:xfrm>
          <a:prstGeom prst="straightConnector1">
            <a:avLst/>
          </a:prstGeom>
          <a:ln w="25560">
            <a:solidFill>
              <a:srgbClr val="558bb8"/>
            </a:solidFill>
            <a:miter/>
            <a:tailEnd len="med" type="arrow" w="med"/>
          </a:ln>
        </p:spPr>
      </p:cxnSp>
      <p:sp>
        <p:nvSpPr>
          <p:cNvPr id="380" name="14 CuadroTexto"/>
          <p:cNvSpPr/>
          <p:nvPr/>
        </p:nvSpPr>
        <p:spPr>
          <a:xfrm>
            <a:off x="7006320" y="5234040"/>
            <a:ext cx="119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55d7e"/>
                </a:solidFill>
                <a:latin typeface="Arial"/>
                <a:ea typeface="Arial"/>
              </a:rPr>
              <a:t>conve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775f55"/>
                </a:solidFill>
                <a:latin typeface="Arial"/>
                <a:ea typeface="Arial"/>
              </a:rPr>
              <a:t>Mecanismos de Transferencia de Calor</a:t>
            </a:r>
            <a:br>
              <a:rPr sz="2400"/>
            </a:br>
            <a:r>
              <a:rPr b="1" lang="es-CL" sz="1400" spc="-1" strike="noStrike">
                <a:solidFill>
                  <a:srgbClr val="775f55"/>
                </a:solidFill>
                <a:latin typeface="Arial"/>
                <a:ea typeface="Arial"/>
              </a:rPr>
              <a:t>Radiación</a:t>
            </a:r>
            <a:endParaRPr b="0" lang="en-US" sz="1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2" name="2 CuadroTexto"/>
          <p:cNvSpPr/>
          <p:nvPr/>
        </p:nvSpPr>
        <p:spPr>
          <a:xfrm>
            <a:off x="577800" y="1833480"/>
            <a:ext cx="8015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La </a:t>
            </a:r>
            <a:r>
              <a:rPr b="1" lang="es-CL" sz="1400" spc="-1" strike="noStrike">
                <a:solidFill>
                  <a:srgbClr val="355d7e"/>
                </a:solidFill>
                <a:latin typeface="Arial"/>
                <a:ea typeface="Arial"/>
              </a:rPr>
              <a:t>radiación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 es la energía emitida por la materia en forma de ondas electromagnéticas (o foton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como resultado de los cambios en las configuraciones electrónicas de los átomos o moléculas. 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radiación térmica es la energía emitida por los cuerpos de acuerdo a su temperatu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3 Imagen" descr="radiacion 1.gif"/>
          <p:cNvPicPr/>
          <p:nvPr/>
        </p:nvPicPr>
        <p:blipFill>
          <a:blip r:embed="rId1"/>
          <a:stretch/>
        </p:blipFill>
        <p:spPr>
          <a:xfrm>
            <a:off x="2452680" y="3071880"/>
            <a:ext cx="4262400" cy="3286080"/>
          </a:xfrm>
          <a:prstGeom prst="rect">
            <a:avLst/>
          </a:prstGeom>
          <a:ln w="0">
            <a:noFill/>
          </a:ln>
        </p:spPr>
      </p:pic>
      <p:sp>
        <p:nvSpPr>
          <p:cNvPr id="384" name="4 CuadroTexto"/>
          <p:cNvSpPr/>
          <p:nvPr/>
        </p:nvSpPr>
        <p:spPr>
          <a:xfrm>
            <a:off x="2594880" y="2906640"/>
            <a:ext cx="388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 u="sng">
                <a:solidFill>
                  <a:srgbClr val="355d7e"/>
                </a:solidFill>
                <a:uFillTx/>
                <a:latin typeface="Arial"/>
                <a:ea typeface="Arial"/>
              </a:rPr>
              <a:t>Figura 4</a:t>
            </a:r>
            <a:r>
              <a:rPr b="1" lang="es-CL" sz="1400" spc="-1" strike="noStrike">
                <a:solidFill>
                  <a:srgbClr val="355d7e"/>
                </a:solidFill>
                <a:latin typeface="Arial"/>
                <a:ea typeface="Arial"/>
              </a:rPr>
              <a:t>.</a:t>
            </a:r>
            <a:r>
              <a:rPr b="0" lang="es-CL" sz="1400" spc="-1" strike="noStrike">
                <a:solidFill>
                  <a:srgbClr val="355d7e"/>
                </a:solidFill>
                <a:latin typeface="Arial"/>
                <a:ea typeface="Arial"/>
              </a:rPr>
              <a:t> Radiación incidente sobre una par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5 Rectángulo"/>
          <p:cNvSpPr/>
          <p:nvPr/>
        </p:nvSpPr>
        <p:spPr>
          <a:xfrm>
            <a:off x="4714920" y="5572080"/>
            <a:ext cx="2286000" cy="571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775f55"/>
                </a:solidFill>
                <a:latin typeface="Arial"/>
                <a:ea typeface="Arial"/>
              </a:rPr>
              <a:t>Mecanismos de Transferencia de Calor</a:t>
            </a:r>
            <a:br>
              <a:rPr sz="2400"/>
            </a:br>
            <a:r>
              <a:rPr b="1" lang="es-CL" sz="1400" spc="-1" strike="noStrike">
                <a:solidFill>
                  <a:srgbClr val="775f55"/>
                </a:solidFill>
                <a:latin typeface="Arial"/>
                <a:ea typeface="Arial"/>
              </a:rPr>
              <a:t>Los mecanismos en acción</a:t>
            </a:r>
            <a:endParaRPr b="0" lang="en-US" sz="1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7" name="2 CuadroTexto"/>
          <p:cNvSpPr/>
          <p:nvPr/>
        </p:nvSpPr>
        <p:spPr>
          <a:xfrm>
            <a:off x="402120" y="1832040"/>
            <a:ext cx="8206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  <a:ea typeface="Arial"/>
              </a:rPr>
              <a:t>Diariamente todos los mecanismos de transferencia de calor están presentes en nuestr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  <a:ea typeface="Arial"/>
              </a:rPr>
              <a:t>entorno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8" name="3 Imagen" descr="todos.gif"/>
          <p:cNvPicPr/>
          <p:nvPr/>
        </p:nvPicPr>
        <p:blipFill>
          <a:blip r:embed="rId1"/>
          <a:stretch/>
        </p:blipFill>
        <p:spPr>
          <a:xfrm>
            <a:off x="2214720" y="3236760"/>
            <a:ext cx="4657680" cy="3000600"/>
          </a:xfrm>
          <a:prstGeom prst="rect">
            <a:avLst/>
          </a:prstGeom>
          <a:ln w="25560">
            <a:solidFill>
              <a:srgbClr val="bfd3e4"/>
            </a:solidFill>
            <a:miter/>
          </a:ln>
        </p:spPr>
      </p:pic>
      <p:sp>
        <p:nvSpPr>
          <p:cNvPr id="389" name="4 CuadroTexto"/>
          <p:cNvSpPr/>
          <p:nvPr/>
        </p:nvSpPr>
        <p:spPr>
          <a:xfrm>
            <a:off x="2446200" y="2714760"/>
            <a:ext cx="413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 u="sng">
                <a:solidFill>
                  <a:srgbClr val="355d7e"/>
                </a:solidFill>
                <a:uFillTx/>
                <a:latin typeface="Arial"/>
                <a:ea typeface="Arial"/>
              </a:rPr>
              <a:t>Figura 5</a:t>
            </a:r>
            <a:r>
              <a:rPr b="1" lang="es-CL" sz="1400" spc="-1" strike="noStrike">
                <a:solidFill>
                  <a:srgbClr val="355d7e"/>
                </a:solidFill>
                <a:latin typeface="Arial"/>
                <a:ea typeface="Arial"/>
              </a:rPr>
              <a:t>.</a:t>
            </a:r>
            <a:r>
              <a:rPr b="0" lang="es-CL" sz="1400" spc="-1" strike="noStrike">
                <a:solidFill>
                  <a:srgbClr val="355d7e"/>
                </a:solidFill>
                <a:latin typeface="Arial"/>
                <a:ea typeface="Arial"/>
              </a:rPr>
              <a:t> Todos los mecanismos de transferenc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5T03:20:14Z</dcterms:created>
  <dc:creator>Tomás Vargas</dc:creator>
  <dc:description/>
  <dc:language>en-US</dc:language>
  <cp:lastModifiedBy>FCFM</cp:lastModifiedBy>
  <dcterms:modified xsi:type="dcterms:W3CDTF">2009-08-03T22:36:09Z</dcterms:modified>
  <cp:revision>26</cp:revision>
  <dc:subject/>
  <dc:title>Presentación de PowerPoint</dc:title>
</cp:coreProperties>
</file>