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D2B-E9D3-4CCA-8870-1C99A68A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43F-D628-45B4-83A1-B6D375E0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5E1-6453-408E-A938-ED01F2B3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B14-F1D5-4774-8E3B-1A676A0E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6374-83C7-43BF-815B-1C3FD582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B587-7356-4285-A669-0473A655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DCFE-9DED-4812-9A96-0D466707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72CC-877B-4BB7-BA56-EF13D13F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2C69-ED0B-47F0-8CD8-D6B08EF2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9670-4B6F-482D-B141-3770E88A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BCE4-B5AA-4DDC-83BA-E4857BD2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533-CB5B-48CC-AE2A-334D01AE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B92A-786B-4D91-A177-810C8C68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7ABA-D01E-4B1D-AA00-155D9993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D1DB-C011-4BDA-A892-7AFD70F9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1E70-DFEA-4338-99DB-0D773E31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4477-5B06-4CEF-AE7C-36375B22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C0B03-D296-4E93-A096-935097A6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2B55E-7544-4356-BE6F-DB6C043A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EE0C1-2ED3-4201-BB48-E04C2BE5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C8805-F1CE-4379-8ECC-4AFB04A7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5E762-B64E-4CBB-BACE-AE0A0AC4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702-7CBF-423E-BED1-5E81C338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A45A6-0DE2-4CBF-A118-56A9F6A3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CFED4-9067-4777-97E5-B0665A2E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005D9-2EF1-4575-82B7-A9D23A3E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40FEA-9926-40EA-AFF2-4FED83B4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3DDFE-3B28-4951-A3C8-BBA50D2B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F1862-75D2-4271-8CBE-15F4F378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82717-DF65-4D9F-8CBD-27276479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C67BA-F6DE-4CF5-91F4-0E28FBCE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8B76B-B659-43D0-A524-343AE70F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7A3DC-777B-4741-86AB-0F1BF996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8A4-43F0-4476-BB48-2AB79FD1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025DF-3939-453E-840E-C3AC6124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F0837-F2B0-4208-B5D4-C8C46794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BCCCE4-3497-40E0-B9D4-A72C9492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F4B94-7F95-4C8B-A98B-6ABAD0D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367E7-8EC0-4A96-9B6C-C4754291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26F67-7B52-4AA2-8C99-4139CCAC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79E8B-DC9C-400F-A97C-EB525381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29EC4-3B2F-4CA7-99FC-F77CB748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550EFA-C009-45A6-B8E3-CE2977F6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D4953-B8F5-47D5-B07E-D2D1814E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F23-BEA8-447B-AC1A-3C919D0B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F6F86-1407-4CE1-91AB-7EA47305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F31B3-99C1-40F0-B0E4-BC079677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FA80E-95CC-409B-8A27-0B1E6636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04B95-C8A8-4E1B-9DFA-0E645E0A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911CE-652F-4509-8629-5FD7364D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A5164-4153-4960-99C5-69E19504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0D5C2-9770-49F7-B05F-092ACB19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DC8EE-AC88-4B7F-B02D-04927DD3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E4CB0-FF7D-41AA-A287-0F7AD63C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1F1E0-491F-4F74-A403-A4A39D3B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632-C372-418C-83CE-B059E49B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29B5D-A039-425E-8045-BA381D92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98C0E-1B0B-41C6-9C64-919B72EB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90237-718E-4C67-B396-868D6EF1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96BAC-72DF-42B1-B0AA-E78EACC8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AA9BA-ACF6-4B41-96AD-FCD7C8DB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D2963-F160-45F5-B1D1-54FDC701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5A05D-55E3-47BF-A3DE-DB24132D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1F4F9-415C-4CD3-AFDF-15D5EA0D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D206D-AAED-468F-B912-963F0F23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E8778-D921-4173-8AE9-9A04FCA3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3BD-3E7B-4C40-94CE-B2704E43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0CE99-4928-4C27-AE1E-325CC20E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4FE72-617D-496D-86C5-75F2F148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D9642-6B98-47A2-BEEF-12DF74EB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1E9A7-E12E-4BF7-B872-5899419D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2B8495-7FD2-4C1C-A61A-F3090C0C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B7CE2-0643-4CA2-B85D-6F74A4B2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44F89B-4440-4987-995D-118B5A2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30FCD-B726-4052-B01E-4B9AD332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D896F-84AF-48E8-A1B6-B18C6E42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E3FF8-B14E-4136-948C-BC53350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DEB-DB01-4307-BE83-174A10A5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0242B-1027-4951-AD01-E2944033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093E0-ABBC-4CA2-A863-32F0422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9692B-601D-4EF0-8A20-B8B8B161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45A0E-1DDC-4AB3-BD76-D0528BDA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61CD05-07C9-4C41-A0CE-AF78E7F7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CE62D-21C3-4D88-A2A9-A7B70FEB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BC80C-137A-4929-BE08-20ED368F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4C209-90AB-4127-ADA0-E6E6C4AC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D7329-1A72-44F1-B62F-DB6471B4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42B90-5FC3-41B9-B9EC-C3D6E9A8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13C-E344-4871-96DB-7E45B0B8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D98A6-6EC4-4F14-ACC6-252ED2BF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45BA5-D9D0-42AA-85FE-306C0618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52A5B-96BF-4B3B-8242-28D4F6AA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33FDC-71AD-4F27-AFD7-8CEEE8F1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1D58D-8A99-4B88-A956-FE038884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76AF2-AEBB-475D-B564-D8D3A363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218FA-BC9D-4835-B811-84064BC9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8F44-DE3C-4209-8341-01B4CEC0D007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7923-C8C3-457F-9B0C-48523A36A81C}" type="slidenum">
              <a:rPr b="1" lang="es-C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1306-0183-41AA-9C9C-2DB386032D6A}" type="slidenum">
              <a:rPr b="1" lang="es-C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85AB-EB59-4F87-8960-70CDE51482EE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1E2F-F34D-4584-8057-91F8F5355387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E476-8B7E-4D56-9435-6F99A74EACEC}" type="slidenum">
              <a:rPr b="1" lang="es-C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1ABC-9A8A-4680-8B72-C5561F51EC49}" type="slidenum">
              <a:rPr b="1" lang="es-C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81E2-6D67-499B-9086-F3A1BDFF6CCE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43160" y="3286080"/>
            <a:ext cx="56390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MOTIVACIÓN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LA INDUSTRIA QUÍMICA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5 CuadroTexto"/>
          <p:cNvSpPr/>
          <p:nvPr/>
        </p:nvSpPr>
        <p:spPr>
          <a:xfrm>
            <a:off x="14904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8 Elipse" descr=""/>
          <p:cNvPicPr/>
          <p:nvPr/>
        </p:nvPicPr>
        <p:blipFill>
          <a:blip r:embed="rId1"/>
          <a:stretch/>
        </p:blipFill>
        <p:spPr>
          <a:xfrm>
            <a:off x="3633840" y="3193920"/>
            <a:ext cx="2011320" cy="1932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Cómo se estructura el estudio de la ingeniería de procesos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10 Elipse"/>
          <p:cNvSpPr/>
          <p:nvPr/>
        </p:nvSpPr>
        <p:spPr>
          <a:xfrm rot="355200">
            <a:off x="3459240" y="3026880"/>
            <a:ext cx="2340000" cy="2340000"/>
          </a:xfrm>
          <a:prstGeom prst="ellipse">
            <a:avLst/>
          </a:prstGeom>
          <a:noFill/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5 Conector recto"/>
          <p:cNvSpPr/>
          <p:nvPr/>
        </p:nvSpPr>
        <p:spPr>
          <a:xfrm flipH="1">
            <a:off x="4597560" y="4800600"/>
            <a:ext cx="39600" cy="1187280"/>
          </a:xfrm>
          <a:prstGeom prst="line">
            <a:avLst/>
          </a:prstGeom>
          <a:ln w="1908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18 Conector recto"/>
          <p:cNvSpPr/>
          <p:nvPr/>
        </p:nvSpPr>
        <p:spPr>
          <a:xfrm>
            <a:off x="2286000" y="3071880"/>
            <a:ext cx="1828800" cy="942840"/>
          </a:xfrm>
          <a:prstGeom prst="line">
            <a:avLst/>
          </a:prstGeom>
          <a:ln w="1908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9 Conector recto"/>
          <p:cNvSpPr/>
          <p:nvPr/>
        </p:nvSpPr>
        <p:spPr>
          <a:xfrm flipH="1">
            <a:off x="5155920" y="3428280"/>
            <a:ext cx="1773000" cy="585720"/>
          </a:xfrm>
          <a:prstGeom prst="line">
            <a:avLst/>
          </a:prstGeom>
          <a:ln w="1908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Elipse"/>
          <p:cNvSpPr/>
          <p:nvPr/>
        </p:nvSpPr>
        <p:spPr>
          <a:xfrm>
            <a:off x="4084560" y="3657600"/>
            <a:ext cx="11430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Arial"/>
              </a:rPr>
              <a:t>Proceso Químico Indust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Elipse"/>
          <p:cNvSpPr/>
          <p:nvPr/>
        </p:nvSpPr>
        <p:spPr>
          <a:xfrm rot="355200">
            <a:off x="2808000" y="2381400"/>
            <a:ext cx="3600360" cy="3600360"/>
          </a:xfrm>
          <a:prstGeom prst="ellipse">
            <a:avLst/>
          </a:prstGeom>
          <a:noFill/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26 Elipse" descr=""/>
          <p:cNvPicPr/>
          <p:nvPr/>
        </p:nvPicPr>
        <p:blipFill>
          <a:blip r:embed="rId2"/>
          <a:stretch/>
        </p:blipFill>
        <p:spPr>
          <a:xfrm>
            <a:off x="2895480" y="2505240"/>
            <a:ext cx="3541680" cy="3225600"/>
          </a:xfrm>
          <a:prstGeom prst="rect">
            <a:avLst/>
          </a:prstGeom>
          <a:ln w="0">
            <a:noFill/>
          </a:ln>
        </p:spPr>
      </p:pic>
      <p:pic>
        <p:nvPicPr>
          <p:cNvPr id="362" name="27 Elipse" descr=""/>
          <p:cNvPicPr/>
          <p:nvPr/>
        </p:nvPicPr>
        <p:blipFill>
          <a:blip r:embed="rId3"/>
          <a:stretch/>
        </p:blipFill>
        <p:spPr>
          <a:xfrm>
            <a:off x="3144960" y="2657520"/>
            <a:ext cx="3365280" cy="3402000"/>
          </a:xfrm>
          <a:prstGeom prst="rect">
            <a:avLst/>
          </a:prstGeom>
          <a:ln w="0">
            <a:noFill/>
          </a:ln>
        </p:spPr>
      </p:pic>
      <p:pic>
        <p:nvPicPr>
          <p:cNvPr id="363" name="28 Elipse" descr=""/>
          <p:cNvPicPr/>
          <p:nvPr/>
        </p:nvPicPr>
        <p:blipFill>
          <a:blip r:embed="rId4"/>
          <a:stretch/>
        </p:blipFill>
        <p:spPr>
          <a:xfrm>
            <a:off x="1779480" y="2419200"/>
            <a:ext cx="3322800" cy="3445200"/>
          </a:xfrm>
          <a:prstGeom prst="rect">
            <a:avLst/>
          </a:prstGeom>
          <a:ln w="0">
            <a:noFill/>
          </a:ln>
        </p:spPr>
      </p:pic>
      <p:pic>
        <p:nvPicPr>
          <p:cNvPr id="364" name="29 Elipse" descr=""/>
          <p:cNvPicPr/>
          <p:nvPr/>
        </p:nvPicPr>
        <p:blipFill>
          <a:blip r:embed="rId5"/>
          <a:stretch/>
        </p:blipFill>
        <p:spPr>
          <a:xfrm>
            <a:off x="2651040" y="2614680"/>
            <a:ext cx="3353040" cy="3421080"/>
          </a:xfrm>
          <a:prstGeom prst="rect">
            <a:avLst/>
          </a:prstGeom>
          <a:ln w="0">
            <a:noFill/>
          </a:ln>
        </p:spPr>
      </p:pic>
      <p:pic>
        <p:nvPicPr>
          <p:cNvPr id="365" name="33 Elipse" descr=""/>
          <p:cNvPicPr/>
          <p:nvPr/>
        </p:nvPicPr>
        <p:blipFill>
          <a:blip r:embed="rId6"/>
          <a:stretch/>
        </p:blipFill>
        <p:spPr>
          <a:xfrm>
            <a:off x="2425680" y="1566720"/>
            <a:ext cx="4365720" cy="3468960"/>
          </a:xfrm>
          <a:prstGeom prst="rect">
            <a:avLst/>
          </a:prstGeom>
          <a:ln w="0">
            <a:noFill/>
          </a:ln>
        </p:spPr>
      </p:pic>
      <p:pic>
        <p:nvPicPr>
          <p:cNvPr id="366" name="34 Elipse" descr=""/>
          <p:cNvPicPr/>
          <p:nvPr/>
        </p:nvPicPr>
        <p:blipFill>
          <a:blip r:embed="rId7"/>
          <a:stretch/>
        </p:blipFill>
        <p:spPr>
          <a:xfrm>
            <a:off x="1925640" y="2133720"/>
            <a:ext cx="5376960" cy="4857480"/>
          </a:xfrm>
          <a:prstGeom prst="rect">
            <a:avLst/>
          </a:prstGeom>
          <a:ln w="0">
            <a:noFill/>
          </a:ln>
        </p:spPr>
      </p:pic>
      <p:sp>
        <p:nvSpPr>
          <p:cNvPr id="367" name="35 Elipse"/>
          <p:cNvSpPr/>
          <p:nvPr/>
        </p:nvSpPr>
        <p:spPr>
          <a:xfrm rot="355200">
            <a:off x="2031480" y="1674360"/>
            <a:ext cx="5040360" cy="5040360"/>
          </a:xfrm>
          <a:prstGeom prst="ellipse">
            <a:avLst/>
          </a:prstGeom>
          <a:noFill/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Cómo se estructura el estudio de la ingeniería de procesos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Picture 22" descr=""/>
          <p:cNvPicPr/>
          <p:nvPr/>
        </p:nvPicPr>
        <p:blipFill>
          <a:blip r:embed="rId1"/>
          <a:stretch/>
        </p:blipFill>
        <p:spPr>
          <a:xfrm>
            <a:off x="0" y="1847880"/>
            <a:ext cx="5286240" cy="5010120"/>
          </a:xfrm>
          <a:prstGeom prst="rect">
            <a:avLst/>
          </a:prstGeom>
          <a:ln w="0">
            <a:noFill/>
          </a:ln>
        </p:spPr>
      </p:pic>
      <p:sp>
        <p:nvSpPr>
          <p:cNvPr id="370" name="22 Flecha derecha"/>
          <p:cNvSpPr/>
          <p:nvPr/>
        </p:nvSpPr>
        <p:spPr>
          <a:xfrm>
            <a:off x="5357880" y="6262560"/>
            <a:ext cx="428400" cy="285840"/>
          </a:xfrm>
          <a:prstGeom prst="rightArrow">
            <a:avLst>
              <a:gd name="adj1" fmla="val 50000"/>
              <a:gd name="adj2" fmla="val 49958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23 Rectángulo" descr=""/>
          <p:cNvPicPr/>
          <p:nvPr/>
        </p:nvPicPr>
        <p:blipFill>
          <a:blip r:embed="rId2"/>
          <a:stretch/>
        </p:blipFill>
        <p:spPr>
          <a:xfrm>
            <a:off x="6016680" y="6181560"/>
            <a:ext cx="2225520" cy="543240"/>
          </a:xfrm>
          <a:prstGeom prst="rect">
            <a:avLst/>
          </a:prstGeom>
          <a:ln w="0">
            <a:noFill/>
          </a:ln>
        </p:spPr>
      </p:pic>
      <p:sp>
        <p:nvSpPr>
          <p:cNvPr id="372" name="24 Flecha derecha"/>
          <p:cNvSpPr/>
          <p:nvPr/>
        </p:nvSpPr>
        <p:spPr>
          <a:xfrm>
            <a:off x="4929120" y="5334120"/>
            <a:ext cx="428760" cy="428400"/>
          </a:xfrm>
          <a:prstGeom prst="rightArrow">
            <a:avLst>
              <a:gd name="adj1" fmla="val 50000"/>
              <a:gd name="adj2" fmla="val 50042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25 Flecha derecha"/>
          <p:cNvSpPr/>
          <p:nvPr/>
        </p:nvSpPr>
        <p:spPr>
          <a:xfrm>
            <a:off x="4214880" y="3976560"/>
            <a:ext cx="428400" cy="428760"/>
          </a:xfrm>
          <a:prstGeom prst="right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3 Flecha derecha"/>
          <p:cNvSpPr/>
          <p:nvPr/>
        </p:nvSpPr>
        <p:spPr>
          <a:xfrm>
            <a:off x="3429000" y="2476440"/>
            <a:ext cx="428760" cy="428760"/>
          </a:xfrm>
          <a:prstGeom prst="right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4 Rectángulo"/>
          <p:cNvSpPr/>
          <p:nvPr/>
        </p:nvSpPr>
        <p:spPr>
          <a:xfrm>
            <a:off x="4143240" y="1762200"/>
            <a:ext cx="5000760" cy="171432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41 CuadroTexto"/>
          <p:cNvSpPr/>
          <p:nvPr/>
        </p:nvSpPr>
        <p:spPr>
          <a:xfrm>
            <a:off x="4241880" y="1859040"/>
            <a:ext cx="467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Minerí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bre, Hierro, Zinc, Aluminio, Carbón, Titanio, Oro, P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42 CuadroTexto"/>
          <p:cNvSpPr/>
          <p:nvPr/>
        </p:nvSpPr>
        <p:spPr>
          <a:xfrm>
            <a:off x="4214880" y="2114640"/>
            <a:ext cx="47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Petroquímic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tróleo, gas natural, lubricantes, plástico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43 CuadroTexto"/>
          <p:cNvSpPr/>
          <p:nvPr/>
        </p:nvSpPr>
        <p:spPr>
          <a:xfrm>
            <a:off x="4197240" y="2400480"/>
            <a:ext cx="458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Bioquímic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teínas, levaduras, procesos bacterianos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44 CuadroTexto"/>
          <p:cNvSpPr/>
          <p:nvPr/>
        </p:nvSpPr>
        <p:spPr>
          <a:xfrm>
            <a:off x="4214880" y="26766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Cosmétic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fumes, cremas, jabones, bálsamos, ace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45 CuadroTexto"/>
          <p:cNvSpPr/>
          <p:nvPr/>
        </p:nvSpPr>
        <p:spPr>
          <a:xfrm>
            <a:off x="4214880" y="29624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Forestales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adera, papel, pan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46 CuadroTexto"/>
          <p:cNvSpPr/>
          <p:nvPr/>
        </p:nvSpPr>
        <p:spPr>
          <a:xfrm>
            <a:off x="4214880" y="3200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Generación de energí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idroeléctricas, celdas combust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47 Rectángulo"/>
          <p:cNvSpPr/>
          <p:nvPr/>
        </p:nvSpPr>
        <p:spPr>
          <a:xfrm>
            <a:off x="4714920" y="3548160"/>
            <a:ext cx="4429080" cy="135720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48 CuadroTexto"/>
          <p:cNvSpPr/>
          <p:nvPr/>
        </p:nvSpPr>
        <p:spPr>
          <a:xfrm>
            <a:off x="4720680" y="3619440"/>
            <a:ext cx="429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Transferencia de calor y mas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ntercambiadores de calor, calderas, hornos, secadores,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orres de enfriamiento, columnas de destilación, column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 absorción, reactores, extracción por solvente, lixi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9 CuadroTexto"/>
          <p:cNvSpPr/>
          <p:nvPr/>
        </p:nvSpPr>
        <p:spPr>
          <a:xfrm>
            <a:off x="4714920" y="4405320"/>
            <a:ext cx="430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Operaciones mecánicas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ombas, centrífugas, decantadores, filtros, cañerías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50 Rectángulo"/>
          <p:cNvSpPr/>
          <p:nvPr/>
        </p:nvSpPr>
        <p:spPr>
          <a:xfrm>
            <a:off x="5572080" y="4976640"/>
            <a:ext cx="3571920" cy="107172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1 CuadroTexto"/>
          <p:cNvSpPr/>
          <p:nvPr/>
        </p:nvSpPr>
        <p:spPr>
          <a:xfrm>
            <a:off x="5572080" y="501156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Balances de masa y energí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ísicoquímica, Termodinámica, Fluidodinámic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Operaciones de Transferencia (Calor y M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52 CuadroTexto"/>
          <p:cNvSpPr/>
          <p:nvPr/>
        </p:nvSpPr>
        <p:spPr>
          <a:xfrm>
            <a:off x="5588280" y="5587920"/>
            <a:ext cx="343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Modelamiento de procesos y optimización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étodos Matemá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lgunos Procesos Químicos</a:t>
            </a:r>
            <a:br>
              <a:rPr sz="2400"/>
            </a:br>
            <a:r>
              <a:rPr b="0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Producción de Ácido Sulfúrico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9" name="3 Imagen" descr="planta acido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4657680"/>
          </a:xfrm>
          <a:prstGeom prst="rect">
            <a:avLst/>
          </a:prstGeom>
          <a:ln w="25560">
            <a:solidFill>
              <a:srgbClr val="bfbfbf"/>
            </a:solidFill>
            <a:miter/>
          </a:ln>
        </p:spPr>
      </p:pic>
      <p:sp>
        <p:nvSpPr>
          <p:cNvPr id="390" name="4 CuadroTexto"/>
          <p:cNvSpPr/>
          <p:nvPr/>
        </p:nvSpPr>
        <p:spPr>
          <a:xfrm>
            <a:off x="4897800" y="207180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Paso 1. Preparación del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5 CuadroTexto"/>
          <p:cNvSpPr/>
          <p:nvPr/>
        </p:nvSpPr>
        <p:spPr>
          <a:xfrm>
            <a:off x="2379960" y="6078600"/>
            <a:ext cx="197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Paso 2. Conversión catalí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6 CuadroTexto"/>
          <p:cNvSpPr/>
          <p:nvPr/>
        </p:nvSpPr>
        <p:spPr>
          <a:xfrm>
            <a:off x="5265720" y="6095880"/>
            <a:ext cx="12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Paso 3. Absor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7 CuadroTexto"/>
          <p:cNvSpPr/>
          <p:nvPr/>
        </p:nvSpPr>
        <p:spPr>
          <a:xfrm>
            <a:off x="2764440" y="3581280"/>
            <a:ext cx="1224360" cy="44028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 + ½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</a:t>
            </a:r>
            <a:r>
              <a:rPr b="1" lang="es-CL" sz="1000" spc="-1" strike="noStrike">
                <a:solidFill>
                  <a:srgbClr val="7f7f7f"/>
                </a:solidFill>
                <a:latin typeface="Symbol"/>
                <a:ea typeface="Symbol"/>
              </a:rPr>
              <a:t>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(sobre V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5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8 CuadroTexto"/>
          <p:cNvSpPr/>
          <p:nvPr/>
        </p:nvSpPr>
        <p:spPr>
          <a:xfrm>
            <a:off x="5140080" y="3505320"/>
            <a:ext cx="1346400" cy="26712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3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 + H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O </a:t>
            </a:r>
            <a:r>
              <a:rPr b="1" lang="es-CL" sz="1000" spc="-1" strike="noStrike">
                <a:solidFill>
                  <a:srgbClr val="7f7f7f"/>
                </a:solidFill>
                <a:latin typeface="Symbol"/>
                <a:ea typeface="Symbol"/>
              </a:rPr>
              <a:t>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H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9 CuadroTexto"/>
          <p:cNvSpPr/>
          <p:nvPr/>
        </p:nvSpPr>
        <p:spPr>
          <a:xfrm>
            <a:off x="4978080" y="274320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Horno fu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0 CuadroTexto"/>
          <p:cNvSpPr/>
          <p:nvPr/>
        </p:nvSpPr>
        <p:spPr>
          <a:xfrm>
            <a:off x="2885400" y="2724120"/>
            <a:ext cx="66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Filtr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1 CuadroTexto"/>
          <p:cNvSpPr/>
          <p:nvPr/>
        </p:nvSpPr>
        <p:spPr>
          <a:xfrm>
            <a:off x="3744000" y="2724120"/>
            <a:ext cx="6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Torre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sec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12 CuadroTexto"/>
          <p:cNvSpPr/>
          <p:nvPr/>
        </p:nvSpPr>
        <p:spPr>
          <a:xfrm>
            <a:off x="3045960" y="524016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 </a:t>
            </a: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Re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3 CuadroTexto"/>
          <p:cNvSpPr/>
          <p:nvPr/>
        </p:nvSpPr>
        <p:spPr>
          <a:xfrm>
            <a:off x="2190960" y="5257800"/>
            <a:ext cx="9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Enfriador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g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4 CuadroTexto"/>
          <p:cNvSpPr/>
          <p:nvPr/>
        </p:nvSpPr>
        <p:spPr>
          <a:xfrm>
            <a:off x="3693600" y="5105520"/>
            <a:ext cx="114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Intercambiad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de ca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5 CuadroTexto"/>
          <p:cNvSpPr/>
          <p:nvPr/>
        </p:nvSpPr>
        <p:spPr>
          <a:xfrm>
            <a:off x="4924800" y="5240160"/>
            <a:ext cx="79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Torre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absor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prim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6 CuadroTexto"/>
          <p:cNvSpPr/>
          <p:nvPr/>
        </p:nvSpPr>
        <p:spPr>
          <a:xfrm>
            <a:off x="6006600" y="5237280"/>
            <a:ext cx="83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Torre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absor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secund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7 CuadroTexto"/>
          <p:cNvSpPr/>
          <p:nvPr/>
        </p:nvSpPr>
        <p:spPr>
          <a:xfrm>
            <a:off x="5855040" y="2724120"/>
            <a:ext cx="83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Captur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g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lgunos Procesos Químicos</a:t>
            </a:r>
            <a:br>
              <a:rPr sz="6600"/>
            </a:br>
            <a:r>
              <a:rPr b="0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Producción de Convertidores Catalíticos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5" name="9 Imagen" descr="Dibujo.jpg"/>
          <p:cNvPicPr/>
          <p:nvPr/>
        </p:nvPicPr>
        <p:blipFill>
          <a:blip r:embed="rId1"/>
          <a:srcRect l="0" t="-2769" r="-1635" b="-4063"/>
          <a:stretch/>
        </p:blipFill>
        <p:spPr>
          <a:xfrm>
            <a:off x="1714680" y="1714680"/>
            <a:ext cx="5632200" cy="1682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etapa 2"/>
          <p:cNvPicPr/>
          <p:nvPr/>
        </p:nvPicPr>
        <p:blipFill>
          <a:blip r:embed="rId2"/>
          <a:srcRect l="0" t="-765" r="0" b="-3160"/>
          <a:stretch/>
        </p:blipFill>
        <p:spPr>
          <a:xfrm>
            <a:off x="127080" y="3643200"/>
            <a:ext cx="4802040" cy="3214800"/>
          </a:xfrm>
          <a:prstGeom prst="rect">
            <a:avLst/>
          </a:prstGeom>
          <a:ln w="0">
            <a:noFill/>
          </a:ln>
        </p:spPr>
      </p:pic>
      <p:pic>
        <p:nvPicPr>
          <p:cNvPr id="407" name="Imagen 42" descr="etapa 3"/>
          <p:cNvPicPr/>
          <p:nvPr/>
        </p:nvPicPr>
        <p:blipFill>
          <a:blip r:embed="rId3"/>
          <a:srcRect l="0" t="-2243" r="-1611" b="3624"/>
          <a:stretch/>
        </p:blipFill>
        <p:spPr>
          <a:xfrm>
            <a:off x="5226120" y="4214880"/>
            <a:ext cx="3703680" cy="1838160"/>
          </a:xfrm>
          <a:prstGeom prst="rect">
            <a:avLst/>
          </a:prstGeom>
          <a:ln w="0">
            <a:noFill/>
          </a:ln>
        </p:spPr>
      </p:pic>
      <p:sp>
        <p:nvSpPr>
          <p:cNvPr id="408" name="6 CuadroTexto"/>
          <p:cNvSpPr/>
          <p:nvPr/>
        </p:nvSpPr>
        <p:spPr>
          <a:xfrm>
            <a:off x="1581840" y="1500120"/>
            <a:ext cx="28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 u="sng">
                <a:solidFill>
                  <a:srgbClr val="000000"/>
                </a:solidFill>
                <a:uFillTx/>
                <a:latin typeface="Arial"/>
              </a:rPr>
              <a:t>Etapa 1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. Confección del monolito cerám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7 CuadroTexto"/>
          <p:cNvSpPr/>
          <p:nvPr/>
        </p:nvSpPr>
        <p:spPr>
          <a:xfrm>
            <a:off x="83520" y="3309840"/>
            <a:ext cx="392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 u="sng">
                <a:solidFill>
                  <a:srgbClr val="000000"/>
                </a:solidFill>
                <a:uFillTx/>
                <a:latin typeface="Arial"/>
              </a:rPr>
              <a:t>Etapa 2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. Recubrimiento del monolito con soporte cataliz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8 CuadroTexto"/>
          <p:cNvSpPr/>
          <p:nvPr/>
        </p:nvSpPr>
        <p:spPr>
          <a:xfrm>
            <a:off x="5176440" y="3809880"/>
            <a:ext cx="324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 u="sng">
                <a:solidFill>
                  <a:srgbClr val="000000"/>
                </a:solidFill>
                <a:uFillTx/>
                <a:latin typeface="Arial"/>
              </a:rPr>
              <a:t>Etapa 3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. Ensamble carcasa – monolito soporta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09:33Z</dcterms:created>
  <dc:creator>Meli</dc:creator>
  <dc:description/>
  <dc:language>en-US</dc:language>
  <cp:lastModifiedBy>FCFM</cp:lastModifiedBy>
  <dcterms:modified xsi:type="dcterms:W3CDTF">2009-08-03T22:34:50Z</dcterms:modified>
  <cp:revision>24</cp:revision>
  <dc:subject/>
  <dc:title>MOTIVACIÓN:  LA INDUSTRIA QUÍMICA</dc:title>
</cp:coreProperties>
</file>