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8A66-4A6D-49E1-8956-F07821CDE1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850-3F32-4557-9404-124665FE3A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C8E-95F1-4758-A577-52175E5D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CCE-416A-4FF5-9FA0-B3F12AF2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C6A-0F25-498F-B0F6-52AE1C9F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8AF-0F45-4339-86F8-800696FF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D31-FFED-4D25-8A39-0CE6CFA0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051-A086-40D6-B8B9-2077C4E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B20-C44F-449D-AE18-CC6B8F18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9FC-6EF8-4815-95DE-B7583E7E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7DB-5362-4E3F-8993-2577CE7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76C-857D-4317-977B-45517BB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0F7-58BC-440E-8E51-ABDD984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964-9A90-4DBA-98AD-03BA9F1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03BF-0C78-469C-8087-3BA021B5AD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29"/>
          <p:cNvSpPr/>
          <p:nvPr/>
        </p:nvSpPr>
        <p:spPr>
          <a:xfrm>
            <a:off x="6477120" y="5029200"/>
            <a:ext cx="1560240" cy="157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1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4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46"/>
          <p:cNvSpPr/>
          <p:nvPr/>
        </p:nvSpPr>
        <p:spPr>
          <a:xfrm>
            <a:off x="3746520" y="2527200"/>
            <a:ext cx="139680" cy="34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7"/>
          <p:cNvSpPr/>
          <p:nvPr/>
        </p:nvSpPr>
        <p:spPr>
          <a:xfrm>
            <a:off x="4000680" y="2527200"/>
            <a:ext cx="380880" cy="37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2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3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4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58"/>
          <p:cNvSpPr/>
          <p:nvPr/>
        </p:nvSpPr>
        <p:spPr>
          <a:xfrm>
            <a:off x="2743200" y="1600200"/>
            <a:ext cx="254160" cy="927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59"/>
          <p:cNvSpPr/>
          <p:nvPr/>
        </p:nvSpPr>
        <p:spPr>
          <a:xfrm>
            <a:off x="2819520" y="2895480"/>
            <a:ext cx="1778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62"/>
          <p:cNvSpPr/>
          <p:nvPr/>
        </p:nvSpPr>
        <p:spPr>
          <a:xfrm>
            <a:off x="2438280" y="1600200"/>
            <a:ext cx="330480" cy="205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4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5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6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7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8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0"/>
          <p:cNvSpPr/>
          <p:nvPr/>
        </p:nvSpPr>
        <p:spPr>
          <a:xfrm>
            <a:off x="4191120" y="1981080"/>
            <a:ext cx="8380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1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3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5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6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7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9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8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Rectangle 81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0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Text Box 82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4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5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6705720" y="152280"/>
            <a:ext cx="1560240" cy="157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 Box 8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Line 12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 Box 16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7"/>
          <p:cNvSpPr/>
          <p:nvPr/>
        </p:nvSpPr>
        <p:spPr>
          <a:xfrm>
            <a:off x="5562720" y="3733920"/>
            <a:ext cx="2361960" cy="167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8"/>
          <p:cNvSpPr/>
          <p:nvPr/>
        </p:nvSpPr>
        <p:spPr>
          <a:xfrm>
            <a:off x="5562720" y="3809880"/>
            <a:ext cx="236196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9"/>
          <p:cNvSpPr/>
          <p:nvPr/>
        </p:nvSpPr>
        <p:spPr>
          <a:xfrm>
            <a:off x="5562720" y="3733920"/>
            <a:ext cx="243828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Text Box 7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FCFM</cp:lastModifiedBy>
  <dcterms:modified xsi:type="dcterms:W3CDTF">2009-08-03T22:40:15Z</dcterms:modified>
  <cp:revision>9</cp:revision>
  <dc:subject/>
  <dc:title>Presentación de PowerPoint</dc:title>
</cp:coreProperties>
</file>