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48E-86BB-4950-8597-BB56B66A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028-8A5A-4097-9D9C-5C4EDF38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E5D-AE8C-4378-ADFC-052273F9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212-C670-4B5C-A725-0973EACD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7D31-AFF7-422E-AFA2-CE70CA08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A167-6FCD-4DC9-B050-B24F177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DA3-071D-4D70-8C0A-9E8A7A20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C179-51EE-4390-BC18-5A51C42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A077-8BBD-46C7-97E1-EC4C985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8E32-CC4A-448F-8868-3BDB45A2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49FB-D191-4AA2-8990-78D8A20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99D-CD38-4704-BCBD-B20B2190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174-94B5-426C-907E-96A7946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11FB-DB47-4D2D-B4A2-B358A15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564-CB41-4FF0-9523-08875D02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9D6-E60F-410B-9C3E-2E2334D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FA6-B270-4BEA-BD01-75FEA569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AD4-77E1-4CE0-8CD6-D2F2A87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FE1-705D-4E5F-90F8-AF1AB3D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856-9B7C-44BC-91B4-B16DB20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4AD-572B-4596-BD9C-941926F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5F0-DDB9-4E78-B82F-12156A8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772-77FC-412F-87F2-0BD9E0C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ADA-DA73-4FE4-92AD-0ED9645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1F5-435F-4C38-B745-EDADC0AE3A8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B82-941C-4F31-BAA0-B496D45D016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29120" y="5357880"/>
            <a:ext cx="40118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Q46B - Operaciones de Transfer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más V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 Auxilia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lanie Co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carcaza -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def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6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4797360"/>
            <a:ext cx="289080" cy="36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 rot="16200000">
            <a:off x="754920" y="4006080"/>
            <a:ext cx="288720" cy="287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7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256680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73228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6715080" y="492912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715080" y="4233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actor de corrección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AutoShape 11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9-08-12T16:47:17Z</dcterms:modified>
  <cp:revision>9</cp:revision>
  <dc:subject/>
  <dc:title>Diapositiva 1</dc:title>
</cp:coreProperties>
</file>