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08B-E79E-4371-A330-EC556A61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C48-1424-4A8D-8A9E-01254306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A84-8266-4291-839D-661C92D4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994-1C1A-49A6-B9EB-FF840D2F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BE2C-1405-496B-A0E9-0428354F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FDAA-C5A2-4C6F-B689-BDB2C0C1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042B-A74F-435F-B58B-EEC781AB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7264-9456-4A30-926D-398CE727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9C05-341F-4CB2-B7AE-87F0D3CB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4A55-6F77-425B-9105-E2F7CDE3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0BC0-CB78-4FDE-B16C-D74EDCF1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3C0-3336-4A0C-BA69-5F6E0F86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EC3B-2627-4D66-995C-C67450A7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D4B7-38DD-420D-AF4C-FAB5C180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320B-2CDB-4770-BB07-1224943C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49FE-7AF3-424F-A7B8-9889FC97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44DD-99A6-4C22-85AB-C76FFA14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9CD-24BB-4B36-A99D-36EEA09C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EB2-5216-4259-82BE-3A51442C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660-DF17-4A06-BD18-2628024F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729-BA2A-4F4B-B090-47315E17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AEC-AC21-4761-9751-26617ED6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BC6-2BB5-4149-A9DF-5DD836E4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90B-DA03-494E-8A3B-7D749C62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3EA6-7BE2-4C39-828E-6BBAE8CA058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BC7D-5682-489C-A5E5-34B5A14AE2D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29120" y="5357880"/>
            <a:ext cx="40118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Q46B - Operaciones de Transfer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ofesor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omás Var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ofesor Auxiliar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lanie Co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mestre Primaver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84360" y="1434960"/>
            <a:ext cx="7772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Intercambiadores de calor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carcaza - tub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iferencia Logarítmica de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def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2771640" y="1413000"/>
                <a:ext cx="244800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6"/>
          <p:cNvSpPr/>
          <p:nvPr/>
        </p:nvSpPr>
        <p:spPr>
          <a:xfrm>
            <a:off x="682560" y="3933720"/>
            <a:ext cx="4392720" cy="129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187280" y="357336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2560" y="357336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682560" y="523080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4211640" y="523080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82560" y="4581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114560" y="414972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1114560" y="429408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114560" y="443700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1114560" y="4799160"/>
            <a:ext cx="3384360" cy="7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1114560" y="494352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1114560" y="508644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1114560" y="400680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1114560" y="465444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114560" y="39337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4498920" y="39337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332000" y="3141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4356000" y="559116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H="1">
            <a:off x="682200" y="3933720"/>
            <a:ext cx="2890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>
            <a:off x="682200" y="5230800"/>
            <a:ext cx="2890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826920" y="5589360"/>
            <a:ext cx="0" cy="433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V="1">
            <a:off x="826920" y="3141720"/>
            <a:ext cx="0" cy="433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755640" y="4797360"/>
            <a:ext cx="289080" cy="3603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 rot="15684000">
            <a:off x="4534200" y="4402440"/>
            <a:ext cx="505080" cy="287640"/>
          </a:xfrm>
          <a:custGeom>
            <a:avLst/>
            <a:gdLst>
              <a:gd name="textAreaLeft" fmla="*/ 88200 w 505080"/>
              <a:gd name="textAreaRight" fmla="*/ 366120 w 50508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 rot="16200000">
            <a:off x="754920" y="4006080"/>
            <a:ext cx="288720" cy="28728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623160" y="60580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33cc"/>
                </a:solidFill>
                <a:latin typeface="Tahoma"/>
              </a:rPr>
              <a:t>c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552240" y="2698920"/>
            <a:ext cx="66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33cc"/>
                </a:solidFill>
                <a:latin typeface="Tahoma"/>
              </a:rPr>
              <a:t>c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1197360" y="2709720"/>
            <a:ext cx="58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ahoma"/>
              </a:rPr>
              <a:t>h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4077720" y="6058080"/>
            <a:ext cx="68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ahoma"/>
              </a:rPr>
              <a:t>h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6"/>
          <p:cNvSpPr/>
          <p:nvPr/>
        </p:nvSpPr>
        <p:spPr>
          <a:xfrm>
            <a:off x="250920" y="2638440"/>
            <a:ext cx="1800000" cy="57636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7"/>
          <p:cNvSpPr/>
          <p:nvPr/>
        </p:nvSpPr>
        <p:spPr>
          <a:xfrm>
            <a:off x="250920" y="5950080"/>
            <a:ext cx="4968720" cy="64764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 rot="1766400">
            <a:off x="2122560" y="2997360"/>
            <a:ext cx="433440" cy="2887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5289480" y="6094440"/>
            <a:ext cx="433440" cy="2887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2"/>
          <p:cNvSpPr/>
          <p:nvPr/>
        </p:nvSpPr>
        <p:spPr>
          <a:xfrm>
            <a:off x="2566800" y="3106800"/>
            <a:ext cx="5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cc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5732280" y="6058080"/>
            <a:ext cx="5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cc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4"/>
          <p:cNvSpPr/>
          <p:nvPr/>
        </p:nvSpPr>
        <p:spPr>
          <a:xfrm>
            <a:off x="6372360" y="2924280"/>
            <a:ext cx="360360" cy="3673440"/>
          </a:xfrm>
          <a:custGeom>
            <a:avLst/>
            <a:gdLst>
              <a:gd name="textAreaLeft" fmla="*/ 0 w 360360"/>
              <a:gd name="textAreaRight" fmla="*/ 12996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6715080" y="4929120"/>
            <a:ext cx="23176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=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h,in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715080" y="4233960"/>
            <a:ext cx="23176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=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h,out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actor de corrección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determina a partir de los gráficos con entr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00000" y="2693880"/>
                <a:ext cx="30798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925560" y="4229280"/>
                <a:ext cx="314172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5084640" y="3429000"/>
                <a:ext cx="3735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AutoShape 11"/>
          <p:cNvSpPr/>
          <p:nvPr/>
        </p:nvSpPr>
        <p:spPr>
          <a:xfrm>
            <a:off x="4427640" y="1555920"/>
            <a:ext cx="431640" cy="4321080"/>
          </a:xfrm>
          <a:custGeom>
            <a:avLst/>
            <a:gdLst>
              <a:gd name="textAreaLeft" fmla="*/ 0 w 431640"/>
              <a:gd name="textAreaRight" fmla="*/ 155880 w 431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9:07:39Z</dcterms:created>
  <dc:creator>Meli</dc:creator>
  <dc:description/>
  <dc:language>en-US</dc:language>
  <cp:lastModifiedBy>Meli</cp:lastModifiedBy>
  <dcterms:modified xsi:type="dcterms:W3CDTF">2009-08-12T16:47:17Z</dcterms:modified>
  <cp:revision>9</cp:revision>
  <dc:subject/>
  <dc:title>Diapositiva 1</dc:title>
</cp:coreProperties>
</file>