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1C7-3578-4444-AC9B-4E858B08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7E9-71B3-451A-B82C-C6E0DF3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694-110C-4C20-94F3-992299B6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C72-5187-47FF-8F51-56D09D36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FB8C-0CCF-4946-A102-C09BEC74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04D5-20EA-4916-A439-8735A0D2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1CEF-7489-4B32-B905-3C3EC1B8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925E-B91C-4D95-A4C7-B9C2C20E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96DD-3452-4624-87C3-9E5393B4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BD29-2016-49C4-A368-6807F7DA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095F-CE22-4744-9A54-DE9F7CB1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826-4302-469A-8163-8CDDAB53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8671-6D55-40A4-8A2A-AE7EA6D6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6E16-2330-4C6D-BBF9-0291E18A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1943-2370-4AD4-A989-DFB7408D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868F-AA57-4B74-9B74-2AB3315B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0EC1-60D3-4B26-B3E8-3028CD61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B45-D1B2-4ECD-9653-1838230C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6C7-DBAB-431F-8728-5AAF0ED9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824-1626-4833-BF9C-E180AB5F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E78-61F3-47EB-B3B4-6B2611ED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E31-BC55-4510-9C94-F0FA8314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529-E8BA-4B68-9665-F2441C00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9DB-EC90-4C55-9070-7DEA109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8C31-D93C-4D77-BEA3-5241B8B1918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8A83-8490-44DE-901D-CAA1273B932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29120" y="5357880"/>
            <a:ext cx="40118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Q46B - Operaciones de Transfer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fesor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Tomás Var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fesor Auxiliar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elanie Co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4360" y="143496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Intercambiadores de calor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carcaza - tub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iferencia Logarítmica de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 def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2771640" y="1413000"/>
                <a:ext cx="24480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6"/>
          <p:cNvSpPr/>
          <p:nvPr/>
        </p:nvSpPr>
        <p:spPr>
          <a:xfrm>
            <a:off x="682560" y="3933720"/>
            <a:ext cx="4392720" cy="129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18728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8256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8256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21164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82560" y="4581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114560" y="41497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1114560" y="429408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114560" y="44370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1114560" y="4799160"/>
            <a:ext cx="3384360" cy="7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114560" y="49435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1114560" y="5086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1114560" y="40068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1114560" y="4654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111456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1"/>
          <p:cNvSpPr/>
          <p:nvPr/>
        </p:nvSpPr>
        <p:spPr>
          <a:xfrm>
            <a:off x="449892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1332000" y="3141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4356000" y="559116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H="1">
            <a:off x="682200" y="393372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5"/>
          <p:cNvSpPr/>
          <p:nvPr/>
        </p:nvSpPr>
        <p:spPr>
          <a:xfrm flipH="1">
            <a:off x="682200" y="523080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826920" y="5589360"/>
            <a:ext cx="0" cy="433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 flipV="1">
            <a:off x="826920" y="3141720"/>
            <a:ext cx="0" cy="433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755640" y="4797360"/>
            <a:ext cx="289080" cy="3603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 rot="15684000">
            <a:off x="4534200" y="4402440"/>
            <a:ext cx="505080" cy="287640"/>
          </a:xfrm>
          <a:custGeom>
            <a:avLst/>
            <a:gdLst>
              <a:gd name="textAreaLeft" fmla="*/ 88200 w 505080"/>
              <a:gd name="textAreaRight" fmla="*/ 366120 w 50508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 rot="16200000">
            <a:off x="754920" y="4006080"/>
            <a:ext cx="288720" cy="2872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623160" y="60580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33cc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3"/>
          <p:cNvSpPr/>
          <p:nvPr/>
        </p:nvSpPr>
        <p:spPr>
          <a:xfrm>
            <a:off x="552240" y="2698920"/>
            <a:ext cx="66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33cc"/>
                </a:solidFill>
                <a:latin typeface="Tahoma"/>
              </a:rPr>
              <a:t>c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1197360" y="2709720"/>
            <a:ext cx="58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ahoma"/>
              </a:rPr>
              <a:t>h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5"/>
          <p:cNvSpPr/>
          <p:nvPr/>
        </p:nvSpPr>
        <p:spPr>
          <a:xfrm>
            <a:off x="4077720" y="6058080"/>
            <a:ext cx="68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ahoma"/>
              </a:rPr>
              <a:t>h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6"/>
          <p:cNvSpPr/>
          <p:nvPr/>
        </p:nvSpPr>
        <p:spPr>
          <a:xfrm>
            <a:off x="250920" y="2638440"/>
            <a:ext cx="1800000" cy="57636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7"/>
          <p:cNvSpPr/>
          <p:nvPr/>
        </p:nvSpPr>
        <p:spPr>
          <a:xfrm>
            <a:off x="250920" y="5950080"/>
            <a:ext cx="4968720" cy="64764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 rot="1766400">
            <a:off x="2122560" y="299736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5289480" y="609444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2566800" y="310680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5732280" y="605808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4"/>
          <p:cNvSpPr/>
          <p:nvPr/>
        </p:nvSpPr>
        <p:spPr>
          <a:xfrm>
            <a:off x="6372360" y="2924280"/>
            <a:ext cx="360360" cy="3673440"/>
          </a:xfrm>
          <a:custGeom>
            <a:avLst/>
            <a:gdLst>
              <a:gd name="textAreaLeft" fmla="*/ 0 w 360360"/>
              <a:gd name="textAreaRight" fmla="*/ 12996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6715080" y="492912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,i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715080" y="423396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,out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Factor de corrección </a:t>
            </a: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determina a partir de los gráficos con entr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900000" y="2693880"/>
                <a:ext cx="30798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925560" y="4229280"/>
                <a:ext cx="314172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5084640" y="3429000"/>
                <a:ext cx="373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AutoShape 11"/>
          <p:cNvSpPr/>
          <p:nvPr/>
        </p:nvSpPr>
        <p:spPr>
          <a:xfrm>
            <a:off x="4427640" y="1555920"/>
            <a:ext cx="431640" cy="4321080"/>
          </a:xfrm>
          <a:custGeom>
            <a:avLst/>
            <a:gdLst>
              <a:gd name="textAreaLeft" fmla="*/ 0 w 431640"/>
              <a:gd name="textAreaRight" fmla="*/ 155880 w 431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9:07:39Z</dcterms:created>
  <dc:creator>Meli</dc:creator>
  <dc:description/>
  <dc:language>en-US</dc:language>
  <cp:lastModifiedBy>Meli</cp:lastModifiedBy>
  <dcterms:modified xsi:type="dcterms:W3CDTF">2009-08-12T16:47:17Z</dcterms:modified>
  <cp:revision>9</cp:revision>
  <dc:subject/>
  <dc:title>Diapositiva 1</dc:title>
</cp:coreProperties>
</file>