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31A-C310-4461-AEB0-FD31BADA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B56-28B2-44C7-9AF4-8A995123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18B-65DD-409E-B2D9-7B344D2F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EF3-6D0B-400B-BE73-67A86F23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60E-7B44-4569-AFC6-F4E62B58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F86-F6A3-4675-BFC6-614D427C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089-D336-401E-8A47-88AB2636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896-231F-4DEC-98D9-D307EB5F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D4F-5603-45EA-9EF4-8833E1F5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555-2892-461C-90D3-8778EB5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4BF-643E-4DAA-925B-64617B6C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AAAD-A100-4364-A675-3271990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5428-8BF8-40EF-B09B-BC7B78830D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4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5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AutoShape 8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Text Box 9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4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Rectangle 17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9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Rectangle 22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1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Text Box 23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Text Box 4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Text Box 8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Text Box 10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Text Box 4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Text Box 7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Text Box 9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2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3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FCFM</cp:lastModifiedBy>
  <dcterms:modified xsi:type="dcterms:W3CDTF">2009-08-03T22:38:46Z</dcterms:modified>
  <cp:revision>9</cp:revision>
  <dc:subject/>
  <dc:title>Presentación de PowerPoint</dc:title>
</cp:coreProperties>
</file>