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376-F0C4-40F8-A661-BDC089AD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AF7-8091-45F0-9714-3A3E5B7E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C6F-928F-4674-8929-6DEB07BF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B8D-7047-4A8E-983B-AAEFD465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74D-FB10-426D-9C24-B9436C12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FCF-5666-4429-AD87-31118C76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1C7-751B-40A2-AF1B-9268EC54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C5B-5111-4379-84B7-9C4803DE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7C9-58C3-4FC2-8002-27549F04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022-E14D-462D-83D5-3456D210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337-023F-44BB-BCA7-6CF00F64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A9F-DF40-4852-8829-6F66AFB4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1F3C-5E8F-409D-9A91-A502613DBE28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26920" y="54936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971640" y="13413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44" name="Oval 9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0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12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4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5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6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7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8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9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0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1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2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3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4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25"/>
          <p:cNvSpPr/>
          <p:nvPr/>
        </p:nvSpPr>
        <p:spPr>
          <a:xfrm>
            <a:off x="4572000" y="333360"/>
            <a:ext cx="439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transferencia de calor a través de una pared cilíndrica de largo dL habíamos visto que el flujo de calor por unidad de área externa (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 está dado por la expre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4140360" y="3213000"/>
            <a:ext cx="460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 aquí el flujo de calor neto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9"/>
              <p:cNvSpPr txBox="1"/>
              <p:nvPr/>
            </p:nvSpPr>
            <p:spPr>
              <a:xfrm>
                <a:off x="4859280" y="1916280"/>
                <a:ext cx="31240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30"/>
              <p:cNvSpPr txBox="1"/>
              <p:nvPr/>
            </p:nvSpPr>
            <p:spPr>
              <a:xfrm>
                <a:off x="4284720" y="4437000"/>
                <a:ext cx="352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31"/>
          <p:cNvSpPr/>
          <p:nvPr/>
        </p:nvSpPr>
        <p:spPr>
          <a:xfrm>
            <a:off x="539640" y="4365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O CRITICO DE AISLANTE TERMICO EN CAÑ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4360" y="476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bie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2843280" y="189000"/>
                <a:ext cx="2992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6"/>
          <p:cNvSpPr/>
          <p:nvPr/>
        </p:nvSpPr>
        <p:spPr>
          <a:xfrm>
            <a:off x="684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2124000" y="1341360"/>
                <a:ext cx="1656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3995640" y="134136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1"/>
              <p:cNvSpPr txBox="1"/>
              <p:nvPr/>
            </p:nvSpPr>
            <p:spPr>
              <a:xfrm>
                <a:off x="5940360" y="1268280"/>
                <a:ext cx="1584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Text Box 12"/>
          <p:cNvSpPr/>
          <p:nvPr/>
        </p:nvSpPr>
        <p:spPr>
          <a:xfrm>
            <a:off x="395280" y="2133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calor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3"/>
              <p:cNvSpPr txBox="1"/>
              <p:nvPr/>
            </p:nvSpPr>
            <p:spPr>
              <a:xfrm>
                <a:off x="1476360" y="2852640"/>
                <a:ext cx="45277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14"/>
          <p:cNvSpPr/>
          <p:nvPr/>
        </p:nvSpPr>
        <p:spPr>
          <a:xfrm>
            <a:off x="1042920" y="4653000"/>
            <a:ext cx="7058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a expresión se puede ver mas claramente que si se aumenta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a resistencia por conducción en la pared aumenta y la resistencia por convección en la superficie externa 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95280" y="260280"/>
            <a:ext cx="7993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ndo el caso de un cilindro metálico de radio extern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rodeado por un aislante de radi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ver figura)  el calo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900000" y="1197000"/>
                <a:ext cx="3219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Group 15"/>
          <p:cNvGrpSpPr/>
          <p:nvPr/>
        </p:nvGrpSpPr>
        <p:grpSpPr>
          <a:xfrm>
            <a:off x="5796000" y="981000"/>
            <a:ext cx="3095640" cy="2808360"/>
            <a:chOff x="5796000" y="981000"/>
            <a:chExt cx="3095640" cy="2808360"/>
          </a:xfrm>
        </p:grpSpPr>
        <p:sp>
          <p:nvSpPr>
            <p:cNvPr id="78" name="Oval 7"/>
            <p:cNvSpPr/>
            <p:nvPr/>
          </p:nvSpPr>
          <p:spPr>
            <a:xfrm>
              <a:off x="5796000" y="981000"/>
              <a:ext cx="2810160" cy="28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"/>
            <p:cNvSpPr/>
            <p:nvPr/>
          </p:nvSpPr>
          <p:spPr>
            <a:xfrm>
              <a:off x="6372360" y="1628640"/>
              <a:ext cx="1657440" cy="158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"/>
            <p:cNvSpPr/>
            <p:nvPr/>
          </p:nvSpPr>
          <p:spPr>
            <a:xfrm>
              <a:off x="6659640" y="1917720"/>
              <a:ext cx="10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7164720" y="1773360"/>
              <a:ext cx="503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7164720" y="2349360"/>
              <a:ext cx="1079280" cy="9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7668000" y="2925720"/>
              <a:ext cx="12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4"/>
            <p:cNvSpPr/>
            <p:nvPr/>
          </p:nvSpPr>
          <p:spPr>
            <a:xfrm>
              <a:off x="7020000" y="1844640"/>
              <a:ext cx="86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6"/>
          <p:cNvSpPr/>
          <p:nvPr/>
        </p:nvSpPr>
        <p:spPr>
          <a:xfrm>
            <a:off x="395280" y="285264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el calor varía con el aumento de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5"/>
          <p:cNvGrpSpPr/>
          <p:nvPr/>
        </p:nvGrpSpPr>
        <p:grpSpPr>
          <a:xfrm>
            <a:off x="755640" y="3860280"/>
            <a:ext cx="4033800" cy="2782800"/>
            <a:chOff x="755640" y="3860280"/>
            <a:chExt cx="4033800" cy="2782800"/>
          </a:xfrm>
        </p:grpSpPr>
        <p:sp>
          <p:nvSpPr>
            <p:cNvPr id="87" name="Line 17"/>
            <p:cNvSpPr/>
            <p:nvPr/>
          </p:nvSpPr>
          <p:spPr>
            <a:xfrm flipV="1">
              <a:off x="1404720" y="38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1404720" y="616572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1908000" y="4641840"/>
              <a:ext cx="1584360" cy="658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2484360" y="465300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22"/>
            <p:cNvSpPr/>
            <p:nvPr/>
          </p:nvSpPr>
          <p:spPr>
            <a:xfrm>
              <a:off x="4068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755640" y="4076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4"/>
            <p:cNvSpPr/>
            <p:nvPr/>
          </p:nvSpPr>
          <p:spPr>
            <a:xfrm>
              <a:off x="2052360" y="623736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/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4:41:33Z</dcterms:created>
  <dc:creator> Tomas Vargas</dc:creator>
  <dc:description/>
  <dc:language>en-US</dc:language>
  <cp:lastModifiedBy>FCFM</cp:lastModifiedBy>
  <dcterms:modified xsi:type="dcterms:W3CDTF">2009-08-03T22:38:02Z</dcterms:modified>
  <cp:revision>7</cp:revision>
  <dc:subject/>
  <dc:title>Diapositiva 1</dc:title>
</cp:coreProperties>
</file>