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C01-2C46-4306-9E11-AB4C032D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893-C743-4235-8DD3-378B081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AE4-C6CF-4E0A-971B-B472D4C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D0B-BE82-4051-B94E-30492749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C06-8AA9-4B33-A41D-AE3541CD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E68-B40E-4CE7-A136-AA35A9A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570-0A27-4E83-8F6F-C6645C0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B64-6A6E-4D24-BD32-24A5B88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A05-B891-4A53-8CB1-59E55CD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849-BEDC-4058-951E-E7491A1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342-9DD4-43A2-B3BD-4BE919C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844-F161-4D42-8AEF-4121BA8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D2F-920D-4993-8FEB-5CE6CC858A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6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7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Oval 5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16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9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34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37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8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Oval 49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0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1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Oval 2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0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0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Object 1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9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Text Box 12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6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FCFM</cp:lastModifiedBy>
  <dcterms:modified xsi:type="dcterms:W3CDTF">2009-08-03T22:37:40Z</dcterms:modified>
  <cp:revision>13</cp:revision>
  <dc:subject/>
  <dc:title>Presentación de PowerPoint</dc:title>
</cp:coreProperties>
</file>