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C482-D4F8-466B-A375-8F96BFA5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C683-3186-4398-AC73-E60187DD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D64B-B7C1-48C9-8FD0-D29D2EAD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7CD7-856F-45C7-9257-202CEC49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DB6F-0540-4DFC-A0AF-3FC61E4F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BD4-8A93-41A5-8334-2DB965D2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8C09-41D6-4EE6-9D27-F4445109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5174-ACB8-42E3-93E5-4CC57E3F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F88-DC64-4E51-8FA2-EF4B2B6D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DDCB-5587-458A-94A3-2B85249C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082A-2319-494B-9F2E-B8F7C73B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641-EF74-4690-9676-9F4BDAEC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6188-0700-43F4-AF30-B0F88256D72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1247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404640" y="304920"/>
            <a:ext cx="6048720" cy="93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21:50:05Z</dcterms:created>
  <dc:creator>Ing Quimica</dc:creator>
  <dc:description/>
  <dc:language>en-US</dc:language>
  <cp:lastModifiedBy>FCFM</cp:lastModifiedBy>
  <dcterms:modified xsi:type="dcterms:W3CDTF">2009-08-03T22:36:59Z</dcterms:modified>
  <cp:revision>1</cp:revision>
  <dc:subject/>
  <dc:title>Presentación de PowerPoint</dc:title>
</cp:coreProperties>
</file>