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3AD-8E26-4C3E-9B0E-DCEDFBC4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A0B-C782-4DB5-871C-40B4B3D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D5D-1EE2-44D3-BD57-B27E0629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B77-F4F0-4D97-880A-53E462F2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256-7241-41DC-9C25-C36B4E4A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F30-BA75-4B7F-8566-57D8D3B7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1E80-6393-483E-BC84-8CFF4A81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1CB-78EB-4EC3-A938-4BD7CBD5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0B25-4BBB-4D4E-97DB-499BD5AD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FC8-BCAC-4787-B4C2-5083B419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AEB-89C2-49E1-BB53-391C799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B77-C845-4248-B90C-A6CF96A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7B80-4EA0-43B7-B988-3536B08E7F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FCFM</cp:lastModifiedBy>
  <dcterms:modified xsi:type="dcterms:W3CDTF">2009-08-03T22:36:59Z</dcterms:modified>
  <cp:revision>1</cp:revision>
  <dc:subject/>
  <dc:title>Presentación de PowerPoint</dc:title>
</cp:coreProperties>
</file>