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055-EBC0-4C95-B00B-BF16A4AE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0598-C67E-4500-BC63-FF413FED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A72-449D-43B4-A34B-8F96EFBE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F60-6A0B-438D-B6EC-93332B26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248-F01F-478B-900E-35720E3B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CDA9-61AA-4E85-A453-E6447A62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AFD-CBFF-4937-8E9E-4DC60FF1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307B-18A9-420E-AF16-484F2590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E8C-FA20-4515-930F-A9AC89D0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FEB-F956-4C1C-AB17-943AAD9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6FD-AAA9-4A7F-9E80-B58B322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34F-4F11-4B43-BE0B-E769E098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7C12-DDA6-4C16-BD93-C70BA17417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21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2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25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27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8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9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2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3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4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5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7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9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8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Line 40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1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2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Object 4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5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Line 6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3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4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Text Box 100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Text Box 6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Text Box 11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6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9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Text Box 12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FCFM</cp:lastModifiedBy>
  <dcterms:modified xsi:type="dcterms:W3CDTF">2009-08-03T22:36:37Z</dcterms:modified>
  <cp:revision>12</cp:revision>
  <dc:subject/>
  <dc:title>Presentación de PowerPoint</dc:title>
</cp:coreProperties>
</file>