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A15-98EC-4D67-B4AF-50E1C63E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92F-6B71-45DF-A5C1-EE8A80E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030-908A-4863-91ED-6091C162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A36-F167-4AF6-9D2C-4008AB9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DBA-EA19-4982-AA62-D0F09E7A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766-F197-4C59-B9BB-31CB0F5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FCC-A911-430B-8EF8-8412F75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1DD-F7AE-444B-ABC0-D339E73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F74-BF91-4902-AE91-5568C7A0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906-B272-41BC-B9DA-8A90477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386-923D-4865-B70D-2FD9D78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A1D-3CE3-4AB2-987E-7B891D61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52C-454F-4BF3-BB08-649572DDAA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2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5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7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8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Line 40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2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Object 4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Line 6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 Box 100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Text Box 6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6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FCFM</cp:lastModifiedBy>
  <dcterms:modified xsi:type="dcterms:W3CDTF">2009-08-03T22:36:37Z</dcterms:modified>
  <cp:revision>12</cp:revision>
  <dc:subject/>
  <dc:title>Presentación de PowerPoint</dc:title>
</cp:coreProperties>
</file>