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gif" ContentType="image/gif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0105-0AE6-4AB6-B2A6-6CBB6A8F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018-21BA-4981-905C-E9BBB55E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4830-78E5-42EF-B780-2BD556DE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EB5-16CF-4421-9942-D2019B2A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CCE4-2683-44C2-8CED-0089189B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3BA7-2671-402A-B201-2BE12CC5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C9E5-D06E-4BF6-A5F1-FA6DE75A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7083-71DD-4AC6-8A77-79188B4B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C4A9-B0A9-430C-85D5-5B10671D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5E5E-E33B-4F90-9EE7-F5E6FA72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7DDF-0632-4766-B39B-E28C44B4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2A6D-61D1-455B-9C43-F6047FE3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BB57-F53A-4810-8768-52B0A0C7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14A1-D32E-4FB2-9B9E-7AA1EA88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B2F6-D68E-4D70-92AC-28DF8DA0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F2CF-485F-41A8-B3A9-8F372D91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FBAA-3B62-44A5-9FF3-AA7BC28A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368DE-38F6-4F6E-9895-A7E91510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44532B-0757-4609-9107-076841F9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535FD-E0D2-418E-974F-856DF621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91A60-61CD-42AB-9CFE-BE113C7B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F5459-92EF-4C39-876A-53E442CC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5D3B-4744-4735-AB54-0338AB35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F0EB3-ECBD-47F0-B225-D1F9C7E2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2CD24-3258-4E9F-B1A2-5596AA55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F7589-601A-4AEA-848E-D9CF7366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37905B-CA10-43A9-A63F-27C7DBBB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9A31F-E723-44E4-8CB6-CDC03CFB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BA78E-DB7F-4560-9197-B7779F03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29B49-169F-441B-8ABA-550CFE36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E702AB-7B6E-4CE4-91F1-86E620E9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C91E5D-9295-4F7D-89A5-A84862F2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07AD08-B942-48A3-8F94-73D503B2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D583-C0E9-4214-9767-2E28994C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01A4AD-C646-4C28-AB2A-28E49BAA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401032-E62B-4B11-A6F8-5DDF7D05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1FFA69-EFB0-46C7-9203-0E18C95E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7F6533-2978-464E-8FC9-DB184BE4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4584B0-5AFB-46BB-BA76-0014E7B0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C28253-5D4B-49E8-80AF-C1325B94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957515-7E1C-4D51-B7D4-5EA4F09A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283EA4-2992-4633-9C35-964D080E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A5F73A-7A7B-42E9-88BE-47934E6C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2D0D08-D062-4948-9B8B-38AC8B38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8A78-D11B-44DD-B28C-D1F00465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BBD51F-BE92-41C2-8062-C1A300DD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B9796D-1EDA-40E4-9D2C-185D6A2C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8AC910-C018-4DB1-BA91-93630D9A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292A01-23C0-4ADC-8F56-E1B146AA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CF242C-F02D-4578-9E2F-24E9301A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2A235A-7C21-4FC7-830B-30B49949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A86EE5-E495-4AF8-BF02-5742E591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17DB60-7271-4C94-BE19-89874D9E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82D9D9-34DF-4CB2-A6D9-17175281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41E251-D4AC-49BA-8CB1-E858AF00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CF4E-97FA-499C-B82A-84AF92FB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81049D-806F-439C-A025-FA3B74EB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3331A-C196-4FA5-8BC1-EA32CDEF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5463A-9FCC-4E2E-8CC5-B8110DE8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B1596-C197-4814-8884-99430E21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F0554-C9ED-4AF5-8B00-0115C270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E57A9-E8CB-41D2-A8EE-0010FF96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FFED7-E7AF-4D31-99D9-B580A8F6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35F6B-1F85-4D6A-BEE5-8133E972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0ED97-C4AE-4537-9DF7-1EFA5505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2BF85-BB2B-4C91-8B0F-9F03A0BC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40A-FF88-4B3E-B137-62C0CF9E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CDC9C-DD97-428F-A294-E35D92D2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5BD7E-5A79-4059-8A05-62CD1DD8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6D01D-66E2-4E26-9DEB-7EC0999F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426ACB-39AC-4E0A-AC52-F1DAE44C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9B3E88-C62B-4A27-88E8-AF882631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514385-C2E4-47B1-A7AE-448E9678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EFE772-7A53-41F8-8A31-EC8173CB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040ABF-35F5-41B8-8A7D-4469E097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9F46BD-78E8-41BC-A9E9-CBAD398C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9993BA-4993-4DE8-9862-A715AFA6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819-B57D-415A-A7AF-AC1A9F59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F448F0-58A0-4FD3-AB86-699E1FD4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D786DC-7D8E-4D40-85A7-2FBE4DA0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02F41B-F79E-42BD-A822-45A72C96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524934-7706-4FEC-843F-2CCD2FFD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4CB9C1-2EA9-43F3-A175-18D8DF9C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51163-D9BB-40BB-8816-A7A96138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11EE4-27B0-4D91-8DE5-4ABB0EBF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A7B3E-71FF-4BC8-B21B-7F20F470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A14A9-26BF-4D37-AA88-DB22A2C1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7F60E-4F5A-45A2-9E31-0D8575DE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9543-ABD0-47F8-B7C1-9B51905F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34511-A450-40EB-A252-6DBA3710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8CC0E-04D9-40F3-A888-E4E5BC91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E5F54-7774-45F0-8C40-DC077AAB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C4E6F-757F-4059-BD6D-26E00993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AE554-1863-43D7-AC15-AA204E8B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09D17-85CB-4C98-AE2C-87E120C8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F26C5-4438-4E05-96FE-908FEDF2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A93E-183A-46A5-B169-FD8EB9C6A10F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79A1-4AAA-4B2E-BBFC-FBC6126190CB}" type="slidenum">
              <a:rPr b="1" lang="es-E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10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FE5F-C24D-4709-B2EE-B2ECD517B692}" type="slidenum"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1B95-50AF-4928-B4EB-10F21213D21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78FE-CB27-46DF-985A-446A9CFF274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45BF-0079-4898-8518-D9299F338E61}" type="slidenum">
              <a:rPr b="1" lang="es-E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12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D3DE-0A70-41EB-96C9-9E50504FE0F3}" type="slidenum"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775E-B09E-43E8-9351-CD61FB0807B4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43080" y="3143160"/>
            <a:ext cx="6696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UNIDAD 1: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TRANSFERENCIA DE CALOR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214720" y="49287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alibri"/>
              </a:rPr>
              <a:t>Cátedra Introductoria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5 CuadroTexto"/>
          <p:cNvSpPr/>
          <p:nvPr/>
        </p:nvSpPr>
        <p:spPr>
          <a:xfrm>
            <a:off x="149040" y="169920"/>
            <a:ext cx="378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IQ46B  - Operaciones de Transferencia 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2 Subtítulo"/>
          <p:cNvSpPr/>
          <p:nvPr/>
        </p:nvSpPr>
        <p:spPr>
          <a:xfrm>
            <a:off x="2514600" y="6029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feso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: Tomás Vargas Val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0"/>
          <p:cNvSpPr/>
          <p:nvPr/>
        </p:nvSpPr>
        <p:spPr>
          <a:xfrm>
            <a:off x="4229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4724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31"/>
          <p:cNvSpPr/>
          <p:nvPr/>
        </p:nvSpPr>
        <p:spPr>
          <a:xfrm>
            <a:off x="36100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37"/>
          <p:cNvSpPr/>
          <p:nvPr/>
        </p:nvSpPr>
        <p:spPr>
          <a:xfrm>
            <a:off x="355284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39"/>
          <p:cNvSpPr/>
          <p:nvPr/>
        </p:nvSpPr>
        <p:spPr>
          <a:xfrm>
            <a:off x="35002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952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canismos de Transferencia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30 CuadroTexto"/>
          <p:cNvSpPr/>
          <p:nvPr/>
        </p:nvSpPr>
        <p:spPr>
          <a:xfrm>
            <a:off x="262080" y="1714680"/>
            <a:ext cx="872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La transferencia de calor siempre se produce del sistema de temperatura más elevada h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el de temperatura más baj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- La transferencia de calor se detiene cuando ambos sistemas alcanzan la misma temperatu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31 Imagen" descr="olla.GIF"/>
          <p:cNvPicPr/>
          <p:nvPr/>
        </p:nvPicPr>
        <p:blipFill>
          <a:blip r:embed="rId1"/>
          <a:srcRect l="0" t="0" r="48867" b="4424"/>
          <a:stretch/>
        </p:blipFill>
        <p:spPr>
          <a:xfrm>
            <a:off x="1449360" y="3643200"/>
            <a:ext cx="2622600" cy="2714760"/>
          </a:xfrm>
          <a:prstGeom prst="rect">
            <a:avLst/>
          </a:prstGeom>
          <a:ln w="0">
            <a:noFill/>
          </a:ln>
        </p:spPr>
      </p:pic>
      <p:pic>
        <p:nvPicPr>
          <p:cNvPr id="362" name="32 Imagen" descr="plancha.gif"/>
          <p:cNvPicPr/>
          <p:nvPr/>
        </p:nvPicPr>
        <p:blipFill>
          <a:blip r:embed="rId2"/>
          <a:stretch/>
        </p:blipFill>
        <p:spPr>
          <a:xfrm>
            <a:off x="4405320" y="3500280"/>
            <a:ext cx="3095640" cy="2857680"/>
          </a:xfrm>
          <a:prstGeom prst="rect">
            <a:avLst/>
          </a:prstGeom>
          <a:ln w="0">
            <a:noFill/>
          </a:ln>
        </p:spPr>
      </p:pic>
      <p:sp>
        <p:nvSpPr>
          <p:cNvPr id="363" name="33 CuadroTexto"/>
          <p:cNvSpPr/>
          <p:nvPr/>
        </p:nvSpPr>
        <p:spPr>
          <a:xfrm>
            <a:off x="2434320" y="3071880"/>
            <a:ext cx="36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355d7e"/>
                </a:solidFill>
                <a:uFillTx/>
                <a:latin typeface="Arial"/>
                <a:ea typeface="Arial"/>
              </a:rPr>
              <a:t>Figura 1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.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Ejemplos de transferencia de c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canismos de Transferencia de Calor</a:t>
            </a:r>
            <a:br>
              <a:rPr sz="2400"/>
            </a:br>
            <a:r>
              <a:rPr b="1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Conducción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2 CuadroTexto"/>
          <p:cNvSpPr/>
          <p:nvPr/>
        </p:nvSpPr>
        <p:spPr>
          <a:xfrm>
            <a:off x="573120" y="1833480"/>
            <a:ext cx="8148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conducció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 es el mecanismo de transferencia de calor debido a la interacción entre partíc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adyacentes del medio. Tiene lugar preferencialmente en sólidos, ya que en líquidos y gases tiend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elacionarse con la convección, no estando asociada al desplazamiento de las partículas sino q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a su </a:t>
            </a:r>
            <a:r>
              <a:rPr b="0" i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colisió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3 Imagen" descr="conduccion.gif"/>
          <p:cNvPicPr/>
          <p:nvPr/>
        </p:nvPicPr>
        <p:blipFill>
          <a:blip r:embed="rId1"/>
          <a:srcRect l="-15758" t="-2374" r="-10481" b="-4894"/>
          <a:stretch/>
        </p:blipFill>
        <p:spPr>
          <a:xfrm>
            <a:off x="3571920" y="3429000"/>
            <a:ext cx="1714320" cy="3214800"/>
          </a:xfrm>
          <a:prstGeom prst="rect">
            <a:avLst/>
          </a:prstGeom>
          <a:ln w="0">
            <a:noFill/>
          </a:ln>
        </p:spPr>
      </p:pic>
      <p:sp>
        <p:nvSpPr>
          <p:cNvPr id="367" name="4 CuadroTexto"/>
          <p:cNvSpPr/>
          <p:nvPr/>
        </p:nvSpPr>
        <p:spPr>
          <a:xfrm>
            <a:off x="2593440" y="3071880"/>
            <a:ext cx="361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355d7e"/>
                </a:solidFill>
                <a:uFillTx/>
                <a:latin typeface="Arial"/>
                <a:ea typeface="Arial"/>
              </a:rPr>
              <a:t>Figura 2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.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 Conducción a través de un sól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canismos de Transferencia de Calor</a:t>
            </a:r>
            <a:br>
              <a:rPr sz="2400"/>
            </a:br>
            <a:r>
              <a:rPr b="1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Convección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3 CuadroTexto"/>
          <p:cNvSpPr/>
          <p:nvPr/>
        </p:nvSpPr>
        <p:spPr>
          <a:xfrm>
            <a:off x="614520" y="1833480"/>
            <a:ext cx="791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convecció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 es el modo en que se transfiere la energía entre una superficie sólida y el fl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adyacente (líquido o gas). Existe un movimiento macroscópico del fluido que mientras más ráp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mayor es la transferencia de calor por este mecan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4 Imagen" descr="conveccion.gif"/>
          <p:cNvPicPr/>
          <p:nvPr/>
        </p:nvPicPr>
        <p:blipFill>
          <a:blip r:embed="rId1"/>
          <a:stretch/>
        </p:blipFill>
        <p:spPr>
          <a:xfrm>
            <a:off x="2571840" y="3429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371" name="5 CuadroTexto"/>
          <p:cNvSpPr/>
          <p:nvPr/>
        </p:nvSpPr>
        <p:spPr>
          <a:xfrm>
            <a:off x="2467080" y="2978280"/>
            <a:ext cx="400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355d7e"/>
                </a:solidFill>
                <a:uFillTx/>
                <a:latin typeface="Arial"/>
                <a:ea typeface="Arial"/>
              </a:rPr>
              <a:t>Figura 3. 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Transferencia de calor por conv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canismos de Transferencia de Calor</a:t>
            </a:r>
            <a:br>
              <a:rPr sz="2400"/>
            </a:br>
            <a:r>
              <a:rPr b="1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Conducción – Convección 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2 CuadroTexto"/>
          <p:cNvSpPr/>
          <p:nvPr/>
        </p:nvSpPr>
        <p:spPr>
          <a:xfrm>
            <a:off x="316080" y="1785960"/>
            <a:ext cx="85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Nuestra vida cotidiana también se ve afectada por los fenómenos de transferencia de calor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3 Imagen" descr="mono.gif"/>
          <p:cNvPicPr/>
          <p:nvPr/>
        </p:nvPicPr>
        <p:blipFill>
          <a:blip r:embed="rId1"/>
          <a:stretch/>
        </p:blipFill>
        <p:spPr>
          <a:xfrm>
            <a:off x="1785960" y="2276640"/>
            <a:ext cx="5435640" cy="1652400"/>
          </a:xfrm>
          <a:prstGeom prst="rect">
            <a:avLst/>
          </a:prstGeom>
          <a:ln w="25560">
            <a:solidFill>
              <a:srgbClr val="bfd3e4"/>
            </a:solidFill>
            <a:miter/>
          </a:ln>
        </p:spPr>
      </p:pic>
      <p:sp>
        <p:nvSpPr>
          <p:cNvPr id="375" name="4 Flecha abajo"/>
          <p:cNvSpPr/>
          <p:nvPr/>
        </p:nvSpPr>
        <p:spPr>
          <a:xfrm>
            <a:off x="4286160" y="4000680"/>
            <a:ext cx="285840" cy="500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5 Imagen" descr="conduccion conveccion.gif"/>
          <p:cNvPicPr/>
          <p:nvPr/>
        </p:nvPicPr>
        <p:blipFill>
          <a:blip r:embed="rId2"/>
          <a:stretch/>
        </p:blipFill>
        <p:spPr>
          <a:xfrm>
            <a:off x="2286000" y="4572000"/>
            <a:ext cx="4334040" cy="2089080"/>
          </a:xfrm>
          <a:prstGeom prst="rect">
            <a:avLst/>
          </a:prstGeom>
          <a:ln w="25560">
            <a:solidFill>
              <a:srgbClr val="bfd3e4"/>
            </a:solidFill>
            <a:miter/>
          </a:ln>
        </p:spPr>
      </p:pic>
      <p:cxnSp>
        <p:nvCxnSpPr>
          <p:cNvPr id="377" name="7 Conector recto de flecha"/>
          <p:cNvCxnSpPr/>
          <p:nvPr/>
        </p:nvCxnSpPr>
        <p:spPr>
          <a:xfrm flipV="1">
            <a:off x="1857240" y="6071760"/>
            <a:ext cx="858240" cy="286560"/>
          </a:xfrm>
          <a:prstGeom prst="straightConnector1">
            <a:avLst/>
          </a:prstGeom>
          <a:ln w="25560">
            <a:solidFill>
              <a:srgbClr val="558bb8"/>
            </a:solidFill>
            <a:miter/>
            <a:tailEnd len="med" type="arrow" w="med"/>
          </a:ln>
        </p:spPr>
      </p:cxnSp>
      <p:sp>
        <p:nvSpPr>
          <p:cNvPr id="378" name="9 CuadroTexto"/>
          <p:cNvSpPr/>
          <p:nvPr/>
        </p:nvSpPr>
        <p:spPr>
          <a:xfrm>
            <a:off x="641880" y="623412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55d7e"/>
                </a:solidFill>
                <a:latin typeface="Arial"/>
                <a:ea typeface="Arial"/>
              </a:rPr>
              <a:t>con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10 Conector recto de flecha"/>
          <p:cNvCxnSpPr/>
          <p:nvPr/>
        </p:nvCxnSpPr>
        <p:spPr>
          <a:xfrm flipH="1">
            <a:off x="5428800" y="5428080"/>
            <a:ext cx="1572480" cy="143640"/>
          </a:xfrm>
          <a:prstGeom prst="straightConnector1">
            <a:avLst/>
          </a:prstGeom>
          <a:ln w="25560">
            <a:solidFill>
              <a:srgbClr val="558bb8"/>
            </a:solidFill>
            <a:miter/>
            <a:tailEnd len="med" type="arrow" w="med"/>
          </a:ln>
        </p:spPr>
      </p:cxnSp>
      <p:sp>
        <p:nvSpPr>
          <p:cNvPr id="380" name="14 CuadroTexto"/>
          <p:cNvSpPr/>
          <p:nvPr/>
        </p:nvSpPr>
        <p:spPr>
          <a:xfrm>
            <a:off x="7006320" y="523404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55d7e"/>
                </a:solidFill>
                <a:latin typeface="Arial"/>
                <a:ea typeface="Arial"/>
              </a:rPr>
              <a:t>conv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canismos de Transferencia de Calor</a:t>
            </a:r>
            <a:br>
              <a:rPr sz="2400"/>
            </a:br>
            <a:r>
              <a:rPr b="1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Radiación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2 CuadroTexto"/>
          <p:cNvSpPr/>
          <p:nvPr/>
        </p:nvSpPr>
        <p:spPr>
          <a:xfrm>
            <a:off x="577800" y="1833480"/>
            <a:ext cx="801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radiació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 es la energía emitida por la materia en forma de ondas electromagnéticas (o foton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como resultado de los cambios en las configuraciones electrónicas de los átomos o moléculas.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adiación térmica es la energía emitida por los cuerpos de acuerdo a su tempera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3 Imagen" descr="radiacion 1.gif"/>
          <p:cNvPicPr/>
          <p:nvPr/>
        </p:nvPicPr>
        <p:blipFill>
          <a:blip r:embed="rId1"/>
          <a:stretch/>
        </p:blipFill>
        <p:spPr>
          <a:xfrm>
            <a:off x="2452680" y="3071880"/>
            <a:ext cx="4262400" cy="3286080"/>
          </a:xfrm>
          <a:prstGeom prst="rect">
            <a:avLst/>
          </a:prstGeom>
          <a:ln w="0">
            <a:noFill/>
          </a:ln>
        </p:spPr>
      </p:pic>
      <p:sp>
        <p:nvSpPr>
          <p:cNvPr id="384" name="4 CuadroTexto"/>
          <p:cNvSpPr/>
          <p:nvPr/>
        </p:nvSpPr>
        <p:spPr>
          <a:xfrm>
            <a:off x="2594880" y="2906640"/>
            <a:ext cx="38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355d7e"/>
                </a:solidFill>
                <a:uFillTx/>
                <a:latin typeface="Arial"/>
                <a:ea typeface="Arial"/>
              </a:rPr>
              <a:t>Figura 4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.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 Radiación incidente sobre una pa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5 Rectángulo"/>
          <p:cNvSpPr/>
          <p:nvPr/>
        </p:nvSpPr>
        <p:spPr>
          <a:xfrm>
            <a:off x="4714920" y="5572080"/>
            <a:ext cx="228600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canismos de Transferencia de Calor</a:t>
            </a:r>
            <a:br>
              <a:rPr sz="2400"/>
            </a:br>
            <a:r>
              <a:rPr b="1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Los mecanismos en acción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2 CuadroTexto"/>
          <p:cNvSpPr/>
          <p:nvPr/>
        </p:nvSpPr>
        <p:spPr>
          <a:xfrm>
            <a:off x="402120" y="1832040"/>
            <a:ext cx="820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Diariamente todos los mecanismos de transferencia de calor están presentes en nues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entorn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3 Imagen" descr="todos.gif"/>
          <p:cNvPicPr/>
          <p:nvPr/>
        </p:nvPicPr>
        <p:blipFill>
          <a:blip r:embed="rId1"/>
          <a:stretch/>
        </p:blipFill>
        <p:spPr>
          <a:xfrm>
            <a:off x="2214720" y="3236760"/>
            <a:ext cx="4657680" cy="3000600"/>
          </a:xfrm>
          <a:prstGeom prst="rect">
            <a:avLst/>
          </a:prstGeom>
          <a:ln w="25560">
            <a:solidFill>
              <a:srgbClr val="bfd3e4"/>
            </a:solidFill>
            <a:miter/>
          </a:ln>
        </p:spPr>
      </p:pic>
      <p:sp>
        <p:nvSpPr>
          <p:cNvPr id="389" name="4 CuadroTexto"/>
          <p:cNvSpPr/>
          <p:nvPr/>
        </p:nvSpPr>
        <p:spPr>
          <a:xfrm>
            <a:off x="2446200" y="2714760"/>
            <a:ext cx="41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355d7e"/>
                </a:solidFill>
                <a:uFillTx/>
                <a:latin typeface="Arial"/>
                <a:ea typeface="Arial"/>
              </a:rPr>
              <a:t>Figura 5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.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 Todos los mecanismos de transfer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3:20:14Z</dcterms:created>
  <dc:creator>Tomás Vargas</dc:creator>
  <dc:description/>
  <dc:language>en-US</dc:language>
  <cp:lastModifiedBy>FCFM</cp:lastModifiedBy>
  <dcterms:modified xsi:type="dcterms:W3CDTF">2009-08-03T22:36:09Z</dcterms:modified>
  <cp:revision>26</cp:revision>
  <dc:subject/>
  <dc:title>Presentación de PowerPoint</dc:title>
</cp:coreProperties>
</file>