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7D8-70F7-4BDC-BF42-FE0C45D7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CA2-92C3-43DA-89FB-3E9F85BC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687-9F41-4B5E-8C30-9A3B7457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E9E-CA28-4252-8653-B6C0C729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E364-469A-4DB9-9829-9312405A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3445-9F0B-41DA-B916-8D6C2CF2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F078-DA75-46A1-A7F8-EA489B74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6672-B703-4FB0-95AD-B185AA65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47DD-7E32-48DE-ACCA-FE7A1611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DD0C-328C-4BDF-86F8-F5225A74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AFE6-A72E-4CEC-8868-8C83362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E3B-87CB-43C9-BC16-038DB3A7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FD5-673D-4EC9-854A-D568BD56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8A92-D671-41D2-A53F-DE4C498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3533-2FFF-4FC5-A165-0BC93844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9048-4DEF-4ED5-96D9-1C5808D2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7083-F12D-42A5-A9EE-21E17F2F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ACB5F-8EF4-4DD8-8AD9-2E0A5426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0CA70-2689-4BC5-A89A-4BF4A3CF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3116D-8C97-4D13-A14C-D452A7D7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EF5F4-08EE-42DC-A747-DBCDBB9E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921FC-7DCC-4220-8A83-ACA8CCE7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4BE-36DD-45E7-A701-1E9854DC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39959-7E20-406D-91A8-72CA6A3B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69E48-FE3E-4CAB-B8E0-0DC7DA8A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9B29A-1748-4B26-A60E-8AF3D31D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63E1A-44A5-41B3-B690-6A1D2BC4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3E2E2-4767-4C3B-85CC-8194A217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74E97-2896-4356-94F8-A2337797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C763C-AF2E-4DB4-B515-DFD17894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6676C-BC5F-463C-971A-C95C7A29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FE09C-7246-4D9B-A7B5-815D5A54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6BF9C-4C4D-4F4A-BC46-B3513F8C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193-7155-4046-8F04-08A72915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195E0-5030-4152-9224-F829E873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37E7E-875F-4B46-9313-21A07CB9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C83FE-57E8-4CDF-B804-6363DC87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A42C9-263C-4C3C-AC34-77F31CFC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02535-255C-4481-AE38-FA9367C4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A159F-0D82-4ACD-AD58-51E82000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C25D9-C53B-4846-A304-54F69513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EE126-6CC1-4F5A-AC36-D6FE5625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DF17A-593F-4B36-A922-B06FBE85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C3B06-7602-435A-8D1F-595F4584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0D1-6210-442D-A866-70DD95D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B5919-6152-4CED-98EC-518A00C5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8825E-C21C-4DE5-8F6D-8FC49FAF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4D50B-2DD0-48AE-9984-4930E44F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A8BF2-B8E1-4502-9144-41EDAEB6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95F9D-F802-44A0-A04F-78AD35C8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FCF4A-1955-4519-A40D-1F1F9571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6A778-19CA-4A54-AFD0-27EBA297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A2F54-CFAE-4F9E-A0EA-586651B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628FE-1028-4CE5-8159-971497C4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31C45-4B02-4376-8DCF-9DE31F90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AE8-9002-4B7B-8647-CC19B405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61712-B058-4111-BF8F-CDD224D6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C1A0-6E1F-4046-A8B4-F31226EA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E5D02-57B9-4CC2-96C3-D79F11B8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BAB21-C328-45C0-8EAA-69AA2FB8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C5925-8E24-4A5E-A9DE-879DECDC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29859-C692-4ADF-BD17-7101A277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B87C-F947-48C3-B1DC-D120AA04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0011F-136E-47F6-B12A-267F9AA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27B00-9809-4749-94D8-5FA9D1CD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93CEB-47AA-4946-A90B-2C073C26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8A9-56FC-4EB7-B514-3DDE3435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D379-4F41-4E10-9A04-026D15C6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83175-B06E-4B66-8AE4-F92614A6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7938-970B-4E4D-A63E-7C2363BF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FD659-3FA1-4AF4-B328-809647B6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5D770-F7D4-4A8D-850A-766F7E71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E703D-2046-45D0-BE23-0E1CD522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0CA82-F9CF-4847-8D9D-2334E482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82670-EE1D-45EF-A20D-2A6F1EE4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6C512-A7FE-402C-A7E2-C81734FB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1FAEC-4D29-40AA-9A4A-C6A7A5F6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AF7-1727-4379-8C3A-1244F27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0E78C-532E-41DC-91CE-72AEADA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5988E-6394-4427-87DB-1C7D763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F19D5-4DC1-49CF-8F69-D948AE01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92EB5F-8F93-426E-83C7-58358F4B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E21DE-50CE-444A-95E9-25B976EF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87C06-8D71-483D-BB38-51D0713C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08324-0E61-4506-970F-557349E2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80979-D857-452D-A49C-1B90DB2E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351F9-EBCE-4892-9129-546EDA66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551A9-D022-4A9A-ACF5-A9011F47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BC6-2D63-49BB-8B96-2AB89D43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4F71B-6316-49CB-8EA2-89109A0E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37CC7-6424-4D84-BF3C-7A185FAA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42965-EAF5-438B-A5DE-AC0E5119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C0E87-6763-465D-BE14-7827E88D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148E4-71EF-4BDC-87E2-083B9F48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F4144-01D9-4DB4-9817-87EBCEC9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7C768-9532-4431-A01D-9B1A915D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04D8-FDDC-49EF-8031-77DD6D15313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7723-6549-42BC-93C4-482C70B012A7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CD4-A7DC-4E61-9066-A499E4E95A80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09C9-433A-47CB-83EE-D7DB6B4D968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FC3-BA02-42D0-AAD8-88989959A10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F773-2293-4832-9C9B-957FF6C85E0A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0CAD-A78E-4F5C-82A9-C0FA5D5CCCD0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E1A8-4F35-4117-BA26-88F4CA1654A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214720" y="49287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Cátedra Introductori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5 CuadroTexto"/>
          <p:cNvSpPr/>
          <p:nvPr/>
        </p:nvSpPr>
        <p:spPr>
          <a:xfrm>
            <a:off x="14904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7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952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30 CuadroTexto"/>
          <p:cNvSpPr/>
          <p:nvPr/>
        </p:nvSpPr>
        <p:spPr>
          <a:xfrm>
            <a:off x="262080" y="1714680"/>
            <a:ext cx="872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La transferencia de calor siempre se produce del sistema de temperatura más elevada h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l de temperatura más baj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- La transferencia de calor se detiene cuando ambos sistemas alcanzan la misma temperat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31 Imagen" descr="olla.GIF"/>
          <p:cNvPicPr/>
          <p:nvPr/>
        </p:nvPicPr>
        <p:blipFill>
          <a:blip r:embed="rId1"/>
          <a:srcRect l="0" t="0" r="48867" b="4424"/>
          <a:stretch/>
        </p:blipFill>
        <p:spPr>
          <a:xfrm>
            <a:off x="1449360" y="3643200"/>
            <a:ext cx="2622600" cy="2714760"/>
          </a:xfrm>
          <a:prstGeom prst="rect">
            <a:avLst/>
          </a:prstGeom>
          <a:ln w="0">
            <a:noFill/>
          </a:ln>
        </p:spPr>
      </p:pic>
      <p:pic>
        <p:nvPicPr>
          <p:cNvPr id="362" name="32 Imagen" descr="plancha.gif"/>
          <p:cNvPicPr/>
          <p:nvPr/>
        </p:nvPicPr>
        <p:blipFill>
          <a:blip r:embed="rId2"/>
          <a:stretch/>
        </p:blipFill>
        <p:spPr>
          <a:xfrm>
            <a:off x="4405320" y="3500280"/>
            <a:ext cx="3095640" cy="2857680"/>
          </a:xfrm>
          <a:prstGeom prst="rect">
            <a:avLst/>
          </a:prstGeom>
          <a:ln w="0">
            <a:noFill/>
          </a:ln>
        </p:spPr>
      </p:pic>
      <p:sp>
        <p:nvSpPr>
          <p:cNvPr id="363" name="33 CuadroTexto"/>
          <p:cNvSpPr/>
          <p:nvPr/>
        </p:nvSpPr>
        <p:spPr>
          <a:xfrm>
            <a:off x="2434320" y="3071880"/>
            <a:ext cx="36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1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Ejemplos de transferenci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du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2 CuadroTexto"/>
          <p:cNvSpPr/>
          <p:nvPr/>
        </p:nvSpPr>
        <p:spPr>
          <a:xfrm>
            <a:off x="573120" y="1833480"/>
            <a:ext cx="814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conduc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el mecanismo de transferencia de calor debido a la interacción entre partíc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dyacentes del medio. Tiene lugar preferencialmente en sólidos, ya que en líquidos y gases tien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lacionarse con la convección, no estando asociada al desplazamiento de las partículas sino 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 su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olis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3 Imagen" descr="conduccion.gif"/>
          <p:cNvPicPr/>
          <p:nvPr/>
        </p:nvPicPr>
        <p:blipFill>
          <a:blip r:embed="rId1"/>
          <a:srcRect l="-15758" t="-2374" r="-10481" b="-4894"/>
          <a:stretch/>
        </p:blipFill>
        <p:spPr>
          <a:xfrm>
            <a:off x="3571920" y="3429000"/>
            <a:ext cx="1714320" cy="3214800"/>
          </a:xfrm>
          <a:prstGeom prst="rect">
            <a:avLst/>
          </a:prstGeom>
          <a:ln w="0">
            <a:noFill/>
          </a:ln>
        </p:spPr>
      </p:pic>
      <p:sp>
        <p:nvSpPr>
          <p:cNvPr id="367" name="4 CuadroTexto"/>
          <p:cNvSpPr/>
          <p:nvPr/>
        </p:nvSpPr>
        <p:spPr>
          <a:xfrm>
            <a:off x="2593440" y="307188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2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Conducción a través de un sól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ve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3 CuadroTexto"/>
          <p:cNvSpPr/>
          <p:nvPr/>
        </p:nvSpPr>
        <p:spPr>
          <a:xfrm>
            <a:off x="614520" y="1833480"/>
            <a:ext cx="791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convec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el modo en que se transfiere la energía entre una superficie sólida y el fl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dyacente (líquido o gas). Existe un movimiento macroscópico del fluido que mientras más ráp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ayor es la transferencia de calor por este mecan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4 Imagen" descr="conveccion.gif"/>
          <p:cNvPicPr/>
          <p:nvPr/>
        </p:nvPicPr>
        <p:blipFill>
          <a:blip r:embed="rId1"/>
          <a:stretch/>
        </p:blipFill>
        <p:spPr>
          <a:xfrm>
            <a:off x="257184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71" name="5 CuadroTexto"/>
          <p:cNvSpPr/>
          <p:nvPr/>
        </p:nvSpPr>
        <p:spPr>
          <a:xfrm>
            <a:off x="2467080" y="2978280"/>
            <a:ext cx="40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3. 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Transferencia de calor por conv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ducción – Convección 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2 CuadroTexto"/>
          <p:cNvSpPr/>
          <p:nvPr/>
        </p:nvSpPr>
        <p:spPr>
          <a:xfrm>
            <a:off x="316080" y="1785960"/>
            <a:ext cx="85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Nuestra vida cotidiana también se ve afectada por los fenómenos de transferencia de calor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3 Imagen" descr="mono.gif"/>
          <p:cNvPicPr/>
          <p:nvPr/>
        </p:nvPicPr>
        <p:blipFill>
          <a:blip r:embed="rId1"/>
          <a:stretch/>
        </p:blipFill>
        <p:spPr>
          <a:xfrm>
            <a:off x="1785960" y="2276640"/>
            <a:ext cx="5435640" cy="16524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sp>
        <p:nvSpPr>
          <p:cNvPr id="375" name="4 Flecha abajo"/>
          <p:cNvSpPr/>
          <p:nvPr/>
        </p:nvSpPr>
        <p:spPr>
          <a:xfrm>
            <a:off x="4286160" y="40006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5 Imagen" descr="conduccion conveccion.gif"/>
          <p:cNvPicPr/>
          <p:nvPr/>
        </p:nvPicPr>
        <p:blipFill>
          <a:blip r:embed="rId2"/>
          <a:stretch/>
        </p:blipFill>
        <p:spPr>
          <a:xfrm>
            <a:off x="2286000" y="4572000"/>
            <a:ext cx="4334040" cy="208908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cxnSp>
        <p:nvCxnSpPr>
          <p:cNvPr id="377" name="7 Conector recto de flecha"/>
          <p:cNvCxnSpPr/>
          <p:nvPr/>
        </p:nvCxnSpPr>
        <p:spPr>
          <a:xfrm flipV="1">
            <a:off x="1857240" y="6071760"/>
            <a:ext cx="858240" cy="286560"/>
          </a:xfrm>
          <a:prstGeom prst="straightConnector1">
            <a:avLst/>
          </a:prstGeom>
          <a:ln w="25560">
            <a:solidFill>
              <a:srgbClr val="558bb8"/>
            </a:solidFill>
            <a:miter/>
            <a:tailEnd len="med" type="arrow" w="med"/>
          </a:ln>
        </p:spPr>
      </p:cxnSp>
      <p:sp>
        <p:nvSpPr>
          <p:cNvPr id="378" name="9 CuadroTexto"/>
          <p:cNvSpPr/>
          <p:nvPr/>
        </p:nvSpPr>
        <p:spPr>
          <a:xfrm>
            <a:off x="641880" y="62341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  <a:ea typeface="Arial"/>
              </a:rPr>
              <a:t>con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10 Conector recto de flecha"/>
          <p:cNvCxnSpPr/>
          <p:nvPr/>
        </p:nvCxnSpPr>
        <p:spPr>
          <a:xfrm flipH="1">
            <a:off x="5428800" y="5428080"/>
            <a:ext cx="1572480" cy="143640"/>
          </a:xfrm>
          <a:prstGeom prst="straightConnector1">
            <a:avLst/>
          </a:prstGeom>
          <a:ln w="25560">
            <a:solidFill>
              <a:srgbClr val="558bb8"/>
            </a:solidFill>
            <a:miter/>
            <a:tailEnd len="med" type="arrow" w="med"/>
          </a:ln>
        </p:spPr>
      </p:cxnSp>
      <p:sp>
        <p:nvSpPr>
          <p:cNvPr id="380" name="14 CuadroTexto"/>
          <p:cNvSpPr/>
          <p:nvPr/>
        </p:nvSpPr>
        <p:spPr>
          <a:xfrm>
            <a:off x="7006320" y="523404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  <a:ea typeface="Arial"/>
              </a:rPr>
              <a:t>conv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Radia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2 CuadroTexto"/>
          <p:cNvSpPr/>
          <p:nvPr/>
        </p:nvSpPr>
        <p:spPr>
          <a:xfrm>
            <a:off x="577800" y="1833480"/>
            <a:ext cx="80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radi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la energía emitida por la materia en forma de ondas electromagnéticas (o fot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omo resultado de los cambios en las configuraciones electrónicas de los átomos o moléculas.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adiación térmica es la energía emitida por los cuerpos de acuerdo a su temper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3 Imagen" descr="radiacion 1.gif"/>
          <p:cNvPicPr/>
          <p:nvPr/>
        </p:nvPicPr>
        <p:blipFill>
          <a:blip r:embed="rId1"/>
          <a:stretch/>
        </p:blipFill>
        <p:spPr>
          <a:xfrm>
            <a:off x="2452680" y="3071880"/>
            <a:ext cx="4262400" cy="3286080"/>
          </a:xfrm>
          <a:prstGeom prst="rect">
            <a:avLst/>
          </a:prstGeom>
          <a:ln w="0">
            <a:noFill/>
          </a:ln>
        </p:spPr>
      </p:pic>
      <p:sp>
        <p:nvSpPr>
          <p:cNvPr id="384" name="4 CuadroTexto"/>
          <p:cNvSpPr/>
          <p:nvPr/>
        </p:nvSpPr>
        <p:spPr>
          <a:xfrm>
            <a:off x="2594880" y="2906640"/>
            <a:ext cx="38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4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Radiación incidente sobre una p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5 Rectángulo"/>
          <p:cNvSpPr/>
          <p:nvPr/>
        </p:nvSpPr>
        <p:spPr>
          <a:xfrm>
            <a:off x="4714920" y="5572080"/>
            <a:ext cx="2286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Los mecanismos en a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2 CuadroTexto"/>
          <p:cNvSpPr/>
          <p:nvPr/>
        </p:nvSpPr>
        <p:spPr>
          <a:xfrm>
            <a:off x="402120" y="1832040"/>
            <a:ext cx="820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iariamente todos los mecanismos de transferencia de calor están presentes en nues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ntorn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3 Imagen" descr="todos.gif"/>
          <p:cNvPicPr/>
          <p:nvPr/>
        </p:nvPicPr>
        <p:blipFill>
          <a:blip r:embed="rId1"/>
          <a:stretch/>
        </p:blipFill>
        <p:spPr>
          <a:xfrm>
            <a:off x="2214720" y="3236760"/>
            <a:ext cx="4657680" cy="30006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sp>
        <p:nvSpPr>
          <p:cNvPr id="389" name="4 CuadroTexto"/>
          <p:cNvSpPr/>
          <p:nvPr/>
        </p:nvSpPr>
        <p:spPr>
          <a:xfrm>
            <a:off x="2446200" y="27147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5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Todos los mecanismos de transf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</dc:creator>
  <dc:description/>
  <dc:language>en-US</dc:language>
  <cp:lastModifiedBy>FCFM</cp:lastModifiedBy>
  <dcterms:modified xsi:type="dcterms:W3CDTF">2009-08-03T22:36:09Z</dcterms:modified>
  <cp:revision>26</cp:revision>
  <dc:subject/>
  <dc:title>Presentación de PowerPoint</dc:title>
</cp:coreProperties>
</file>