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27B-639C-409C-AE6C-2F3C56DA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A8F-5DA4-4322-9FEC-B3188B64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49C-D6A1-47D9-9DF5-EAA0E3AC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CBA-6C7B-4A2E-84B5-9DF8A355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D050-8DF8-496E-BAB1-4F5F37F2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5A39-020E-48C1-950E-B371C4F3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4CDB-D3C5-46C2-A0EA-B30F630E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1A87-DA67-45CD-8BCB-AD820F58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2F86-F56D-4B06-9794-6A69081F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0273-2615-41DD-96F6-1CEAB40F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CA01-E96B-4877-8E87-5BA2563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B66-7763-41E2-8521-D273A16E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8BEF-FCE2-4E9C-9936-4F799A2F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1907-9B39-49FF-8B20-AE8342E2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7BB5-B4F9-497E-974A-7D06133A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47F5-5182-4422-AFF5-2F933B5A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4525-24CC-4A18-BB45-8626570A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C15F1-C4AC-4B25-9A72-09E614E8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0F7F0-1AFB-466B-8C67-B064FA3C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76FD6-F016-4BDF-B202-1201D50E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4E054-FA1F-4DCE-97CE-E872E72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463BD-3326-4ECE-A3BD-D4B1E3EC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A8B-E202-4614-972B-ECEFCDBA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3FDCA-C7CE-4B55-BAA0-43AC0EA4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A5F3C-EDC3-49EB-9DD7-F814F41F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B6926-F073-4B90-B02A-32A5D45E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43CE3-07D2-44BA-AA6F-1214D24D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996CA-52FA-4FF2-9CF9-19B2C0FC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52BAD-D866-4E77-9130-24E50A85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727AF-3679-4F46-A79F-F84F4220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B0227-393B-4089-86A0-7FCF4850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C9CF35-B259-4A01-80D1-3ACA1EB3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54253A-D5E2-4740-B3CF-9C1FD78E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9BF-AB52-4BA5-A3A2-155254CA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DF111-4A79-4409-BD03-2B0C73F5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103C3-389C-40EF-9539-BB6D8140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BDDF3-DE28-4778-9C4F-9512D5B0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89FF0D-F044-4322-B6E1-6112EF1B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8DB88-556A-4EB3-A4A0-0853A57D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CF4CC-6A27-461B-BA6A-731486EA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0B76B-3AE4-454A-B1FD-2091D9EF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3D959-9D93-461A-8C62-00E823E5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B7A54-5BED-4F8C-8FFA-58690562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21161-A150-40CB-A3B8-485CCEBB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66C-240C-40C2-81B3-BC073C0B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00768-1C56-4915-8D51-9CECE621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14E8F-57A4-4BD2-9EA8-4D99EEFE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C1EEF-8621-40F7-B923-8FCD1C1C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9B817-66CF-4F35-A078-FD8DF8C2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E84F9-0E9F-4832-ADC7-5DF4CC5E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033E4-BE1B-443A-B379-F7AA1372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7561F-CF23-4627-BC60-742D1A94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68D39-56E0-4A05-89AF-D114EAFC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AD3882-DB3D-4707-839A-507989B7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FF241-6D65-4008-B092-17DFB66B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599-D784-4F7B-A7B6-F1E39988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B6483-6519-4DEC-9704-56CB037F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8885B-47B7-45FF-9876-7CC0AAF0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003C1-116B-4882-A803-D2BEF025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FA674-813A-423B-BC6F-489F383F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197A9-40C6-4DF7-85A3-A793333C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B9934-3C5F-47BD-B4F5-ACF1B106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D42B4-E371-4664-B6F6-86B1C7D6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7214F-A331-48C1-A415-EBFB50C6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5E2E7-E557-4D9C-88A2-9BE3592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25066-D46F-4973-A71E-14E58D2D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B88-162F-4F45-B2B3-85E8E7EF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FADC3-1487-4799-9683-70859A53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7BDCF-15FA-4EA2-A7FD-BC585D18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7289B-81F9-457E-B1C3-7DE229A9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6990D-D470-47E3-8548-E2ABDE99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682B5-20D3-4BAB-84B1-3E8BAEF7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DAAD4-DA1A-4E80-8D08-C30BD0E4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F7459-F356-4C19-B757-C2E128A1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92160-5EB8-456C-BF5D-937D0896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6564E-4430-46E9-B8D7-4721315B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BBD0C-8EB8-42EA-9C64-5421E1F2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1A4-6504-4A36-B583-28A0DA1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FE903-3468-4595-BD98-0746216B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EDF1B4-0489-493E-9232-011AC2D3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6A4E6-2DDF-4837-9371-28144902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1DE78-E0BC-4315-A14E-844D29A7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C0993-4B9C-466C-A3DB-F0D8044D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0CFCD-4276-460A-9BE4-E4854147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E478B-9F0D-4AF6-8006-9DA3E56C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16325-EA9E-46F6-952E-166F7266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D103D-A31C-4F34-ABC6-6F448343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D9820-51A8-43FE-91C2-B976CEAE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DB4-3D08-4D4F-877F-F9098CDC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7D62A-6AB9-45AF-A9EA-9F1B9F6E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0026B-D1F8-4329-A519-47810669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C7C0F-45DB-4697-904C-CBD9544C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291CB-7CCD-498D-8BF4-C32C026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615A9-D17F-494D-BD73-50923715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3F3FA-7F31-4A76-95C6-131C475D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96BDA-6D03-4E91-A3FE-43360E04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65DE-10B5-4535-9BC2-3650595FD24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05F9-93B3-4CD6-A8CA-1E10A02D4C0D}" type="slidenum">
              <a:rPr b="1" lang="es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041A-2C37-465C-A615-02FDA43EE19C}" type="slidenum"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83FC-FC54-4E44-9D2D-B27A46EEAD6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F015-6A25-4072-B961-78D1D982191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518A-9946-4626-9A24-D6A942FEE90B}" type="slidenum">
              <a:rPr b="1" lang="es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16D0-95E9-412A-851F-FECDAA8F21C6}" type="slidenum"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F7BB-5CE9-456F-9498-F9C2832D337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214720" y="49287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Cátedra Introductoria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5 CuadroTexto"/>
          <p:cNvSpPr/>
          <p:nvPr/>
        </p:nvSpPr>
        <p:spPr>
          <a:xfrm>
            <a:off x="14904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37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9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952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30 CuadroTexto"/>
          <p:cNvSpPr/>
          <p:nvPr/>
        </p:nvSpPr>
        <p:spPr>
          <a:xfrm>
            <a:off x="262080" y="1714680"/>
            <a:ext cx="872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La transferencia de calor siempre se produce del sistema de temperatura más elevada h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l de temperatura más baj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- La transferencia de calor se detiene cuando ambos sistemas alcanzan la misma temperat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31 Imagen" descr="olla.GIF"/>
          <p:cNvPicPr/>
          <p:nvPr/>
        </p:nvPicPr>
        <p:blipFill>
          <a:blip r:embed="rId1"/>
          <a:srcRect l="0" t="0" r="48867" b="4424"/>
          <a:stretch/>
        </p:blipFill>
        <p:spPr>
          <a:xfrm>
            <a:off x="1449360" y="3643200"/>
            <a:ext cx="2622600" cy="2714760"/>
          </a:xfrm>
          <a:prstGeom prst="rect">
            <a:avLst/>
          </a:prstGeom>
          <a:ln w="0">
            <a:noFill/>
          </a:ln>
        </p:spPr>
      </p:pic>
      <p:pic>
        <p:nvPicPr>
          <p:cNvPr id="362" name="32 Imagen" descr="plancha.gif"/>
          <p:cNvPicPr/>
          <p:nvPr/>
        </p:nvPicPr>
        <p:blipFill>
          <a:blip r:embed="rId2"/>
          <a:stretch/>
        </p:blipFill>
        <p:spPr>
          <a:xfrm>
            <a:off x="4405320" y="3500280"/>
            <a:ext cx="3095640" cy="2857680"/>
          </a:xfrm>
          <a:prstGeom prst="rect">
            <a:avLst/>
          </a:prstGeom>
          <a:ln w="0">
            <a:noFill/>
          </a:ln>
        </p:spPr>
      </p:pic>
      <p:sp>
        <p:nvSpPr>
          <p:cNvPr id="363" name="33 CuadroTexto"/>
          <p:cNvSpPr/>
          <p:nvPr/>
        </p:nvSpPr>
        <p:spPr>
          <a:xfrm>
            <a:off x="2434320" y="3071880"/>
            <a:ext cx="36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1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Ejemplos de transferencia de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du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2 CuadroTexto"/>
          <p:cNvSpPr/>
          <p:nvPr/>
        </p:nvSpPr>
        <p:spPr>
          <a:xfrm>
            <a:off x="573120" y="1833480"/>
            <a:ext cx="8148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conduc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el mecanismo de transferencia de calor debido a la interacción entre partíc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dyacentes del medio. Tiene lugar preferencialmente en sólidos, ya que en líquidos y gases tien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elacionarse con la convección, no estando asociada al desplazamiento de las partículas sino 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 su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colis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3 Imagen" descr="conduccion.gif"/>
          <p:cNvPicPr/>
          <p:nvPr/>
        </p:nvPicPr>
        <p:blipFill>
          <a:blip r:embed="rId1"/>
          <a:srcRect l="-15758" t="-2374" r="-10481" b="-4894"/>
          <a:stretch/>
        </p:blipFill>
        <p:spPr>
          <a:xfrm>
            <a:off x="3571920" y="3429000"/>
            <a:ext cx="1714320" cy="3214800"/>
          </a:xfrm>
          <a:prstGeom prst="rect">
            <a:avLst/>
          </a:prstGeom>
          <a:ln w="0">
            <a:noFill/>
          </a:ln>
        </p:spPr>
      </p:pic>
      <p:sp>
        <p:nvSpPr>
          <p:cNvPr id="367" name="4 CuadroTexto"/>
          <p:cNvSpPr/>
          <p:nvPr/>
        </p:nvSpPr>
        <p:spPr>
          <a:xfrm>
            <a:off x="2593440" y="307188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2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Conducción a través de un sól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ve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3 CuadroTexto"/>
          <p:cNvSpPr/>
          <p:nvPr/>
        </p:nvSpPr>
        <p:spPr>
          <a:xfrm>
            <a:off x="614520" y="1833480"/>
            <a:ext cx="791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convec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el modo en que se transfiere la energía entre una superficie sólida y el fl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dyacente (líquido o gas). Existe un movimiento macroscópico del fluido que mientras más ráp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ayor es la transferencia de calor por este mecan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4 Imagen" descr="conveccion.gif"/>
          <p:cNvPicPr/>
          <p:nvPr/>
        </p:nvPicPr>
        <p:blipFill>
          <a:blip r:embed="rId1"/>
          <a:stretch/>
        </p:blipFill>
        <p:spPr>
          <a:xfrm>
            <a:off x="2571840" y="3429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371" name="5 CuadroTexto"/>
          <p:cNvSpPr/>
          <p:nvPr/>
        </p:nvSpPr>
        <p:spPr>
          <a:xfrm>
            <a:off x="2467080" y="2978280"/>
            <a:ext cx="40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3. 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Transferencia de calor por conv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ducción – Convección 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2 CuadroTexto"/>
          <p:cNvSpPr/>
          <p:nvPr/>
        </p:nvSpPr>
        <p:spPr>
          <a:xfrm>
            <a:off x="316080" y="1785960"/>
            <a:ext cx="85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Nuestra vida cotidiana también se ve afectada por los fenómenos de transferencia de calor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3 Imagen" descr="mono.gif"/>
          <p:cNvPicPr/>
          <p:nvPr/>
        </p:nvPicPr>
        <p:blipFill>
          <a:blip r:embed="rId1"/>
          <a:stretch/>
        </p:blipFill>
        <p:spPr>
          <a:xfrm>
            <a:off x="1785960" y="2276640"/>
            <a:ext cx="5435640" cy="16524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sp>
        <p:nvSpPr>
          <p:cNvPr id="375" name="4 Flecha abajo"/>
          <p:cNvSpPr/>
          <p:nvPr/>
        </p:nvSpPr>
        <p:spPr>
          <a:xfrm>
            <a:off x="4286160" y="40006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5 Imagen" descr="conduccion conveccion.gif"/>
          <p:cNvPicPr/>
          <p:nvPr/>
        </p:nvPicPr>
        <p:blipFill>
          <a:blip r:embed="rId2"/>
          <a:stretch/>
        </p:blipFill>
        <p:spPr>
          <a:xfrm>
            <a:off x="2286000" y="4572000"/>
            <a:ext cx="4334040" cy="208908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cxnSp>
        <p:nvCxnSpPr>
          <p:cNvPr id="377" name="7 Conector recto de flecha"/>
          <p:cNvCxnSpPr/>
          <p:nvPr/>
        </p:nvCxnSpPr>
        <p:spPr>
          <a:xfrm flipV="1">
            <a:off x="1857240" y="6071760"/>
            <a:ext cx="858240" cy="286560"/>
          </a:xfrm>
          <a:prstGeom prst="straightConnector1">
            <a:avLst/>
          </a:prstGeom>
          <a:ln w="25560">
            <a:solidFill>
              <a:srgbClr val="558bb8"/>
            </a:solidFill>
            <a:miter/>
            <a:tailEnd len="med" type="arrow" w="med"/>
          </a:ln>
        </p:spPr>
      </p:cxnSp>
      <p:sp>
        <p:nvSpPr>
          <p:cNvPr id="378" name="9 CuadroTexto"/>
          <p:cNvSpPr/>
          <p:nvPr/>
        </p:nvSpPr>
        <p:spPr>
          <a:xfrm>
            <a:off x="641880" y="62341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  <a:ea typeface="Arial"/>
              </a:rPr>
              <a:t>con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10 Conector recto de flecha"/>
          <p:cNvCxnSpPr/>
          <p:nvPr/>
        </p:nvCxnSpPr>
        <p:spPr>
          <a:xfrm flipH="1">
            <a:off x="5428800" y="5428080"/>
            <a:ext cx="1572480" cy="143640"/>
          </a:xfrm>
          <a:prstGeom prst="straightConnector1">
            <a:avLst/>
          </a:prstGeom>
          <a:ln w="25560">
            <a:solidFill>
              <a:srgbClr val="558bb8"/>
            </a:solidFill>
            <a:miter/>
            <a:tailEnd len="med" type="arrow" w="med"/>
          </a:ln>
        </p:spPr>
      </p:cxnSp>
      <p:sp>
        <p:nvSpPr>
          <p:cNvPr id="380" name="14 CuadroTexto"/>
          <p:cNvSpPr/>
          <p:nvPr/>
        </p:nvSpPr>
        <p:spPr>
          <a:xfrm>
            <a:off x="7006320" y="523404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  <a:ea typeface="Arial"/>
              </a:rPr>
              <a:t>conv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Radia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2 CuadroTexto"/>
          <p:cNvSpPr/>
          <p:nvPr/>
        </p:nvSpPr>
        <p:spPr>
          <a:xfrm>
            <a:off x="577800" y="1833480"/>
            <a:ext cx="80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radi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la energía emitida por la materia en forma de ondas electromagnéticas (o foto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como resultado de los cambios en las configuraciones electrónicas de los átomos o moléculas.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adiación térmica es la energía emitida por los cuerpos de acuerdo a su temper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3 Imagen" descr="radiacion 1.gif"/>
          <p:cNvPicPr/>
          <p:nvPr/>
        </p:nvPicPr>
        <p:blipFill>
          <a:blip r:embed="rId1"/>
          <a:stretch/>
        </p:blipFill>
        <p:spPr>
          <a:xfrm>
            <a:off x="2452680" y="3071880"/>
            <a:ext cx="4262400" cy="3286080"/>
          </a:xfrm>
          <a:prstGeom prst="rect">
            <a:avLst/>
          </a:prstGeom>
          <a:ln w="0">
            <a:noFill/>
          </a:ln>
        </p:spPr>
      </p:pic>
      <p:sp>
        <p:nvSpPr>
          <p:cNvPr id="384" name="4 CuadroTexto"/>
          <p:cNvSpPr/>
          <p:nvPr/>
        </p:nvSpPr>
        <p:spPr>
          <a:xfrm>
            <a:off x="2594880" y="2906640"/>
            <a:ext cx="38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4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Radiación incidente sobre una p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5 Rectángulo"/>
          <p:cNvSpPr/>
          <p:nvPr/>
        </p:nvSpPr>
        <p:spPr>
          <a:xfrm>
            <a:off x="4714920" y="5572080"/>
            <a:ext cx="22860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Los mecanismos en a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2 CuadroTexto"/>
          <p:cNvSpPr/>
          <p:nvPr/>
        </p:nvSpPr>
        <p:spPr>
          <a:xfrm>
            <a:off x="402120" y="1832040"/>
            <a:ext cx="820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iariamente todos los mecanismos de transferencia de calor están presentes en nues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ntorn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3 Imagen" descr="todos.gif"/>
          <p:cNvPicPr/>
          <p:nvPr/>
        </p:nvPicPr>
        <p:blipFill>
          <a:blip r:embed="rId1"/>
          <a:stretch/>
        </p:blipFill>
        <p:spPr>
          <a:xfrm>
            <a:off x="2214720" y="3236760"/>
            <a:ext cx="4657680" cy="30006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sp>
        <p:nvSpPr>
          <p:cNvPr id="389" name="4 CuadroTexto"/>
          <p:cNvSpPr/>
          <p:nvPr/>
        </p:nvSpPr>
        <p:spPr>
          <a:xfrm>
            <a:off x="2446200" y="27147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5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Todos los mecanismos de transfe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</dc:creator>
  <dc:description/>
  <dc:language>en-US</dc:language>
  <cp:lastModifiedBy>FCFM</cp:lastModifiedBy>
  <dcterms:modified xsi:type="dcterms:W3CDTF">2009-08-03T22:36:09Z</dcterms:modified>
  <cp:revision>26</cp:revision>
  <dc:subject/>
  <dc:title>Presentación de PowerPoint</dc:title>
</cp:coreProperties>
</file>