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7EA-02B2-4213-B72A-D6880809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6E5-5BEF-4295-8AE1-EA5235D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164-5FFB-4F8E-B05F-48F75DC4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258-EA1F-4A59-AA4F-ACF2E380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8D68-C591-44F3-8279-0D874274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BE22-8401-458A-9CD5-E4473A8A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0FD2-8418-43A0-95EB-06D384B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6224-D3C4-4259-9C51-400FA9E9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873E-CB83-450B-BE40-D546E0D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3AAD-195B-47FD-ADD7-9109F004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A365-0D48-47A1-AF56-F23E77C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508-D33E-459A-ADE4-82933452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F957-B7B0-4142-9C7A-ED4BAECE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E7F-91A3-416E-8266-E69B7F5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DFAB-DF53-49F6-A90E-6D31949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CD12-9760-42A0-8B3C-3C0CDCD9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86C8-2CC8-4124-AF11-1F9FEC33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D8ED5-70ED-4A1F-805D-382B6967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043B6-400B-4398-AE87-A803D63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58FC0-CCD8-4EB2-86A2-F9BFC83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2691B-7D41-445F-A801-9736C371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15F77-5B11-4D85-B2C5-6775386E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599-D698-419D-A5C2-F2E5025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044E5-32D7-4591-BE9D-43958DFB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97C5-74C0-4C41-AF45-87706E4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E54C9-C5DC-481E-AFCD-8B5DEFF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E8C17-947D-46C9-A8C5-81E2CD75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3048B-9A44-4D3F-A081-FFAF4952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7DECD-5275-4B70-9BAF-5EEDD529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0B0E4-426C-4019-9F9F-55F5BDA9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99AD7-79F4-4D0D-9CDE-498774E6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070C3-3093-4C5A-B2C2-E307F53D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92585C-485C-4F9D-BE23-6F88CB51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64E-531D-450E-A26F-641DCDC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9AEE3-11A7-4889-A8F5-BE130A32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57F19-211F-4E98-92D0-47A8F7E8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9C58E-228D-42B9-B245-5DF2369A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98685-A7E6-4C6C-BA20-3F7D58FC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05E6B-02F1-449D-9B3E-5AC90E4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03A14-C4D8-4C59-9FAC-565631B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10F78-200A-42B5-B854-21C9D4E4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C36EF-C70D-4F08-8D2B-BBAAFCBB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0DB1C-B0D5-4F92-AC9E-41D0E43E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EE8CE-36CD-4F4C-94F8-4B030683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9D6-7DCF-4BD2-9932-A6FEB55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9B5A6-5ED8-4F22-8262-BC4B4579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A5A81-BBC2-47F2-AE4D-8AB3C2B3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B3B94-FD25-405E-AA30-31FEAA7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BB9C8-8ADA-49DD-B32B-F8070883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CCD446-B620-4DDD-829B-75F1BD8E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CD026-2ED6-4687-80B8-93619DD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6E275-8B81-4778-8D66-ACC5E30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D0E27-52CC-43F4-A4FE-F1BFC8D4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FD494C-E6D1-4A01-AEA1-DBC7C78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F96D0-583C-4DD5-A2E4-EA8AD7AD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78C-ECE5-4EA6-A2E0-64D245D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99728B-B2CC-4B7F-8554-0DD1C1FC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488C6-4EA1-4B63-A993-8BED1B92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60E0-093E-4608-BADB-4C3ADD40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8BE4-917F-4B00-9B79-F4B3E478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3E8DE-0285-426E-8052-E8CA840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63D0-76F9-4F03-B5B5-4722A294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854C-AE3E-4390-B5F3-B0588682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678CA-88E4-4CFD-B2CA-F439B0F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88E6A-728C-41B2-8500-E5BB4F0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E457B-B5CD-4E41-A6E8-F6C2EFBC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601-028E-414E-9FDC-ACCDEA16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B4A2-C00E-4235-AF79-CF74E9C0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426A-5966-475E-A519-D118B3AF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3852-5293-4137-AC0D-AFD46B30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4300F1-F2B2-4DC6-9423-FDFBC8BF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3744D-43D7-41E5-9B4F-1DE23840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1352B-1F6B-49B7-B6A2-96441F73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66B9A-041E-402D-9FAC-CC6D2B4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20EB6-B521-45D5-9721-1344928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C19DA-7E9E-467E-AAB5-F53CBE0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42A2E-E2B1-44F9-B355-2037CF0C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5A3-4A62-4825-8DB2-AB820652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DE89F-D627-4717-8FF2-01915CE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0FA0F-2FB6-4EA0-B9FD-D5770F0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784C2-FEDB-461D-B505-C562301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2F742-8EF8-419A-BAEE-37604E34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4A6FB-959A-496D-A7AE-5BE195FD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0699-A9B5-4036-B007-6AF66133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2D0F-5FF3-4F6B-920E-7643B8D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33777-47D7-4EE4-AB83-CE318C6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4D2B7-A9DB-4959-A51D-F468E69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242AF-1DF0-4CE2-B5CB-1464F1C9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9DC-3DDB-44B3-B161-251F6BD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CF73-4728-48E2-928E-B94CC17B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1AA8F-3FEF-439D-9F59-EF4D3859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2C6E5-B6B5-4244-8716-4C264F47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A5EAD-24F4-4DC0-850A-0A8056B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DD112-5554-426C-950E-DD9C93E0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6580-A36A-4F4D-90EA-F3E72D27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78A9-C97F-4312-8387-22F548D0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F47-8C24-4D04-BA10-E0F55E49B2C9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4867-040A-438C-8AD0-54F5D045B10D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F893-2DB7-4AEB-BDB1-1ED6190E694F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094E-EFD2-4D45-9C8E-084FA3FD4210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5864-520B-47A7-9AA2-2F2E5BC9AE42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7C1-355D-4C73-BBB1-88036D889660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0F5-78D4-4CB1-9194-A856DF68B6AB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2455-896D-4760-B962-65739417943C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3160" y="3286080"/>
            <a:ext cx="5639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MOTIVACIÓN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LA INDUSTRIA QUÍMICA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8 Elipse" descr=""/>
          <p:cNvPicPr/>
          <p:nvPr/>
        </p:nvPicPr>
        <p:blipFill>
          <a:blip r:embed="rId1"/>
          <a:stretch/>
        </p:blipFill>
        <p:spPr>
          <a:xfrm>
            <a:off x="3633840" y="3193920"/>
            <a:ext cx="2011320" cy="1932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10 Elipse"/>
          <p:cNvSpPr/>
          <p:nvPr/>
        </p:nvSpPr>
        <p:spPr>
          <a:xfrm rot="355200">
            <a:off x="3459240" y="3026880"/>
            <a:ext cx="2340000" cy="234000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5 Conector recto"/>
          <p:cNvSpPr/>
          <p:nvPr/>
        </p:nvSpPr>
        <p:spPr>
          <a:xfrm flipH="1">
            <a:off x="4597560" y="4800600"/>
            <a:ext cx="39600" cy="118728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Conector recto"/>
          <p:cNvSpPr/>
          <p:nvPr/>
        </p:nvSpPr>
        <p:spPr>
          <a:xfrm>
            <a:off x="2286000" y="3071880"/>
            <a:ext cx="1828800" cy="94284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9 Conector recto"/>
          <p:cNvSpPr/>
          <p:nvPr/>
        </p:nvSpPr>
        <p:spPr>
          <a:xfrm flipH="1">
            <a:off x="5155920" y="3428280"/>
            <a:ext cx="1773000" cy="58572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Elipse"/>
          <p:cNvSpPr/>
          <p:nvPr/>
        </p:nvSpPr>
        <p:spPr>
          <a:xfrm>
            <a:off x="4084560" y="3657600"/>
            <a:ext cx="11430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Arial"/>
              </a:rPr>
              <a:t>Proceso Químico Indust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Elipse"/>
          <p:cNvSpPr/>
          <p:nvPr/>
        </p:nvSpPr>
        <p:spPr>
          <a:xfrm rot="355200">
            <a:off x="2808000" y="2381400"/>
            <a:ext cx="3600360" cy="360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26 Elipse" descr=""/>
          <p:cNvPicPr/>
          <p:nvPr/>
        </p:nvPicPr>
        <p:blipFill>
          <a:blip r:embed="rId2"/>
          <a:stretch/>
        </p:blipFill>
        <p:spPr>
          <a:xfrm>
            <a:off x="2895480" y="2505240"/>
            <a:ext cx="3541680" cy="3225600"/>
          </a:xfrm>
          <a:prstGeom prst="rect">
            <a:avLst/>
          </a:prstGeom>
          <a:ln w="0">
            <a:noFill/>
          </a:ln>
        </p:spPr>
      </p:pic>
      <p:pic>
        <p:nvPicPr>
          <p:cNvPr id="362" name="27 Elipse" descr=""/>
          <p:cNvPicPr/>
          <p:nvPr/>
        </p:nvPicPr>
        <p:blipFill>
          <a:blip r:embed="rId3"/>
          <a:stretch/>
        </p:blipFill>
        <p:spPr>
          <a:xfrm>
            <a:off x="3144960" y="2657520"/>
            <a:ext cx="3365280" cy="3402000"/>
          </a:xfrm>
          <a:prstGeom prst="rect">
            <a:avLst/>
          </a:prstGeom>
          <a:ln w="0">
            <a:noFill/>
          </a:ln>
        </p:spPr>
      </p:pic>
      <p:pic>
        <p:nvPicPr>
          <p:cNvPr id="363" name="28 Elipse" descr=""/>
          <p:cNvPicPr/>
          <p:nvPr/>
        </p:nvPicPr>
        <p:blipFill>
          <a:blip r:embed="rId4"/>
          <a:stretch/>
        </p:blipFill>
        <p:spPr>
          <a:xfrm>
            <a:off x="1779480" y="2419200"/>
            <a:ext cx="3322800" cy="3445200"/>
          </a:xfrm>
          <a:prstGeom prst="rect">
            <a:avLst/>
          </a:prstGeom>
          <a:ln w="0">
            <a:noFill/>
          </a:ln>
        </p:spPr>
      </p:pic>
      <p:pic>
        <p:nvPicPr>
          <p:cNvPr id="364" name="29 Elipse" descr=""/>
          <p:cNvPicPr/>
          <p:nvPr/>
        </p:nvPicPr>
        <p:blipFill>
          <a:blip r:embed="rId5"/>
          <a:stretch/>
        </p:blipFill>
        <p:spPr>
          <a:xfrm>
            <a:off x="2651040" y="2614680"/>
            <a:ext cx="3353040" cy="3421080"/>
          </a:xfrm>
          <a:prstGeom prst="rect">
            <a:avLst/>
          </a:prstGeom>
          <a:ln w="0">
            <a:noFill/>
          </a:ln>
        </p:spPr>
      </p:pic>
      <p:pic>
        <p:nvPicPr>
          <p:cNvPr id="365" name="33 Elipse" descr=""/>
          <p:cNvPicPr/>
          <p:nvPr/>
        </p:nvPicPr>
        <p:blipFill>
          <a:blip r:embed="rId6"/>
          <a:stretch/>
        </p:blipFill>
        <p:spPr>
          <a:xfrm>
            <a:off x="2425680" y="1566720"/>
            <a:ext cx="4365720" cy="3468960"/>
          </a:xfrm>
          <a:prstGeom prst="rect">
            <a:avLst/>
          </a:prstGeom>
          <a:ln w="0">
            <a:noFill/>
          </a:ln>
        </p:spPr>
      </p:pic>
      <p:pic>
        <p:nvPicPr>
          <p:cNvPr id="366" name="34 Elipse" descr=""/>
          <p:cNvPicPr/>
          <p:nvPr/>
        </p:nvPicPr>
        <p:blipFill>
          <a:blip r:embed="rId7"/>
          <a:stretch/>
        </p:blipFill>
        <p:spPr>
          <a:xfrm>
            <a:off x="1925640" y="2133720"/>
            <a:ext cx="5376960" cy="4857480"/>
          </a:xfrm>
          <a:prstGeom prst="rect">
            <a:avLst/>
          </a:prstGeom>
          <a:ln w="0">
            <a:noFill/>
          </a:ln>
        </p:spPr>
      </p:pic>
      <p:sp>
        <p:nvSpPr>
          <p:cNvPr id="367" name="35 Elipse"/>
          <p:cNvSpPr/>
          <p:nvPr/>
        </p:nvSpPr>
        <p:spPr>
          <a:xfrm rot="355200">
            <a:off x="2031480" y="1674360"/>
            <a:ext cx="5040360" cy="504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2" descr=""/>
          <p:cNvPicPr/>
          <p:nvPr/>
        </p:nvPicPr>
        <p:blipFill>
          <a:blip r:embed="rId1"/>
          <a:stretch/>
        </p:blipFill>
        <p:spPr>
          <a:xfrm>
            <a:off x="0" y="1847880"/>
            <a:ext cx="5286240" cy="5010120"/>
          </a:xfrm>
          <a:prstGeom prst="rect">
            <a:avLst/>
          </a:prstGeom>
          <a:ln w="0">
            <a:noFill/>
          </a:ln>
        </p:spPr>
      </p:pic>
      <p:sp>
        <p:nvSpPr>
          <p:cNvPr id="370" name="22 Flecha derecha"/>
          <p:cNvSpPr/>
          <p:nvPr/>
        </p:nvSpPr>
        <p:spPr>
          <a:xfrm>
            <a:off x="5357880" y="62625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23 Rectángulo" descr=""/>
          <p:cNvPicPr/>
          <p:nvPr/>
        </p:nvPicPr>
        <p:blipFill>
          <a:blip r:embed="rId2"/>
          <a:stretch/>
        </p:blipFill>
        <p:spPr>
          <a:xfrm>
            <a:off x="6016680" y="6181560"/>
            <a:ext cx="2225520" cy="543240"/>
          </a:xfrm>
          <a:prstGeom prst="rect">
            <a:avLst/>
          </a:prstGeom>
          <a:ln w="0">
            <a:noFill/>
          </a:ln>
        </p:spPr>
      </p:pic>
      <p:sp>
        <p:nvSpPr>
          <p:cNvPr id="372" name="24 Flecha derecha"/>
          <p:cNvSpPr/>
          <p:nvPr/>
        </p:nvSpPr>
        <p:spPr>
          <a:xfrm>
            <a:off x="4929120" y="5334120"/>
            <a:ext cx="428760" cy="428400"/>
          </a:xfrm>
          <a:prstGeom prst="rightArrow">
            <a:avLst>
              <a:gd name="adj1" fmla="val 50000"/>
              <a:gd name="adj2" fmla="val 50042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5 Flecha derecha"/>
          <p:cNvSpPr/>
          <p:nvPr/>
        </p:nvSpPr>
        <p:spPr>
          <a:xfrm>
            <a:off x="4214880" y="3976560"/>
            <a:ext cx="42840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3 Flecha derecha"/>
          <p:cNvSpPr/>
          <p:nvPr/>
        </p:nvSpPr>
        <p:spPr>
          <a:xfrm>
            <a:off x="3429000" y="247644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4 Rectángulo"/>
          <p:cNvSpPr/>
          <p:nvPr/>
        </p:nvSpPr>
        <p:spPr>
          <a:xfrm>
            <a:off x="4143240" y="1762200"/>
            <a:ext cx="5000760" cy="17143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41 CuadroTexto"/>
          <p:cNvSpPr/>
          <p:nvPr/>
        </p:nvSpPr>
        <p:spPr>
          <a:xfrm>
            <a:off x="4241880" y="1859040"/>
            <a:ext cx="46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iner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bre, Hierro, Zinc, Aluminio, Carbón, Titanio, Oro,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uadroTexto"/>
          <p:cNvSpPr/>
          <p:nvPr/>
        </p:nvSpPr>
        <p:spPr>
          <a:xfrm>
            <a:off x="4214880" y="21146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Petr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tróleo, gas natural, lubricantes, plástico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3 CuadroTexto"/>
          <p:cNvSpPr/>
          <p:nvPr/>
        </p:nvSpPr>
        <p:spPr>
          <a:xfrm>
            <a:off x="4197240" y="2400480"/>
            <a:ext cx="458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i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teínas, levaduras, procesos bacterianos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4 CuadroTexto"/>
          <p:cNvSpPr/>
          <p:nvPr/>
        </p:nvSpPr>
        <p:spPr>
          <a:xfrm>
            <a:off x="4214880" y="26766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Cosmét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fumes, cremas, jabones, bálsamos, ace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45 CuadroTexto"/>
          <p:cNvSpPr/>
          <p:nvPr/>
        </p:nvSpPr>
        <p:spPr>
          <a:xfrm>
            <a:off x="4214880" y="296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Forestale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dera, papel, pan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46 CuadroTexto"/>
          <p:cNvSpPr/>
          <p:nvPr/>
        </p:nvSpPr>
        <p:spPr>
          <a:xfrm>
            <a:off x="4214880" y="3200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Generación de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idroeléctricas, celdas combust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7 Rectángulo"/>
          <p:cNvSpPr/>
          <p:nvPr/>
        </p:nvSpPr>
        <p:spPr>
          <a:xfrm>
            <a:off x="4714920" y="3548160"/>
            <a:ext cx="4429080" cy="13572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48 CuadroTexto"/>
          <p:cNvSpPr/>
          <p:nvPr/>
        </p:nvSpPr>
        <p:spPr>
          <a:xfrm>
            <a:off x="4720680" y="3619440"/>
            <a:ext cx="42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Transferencia de calor y mas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tercambiadores de calor, calderas, hornos, secadores,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rres de enfriamiento, columnas de destilación, colum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 absorción, reactores, extracción por solvente, lixi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9 CuadroTexto"/>
          <p:cNvSpPr/>
          <p:nvPr/>
        </p:nvSpPr>
        <p:spPr>
          <a:xfrm>
            <a:off x="4714920" y="4405320"/>
            <a:ext cx="43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Operaciones mecánica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ombas, centrífugas, decantadores, filtros, cañerías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0 Rectángulo"/>
          <p:cNvSpPr/>
          <p:nvPr/>
        </p:nvSpPr>
        <p:spPr>
          <a:xfrm>
            <a:off x="5572080" y="4976640"/>
            <a:ext cx="3571920" cy="10717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1 CuadroTexto"/>
          <p:cNvSpPr/>
          <p:nvPr/>
        </p:nvSpPr>
        <p:spPr>
          <a:xfrm>
            <a:off x="5572080" y="501156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alances de masa y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ísicoquímica, Termodinámica, Fluidodinámic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peraciones de Transferencia (Calor y M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2 CuadroTexto"/>
          <p:cNvSpPr/>
          <p:nvPr/>
        </p:nvSpPr>
        <p:spPr>
          <a:xfrm>
            <a:off x="5588280" y="5587920"/>
            <a:ext cx="343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odelamiento de procesos y optimización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étodos Mate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24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Ácido Sulfúrico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3 Imagen" descr="planta acido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657680"/>
          </a:xfrm>
          <a:prstGeom prst="rect">
            <a:avLst/>
          </a:prstGeom>
          <a:ln w="25560">
            <a:solidFill>
              <a:srgbClr val="bfbfbf"/>
            </a:solidFill>
            <a:miter/>
          </a:ln>
        </p:spPr>
      </p:pic>
      <p:sp>
        <p:nvSpPr>
          <p:cNvPr id="390" name="4 CuadroTexto"/>
          <p:cNvSpPr/>
          <p:nvPr/>
        </p:nvSpPr>
        <p:spPr>
          <a:xfrm>
            <a:off x="4897800" y="207180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1. Preparación del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CuadroTexto"/>
          <p:cNvSpPr/>
          <p:nvPr/>
        </p:nvSpPr>
        <p:spPr>
          <a:xfrm>
            <a:off x="2379960" y="607860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2. Conversión catalí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5265720" y="609588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3. Absor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764440" y="3581280"/>
            <a:ext cx="1224360" cy="4402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½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(sobre V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5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CuadroTexto"/>
          <p:cNvSpPr/>
          <p:nvPr/>
        </p:nvSpPr>
        <p:spPr>
          <a:xfrm>
            <a:off x="5140080" y="3505320"/>
            <a:ext cx="1346400" cy="2671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4978080" y="27432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Horno fu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CuadroTexto"/>
          <p:cNvSpPr/>
          <p:nvPr/>
        </p:nvSpPr>
        <p:spPr>
          <a:xfrm>
            <a:off x="2885400" y="2724120"/>
            <a:ext cx="6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Filtr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3744000" y="2724120"/>
            <a:ext cx="6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CuadroTexto"/>
          <p:cNvSpPr/>
          <p:nvPr/>
        </p:nvSpPr>
        <p:spPr>
          <a:xfrm>
            <a:off x="3045960" y="52401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Re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190960" y="5257800"/>
            <a:ext cx="9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Enfriador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uadroTexto"/>
          <p:cNvSpPr/>
          <p:nvPr/>
        </p:nvSpPr>
        <p:spPr>
          <a:xfrm>
            <a:off x="3693600" y="510552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Intercambi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de 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4924800" y="524016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6006600" y="523728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und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5855040" y="272412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Captur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66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Convertidores Catalíticos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9 Imagen" descr="Dibujo.jpg"/>
          <p:cNvPicPr/>
          <p:nvPr/>
        </p:nvPicPr>
        <p:blipFill>
          <a:blip r:embed="rId1"/>
          <a:srcRect l="0" t="-2769" r="-1635" b="-4063"/>
          <a:stretch/>
        </p:blipFill>
        <p:spPr>
          <a:xfrm>
            <a:off x="1714680" y="1714680"/>
            <a:ext cx="5632200" cy="168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etapa 2"/>
          <p:cNvPicPr/>
          <p:nvPr/>
        </p:nvPicPr>
        <p:blipFill>
          <a:blip r:embed="rId2"/>
          <a:srcRect l="0" t="-765" r="0" b="-3160"/>
          <a:stretch/>
        </p:blipFill>
        <p:spPr>
          <a:xfrm>
            <a:off x="127080" y="3643200"/>
            <a:ext cx="480204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Imagen 42" descr="etapa 3"/>
          <p:cNvPicPr/>
          <p:nvPr/>
        </p:nvPicPr>
        <p:blipFill>
          <a:blip r:embed="rId3"/>
          <a:srcRect l="0" t="-2243" r="-1611" b="3624"/>
          <a:stretch/>
        </p:blipFill>
        <p:spPr>
          <a:xfrm>
            <a:off x="5226120" y="4214880"/>
            <a:ext cx="3703680" cy="1838160"/>
          </a:xfrm>
          <a:prstGeom prst="rect">
            <a:avLst/>
          </a:prstGeom>
          <a:ln w="0">
            <a:noFill/>
          </a:ln>
        </p:spPr>
      </p:pic>
      <p:sp>
        <p:nvSpPr>
          <p:cNvPr id="408" name="6 CuadroTexto"/>
          <p:cNvSpPr/>
          <p:nvPr/>
        </p:nvSpPr>
        <p:spPr>
          <a:xfrm>
            <a:off x="1581840" y="1500120"/>
            <a:ext cx="28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1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Confección del monolito cerá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 CuadroTexto"/>
          <p:cNvSpPr/>
          <p:nvPr/>
        </p:nvSpPr>
        <p:spPr>
          <a:xfrm>
            <a:off x="83520" y="3309840"/>
            <a:ext cx="392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2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Recubrimiento del monolito con soporte cataliz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8 CuadroTexto"/>
          <p:cNvSpPr/>
          <p:nvPr/>
        </p:nvSpPr>
        <p:spPr>
          <a:xfrm>
            <a:off x="5176440" y="3809880"/>
            <a:ext cx="324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3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Ensamble carcasa – monolito sopor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09:33Z</dcterms:created>
  <dc:creator>Meli</dc:creator>
  <dc:description/>
  <dc:language>en-US</dc:language>
  <cp:lastModifiedBy>FCFM</cp:lastModifiedBy>
  <dcterms:modified xsi:type="dcterms:W3CDTF">2009-08-03T22:34:50Z</dcterms:modified>
  <cp:revision>24</cp:revision>
  <dc:subject/>
  <dc:title>MOTIVACIÓN:  LA INDUSTRIA QUÍMICA</dc:title>
</cp:coreProperties>
</file>