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84A-1716-4E11-9672-A1AF83C1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14E-255A-4700-8897-18789E9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4C5-C729-41A2-B024-36D18A0B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8F2-39B5-4DF5-8D00-3EE1D51C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DF01-FFDB-4E27-B677-4F61D1D1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3F2-0856-4A9E-9402-99A23013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032-8FA2-45DE-9284-5686932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9067-A753-4695-BC1E-E6C0974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381-8BDB-4206-9475-52E58E5E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D122-29D9-4BFE-8BA5-8A14BF32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6413-6C28-484E-974B-307A8DD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6DC-5478-4491-AE6D-401B96A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AD12-452F-4668-99B2-86F66F92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9FE2-FD3C-4507-8304-B575CD5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3D17-3EA5-465A-A9C8-D85E3B23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C7CC-6193-4417-BBA6-6854D0AA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03B1-C000-4910-B1C8-AFF26602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375C3-9A76-4739-A857-ED7076AA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33088-F332-4E9A-93A2-414AA45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069C3-BE21-4D4D-9D72-FCAD97B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6244D-B66E-4674-A31C-4684182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3AA1B-04FB-4622-97FC-3BDB6AF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C79-CF29-4FB2-B50C-5DFE970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4F02F-5C36-4259-8DE5-98D3019A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F6E2D-8A51-494C-9BA8-6CBE13A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0C63A-B385-419B-A3A3-9EE79B1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8948E-AC3E-4D7A-A0F8-19E51F0F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B843F-8673-4211-A7AA-46D5D28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99051-DFB2-4ADD-92A9-0113B168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952FA-4F49-4C8B-BB3D-CC100C98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1C32F-5279-4B5F-A582-488027F5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D6E8F-34C3-4E08-A15C-386172A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2BD2B-07CD-472A-B31E-0C0E581A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F86-9849-48A2-AFBC-E0F7C96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4FE13-E22D-4011-89B8-3069400E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8E72B-731A-4A2C-9AAA-3C15B040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55D582-F8AC-4EA7-891D-0CC0AF2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F092D-D137-4682-BF16-10EFC67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B05FD-36E3-4248-BBB2-ED880836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8C9DB-B6F3-43A6-ABC6-0832EEA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56E45-CCD7-4776-AB06-87F02A8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5685E-595B-4603-A04F-199B540A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D33E82-C39A-477D-BFD7-C28D1249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25664-D923-455E-91F5-2145D658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B5D-0EA1-4CF0-8E14-6FD854FB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000BB-BBC4-4E82-96C6-D70EC47F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C4BDE-74C7-4FFF-A1E7-B28176A8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4217C-B4D4-4E3B-A3DE-CEAF876B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71B51-31EA-4EA3-AABA-FD5B3B5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35A60-C3D2-40CC-9CD7-33CE4F66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F80C5-B95D-44F2-8947-4B8FCDF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5F1F7-2615-4207-9E00-146F5D4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57136-124E-4BCB-9867-BE14D043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511174-2F41-418F-B969-3FF751E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A4B7F-E0E8-4893-9926-D3925898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07B-F4CC-4F8E-BA2D-AD219988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786B8-B2A0-40DF-B093-B5C276F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32FF-07A7-4EAC-AF68-049932BD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8A233-44AD-41FF-8038-863E6586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16D99-32E6-4545-9B57-48B3BAC7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94C46-6D8A-4086-A9B5-7C06B47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8363-54A2-4D86-BF44-504C77A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365D-79F5-46E9-BDE6-571F4E7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0778-728D-413C-9699-F77249DF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FE59-7377-4FD2-83D1-6C8CDB8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5B316-6A04-4490-B25E-8BC2E22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92E-4D5B-42F5-B4CB-B897DA02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B24C7-9AD3-42E7-8B46-C7DD1000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9598F-9D30-4F93-8756-7C318EC0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135A-58A6-409E-B8F9-F63D6130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DE7E9-3A68-4F3B-B186-C82EDDD5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35216-1D82-4F4D-81B3-0FB26E57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95D9A-6E38-4925-A6A3-02AAEA55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4D6B5-8D44-4F1E-935F-4778902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BF043-BB93-4561-8AD7-94290AEE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489F4-9216-4AC6-9126-62BD6A90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DA530-F3BE-470A-9BF4-E6A0AE3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5F3-83FB-4AEF-AF0A-B965997B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7A264-C527-4766-9F09-59E8C24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24AB3-9BF5-4804-9101-960EA59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6C9DC-E050-45B7-BA6A-4ADD932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A7E63-D462-4AD6-BF35-9FFF4BC5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E44FD-47C3-448F-B645-DCFD3DC3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42DA3-6447-4952-83AA-37B2097D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7CED-F8CC-4247-842A-90EFC04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548A7-6B41-49E1-A2A0-89B7975A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098E-AA9B-4DF4-B5F8-E791B8FF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98D8-5464-4FF6-BECC-559EA6E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868-BBAC-4BEF-8F33-6ADEEF6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72308-4DE8-4CC6-9822-A4136E6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8D8B-32A4-4C23-9151-91961D4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503E-E4E9-4070-BEDC-C10F278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EEEA-DDE7-427A-A9AC-EBFA085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FD121-A1A3-4BC7-8D5F-E7E6DDB9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C5B1C-E965-445B-9A65-7C679734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8E52B-1BA4-4F57-8839-3B74DE06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024-5564-447E-8405-B29326001EBE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CA5-C519-4267-AA92-2EC63C1EDB6C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303-C75F-4425-8C83-AB4ADD52873B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98A4-4EC6-40EF-8BE0-33B2378EEF3B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9FD-79A5-48F6-AEA0-38F4B4022BD4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66B-E385-4FFC-85FF-8A3CFA1B2458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A915-8584-4A3A-85B8-1C427FA64864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F5B6-F39A-4BD1-81FB-77176542E0D2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3160" y="3286080"/>
            <a:ext cx="5639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MOTIVACIÓN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LA INDUSTRIA QUÍMICA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8 Elipse" descr=""/>
          <p:cNvPicPr/>
          <p:nvPr/>
        </p:nvPicPr>
        <p:blipFill>
          <a:blip r:embed="rId1"/>
          <a:stretch/>
        </p:blipFill>
        <p:spPr>
          <a:xfrm>
            <a:off x="3633840" y="3193920"/>
            <a:ext cx="2011320" cy="1932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10 Elipse"/>
          <p:cNvSpPr/>
          <p:nvPr/>
        </p:nvSpPr>
        <p:spPr>
          <a:xfrm rot="355200">
            <a:off x="3459240" y="3026880"/>
            <a:ext cx="2340000" cy="234000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5 Conector recto"/>
          <p:cNvSpPr/>
          <p:nvPr/>
        </p:nvSpPr>
        <p:spPr>
          <a:xfrm flipH="1">
            <a:off x="4597560" y="4800600"/>
            <a:ext cx="39600" cy="118728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Conector recto"/>
          <p:cNvSpPr/>
          <p:nvPr/>
        </p:nvSpPr>
        <p:spPr>
          <a:xfrm>
            <a:off x="2286000" y="3071880"/>
            <a:ext cx="1828800" cy="94284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9 Conector recto"/>
          <p:cNvSpPr/>
          <p:nvPr/>
        </p:nvSpPr>
        <p:spPr>
          <a:xfrm flipH="1">
            <a:off x="5155920" y="3428280"/>
            <a:ext cx="1773000" cy="58572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Elipse"/>
          <p:cNvSpPr/>
          <p:nvPr/>
        </p:nvSpPr>
        <p:spPr>
          <a:xfrm>
            <a:off x="4084560" y="3657600"/>
            <a:ext cx="11430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Arial"/>
              </a:rPr>
              <a:t>Proceso Químico Indust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Elipse"/>
          <p:cNvSpPr/>
          <p:nvPr/>
        </p:nvSpPr>
        <p:spPr>
          <a:xfrm rot="355200">
            <a:off x="2808000" y="2381400"/>
            <a:ext cx="3600360" cy="360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26 Elipse" descr=""/>
          <p:cNvPicPr/>
          <p:nvPr/>
        </p:nvPicPr>
        <p:blipFill>
          <a:blip r:embed="rId2"/>
          <a:stretch/>
        </p:blipFill>
        <p:spPr>
          <a:xfrm>
            <a:off x="2895480" y="2505240"/>
            <a:ext cx="3541680" cy="3225600"/>
          </a:xfrm>
          <a:prstGeom prst="rect">
            <a:avLst/>
          </a:prstGeom>
          <a:ln w="0">
            <a:noFill/>
          </a:ln>
        </p:spPr>
      </p:pic>
      <p:pic>
        <p:nvPicPr>
          <p:cNvPr id="362" name="27 Elipse" descr=""/>
          <p:cNvPicPr/>
          <p:nvPr/>
        </p:nvPicPr>
        <p:blipFill>
          <a:blip r:embed="rId3"/>
          <a:stretch/>
        </p:blipFill>
        <p:spPr>
          <a:xfrm>
            <a:off x="3144960" y="2657520"/>
            <a:ext cx="3365280" cy="3402000"/>
          </a:xfrm>
          <a:prstGeom prst="rect">
            <a:avLst/>
          </a:prstGeom>
          <a:ln w="0">
            <a:noFill/>
          </a:ln>
        </p:spPr>
      </p:pic>
      <p:pic>
        <p:nvPicPr>
          <p:cNvPr id="363" name="28 Elipse" descr=""/>
          <p:cNvPicPr/>
          <p:nvPr/>
        </p:nvPicPr>
        <p:blipFill>
          <a:blip r:embed="rId4"/>
          <a:stretch/>
        </p:blipFill>
        <p:spPr>
          <a:xfrm>
            <a:off x="1779480" y="2419200"/>
            <a:ext cx="3322800" cy="3445200"/>
          </a:xfrm>
          <a:prstGeom prst="rect">
            <a:avLst/>
          </a:prstGeom>
          <a:ln w="0">
            <a:noFill/>
          </a:ln>
        </p:spPr>
      </p:pic>
      <p:pic>
        <p:nvPicPr>
          <p:cNvPr id="364" name="29 Elipse" descr=""/>
          <p:cNvPicPr/>
          <p:nvPr/>
        </p:nvPicPr>
        <p:blipFill>
          <a:blip r:embed="rId5"/>
          <a:stretch/>
        </p:blipFill>
        <p:spPr>
          <a:xfrm>
            <a:off x="2651040" y="2614680"/>
            <a:ext cx="3353040" cy="3421080"/>
          </a:xfrm>
          <a:prstGeom prst="rect">
            <a:avLst/>
          </a:prstGeom>
          <a:ln w="0">
            <a:noFill/>
          </a:ln>
        </p:spPr>
      </p:pic>
      <p:pic>
        <p:nvPicPr>
          <p:cNvPr id="365" name="33 Elipse" descr=""/>
          <p:cNvPicPr/>
          <p:nvPr/>
        </p:nvPicPr>
        <p:blipFill>
          <a:blip r:embed="rId6"/>
          <a:stretch/>
        </p:blipFill>
        <p:spPr>
          <a:xfrm>
            <a:off x="2425680" y="1566720"/>
            <a:ext cx="4365720" cy="3468960"/>
          </a:xfrm>
          <a:prstGeom prst="rect">
            <a:avLst/>
          </a:prstGeom>
          <a:ln w="0">
            <a:noFill/>
          </a:ln>
        </p:spPr>
      </p:pic>
      <p:pic>
        <p:nvPicPr>
          <p:cNvPr id="366" name="34 Elipse" descr=""/>
          <p:cNvPicPr/>
          <p:nvPr/>
        </p:nvPicPr>
        <p:blipFill>
          <a:blip r:embed="rId7"/>
          <a:stretch/>
        </p:blipFill>
        <p:spPr>
          <a:xfrm>
            <a:off x="1925640" y="2133720"/>
            <a:ext cx="5376960" cy="4857480"/>
          </a:xfrm>
          <a:prstGeom prst="rect">
            <a:avLst/>
          </a:prstGeom>
          <a:ln w="0">
            <a:noFill/>
          </a:ln>
        </p:spPr>
      </p:pic>
      <p:sp>
        <p:nvSpPr>
          <p:cNvPr id="367" name="35 Elipse"/>
          <p:cNvSpPr/>
          <p:nvPr/>
        </p:nvSpPr>
        <p:spPr>
          <a:xfrm rot="355200">
            <a:off x="2031480" y="1674360"/>
            <a:ext cx="5040360" cy="504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2" descr=""/>
          <p:cNvPicPr/>
          <p:nvPr/>
        </p:nvPicPr>
        <p:blipFill>
          <a:blip r:embed="rId1"/>
          <a:stretch/>
        </p:blipFill>
        <p:spPr>
          <a:xfrm>
            <a:off x="0" y="1847880"/>
            <a:ext cx="5286240" cy="5010120"/>
          </a:xfrm>
          <a:prstGeom prst="rect">
            <a:avLst/>
          </a:prstGeom>
          <a:ln w="0">
            <a:noFill/>
          </a:ln>
        </p:spPr>
      </p:pic>
      <p:sp>
        <p:nvSpPr>
          <p:cNvPr id="370" name="22 Flecha derecha"/>
          <p:cNvSpPr/>
          <p:nvPr/>
        </p:nvSpPr>
        <p:spPr>
          <a:xfrm>
            <a:off x="5357880" y="62625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23 Rectángulo" descr=""/>
          <p:cNvPicPr/>
          <p:nvPr/>
        </p:nvPicPr>
        <p:blipFill>
          <a:blip r:embed="rId2"/>
          <a:stretch/>
        </p:blipFill>
        <p:spPr>
          <a:xfrm>
            <a:off x="6016680" y="6181560"/>
            <a:ext cx="2225520" cy="543240"/>
          </a:xfrm>
          <a:prstGeom prst="rect">
            <a:avLst/>
          </a:prstGeom>
          <a:ln w="0">
            <a:noFill/>
          </a:ln>
        </p:spPr>
      </p:pic>
      <p:sp>
        <p:nvSpPr>
          <p:cNvPr id="372" name="24 Flecha derecha"/>
          <p:cNvSpPr/>
          <p:nvPr/>
        </p:nvSpPr>
        <p:spPr>
          <a:xfrm>
            <a:off x="4929120" y="5334120"/>
            <a:ext cx="428760" cy="428400"/>
          </a:xfrm>
          <a:prstGeom prst="rightArrow">
            <a:avLst>
              <a:gd name="adj1" fmla="val 50000"/>
              <a:gd name="adj2" fmla="val 50042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5 Flecha derecha"/>
          <p:cNvSpPr/>
          <p:nvPr/>
        </p:nvSpPr>
        <p:spPr>
          <a:xfrm>
            <a:off x="4214880" y="3976560"/>
            <a:ext cx="42840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3 Flecha derecha"/>
          <p:cNvSpPr/>
          <p:nvPr/>
        </p:nvSpPr>
        <p:spPr>
          <a:xfrm>
            <a:off x="3429000" y="247644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4 Rectángulo"/>
          <p:cNvSpPr/>
          <p:nvPr/>
        </p:nvSpPr>
        <p:spPr>
          <a:xfrm>
            <a:off x="4143240" y="1762200"/>
            <a:ext cx="5000760" cy="17143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41 CuadroTexto"/>
          <p:cNvSpPr/>
          <p:nvPr/>
        </p:nvSpPr>
        <p:spPr>
          <a:xfrm>
            <a:off x="4241880" y="1859040"/>
            <a:ext cx="46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iner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bre, Hierro, Zinc, Aluminio, Carbón, Titanio, Oro,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uadroTexto"/>
          <p:cNvSpPr/>
          <p:nvPr/>
        </p:nvSpPr>
        <p:spPr>
          <a:xfrm>
            <a:off x="4214880" y="21146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Petr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tróleo, gas natural, lubricantes, plástico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3 CuadroTexto"/>
          <p:cNvSpPr/>
          <p:nvPr/>
        </p:nvSpPr>
        <p:spPr>
          <a:xfrm>
            <a:off x="4197240" y="2400480"/>
            <a:ext cx="458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i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teínas, levaduras, procesos bacterianos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4 CuadroTexto"/>
          <p:cNvSpPr/>
          <p:nvPr/>
        </p:nvSpPr>
        <p:spPr>
          <a:xfrm>
            <a:off x="4214880" y="26766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Cosmét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fumes, cremas, jabones, bálsamos, ace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45 CuadroTexto"/>
          <p:cNvSpPr/>
          <p:nvPr/>
        </p:nvSpPr>
        <p:spPr>
          <a:xfrm>
            <a:off x="4214880" y="296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Forestale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dera, papel, pan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46 CuadroTexto"/>
          <p:cNvSpPr/>
          <p:nvPr/>
        </p:nvSpPr>
        <p:spPr>
          <a:xfrm>
            <a:off x="4214880" y="3200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Generación de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idroeléctricas, celdas combust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7 Rectángulo"/>
          <p:cNvSpPr/>
          <p:nvPr/>
        </p:nvSpPr>
        <p:spPr>
          <a:xfrm>
            <a:off x="4714920" y="3548160"/>
            <a:ext cx="4429080" cy="13572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48 CuadroTexto"/>
          <p:cNvSpPr/>
          <p:nvPr/>
        </p:nvSpPr>
        <p:spPr>
          <a:xfrm>
            <a:off x="4720680" y="3619440"/>
            <a:ext cx="42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Transferencia de calor y mas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tercambiadores de calor, calderas, hornos, secadores,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rres de enfriamiento, columnas de destilación, colum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 absorción, reactores, extracción por solvente, lixi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9 CuadroTexto"/>
          <p:cNvSpPr/>
          <p:nvPr/>
        </p:nvSpPr>
        <p:spPr>
          <a:xfrm>
            <a:off x="4714920" y="4405320"/>
            <a:ext cx="43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Operaciones mecánica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ombas, centrífugas, decantadores, filtros, cañerías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0 Rectángulo"/>
          <p:cNvSpPr/>
          <p:nvPr/>
        </p:nvSpPr>
        <p:spPr>
          <a:xfrm>
            <a:off x="5572080" y="4976640"/>
            <a:ext cx="3571920" cy="10717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1 CuadroTexto"/>
          <p:cNvSpPr/>
          <p:nvPr/>
        </p:nvSpPr>
        <p:spPr>
          <a:xfrm>
            <a:off x="5572080" y="501156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alances de masa y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ísicoquímica, Termodinámica, Fluidodinámic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peraciones de Transferencia (Calor y M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2 CuadroTexto"/>
          <p:cNvSpPr/>
          <p:nvPr/>
        </p:nvSpPr>
        <p:spPr>
          <a:xfrm>
            <a:off x="5588280" y="5587920"/>
            <a:ext cx="343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odelamiento de procesos y optimización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étodos Mate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24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Ácido Sulfúrico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3 Imagen" descr="planta acido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657680"/>
          </a:xfrm>
          <a:prstGeom prst="rect">
            <a:avLst/>
          </a:prstGeom>
          <a:ln w="25560">
            <a:solidFill>
              <a:srgbClr val="bfbfbf"/>
            </a:solidFill>
            <a:miter/>
          </a:ln>
        </p:spPr>
      </p:pic>
      <p:sp>
        <p:nvSpPr>
          <p:cNvPr id="390" name="4 CuadroTexto"/>
          <p:cNvSpPr/>
          <p:nvPr/>
        </p:nvSpPr>
        <p:spPr>
          <a:xfrm>
            <a:off x="4897800" y="207180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1. Preparación del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CuadroTexto"/>
          <p:cNvSpPr/>
          <p:nvPr/>
        </p:nvSpPr>
        <p:spPr>
          <a:xfrm>
            <a:off x="2379960" y="607860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2. Conversión catalí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5265720" y="609588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3. Absor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764440" y="3581280"/>
            <a:ext cx="1224360" cy="4402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½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(sobre V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5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CuadroTexto"/>
          <p:cNvSpPr/>
          <p:nvPr/>
        </p:nvSpPr>
        <p:spPr>
          <a:xfrm>
            <a:off x="5140080" y="3505320"/>
            <a:ext cx="1346400" cy="2671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4978080" y="27432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Horno fu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CuadroTexto"/>
          <p:cNvSpPr/>
          <p:nvPr/>
        </p:nvSpPr>
        <p:spPr>
          <a:xfrm>
            <a:off x="2885400" y="2724120"/>
            <a:ext cx="6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Filtr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3744000" y="2724120"/>
            <a:ext cx="6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CuadroTexto"/>
          <p:cNvSpPr/>
          <p:nvPr/>
        </p:nvSpPr>
        <p:spPr>
          <a:xfrm>
            <a:off x="3045960" y="52401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Re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190960" y="5257800"/>
            <a:ext cx="9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Enfriador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uadroTexto"/>
          <p:cNvSpPr/>
          <p:nvPr/>
        </p:nvSpPr>
        <p:spPr>
          <a:xfrm>
            <a:off x="3693600" y="510552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Intercambi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de 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4924800" y="524016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6006600" y="523728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und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5855040" y="272412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Captur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66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Convertidores Catalíticos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9 Imagen" descr="Dibujo.jpg"/>
          <p:cNvPicPr/>
          <p:nvPr/>
        </p:nvPicPr>
        <p:blipFill>
          <a:blip r:embed="rId1"/>
          <a:srcRect l="0" t="-2769" r="-1635" b="-4063"/>
          <a:stretch/>
        </p:blipFill>
        <p:spPr>
          <a:xfrm>
            <a:off x="1714680" y="1714680"/>
            <a:ext cx="5632200" cy="168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etapa 2"/>
          <p:cNvPicPr/>
          <p:nvPr/>
        </p:nvPicPr>
        <p:blipFill>
          <a:blip r:embed="rId2"/>
          <a:srcRect l="0" t="-765" r="0" b="-3160"/>
          <a:stretch/>
        </p:blipFill>
        <p:spPr>
          <a:xfrm>
            <a:off x="127080" y="3643200"/>
            <a:ext cx="480204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Imagen 42" descr="etapa 3"/>
          <p:cNvPicPr/>
          <p:nvPr/>
        </p:nvPicPr>
        <p:blipFill>
          <a:blip r:embed="rId3"/>
          <a:srcRect l="0" t="-2243" r="-1611" b="3624"/>
          <a:stretch/>
        </p:blipFill>
        <p:spPr>
          <a:xfrm>
            <a:off x="5226120" y="4214880"/>
            <a:ext cx="3703680" cy="1838160"/>
          </a:xfrm>
          <a:prstGeom prst="rect">
            <a:avLst/>
          </a:prstGeom>
          <a:ln w="0">
            <a:noFill/>
          </a:ln>
        </p:spPr>
      </p:pic>
      <p:sp>
        <p:nvSpPr>
          <p:cNvPr id="408" name="6 CuadroTexto"/>
          <p:cNvSpPr/>
          <p:nvPr/>
        </p:nvSpPr>
        <p:spPr>
          <a:xfrm>
            <a:off x="1581840" y="1500120"/>
            <a:ext cx="28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1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Confección del monolito cerá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 CuadroTexto"/>
          <p:cNvSpPr/>
          <p:nvPr/>
        </p:nvSpPr>
        <p:spPr>
          <a:xfrm>
            <a:off x="83520" y="3309840"/>
            <a:ext cx="392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2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Recubrimiento del monolito con soporte cataliz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8 CuadroTexto"/>
          <p:cNvSpPr/>
          <p:nvPr/>
        </p:nvSpPr>
        <p:spPr>
          <a:xfrm>
            <a:off x="5176440" y="3809880"/>
            <a:ext cx="324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3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Ensamble carcasa – monolito sopor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09:33Z</dcterms:created>
  <dc:creator>Meli</dc:creator>
  <dc:description/>
  <dc:language>en-US</dc:language>
  <cp:lastModifiedBy>FCFM</cp:lastModifiedBy>
  <dcterms:modified xsi:type="dcterms:W3CDTF">2009-08-03T22:34:50Z</dcterms:modified>
  <cp:revision>24</cp:revision>
  <dc:subject/>
  <dc:title>MOTIVACIÓN:  LA INDUSTRIA QUÍMICA</dc:title>
</cp:coreProperties>
</file>