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8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Img"/>
          </p:nvPr>
        </p:nvSpPr>
        <p:spPr>
          <a:xfrm>
            <a:off x="109224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9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10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5C79-F914-4E28-87D5-4D29B91B580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7A8D-3D86-478B-9C2E-CB2A87E97FF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B6DF-7165-43C7-B84C-7D63FF3C1AB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541A-5E09-43DF-9406-71B042B960F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1B04-7ACE-400C-A737-67666EB73FC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C75F-4605-413F-8B0E-549C304D608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2F16-8209-4D48-83A3-8E6798B6423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968C-FFBA-4A87-85E6-B63E0FB5970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B703-948B-4E9A-8751-88FD17D10B4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399C-2F1C-4533-8D8B-6EFC440BBCF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5BC7-885C-4F40-8AB7-47DE104D203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89EA-5516-4BC0-B5D1-A488AD18376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5ADA-07EE-42F9-8B5B-D03FE32D347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1E16-BFA3-4FCE-848D-DC80DCEC277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6471-4E33-4A8D-9215-A8B3180BF07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A208-8248-4125-9749-6FF493F5224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AD76-5A9B-4608-8CA5-0DAFC25F40E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7CB8-5A47-4EC3-87F1-78C5A735F87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D616-2124-4F0B-B64D-57C88D0C575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137E-6BC0-4AEA-956E-548B8DEE6CD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654A-BB4F-4D04-B88C-4FB2102B4F5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43B6-50FC-421E-B159-BB0D5B6863C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A83C-CE15-4B88-A2B1-4EF88A993E55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94B5-BA46-4717-8854-6760C825E75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3F6D-291C-4E6B-BABC-568617D0BB53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E725-C18E-4813-9A14-4ED00A8470A6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EA14-BD86-4938-9B58-2C7F42D7F559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5F6C-6139-46EC-A2C0-639032EFAC49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4988-043D-473A-B1AB-83F29F3ACE7D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3EAB-507D-4247-AD4E-9D53A4A1A56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03DF-A93A-469D-A276-B1E1C69B04A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5A43-D4B5-4B80-AABE-670F5F3C4BC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0704-D823-489C-AA65-4FCB311DDC8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E6DD-3ABF-468E-9C75-879CC30AC4B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0E02-D659-4FF4-8BDC-92E73024B62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0A08-185B-42E2-8BC8-796CB5D68D7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7B2A-1DFF-4F36-9143-998B8AED001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ECC1-14CC-4DA1-B4CA-DF66C032812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FC28-5554-4C2C-88E3-11FC2D7841B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C18E-0DD6-430A-88EF-B65FF5CF862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F3B9-A095-4A96-9571-7CD2D83EC68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BBBF-ECF2-4A16-8F7E-1D036C37CED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0B03-F238-40D4-B06C-9DD2F0E9530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B553-CC95-41B4-87EE-6E0B95A7D33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93A5-8016-49F3-8732-4F4AEBACFA0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A648-7F4B-4592-8D94-91FC590BBD3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E747-2785-4B05-9089-4C9FF37591D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226A-DED5-4602-8925-5EA726EABD3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DFA0-E530-407B-8D50-A2297790AE7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886C-BB8B-48D3-BCED-C9BD01AE76C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103B29-558C-4E22-ACC3-7ECAADEA9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87E19A-69C9-4ED4-B847-9A7488EF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E79567-01BF-4041-9156-2BDF8C16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BB6CE-DC6F-42C4-A987-E18D0031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3202BE-5F5F-4C43-9247-73C1F546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18DFC4-F6DE-4A14-AEE9-99456396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B265B-81D8-423B-8002-A0D6A9A4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CC9429-6C74-4982-9468-D3F3BF30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22B43-0E3E-458C-B379-1BABBC93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33C482-75EC-43CC-89F0-C861D16B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35F626-DF17-49EB-A5A1-C3382CE6B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EEB529-856A-46F3-86D0-F809FAC55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5981A0-325B-4F7E-AEC5-CE80678C9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DA07D5-5CDC-45E5-830E-084C58B2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F8233C-771D-4A13-9A26-CA0102D6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7C7AE3-30AB-4B86-BC0F-A40A2377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49E413-189C-4D92-913C-A541438C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FFFFB9-B27C-47B0-B0EE-03ED631D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C8BAFD-BEC9-4413-B87F-343D8F4B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2543EF-F220-4E06-9E3E-4B1FB029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3436D2-D8A8-4EF6-A5C8-6204C760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D0A518-7951-4BC9-9A27-CF260DCB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582CF6-4159-4297-AD7A-D0A0B9D17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56B1C3-FF27-4C73-A4D0-D3B6FD60E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4"/>
          <a:stretch/>
        </p:blipFill>
        <p:spPr>
          <a:xfrm>
            <a:off x="3419640" y="6237360"/>
            <a:ext cx="216036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12" descr=""/>
          <p:cNvPicPr/>
          <p:nvPr/>
        </p:nvPicPr>
        <p:blipFill>
          <a:blip r:embed="rId3"/>
          <a:stretch/>
        </p:blipFill>
        <p:spPr>
          <a:xfrm>
            <a:off x="3419640" y="6237360"/>
            <a:ext cx="2160360" cy="4982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4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E688-FADF-4DDB-BB3F-20C6C93B6B3B}" type="slidenum">
              <a:rPr b="0" lang="en-GB" sz="4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www.wharton.upenn.edu/research/webi.html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Verdana"/>
              </a:rPr>
              <a:t>Del Modelo de Negocios al Plan de Negoci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Preguntas sobre produc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SzPct val="12852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Qué quiebre/necesidad/dolor del cliente resuelve mi produc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Está claro totalmente para mi y para el cliente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Lo pidió él o se me ocurre que le interes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Qué valor le agrega el producto al clien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Hay otros productos similares o sustituto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Cuáles son los productos competidor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Cuál es la propuesta de valor del produc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Preguntas sobre el clien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¿Quiénes son los stakeholder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Grupos o individuos que razonablemente pueda esperarse que se vean afectados de forma significativa por las actividades, productos y/o servicios de una organ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on los interesados directos e indirectos de una empresa que teniendo algún tipo de interés en las operaciones empresarias, le brindan su apoyo y ante los cuales la organización es responsable, tales como los accionistas, proveedores, clientes, etc.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ntonces ¿Quiénes son los cliente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42600" y="16426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Todos quienes reciban valor agregado por el producto (bien o servicio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lientes directos (que paga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lientes indirectos (reciben los benefici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Hasta el cliente de mi cliente de mi cliente………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Si tengo contento al cliente de mi cliente, tengo contento a mi clien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¿Son todos los stakeholder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Otra visión de un 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0" name="Object 3"/>
          <p:cNvGraphicFramePr/>
          <p:nvPr/>
        </p:nvGraphicFramePr>
        <p:xfrm>
          <a:off x="533520" y="1509840"/>
          <a:ext cx="7772400" cy="457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09840"/>
                    <a:ext cx="7772400" cy="45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8305560" cy="68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El modelo de negocios tiene una visión económica y técnica del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3" name="Object 3"/>
          <p:cNvGraphicFramePr/>
          <p:nvPr/>
        </p:nvGraphicFramePr>
        <p:xfrm>
          <a:off x="914400" y="1752480"/>
          <a:ext cx="717696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52480"/>
                    <a:ext cx="71769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La cadena de valor y la propuesta de val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3" descr="porter"/>
          <p:cNvPicPr/>
          <p:nvPr/>
        </p:nvPicPr>
        <p:blipFill>
          <a:blip r:embed="rId1"/>
          <a:stretch/>
        </p:blipFill>
        <p:spPr>
          <a:xfrm>
            <a:off x="838080" y="1905120"/>
            <a:ext cx="774396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Valor agregado para el consumidor fi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Picture 3" descr="value"/>
          <p:cNvPicPr/>
          <p:nvPr/>
        </p:nvPicPr>
        <p:blipFill>
          <a:blip r:embed="rId1"/>
          <a:srcRect l="2884" t="14300" r="961" b="3463"/>
          <a:stretch/>
        </p:blipFill>
        <p:spPr>
          <a:xfrm>
            <a:off x="838080" y="2438280"/>
            <a:ext cx="7620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2"/>
          <p:cNvGrpSpPr/>
          <p:nvPr/>
        </p:nvGrpSpPr>
        <p:grpSpPr>
          <a:xfrm>
            <a:off x="227160" y="1523880"/>
            <a:ext cx="8916480" cy="4261320"/>
            <a:chOff x="227160" y="1523880"/>
            <a:chExt cx="8916480" cy="4261320"/>
          </a:xfrm>
        </p:grpSpPr>
        <p:sp>
          <p:nvSpPr>
            <p:cNvPr id="250" name="Line 3"/>
            <p:cNvSpPr/>
            <p:nvPr/>
          </p:nvSpPr>
          <p:spPr>
            <a:xfrm>
              <a:off x="980640" y="3761640"/>
              <a:ext cx="20926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Freeform 4"/>
            <p:cNvSpPr/>
            <p:nvPr/>
          </p:nvSpPr>
          <p:spPr>
            <a:xfrm>
              <a:off x="1391040" y="2524320"/>
              <a:ext cx="1682640" cy="2728800"/>
            </a:xfrm>
            <a:custGeom>
              <a:avLst/>
              <a:gdLst>
                <a:gd name="textAreaLeft" fmla="*/ 0 w 1682640"/>
                <a:gd name="textAreaRight" fmla="*/ 1683000 w 1682640"/>
                <a:gd name="textAreaTop" fmla="*/ 0 h 2728800"/>
                <a:gd name="textAreaBottom" fmla="*/ 2729160 h 2728800"/>
              </a:gdLst>
              <a:ahLst/>
              <a:rect l="textAreaLeft" t="textAreaTop" r="textAreaRight" b="textAreaBottom"/>
              <a:pathLst>
                <a:path w="1054" h="1740">
                  <a:moveTo>
                    <a:pt x="1054" y="0"/>
                  </a:moveTo>
                  <a:lnTo>
                    <a:pt x="0" y="0"/>
                  </a:lnTo>
                  <a:lnTo>
                    <a:pt x="0" y="1740"/>
                  </a:lnTo>
                  <a:lnTo>
                    <a:pt x="1054" y="1740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Freeform 5"/>
            <p:cNvSpPr/>
            <p:nvPr/>
          </p:nvSpPr>
          <p:spPr>
            <a:xfrm>
              <a:off x="3075120" y="350604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Freeform 6"/>
            <p:cNvSpPr/>
            <p:nvPr/>
          </p:nvSpPr>
          <p:spPr>
            <a:xfrm>
              <a:off x="3075120" y="495864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Freeform 7"/>
            <p:cNvSpPr/>
            <p:nvPr/>
          </p:nvSpPr>
          <p:spPr>
            <a:xfrm>
              <a:off x="3075120" y="226872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Rectangle 8"/>
            <p:cNvSpPr/>
            <p:nvPr/>
          </p:nvSpPr>
          <p:spPr>
            <a:xfrm>
              <a:off x="1590480" y="326772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Rectangle 9"/>
            <p:cNvSpPr/>
            <p:nvPr/>
          </p:nvSpPr>
          <p:spPr>
            <a:xfrm>
              <a:off x="1590480" y="200376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AutoShape 10"/>
            <p:cNvSpPr/>
            <p:nvPr/>
          </p:nvSpPr>
          <p:spPr>
            <a:xfrm>
              <a:off x="3255840" y="2064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AutoShape 11"/>
            <p:cNvSpPr/>
            <p:nvPr/>
          </p:nvSpPr>
          <p:spPr>
            <a:xfrm>
              <a:off x="3255840" y="25513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AutoShape 12"/>
            <p:cNvSpPr/>
            <p:nvPr/>
          </p:nvSpPr>
          <p:spPr>
            <a:xfrm>
              <a:off x="3255840" y="3306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AutoShape 13"/>
            <p:cNvSpPr/>
            <p:nvPr/>
          </p:nvSpPr>
          <p:spPr>
            <a:xfrm>
              <a:off x="3255840" y="38008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14"/>
            <p:cNvSpPr/>
            <p:nvPr/>
          </p:nvSpPr>
          <p:spPr>
            <a:xfrm>
              <a:off x="699840" y="1523880"/>
              <a:ext cx="3511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Niveles en la creación de valo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15"/>
            <p:cNvSpPr/>
            <p:nvPr/>
          </p:nvSpPr>
          <p:spPr>
            <a:xfrm>
              <a:off x="227160" y="3338280"/>
              <a:ext cx="846360" cy="8218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Creación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de Valor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(EVA</a:t>
              </a:r>
              <a:r>
                <a:rPr b="1" lang="es-ES" sz="1200" spc="-1" strike="noStrike" baseline="30000">
                  <a:solidFill>
                    <a:srgbClr val="dddddd"/>
                  </a:solidFill>
                  <a:latin typeface="Arial"/>
                </a:rPr>
                <a:t>®</a:t>
              </a: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16"/>
            <p:cNvSpPr/>
            <p:nvPr/>
          </p:nvSpPr>
          <p:spPr>
            <a:xfrm>
              <a:off x="3351600" y="2160720"/>
              <a:ext cx="1010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Arial"/>
                </a:rPr>
                <a:t>Volumen de Venta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17"/>
            <p:cNvSpPr/>
            <p:nvPr/>
          </p:nvSpPr>
          <p:spPr>
            <a:xfrm>
              <a:off x="3598560" y="2615400"/>
              <a:ext cx="570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reci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Rectangle 18"/>
            <p:cNvSpPr/>
            <p:nvPr/>
          </p:nvSpPr>
          <p:spPr>
            <a:xfrm>
              <a:off x="3255480" y="3800880"/>
              <a:ext cx="1107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Administ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" name="Rectangle 19"/>
            <p:cNvSpPr/>
            <p:nvPr/>
          </p:nvSpPr>
          <p:spPr>
            <a:xfrm>
              <a:off x="3288600" y="395316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y Venta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7" name="Rectangle 20"/>
            <p:cNvSpPr/>
            <p:nvPr/>
          </p:nvSpPr>
          <p:spPr>
            <a:xfrm>
              <a:off x="3366360" y="3391560"/>
              <a:ext cx="81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Ope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" name="Rectangle 21"/>
            <p:cNvSpPr/>
            <p:nvPr/>
          </p:nvSpPr>
          <p:spPr>
            <a:xfrm>
              <a:off x="4647960" y="2025360"/>
              <a:ext cx="4430160" cy="99108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" name="Rectangle 22"/>
            <p:cNvSpPr/>
            <p:nvPr/>
          </p:nvSpPr>
          <p:spPr>
            <a:xfrm>
              <a:off x="4721400" y="2055240"/>
              <a:ext cx="20786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Acceso a nuevos mercad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Nuevos produc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Rectangle 23"/>
            <p:cNvSpPr/>
            <p:nvPr/>
          </p:nvSpPr>
          <p:spPr>
            <a:xfrm>
              <a:off x="6996600" y="2055240"/>
              <a:ext cx="2025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reación de nuevos productos /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" name="Rectangle 24"/>
            <p:cNvSpPr/>
            <p:nvPr/>
          </p:nvSpPr>
          <p:spPr>
            <a:xfrm>
              <a:off x="4721040" y="2507040"/>
              <a:ext cx="1892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onstrucción de image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uadrar demanda-ofer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Rectangle 25"/>
            <p:cNvSpPr/>
            <p:nvPr/>
          </p:nvSpPr>
          <p:spPr>
            <a:xfrm>
              <a:off x="4726080" y="3297600"/>
              <a:ext cx="243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de costos operac.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es compr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Rectangle 26"/>
            <p:cNvSpPr/>
            <p:nvPr/>
          </p:nvSpPr>
          <p:spPr>
            <a:xfrm>
              <a:off x="4722120" y="3796200"/>
              <a:ext cx="24123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costos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es logísticas eficient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costos de transacció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Rectangle 27"/>
            <p:cNvSpPr/>
            <p:nvPr/>
          </p:nvSpPr>
          <p:spPr>
            <a:xfrm>
              <a:off x="6996600" y="3796200"/>
              <a:ext cx="2147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arketing efectiv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onitoreo de operacion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Rectangle 28"/>
            <p:cNvSpPr/>
            <p:nvPr/>
          </p:nvSpPr>
          <p:spPr>
            <a:xfrm>
              <a:off x="7001280" y="5185800"/>
              <a:ext cx="2134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de productividad de flo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Rectangle 29"/>
            <p:cNvSpPr/>
            <p:nvPr/>
          </p:nvSpPr>
          <p:spPr>
            <a:xfrm>
              <a:off x="4718160" y="5190480"/>
              <a:ext cx="22716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s de productividad de redes logístic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Rectangle 30"/>
            <p:cNvSpPr/>
            <p:nvPr/>
          </p:nvSpPr>
          <p:spPr>
            <a:xfrm>
              <a:off x="6996600" y="3297600"/>
              <a:ext cx="18550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Fuentes de negociación de contra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Rectangle 31"/>
            <p:cNvSpPr/>
            <p:nvPr/>
          </p:nvSpPr>
          <p:spPr>
            <a:xfrm>
              <a:off x="4730760" y="4705920"/>
              <a:ext cx="2153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Optimización de Inventari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Time-to-market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Rectangle 32"/>
            <p:cNvSpPr/>
            <p:nvPr/>
          </p:nvSpPr>
          <p:spPr>
            <a:xfrm>
              <a:off x="5380200" y="1531440"/>
              <a:ext cx="2714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osibilidad de mejorar: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Rectangle 33"/>
            <p:cNvSpPr/>
            <p:nvPr/>
          </p:nvSpPr>
          <p:spPr>
            <a:xfrm>
              <a:off x="4641480" y="3278880"/>
              <a:ext cx="4430160" cy="112896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Rectangle 34"/>
            <p:cNvSpPr/>
            <p:nvPr/>
          </p:nvSpPr>
          <p:spPr>
            <a:xfrm>
              <a:off x="4635360" y="4660560"/>
              <a:ext cx="4430160" cy="107892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AutoShape 35"/>
            <p:cNvSpPr/>
            <p:nvPr/>
          </p:nvSpPr>
          <p:spPr>
            <a:xfrm>
              <a:off x="3246120" y="47530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" name="AutoShape 36"/>
            <p:cNvSpPr/>
            <p:nvPr/>
          </p:nvSpPr>
          <p:spPr>
            <a:xfrm>
              <a:off x="3246120" y="52405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4" name="Rectangle 37"/>
            <p:cNvSpPr/>
            <p:nvPr/>
          </p:nvSpPr>
          <p:spPr>
            <a:xfrm>
              <a:off x="3255840" y="4753080"/>
              <a:ext cx="10803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Capital de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" name="Rectangle 38"/>
            <p:cNvSpPr/>
            <p:nvPr/>
          </p:nvSpPr>
          <p:spPr>
            <a:xfrm>
              <a:off x="3366360" y="5284800"/>
              <a:ext cx="9730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Reducir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Activos Fij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6" name="Rectangle 39"/>
            <p:cNvSpPr/>
            <p:nvPr/>
          </p:nvSpPr>
          <p:spPr>
            <a:xfrm>
              <a:off x="7013880" y="2488320"/>
              <a:ext cx="2043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Segmentación efectiva de consumidor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7" name="Rectangle 40"/>
            <p:cNvSpPr/>
            <p:nvPr/>
          </p:nvSpPr>
          <p:spPr>
            <a:xfrm>
              <a:off x="6990120" y="4699800"/>
              <a:ext cx="21535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Pronósticos más precis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8" name="Rectangle 41"/>
            <p:cNvSpPr/>
            <p:nvPr/>
          </p:nvSpPr>
          <p:spPr>
            <a:xfrm>
              <a:off x="1662480" y="3324240"/>
              <a:ext cx="110772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Reduc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e Costos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89" name="Group 42"/>
            <p:cNvGrpSpPr/>
            <p:nvPr/>
          </p:nvGrpSpPr>
          <p:grpSpPr>
            <a:xfrm>
              <a:off x="1809000" y="3768120"/>
              <a:ext cx="949680" cy="446040"/>
              <a:chOff x="1809000" y="3768120"/>
              <a:chExt cx="949680" cy="446040"/>
            </a:xfrm>
          </p:grpSpPr>
          <p:sp>
            <p:nvSpPr>
              <p:cNvPr id="290" name="Line 43"/>
              <p:cNvSpPr/>
              <p:nvPr/>
            </p:nvSpPr>
            <p:spPr>
              <a:xfrm>
                <a:off x="1809000" y="3768120"/>
                <a:ext cx="0" cy="4442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1" name="Line 44"/>
              <p:cNvSpPr/>
              <p:nvPr/>
            </p:nvSpPr>
            <p:spPr>
              <a:xfrm>
                <a:off x="1809000" y="4214160"/>
                <a:ext cx="9496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2" name="Arc 45"/>
            <p:cNvSpPr/>
            <p:nvPr/>
          </p:nvSpPr>
          <p:spPr>
            <a:xfrm>
              <a:off x="1854000" y="3716280"/>
              <a:ext cx="815400" cy="431280"/>
            </a:xfrm>
            <a:custGeom>
              <a:avLst/>
              <a:gdLst>
                <a:gd name="textAreaLeft" fmla="*/ 0 w 815400"/>
                <a:gd name="textAreaRight" fmla="*/ 815760 w 81540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fill="none" w="22213" h="22289">
                  <a:moveTo>
                    <a:pt x="22213" y="22280"/>
                  </a:moveTo>
                  <a:cubicBezTo>
                    <a:pt x="22008" y="22286"/>
                    <a:pt x="21804" y="22288"/>
                    <a:pt x="21600" y="22289"/>
                  </a:cubicBezTo>
                  <a:cubicBezTo>
                    <a:pt x="9670" y="22289"/>
                    <a:pt x="0" y="12618"/>
                    <a:pt x="0" y="689"/>
                  </a:cubicBezTo>
                  <a:cubicBezTo>
                    <a:pt x="-1" y="459"/>
                    <a:pt x="3" y="229"/>
                    <a:pt x="10" y="-1"/>
                  </a:cubicBezTo>
                </a:path>
                <a:path stroke="0" w="22213" h="22289">
                  <a:moveTo>
                    <a:pt x="22213" y="22280"/>
                  </a:moveTo>
                  <a:cubicBezTo>
                    <a:pt x="22008" y="22286"/>
                    <a:pt x="21804" y="22288"/>
                    <a:pt x="21600" y="22289"/>
                  </a:cubicBezTo>
                  <a:cubicBezTo>
                    <a:pt x="9670" y="22289"/>
                    <a:pt x="0" y="12618"/>
                    <a:pt x="0" y="689"/>
                  </a:cubicBezTo>
                  <a:cubicBezTo>
                    <a:pt x="-1" y="459"/>
                    <a:pt x="3" y="229"/>
                    <a:pt x="10" y="-1"/>
                  </a:cubicBezTo>
                  <a:lnTo>
                    <a:pt x="21600" y="689"/>
                  </a:lnTo>
                  <a:close/>
                </a:path>
              </a:pathLst>
            </a:custGeom>
            <a:noFill/>
            <a:ln w="38160">
              <a:solidFill>
                <a:srgbClr val="dddddd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3" name="Rectangle 46"/>
            <p:cNvSpPr/>
            <p:nvPr/>
          </p:nvSpPr>
          <p:spPr>
            <a:xfrm>
              <a:off x="1590480" y="4693320"/>
              <a:ext cx="1254600" cy="103824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" name="Rectangle 47"/>
            <p:cNvSpPr/>
            <p:nvPr/>
          </p:nvSpPr>
          <p:spPr>
            <a:xfrm>
              <a:off x="1596960" y="4708800"/>
              <a:ext cx="1243440" cy="4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Optimización  del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uso de activ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5" name="Rectangle 48"/>
            <p:cNvSpPr/>
            <p:nvPr/>
          </p:nvSpPr>
          <p:spPr>
            <a:xfrm>
              <a:off x="1681560" y="5511960"/>
              <a:ext cx="109800" cy="1346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6" name="Rectangle 49"/>
            <p:cNvSpPr/>
            <p:nvPr/>
          </p:nvSpPr>
          <p:spPr>
            <a:xfrm>
              <a:off x="1833480" y="5511960"/>
              <a:ext cx="11124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7" name="Rectangle 50"/>
            <p:cNvSpPr/>
            <p:nvPr/>
          </p:nvSpPr>
          <p:spPr>
            <a:xfrm>
              <a:off x="1978560" y="5511960"/>
              <a:ext cx="109800" cy="134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8" name="Rectangle 51"/>
            <p:cNvSpPr/>
            <p:nvPr/>
          </p:nvSpPr>
          <p:spPr>
            <a:xfrm>
              <a:off x="1767960" y="5347080"/>
              <a:ext cx="111600" cy="134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9" name="Rectangle 52"/>
            <p:cNvSpPr/>
            <p:nvPr/>
          </p:nvSpPr>
          <p:spPr>
            <a:xfrm>
              <a:off x="1932120" y="5369400"/>
              <a:ext cx="109800" cy="13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" name="Rectangle 53"/>
            <p:cNvSpPr/>
            <p:nvPr/>
          </p:nvSpPr>
          <p:spPr>
            <a:xfrm>
              <a:off x="1866600" y="5204520"/>
              <a:ext cx="11016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" name="Rectangle 54"/>
            <p:cNvSpPr/>
            <p:nvPr/>
          </p:nvSpPr>
          <p:spPr>
            <a:xfrm>
              <a:off x="2527920" y="5482080"/>
              <a:ext cx="111600" cy="135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AutoShape 55"/>
            <p:cNvSpPr/>
            <p:nvPr/>
          </p:nvSpPr>
          <p:spPr>
            <a:xfrm>
              <a:off x="2266200" y="5339520"/>
              <a:ext cx="156240" cy="1756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03" name="Group 56"/>
            <p:cNvGrpSpPr/>
            <p:nvPr/>
          </p:nvGrpSpPr>
          <p:grpSpPr>
            <a:xfrm>
              <a:off x="1801080" y="2477160"/>
              <a:ext cx="951480" cy="446400"/>
              <a:chOff x="1801080" y="2477160"/>
              <a:chExt cx="951480" cy="446400"/>
            </a:xfrm>
          </p:grpSpPr>
          <p:sp>
            <p:nvSpPr>
              <p:cNvPr id="304" name="Line 57"/>
              <p:cNvSpPr/>
              <p:nvPr/>
            </p:nvSpPr>
            <p:spPr>
              <a:xfrm>
                <a:off x="1801080" y="2477160"/>
                <a:ext cx="0" cy="44460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5" name="Line 58"/>
              <p:cNvSpPr/>
              <p:nvPr/>
            </p:nvSpPr>
            <p:spPr>
              <a:xfrm>
                <a:off x="1801080" y="2923560"/>
                <a:ext cx="9514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06" name="Arc 59"/>
            <p:cNvSpPr/>
            <p:nvPr/>
          </p:nvSpPr>
          <p:spPr>
            <a:xfrm flipV="1">
              <a:off x="1833480" y="2525760"/>
              <a:ext cx="816840" cy="343440"/>
            </a:xfrm>
            <a:custGeom>
              <a:avLst/>
              <a:gdLst>
                <a:gd name="textAreaLeft" fmla="*/ 0 w 816840"/>
                <a:gd name="textAreaRight" fmla="*/ 817200 w 816840"/>
                <a:gd name="textAreaTop" fmla="*/ 360 h 343440"/>
                <a:gd name="textAreaBottom" fmla="*/ 344160 h 3434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ddddd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Rectangle 60"/>
            <p:cNvSpPr/>
            <p:nvPr/>
          </p:nvSpPr>
          <p:spPr>
            <a:xfrm>
              <a:off x="1648080" y="2022840"/>
              <a:ext cx="113976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Mejoramient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Ingres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Line 61"/>
            <p:cNvSpPr/>
            <p:nvPr/>
          </p:nvSpPr>
          <p:spPr>
            <a:xfrm>
              <a:off x="4647960" y="249156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Line 62"/>
            <p:cNvSpPr/>
            <p:nvPr/>
          </p:nvSpPr>
          <p:spPr>
            <a:xfrm>
              <a:off x="4638600" y="3764880"/>
              <a:ext cx="443304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Line 63"/>
            <p:cNvSpPr/>
            <p:nvPr/>
          </p:nvSpPr>
          <p:spPr>
            <a:xfrm>
              <a:off x="4628880" y="516240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reación de valor para la empre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Line 65"/>
          <p:cNvSpPr/>
          <p:nvPr/>
        </p:nvSpPr>
        <p:spPr>
          <a:xfrm>
            <a:off x="137160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Line 66"/>
          <p:cNvSpPr/>
          <p:nvPr/>
        </p:nvSpPr>
        <p:spPr>
          <a:xfrm>
            <a:off x="137160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Text Box 67"/>
          <p:cNvSpPr/>
          <p:nvPr/>
        </p:nvSpPr>
        <p:spPr>
          <a:xfrm>
            <a:off x="1719360" y="5899320"/>
            <a:ext cx="536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mento de valor de las acciones, del capital humano y/o del activo nomin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68"/>
          <p:cNvSpPr/>
          <p:nvPr/>
        </p:nvSpPr>
        <p:spPr>
          <a:xfrm>
            <a:off x="7086600" y="6019920"/>
            <a:ext cx="76320" cy="759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Rectangle 69"/>
          <p:cNvSpPr/>
          <p:nvPr/>
        </p:nvSpPr>
        <p:spPr>
          <a:xfrm>
            <a:off x="1752480" y="5867280"/>
            <a:ext cx="5410440" cy="3049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adena de valor 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(activ. Primaria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1428840" y="1560600"/>
            <a:ext cx="60166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Matriz de valor agrega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1143000" y="1571760"/>
            <a:ext cx="67975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Roadmap para evaluar un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3 Marcador de contenido" descr=""/>
          <p:cNvPicPr/>
          <p:nvPr/>
        </p:nvPicPr>
        <p:blipFill>
          <a:blip r:embed="rId1"/>
          <a:stretch/>
        </p:blipFill>
        <p:spPr>
          <a:xfrm>
            <a:off x="554040" y="1852560"/>
            <a:ext cx="803592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642600"/>
            <a:ext cx="80010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Valor agregado por actividad/cli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1347840" y="1500120"/>
            <a:ext cx="609768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499680"/>
            <a:ext cx="80010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Ej: Matriz de agregación de val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3 Marcador de contenido" descr=""/>
          <p:cNvPicPr/>
          <p:nvPr/>
        </p:nvPicPr>
        <p:blipFill>
          <a:blip r:embed="rId1"/>
          <a:stretch/>
        </p:blipFill>
        <p:spPr>
          <a:xfrm>
            <a:off x="1471680" y="1762200"/>
            <a:ext cx="6191280" cy="4248000"/>
          </a:xfrm>
          <a:prstGeom prst="rect">
            <a:avLst/>
          </a:prstGeom>
          <a:ln w="0">
            <a:noFill/>
          </a:ln>
        </p:spPr>
      </p:pic>
      <p:sp>
        <p:nvSpPr>
          <p:cNvPr id="325" name="4 CuadroTexto"/>
          <p:cNvSpPr/>
          <p:nvPr/>
        </p:nvSpPr>
        <p:spPr>
          <a:xfrm rot="16200000">
            <a:off x="555480" y="350028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Stakehold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Cadena de valor negocio postal certifica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1982880" y="1428840"/>
            <a:ext cx="65898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Cadena de valor negocio impresión variab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2238480" y="1752480"/>
            <a:ext cx="46576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99680" y="1714680"/>
            <a:ext cx="80010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22640" indent="-422640">
              <a:spcBef>
                <a:spcPts val="499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Valor= Beneficios-Costo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(incluye riesg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s un análisis y revisión cuantitativos de los beneficios, costos y valor que una organización puede darle 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l clien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soc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emplead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aliados estratégic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provee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otr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Otro ejemplo de la matriz agregación de valor en la cadena de los stakehol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3" name="Picture 4" descr=""/>
          <p:cNvPicPr/>
          <p:nvPr/>
        </p:nvPicPr>
        <p:blipFill>
          <a:blip r:embed="rId1"/>
          <a:stretch/>
        </p:blipFill>
        <p:spPr>
          <a:xfrm>
            <a:off x="1366920" y="1924200"/>
            <a:ext cx="640080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Ej.: Índice de interés del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Picture 1" descr=""/>
          <p:cNvPicPr/>
          <p:nvPr/>
        </p:nvPicPr>
        <p:blipFill>
          <a:blip r:embed="rId1"/>
          <a:stretch/>
        </p:blipFill>
        <p:spPr>
          <a:xfrm>
            <a:off x="1052640" y="2157480"/>
            <a:ext cx="70293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0000"/>
                </a:solidFill>
                <a:latin typeface="Verdana"/>
              </a:rPr>
              <a:t>Definiendo una estrateg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7" name="Group 3"/>
          <p:cNvGrpSpPr/>
          <p:nvPr/>
        </p:nvGrpSpPr>
        <p:grpSpPr>
          <a:xfrm>
            <a:off x="755640" y="1916280"/>
            <a:ext cx="6624720" cy="3312720"/>
            <a:chOff x="755640" y="1916280"/>
            <a:chExt cx="6624720" cy="3312720"/>
          </a:xfrm>
        </p:grpSpPr>
        <p:sp>
          <p:nvSpPr>
            <p:cNvPr id="338" name="Line 4"/>
            <p:cNvSpPr/>
            <p:nvPr/>
          </p:nvSpPr>
          <p:spPr>
            <a:xfrm>
              <a:off x="755640" y="5224320"/>
              <a:ext cx="662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9" name="Line 5"/>
            <p:cNvSpPr/>
            <p:nvPr/>
          </p:nvSpPr>
          <p:spPr>
            <a:xfrm>
              <a:off x="755640" y="3137400"/>
              <a:ext cx="662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0" name="Line 6"/>
            <p:cNvSpPr/>
            <p:nvPr/>
          </p:nvSpPr>
          <p:spPr>
            <a:xfrm>
              <a:off x="755640" y="4181040"/>
              <a:ext cx="662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1" name="AutoShape 7"/>
            <p:cNvSpPr/>
            <p:nvPr/>
          </p:nvSpPr>
          <p:spPr>
            <a:xfrm>
              <a:off x="2481480" y="1928880"/>
              <a:ext cx="4524480" cy="33001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99ff"/>
                </a:gs>
              </a:gsLst>
              <a:lin ang="27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sses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2" name="AutoShape 8"/>
            <p:cNvSpPr/>
            <p:nvPr/>
          </p:nvSpPr>
          <p:spPr>
            <a:xfrm>
              <a:off x="3192480" y="1916280"/>
              <a:ext cx="3091320" cy="2260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e0e5ea"/>
                </a:gs>
                <a:gs pos="100000">
                  <a:srgbClr val="a3b2c1"/>
                </a:gs>
              </a:gsLst>
              <a:lin ang="27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Model and Business Plan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3" name="AutoShape 9"/>
            <p:cNvSpPr/>
            <p:nvPr/>
          </p:nvSpPr>
          <p:spPr>
            <a:xfrm>
              <a:off x="3902760" y="1916280"/>
              <a:ext cx="1675080" cy="12211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eedd"/>
                </a:gs>
                <a:gs pos="100000">
                  <a:srgbClr val="ffcc99"/>
                </a:gs>
              </a:gsLst>
              <a:lin ang="27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ategy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4" name="Text Box 10"/>
            <p:cNvSpPr/>
            <p:nvPr/>
          </p:nvSpPr>
          <p:spPr>
            <a:xfrm>
              <a:off x="1064520" y="2526840"/>
              <a:ext cx="159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nning leve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Text Box 11"/>
            <p:cNvSpPr/>
            <p:nvPr/>
          </p:nvSpPr>
          <p:spPr>
            <a:xfrm>
              <a:off x="1060200" y="3366360"/>
              <a:ext cx="168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chitectural leve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Text Box 12"/>
            <p:cNvSpPr/>
            <p:nvPr/>
          </p:nvSpPr>
          <p:spPr>
            <a:xfrm>
              <a:off x="1063440" y="4282560"/>
              <a:ext cx="173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ve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Line 13"/>
            <p:cNvSpPr/>
            <p:nvPr/>
          </p:nvSpPr>
          <p:spPr>
            <a:xfrm>
              <a:off x="1060200" y="2323440"/>
              <a:ext cx="0" cy="290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101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efiniendo una Estrategia de Negocio (business strateg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944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1" name="Picture 6" descr="C:\Documents and Settings\cmfkw\Desktop\ppt\bs3.gif"/>
          <p:cNvPicPr/>
          <p:nvPr/>
        </p:nvPicPr>
        <p:blipFill>
          <a:blip r:embed="rId1"/>
          <a:stretch/>
        </p:blipFill>
        <p:spPr>
          <a:xfrm>
            <a:off x="798480" y="1670040"/>
            <a:ext cx="765972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¿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ónde situar los modelos de negocios en la arquitectura de negocio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428840" y="1714680"/>
            <a:ext cx="656568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SzPct val="1101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Competitive Advantag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something which gives the organisation some advantage over its riv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101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Cost advantag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A strategy to seek out and secure a cost advantag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f some kind - lower average costs, lower labour costs, et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944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3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Verdana"/>
              </a:rPr>
              <a:t>Market Dominanc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chieved through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rnal grow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cquisitions – mergers and takeov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Verdana"/>
              </a:rPr>
              <a:t>New product development:</a:t>
            </a:r>
            <a:r>
              <a:rPr b="1" lang="en-GB" sz="3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 keep ahead of rivals and set the p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Verdana"/>
              </a:rPr>
              <a:t>Contraction/Expansion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cus on what you are good at (core competencies) or seek to expand into a range of market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SzPct val="1101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Price Leadership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through dominating the industry – others follow your price le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101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Global</a:t>
            </a: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– seeking to expand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lobal ope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101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Reengineering</a:t>
            </a: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– thinking outside the box – looking at news ways of doing things to leverage the organisation’s 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ternal business level strategies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SzPct val="1101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Downsizing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selling off unwanted parts of the business – similar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o contr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SzPct val="1101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Delayering</a:t>
            </a:r>
            <a:r>
              <a:rPr b="1" lang="en-GB" sz="2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– flattening the management structure, removing bureaucracy, speed up decision mak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SzPct val="1101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Restructuring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complete re-think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f the way the business is organi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SzPct val="1101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ta from sales, profit, etc. used to evaluate the progress and success of the strategy and to inform of changes to the strategy in the light of that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2" name="Picture 13" descr="http://www.sxc.hu/pic/m/m/ma/mad7986/108543_8247.jpg"/>
          <p:cNvPicPr/>
          <p:nvPr/>
        </p:nvPicPr>
        <p:blipFill>
          <a:blip r:embed="rId2"/>
          <a:stretch/>
        </p:blipFill>
        <p:spPr>
          <a:xfrm>
            <a:off x="4724280" y="2057400"/>
            <a:ext cx="3810240" cy="284940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14"/>
          <p:cNvSpPr/>
          <p:nvPr/>
        </p:nvSpPr>
        <p:spPr>
          <a:xfrm>
            <a:off x="4724280" y="4952880"/>
            <a:ext cx="381024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Information from a wide variety of source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an help to measure and inform the impact and direction of the strateg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opyright: Mad7986, http://www.sxc.hu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¿Que es el Plan de Negocio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definición detallada de cómo el Modelo de Negocios se llevara a cabo de acuerdo a una estrategia en un determinado horizo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expresión cuantitativa de cómo se llevará a cabo el modelo de negocios siguiendo una estrateg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ntenido del Plan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RESUMEN EJECUTIV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 INDUSTRIA , LA EMPRESA, y EL ENTORN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ODELO DE NEGOCIO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NÁLISIS E INVESTIGACIÓN DE MERC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SPECTOS ECONÓMICOS DEL NEGOC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VENT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DISEÑO Y IMPLEMENT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OPER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QUIPO DE GEST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ACIÓN GLOB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RIESGOS CRÍTICOS, PROBLEMAS Y SUPUES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LAN FINANCI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ROPUES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NEXOS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  <a:ea typeface="Arial"/>
              </a:rPr>
              <a:t>Resumen Ejecutiv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Descripción del concepto de negocio y los negocios de la empre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oportunidad y la estrategia de nego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l mercado objetivo y proyec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s ventajas competitiv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económ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l equip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propues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  <a:ea typeface="Arial"/>
              </a:rPr>
              <a:t>La Industria, la Empresa, sus Productos y el Entorn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industr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empresa y su concep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oductos y Serv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rategias de penetración y crecimiento de mercado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nálisis e Investigación de Merca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lien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Tamaño y tendencias de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mpetencia y competitiv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orción de mercado y vent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la estrategia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del negocio y crecimi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 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n modelo de negocios es la arquitectura de la configuración de componentes de las transacciones diseñadas para explotar oportunidades de negocios (*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 hace cargo de la oportun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dica como y porqué las transacciones con clientes (y los beneficios) ocurrirá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cribe la interacción de la organización con otras entidades del 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*)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Raffi Amit, co-director of the Wharton</a:t>
            </a:r>
            <a:r>
              <a:rPr b="0" lang="es-ES" sz="18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-Business Initiative (WeB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spectos Económicos del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gresos y márgenes operacion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Utilidades y horizonte del produc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stos fijos y variab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dicadores de puntos de quiebre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Market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rategia global de marke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e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Tácticas de ven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olíticas de servicios y garantí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omoción y Public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Distribución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Ve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uánto vamos a ven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uándo vamos a ven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ómo vamos a vend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ónde vamos a vend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Quién va a ven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Que incentivos vamos a dar a vendedores y cliente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Diseño e Implantación del produc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Hitos y tare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Riesgos y dificulta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Mejoras de producto y nuevos produc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s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leg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Oper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iclo de oper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ocaliz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fraestructura e optimiz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lanes y estrategi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legales y regulatorios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quipo de Gest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187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rganiz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187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Personal cla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187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mpensa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187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tros invers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187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Gratifica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187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Directorio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1871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tros shareholders, derechos y restric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1871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nsultores y otros servicios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gramación Glob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xplicitar como se programarán las actividades asociadas a los programas de inversión y de oper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Financier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57120" y="1642680"/>
            <a:ext cx="8501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17960" indent="-41796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ados de Resultado y Balances actu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ados de Resultado Proforma (esperado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Balance Profor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Flujo de Caja Profor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dicadores de evaluación (Van, TIR, Payback, et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nálisis de sensibilidad y puntos de quieb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ntrol de Costo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Hechos esenciales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puesta para financiami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Financiamiento dese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Ofer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apitaliz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Uso de los fon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Retorno para los inversionist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iesgos, problemas y supuestos crític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los riesgos, problemas y otras contingencias que puedan ocurrir y como administrarlos (que hacer para mitigar esos riesgos antes que se produzcan o cuando se produzcan- planificación por contingencia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?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con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estrategia central de una organización que define su lugar en el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scribe la oportunidad y como la organización generará los benef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sponde a los “porqué” la organización exis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Oval 4"/>
          <p:cNvSpPr/>
          <p:nvPr/>
        </p:nvSpPr>
        <p:spPr>
          <a:xfrm>
            <a:off x="3041640" y="297180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1746360" y="2438280"/>
            <a:ext cx="1600200" cy="838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6"/>
          <p:cNvSpPr/>
          <p:nvPr/>
        </p:nvSpPr>
        <p:spPr>
          <a:xfrm flipV="1">
            <a:off x="1822320" y="434304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7"/>
          <p:cNvSpPr/>
          <p:nvPr/>
        </p:nvSpPr>
        <p:spPr>
          <a:xfrm flipH="1">
            <a:off x="4946760" y="281952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Line 8"/>
          <p:cNvSpPr/>
          <p:nvPr/>
        </p:nvSpPr>
        <p:spPr>
          <a:xfrm flipH="1" flipV="1">
            <a:off x="5022360" y="419112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3489120" y="335268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6327360" y="248904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6329880" y="45720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Oval 4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Line 6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7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Line 8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Line 14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Line 16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 Box 17"/>
          <p:cNvSpPr/>
          <p:nvPr/>
        </p:nvSpPr>
        <p:spPr>
          <a:xfrm>
            <a:off x="7457400" y="18288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Line 18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19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Line 20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21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ext Box 22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Line 23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Text Box 24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Line 25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Line 26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Line 27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Text Box 28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Line 29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Text Box 30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Line 31"/>
          <p:cNvSpPr/>
          <p:nvPr/>
        </p:nvSpPr>
        <p:spPr>
          <a:xfrm>
            <a:off x="4343400" y="2590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 Box 32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Oval 33"/>
          <p:cNvSpPr/>
          <p:nvPr/>
        </p:nvSpPr>
        <p:spPr>
          <a:xfrm>
            <a:off x="0" y="1197000"/>
            <a:ext cx="8964720" cy="5111640"/>
          </a:xfrm>
          <a:prstGeom prst="ellipse">
            <a:avLst/>
          </a:prstGeom>
          <a:solidFill>
            <a:srgbClr val="edf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Oval 4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Line 6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Line 7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Line 8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Line 14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Text Box 15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Line 16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7457400" y="18288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Line 18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Text Box 19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Line 20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ext Box 21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Text Box 22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Line 23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24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Line 25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Line 26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Line 27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 Box 28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Line 29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30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Line 31"/>
          <p:cNvSpPr/>
          <p:nvPr/>
        </p:nvSpPr>
        <p:spPr>
          <a:xfrm>
            <a:off x="4343400" y="259092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ext Box 32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Text Box 34"/>
          <p:cNvSpPr/>
          <p:nvPr/>
        </p:nvSpPr>
        <p:spPr>
          <a:xfrm rot="20437200">
            <a:off x="7237440" y="3859920"/>
            <a:ext cx="16207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ENTOR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Paí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Cultu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modelo plantea pregu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66640" y="1752480"/>
            <a:ext cx="8291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601"/>
              </a:spcBef>
              <a:buSzPct val="12852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Qué ………… producto serán mi fo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2852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uál …………será el nicho de merc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2852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Dónde ......lo vender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2852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Quién ……..lo producir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2852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Porqué….….nadie lo ha hech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2852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ómo ………lo promover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2852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uándo…….está dispuesto a pag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2852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uánto…….necesito de invers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  …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....y erróneamente los ingenieros creemos que tenemos de antemano las respuestas (la verda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SzPct val="10289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4:44:41Z</dcterms:created>
  <dc:creator>toshiba</dc:creator>
  <dc:description/>
  <dc:language>en-US</dc:language>
  <cp:lastModifiedBy>toshiba</cp:lastModifiedBy>
  <dcterms:modified xsi:type="dcterms:W3CDTF">2009-10-30T18:08:43Z</dcterms:modified>
  <cp:revision>27</cp:revision>
  <dc:subject/>
  <dc:title>Modelo de Negocios</dc:title>
</cp:coreProperties>
</file>