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D41B-862B-4C04-963F-CF6C60CB019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9F87-10FF-40A8-84B0-467A3416647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2747-81AC-4CAD-9004-AF743BF54A8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F9A1-6A68-45C9-B74C-62F906DC88D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E19C-09CF-42CD-8D41-82B0AE37B72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3A2A-E4C6-43C2-8159-78676718B19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F1DF-2A48-496B-AA7C-C961EA80FAE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B0FA-2E38-4D9A-BF44-560FF3759B8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7106-5B79-4331-BC13-A6A792B9D36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3E6E-B6D0-4FE4-B7E2-121C65268A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0848-A62A-457D-80C9-5271B2925D6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172C-61A5-46F4-B191-CCC83CD9974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034-500B-4E82-A5DE-445A041A9B2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4CF3-45A6-477D-AC47-6276A0B475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AD0-3A20-43A9-83F5-02D498C910A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CCC5-A3D3-4268-B1EE-B1FCF72F405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228D-1519-4EB2-9B3C-79D7A6E203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FCF6-F10D-4DF4-B5B5-4562084393F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D93B-EE54-4136-8C6D-399E7CAFB2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79F3-E00B-4666-A576-E8F6F93755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405D-805D-4F0E-A87A-EFCA58FC4A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8686-8C6B-439D-8A81-057110097CC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E1E0-B91D-4CE5-ABDD-533662DA3E2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FB68-F8B3-4495-A1F9-424E2D9CB46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02D8-D789-449B-8B98-F9C06ED31F76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B5C2-A82B-466B-BF51-719941204CBA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5DC3-0989-4896-AE1B-08A40D58B1E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C1F8-86BC-4DBC-948C-C21FAF1E3E12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F93D-35AE-4A40-8004-5D14BF424E14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8D1F-BC6D-417D-A371-FF261861EAE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9495-3034-4921-A88B-1B8042389B9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BD36-CB45-4063-A054-3F518123176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6E3-6003-480F-923E-C56D93A50F6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8E3F-A968-4B57-A28B-3A18162EE99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85B-7031-4994-B246-3381A68FE80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C0BB-A179-49E4-88EA-FC99EF3977B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A2AA-198B-40B7-A508-1A729CC294C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5761-A00C-4879-A8EA-3324E5FA970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BC83-418C-4A21-B6DB-659622209F1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5889-9409-423F-B3FA-C18A3782728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82FE-5D8A-4FD7-8433-2CC302FE94F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A0D4-2598-4330-AEAB-69CCA8816CE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19DD-FD8E-47D2-9132-FFE6894356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32D7-33BE-4100-85E5-97A407E6777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BCF6-B315-456C-B96E-8B9461EEDB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0849-A192-447C-89C6-75C66C4D54E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2B5D-4A19-4AE5-8C4C-F4B0041B796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CD7A-6BDA-4009-98B8-103F67DC8DE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3501-B229-4D52-B5AD-E531A649739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3755-F8F4-4258-9DC3-467FBF0BAD7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4D26B-EAF7-401F-9AE2-E060F243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5776B-C72C-491A-B04C-3B35A1D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1280F-127C-482A-A952-559DE7B3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888D7-3461-445E-9766-716F7F20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CCD53-6CD5-47DE-8B1E-48A4BF17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06E5A-2DE8-4C7C-A81A-2D4AC8D2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51002-D461-4F2A-9E38-335167C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D131A-39AC-4330-8258-21DCE3D5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3B89B-6E1E-464E-B8A2-B6997B5F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A4ABA-3221-4273-92CD-F42D1B38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37CFE-ADF8-4BD2-9A23-9C7D3789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AA1E9-CB09-4441-A06B-C9AD4826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8472F-E8F8-4FD3-AD38-560610DE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BE660-8FEF-4BA9-8495-4239BEC5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455B5-6696-493D-9D1A-5297016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B4193-EE79-46F4-89CC-B1FC545E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BAD09-5388-45F7-96E1-BA28BBAC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48F74-CC6B-4544-A07E-717B39DD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FDB63-7F4B-4D79-A86A-EC2B9DB4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E1A3C-BA68-4CE9-944E-3C8A3C19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B76A8-D789-40CB-B4B7-C504ABCE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715B1-C5F5-4611-93F1-CDF4B1D7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FE7AF-3826-4E2C-B5DD-F3E341BA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A41C0-3600-4955-86CE-5A1BA476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73CB-8C86-4E6B-AD9B-49A003D3072D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50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9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0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3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4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6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5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8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3192480" y="1916280"/>
              <a:ext cx="309132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5ea"/>
                </a:gs>
                <a:gs pos="100000">
                  <a:srgbClr val="a3b2c1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eedd"/>
                </a:gs>
                <a:gs pos="100000">
                  <a:srgbClr val="ffcc99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1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2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toshiba</cp:lastModifiedBy>
  <dcterms:modified xsi:type="dcterms:W3CDTF">2009-10-30T18:08:43Z</dcterms:modified>
  <cp:revision>27</cp:revision>
  <dc:subject/>
  <dc:title>Modelo de Negocios</dc:title>
</cp:coreProperties>
</file>