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B30-C4A3-4B1A-ACED-2A090A2808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23E4-8A93-486C-A984-266971B1B7B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C7C-7071-43FC-95DB-1815C1E49C6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D61-5F9F-47A1-A48C-602821A4854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897-576A-4831-9AAC-5A3F167806B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1DD-7231-47EE-B738-382E1F5B92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4A30-51F3-4094-90A7-18A5FDED7D4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40E9-D5FA-4E04-A87D-4A4F26F897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5A4-E8DA-4CA5-90D2-F609C7BB7F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501-6180-47B4-B669-F8E429FE21A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FEB6-0F5C-4701-BB5F-CACB0D4A133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0EEB-9880-496A-9C40-1FF437A725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E88F-37E3-477F-AA44-7E045BD82E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EA46-E6D1-4698-8569-28666A62AB2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0850-4146-47A1-A284-FA1F5633F89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497A-5A1F-4782-B911-DAE8FF13045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2766-0A71-4A3D-B91F-C3553C90B0C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ABAC-2B12-49DD-935E-0A087D204C6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544-6FA4-4332-95CD-DAA2AFF13F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C0B-2FE5-43F6-858E-E0AF48A20D0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E871-88F7-4174-B13D-BC939137E0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DED-CF49-4864-ACA7-F6B673311FF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0DD-64E9-4E2E-867B-51153749B2C1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71F-BC1A-4D01-92D2-7768454FA7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26A-2350-4D95-86C7-9E80B876FF4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3928-233A-416B-B9B1-C00584E368F3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A42-035E-46F5-98BD-4E89EEAA1C00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4AE-7F93-48C7-B209-63E03A40667B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0A2D-088E-4C96-92EF-43476FC6411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6112-28EB-4ABC-8E74-01A1F50822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1BF9-C4DD-4CF6-9068-44E25FF831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1B23-16AF-423E-AAD7-307515D094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3C34-7133-4571-A443-7C29C46A703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F7E-8090-431F-847E-806D0BF6921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143-7FFE-4C6C-A3AC-82B65EBE655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C6A4-D8F9-4F5F-B64D-18D93A826FB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5C9-164D-42A6-8D91-7E8B73BA6BC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DDC-ADEC-4B55-9616-6A6F4585A0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44E9-4793-43AF-91CF-8D8EB22D108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F0DB-121D-4A59-B759-34B5E95E0AF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674-588D-41B1-BBB1-D7E3EABBFE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61B9-D045-4428-94FB-BA6275C573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BBCE-A680-4138-9C1B-9B70BAE703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C49E-C335-4ED3-8A32-6766C90E23A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6AA-035B-4EF8-8DC9-4101483A89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D6DC-FC71-464D-9F9D-77122B9067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647-AEB1-4C5B-AD28-B1F58DF8A48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795-C1CE-4A64-B29C-336B67073C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460-0EFE-4BD5-952E-327B9C88E29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E2AF-88C4-4503-ABBB-7C55551336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1465C-E968-4C17-9E73-0070E6FD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5CE79-EBF9-41F6-AF7C-D0B77AB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D958-BF61-4193-AFBB-0C44666B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1616D-1821-4FAB-BC95-DFD39A6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9B46A-84B2-4EB3-88DA-8BE05545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A4941-413F-4321-A96A-118F612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544FA-B869-47EB-B5D1-BB05B14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BF616-2A24-4062-A624-FD7076F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EFB2A-9C1A-42A8-8D72-7A813CA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8F167-41FE-46A4-B97A-25BC929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AD13C-0D08-4576-A3DF-B1C2654F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69353-6410-4A1D-B6AB-231DBCD5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362F1-2B90-4184-8F7A-47066AD6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AC1EF-B08E-455A-BE37-FADAE77F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03DF3-FD15-47C4-8153-ECC8522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78BD4-1475-40E5-879E-806EA49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B1239-DD60-459D-9252-6A35ED8E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07D80-BADD-4FD2-9433-ED8A694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9D138-EF5E-4284-A313-5287233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41C91-9936-4178-9B29-1AF7772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9F0BF-F59D-4D5A-8647-582F568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58CEE-6D6F-4F9E-9CA6-7BA46998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BE538-9EE4-4459-96E8-E2B8AE42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FC5B1-AD43-438D-9A1E-8F42A431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A72-65FC-4BBB-9B95-81B93D30C992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50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9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0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3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4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6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8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3192480" y="1916280"/>
              <a:ext cx="309132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0e5ea"/>
                </a:gs>
                <a:gs pos="100000">
                  <a:srgbClr val="a3b2c1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eedd"/>
                </a:gs>
                <a:gs pos="100000">
                  <a:srgbClr val="ffcc99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1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101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2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 algn="just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451"/>
              </a:spcBef>
              <a:buSzPct val="1714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187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7120" y="164268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toshiba</cp:lastModifiedBy>
  <dcterms:modified xsi:type="dcterms:W3CDTF">2009-10-30T18:08:43Z</dcterms:modified>
  <cp:revision>27</cp:revision>
  <dc:subject/>
  <dc:title>Modelo de Negocios</dc:title>
</cp:coreProperties>
</file>