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9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0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7792-7D87-4024-AF81-22BB454621A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EAAD-6773-44E4-B621-D50EC4343BD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BFB8-EF42-4A6A-99EE-22DBCD7316C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B862-9DA6-43E1-9776-C53EF40F1F2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C533-ABD4-41F3-AA3F-73A683F29CE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A071-A9CF-4561-9ED1-AAAB792AF83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505F-07A7-4E93-AF1D-A7845C45710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E5E8-F1CB-42E2-943E-FEC9B5FAA3C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F1D0-429D-4F52-BD25-A4D46B1788C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D611-00E3-462F-B3B0-5443C8C252C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3009-AD31-44BC-8E12-9B124C7DB67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3BE6-7AEF-4AC6-B231-9E3EE15EE64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46A8-3B2E-49AA-980A-A5A75C61EE6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E8CD-FA20-4FA6-A0AB-407018DF303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74F7-4D80-4708-B72B-397E1E13480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9671-CF60-4958-A97A-605769D9F41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B435-BDA1-4F72-A4B8-D6228A25FC7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15F8-08BB-4E1D-BD94-CACCD8046ED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BC86-7CA5-44D7-9218-FBC20578FD0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E5C5-95B1-4BC3-9F50-31899B45D21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8962-229A-45F8-A5A2-DEAFB803FE3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EFDE-2E8E-4BCB-9BCE-F6B4B09933E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941A-700D-4917-A25D-C9340955A81F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A310-9F3E-4B57-A7B2-7F846FF2391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CA26-7F0F-4833-A48C-C86360A06EF3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7838-4AE5-4F19-846F-5441E1D4A1D8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DCFA-5744-499A-987C-284F2CB45AF2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B3F2-4514-4F28-9698-1A57EC4FF8B1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C8BC-8BE7-4D15-835C-C522A9285CD1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A8E1-2C71-49D7-A0CB-EF69C4AA696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0F6A-A940-468D-899E-6414FBC7880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8569-3F6A-4CF4-964D-041BD7081C2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D015-3734-407F-946D-805A09822CE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779E-B6AC-4DE4-BDA5-0650F326D9B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5D32-62C3-4103-9530-EC2A20006E9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2A55-474E-4AE4-86F7-32BC9B6D3BF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FFC1-8221-4D41-803E-32CE93DDD96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E4BF-DB1F-4A64-92E9-E016D94D654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89FA-3287-497C-A019-FDCCEC7D65D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6B97-1CC0-4031-9087-D85CC060375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ACEA-670F-4926-B4C9-F721E28E12D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D77C-018B-4692-A967-6D2037B0B4E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BF0B-0D59-42FE-AE4B-86EE5A276C6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B0A3-A8E1-4B39-9337-DCA28DED2B9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5A58-1CC7-47D5-8314-77116F26F27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B4E0-A5EA-4468-8EEE-D658A0B48AF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8CA6-AA33-468C-A6CD-2F0BC1953F7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9825-C89E-446F-B3B0-8BA16E1A817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5687-9551-4906-B112-B4F4907BA8C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DE5D-5A98-42FF-BC41-02F481C3222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ADDC0-D167-4A8C-B38F-A6686899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D5F99-B9A7-46BC-A96F-60AE8CE4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A3CE0-0E1F-473F-904B-CB4A624C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0AD9F-9AA1-41FD-A2B9-BC57C231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1BE0B-5356-4A3A-9DF4-136DA6B2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8E4EF-A8DE-4B67-B18B-2FA1257F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250E2-7C3E-42CB-88B2-0C907433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55E70-A068-43E9-9104-22D356BB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1B26C-A4E5-4361-82F2-691B5504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E6897-A619-4ABE-B84A-681D0674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115C4-9C63-43FB-A962-9F6B459D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F9B36-EF9A-43A3-BD68-A4418585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4BB3F1-F2C2-47CD-AB35-820F93DB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31F383-24C3-4599-AE88-C896FC35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93FA5D-ED12-40C5-89B2-C0A09A57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96DA6F-157B-441B-85E7-604891B8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82D9D9-64A3-461F-9FDD-D1F8A817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6A4BD-7728-4236-A6E0-5A440350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4A9B33-9EA4-4D8A-944E-2C56772F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DA6654-EE64-451C-80A8-5067A892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56978D-DC32-47C6-8AAB-4C27D350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560F64-B5B1-42C4-B0F4-9510291A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BCFC14-C240-4F81-ABAE-08208C75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18B6D5-7CDA-4844-9DBE-676A2F6F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4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D90E-3167-4D33-AC0A-41E67A7EB7F7}" type="slidenum">
              <a:rPr b="0" lang="en-GB" sz="4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3" name="Object 3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50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9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90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2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3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304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6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325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.: Índice de interés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1052640" y="2157480"/>
            <a:ext cx="7029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338" name="Line 4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Line 5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Line 6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AutoShape 8"/>
            <p:cNvSpPr/>
            <p:nvPr/>
          </p:nvSpPr>
          <p:spPr>
            <a:xfrm>
              <a:off x="3192480" y="1916280"/>
              <a:ext cx="309132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0e5ea"/>
                </a:gs>
                <a:gs pos="100000">
                  <a:srgbClr val="a3b2c1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AutoShape 9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eedd"/>
                </a:gs>
                <a:gs pos="100000">
                  <a:srgbClr val="ffcc99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Text Box 10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Text Box 11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Text Box 12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finiendo una Estrategia de Negocio (business strateg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6" descr="C:\Documents and Settings\cmfkw\Desktop\ppt\bs3.gif"/>
          <p:cNvPicPr/>
          <p:nvPr/>
        </p:nvPicPr>
        <p:blipFill>
          <a:blip r:embed="rId1"/>
          <a:stretch/>
        </p:blipFill>
        <p:spPr>
          <a:xfrm>
            <a:off x="798480" y="1670040"/>
            <a:ext cx="7659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mpetitive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omething which gives the organisation some advantage over its riv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st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A strategy to seek out and secure a cost advanta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some kind - lower average costs, lower labour cost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Market Dominanc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hieved throug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quisitions – mergers and takeov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New product development:</a:t>
            </a:r>
            <a:r>
              <a:rPr b="1" lang="en-GB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keep ahead of rivals and set the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Contraction/Expansion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us on what you are good at (core competencies) or seek to expand into a range of marke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Price Leadershi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through dominating the industry – others follow your price l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Global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seeking to exp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lob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engineering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thinking outside the box – looking at news ways of doing things to leverage the organisation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business level strategies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ownsiz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elling off unwanted parts of the business – simila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con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layering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flattening the management structure, removing bureaucracy, speed up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structur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complete re-think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ay the business is organ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rom sales, profit, etc. used to evaluate the progress and success of the strategy and to inform of changes to the strategy in the light of tha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13" descr="http://www.sxc.hu/pic/m/m/ma/mad7986/108543_8247.jpg"/>
          <p:cNvPicPr/>
          <p:nvPr/>
        </p:nvPicPr>
        <p:blipFill>
          <a:blip r:embed="rId2"/>
          <a:stretch/>
        </p:blipFill>
        <p:spPr>
          <a:xfrm>
            <a:off x="4724280" y="2057400"/>
            <a:ext cx="3810240" cy="28494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4"/>
          <p:cNvSpPr/>
          <p:nvPr/>
        </p:nvSpPr>
        <p:spPr>
          <a:xfrm>
            <a:off x="4724280" y="4952880"/>
            <a:ext cx="38102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formation from a wide variety of sourc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an help to measure and inform the impact and direction of the strateg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Mad7986, http://www.sxc.hu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xpresión cuantitativa de cómo se llevará a cabo el modelo de negocios siguiendo una e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, LA EMPRESA,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ODELO DE NEGOC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l negocio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e incentivos vamos a dar a vendedores y cli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8501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Proforma (esperad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Caj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evaluación (Van, TIR, Payback, et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sensibilidad y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modelo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do…….está dispuesto a pag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toshiba</cp:lastModifiedBy>
  <dcterms:modified xsi:type="dcterms:W3CDTF">2009-10-30T18:08:43Z</dcterms:modified>
  <cp:revision>27</cp:revision>
  <dc:subject/>
  <dc:title>Modelo de Negocios</dc:title>
</cp:coreProperties>
</file>