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846240"/>
            <a:ext cx="8382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12193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8462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8462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121932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121932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84624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384624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384624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12193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85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12193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8462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2193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8462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2193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846240"/>
            <a:ext cx="8382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32760" y="6248160"/>
            <a:ext cx="2410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00C02-729F-4452-864C-34908FFD22E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 baseline="15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Elevator Pitch 1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54864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499320" y="6445080"/>
            <a:ext cx="1626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© Copyright 2004 Chris O’Lea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628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Elevator Pitch 101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hris O’Leary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ww.thepowerofpain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27040" y="6232680"/>
            <a:ext cx="88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Version 1.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ELEVATOR PITCH = TEACHING TOOL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are the teac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listener probably doesn’t know as much about the subject as you 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just load people down with f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establish the context of your innov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ll them what you’re going to tell them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p them organize what you’re telling th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dience = Your Grandm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stener = Your Sales Fo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ELEVATOR PITCH = JIG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631880" y="1330200"/>
            <a:ext cx="587844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22392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The Flow of a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Elevator Pitc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HE FLOW OF AN ELEVATOR PITCH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mmary Sent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nsequence(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enef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e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ding Needs &amp; Use of Proc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on’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alk about The Techn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SUMMARY SENTENCE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ick overview of what you 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t the con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ition your product and compa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be used on its own to introduce yoursel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to say if you only have 10 seco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of compa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of product or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stom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nef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HE PROBLEM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’s wrong with the state of the ar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will drive people to adopt your innova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any people are experiencing The Proble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ys to communicate The Problem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rt off with a (preferably personal) s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lain how you came to see that a problem exi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re and contrast the state of the art and your vision of the fu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HE CONSEQUENCES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re the consequences of The Proble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e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ysical or psychological 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 specific and tangible about the nature and magnitude of the c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 evidence that people are in p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t they will change and adopt your innov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HE SOLUTION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have you buil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zi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“How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 people a plain English defin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jarg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acrony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MBA spe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analog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’s it lik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is it differen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llywood pitch mee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HE BENEFITS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’s in it for m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your relative advantag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red to the state of the art (e.g. existing solution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ally, you can offer a 10X improv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atic if only 1X improv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will you get the attention of your customer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you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p people make or save mone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ve people tim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HE TEAM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umulativ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years of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leva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xperi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are you qualified to solve The Proble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phasize the credibility and credentials of the te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your prior experience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aling with The Problem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ving The Problem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26964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Executive Summar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FUNDING NEEDS &amp; USE OF PROCEEDS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o you need to reach the next mileston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totyp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ipping product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uch $ you ne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uch time will it tak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 level use of proc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re are you in the product development lifecycl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on’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ention val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Black"/>
              </a:rPr>
              <a:t>DON’T</a:t>
            </a: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 TALK ABOUT THE TECHNOLOGY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adoxi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rd for many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they lo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they have spent _ years dealing wi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log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they understand it, you won’t give them en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they don’t understand it, they’ll lose inter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tmus t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you sel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you talk to an Ordinary Perso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2392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Sample</a:t>
            </a: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Elevator Pitc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ABOUT SALESLOGIX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ing middle market Customer Relationship Management (CRM) br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nded by Pat Sulliv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or of Ac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sed $17 million in 3 rou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d to Sage Software in 2001 for $253 mill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SALESLOGIX ELEVATOR PITCH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2620800"/>
            <a:ext cx="7315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UMMARY SENT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e make a software product, called SalesLogix, that combines the affordability and usability of a contact manager like Act and the power of a high-end CRM system like Sieb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SALESLOGIX ELEVATOR PITCH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1143000"/>
            <a:ext cx="73152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89080" indent="-174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any organizations are beginning to understand the value of giving their salespeople and customer service people tools that will allow them more efficiently manage their relationships with Contacts and Accou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89080" indent="-174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problem is that existing Customer Relationship Management (CRM) solutions fall into one of two categories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87240" indent="-23004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tact managers like Act and GoldMine that salespeople love but that do not allow people to share information across a large organiz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87240" indent="-23004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High end CRM systems like Siebel that will scale to support the needs of hundreds or thousands of users but that salespeople refuse to u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SALESLOGIX ELEVATOR PITCH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1935000"/>
            <a:ext cx="73152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result is that too many organizations are unable to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-17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-17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ordinate the efforts of their sales and customer service te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-17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btain a holistic picture of the custo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-17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aximize the revenue gained from each custom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SALESLOGIX ELEVATOR PITCH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1477800"/>
            <a:ext cx="36576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alesLogix is the CRM system that delivers the best of both worlds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7000" indent="-182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ease of use of a contact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7000" indent="-182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scalability, database synchronization, and reporting capabilities of a high-end CRM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76920" y="1523880"/>
            <a:ext cx="0" cy="3810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876920" y="5334120"/>
            <a:ext cx="3352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029200" y="434340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na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238880" y="1600200"/>
            <a:ext cx="914400" cy="914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gh-End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15000" y="2514600"/>
            <a:ext cx="1828800" cy="1828800"/>
          </a:xfrm>
          <a:prstGeom prst="ellips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lesLog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SALESLOGIX ELEVATOR PITCH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"/>
          <p:cNvSpPr/>
          <p:nvPr/>
        </p:nvSpPr>
        <p:spPr>
          <a:xfrm>
            <a:off x="914400" y="1782720"/>
            <a:ext cx="73152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BENEF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alesLogix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-17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akes salespeople happy by giving them tools that save them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-17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akes sales managers happy by giving them the reports that they ne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-17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akes I.S. people happy by using industry-standard databases like Oracle and Microsoft SQL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SALESLOGIX ELEVATOR PITCH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1203480"/>
            <a:ext cx="73152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SalesLogix team is led by Pat Sullivan, the former co-founder and CEO of Contact Software International, the company that developed Act, the most widely used contact manager. Other members of the SalesLogix team includ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-17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Greg Head (VP of Marketing) – Original product manager for Act at both Contact Software International and Symant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-17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unil Padiyar (VP of Engineering) – Former VP of Development for Nov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-17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an Nichter (VP of Sales) – Former VP of Sales for Contact Software Intern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-17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evin Carson (VP of Professional Services) – A highly experienced and respected CRM Value-Added Resell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ELEVATOR PITCH DEFINITION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"/>
          <p:cNvSpPr/>
          <p:nvPr/>
        </p:nvSpPr>
        <p:spPr>
          <a:xfrm>
            <a:off x="1856160" y="2314440"/>
            <a:ext cx="5420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Elevator Pitch is 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hor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br>
              <a:rPr sz="2800"/>
            </a:b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igh-leve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escripti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a new product or servic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t i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enefit-focuse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i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ailored to the audien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SALESLOGIX ELEVATOR PITCH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2544840"/>
            <a:ext cx="7315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UNDING NEEDS &amp; USE OF PROC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alesLogix is seeking $5 million to finance continued development of SalesLogix 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22392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Frequentl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Made Mistak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Common Failure Patterns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orm Bur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remely  low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H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o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qualified to solve the probl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ISO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ology, not a Produ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ense of who will buy it or w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“11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mental adv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 but no 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GETTING LOST IN THE “HOW”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essive (or exclusive) focus on How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r innovation wo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mistake of engine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nswer the questions they would ask, not the questions an investor or customer would a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r listener probably doesn’t understand the technology (and doesn’t car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get into the How until later presen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MISMATCHED MESSAGE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ople are used to giving one type of message to one type of audi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ume it will work universal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st tailor the message to the audi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stors want to hear about upside potent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ze of mark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llingness to p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stomers want to hear about benef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will this save me tim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will this save me mone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will this make me mone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HYPE-erbole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the greatest invention since sliced bread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a multi-billion dollar market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we can get just 1% of this market…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ll turn people of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ople are skept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it sounds too good to be true, it probably 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will seem unfocu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will come across as naï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ling is harder than you thin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 enthusiastic but don’t overstate your c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NOT GETTING TO THE POINT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o many people save the best for la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 there’s so much more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could never do it just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ying to intrigue peo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rienced people put the best information fir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l them what you’re going to tell them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rt off with an executive summ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gle phrase that addresses The Problem and The Sol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only have a limited amount of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prepared to be cut off at any mo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NO STATEMENT OF THE PROBLEM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rely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essive focus on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opportun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otent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ol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ver explain what’s wrong with state of the 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people hate to 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will drive people to chang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pothetical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establishing that a problem truly exi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ution In Search Of A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NO STATEMENT OF THE BENEFIT(S)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features and techn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H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enefits are what most people care ab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ct benefits to be self-evid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o often benefits are only clear to an expe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t benefits at the end of the pit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uld be at the fro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will customers car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MBA-itis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essive use of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rg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zzw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rony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ak Engli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would you explain this to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r spo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r chi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r fa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r grandmo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COMMUNICATION 101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y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orld needs your inno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will buy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and what it do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you are to solve the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your innovation wo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NOT ESTABLISHING CREDIBILITY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re your qualifications to solve this proble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di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denti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eri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a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you really understand the proble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you lived with i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this a real solution to a hypothetical problem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26964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In Summar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ELEVATOR PITCH DEFINITION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"/>
          <p:cNvSpPr/>
          <p:nvPr/>
        </p:nvSpPr>
        <p:spPr>
          <a:xfrm>
            <a:off x="1856160" y="2314440"/>
            <a:ext cx="5420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Elevator Pitch is 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hor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br>
              <a:rPr sz="2800"/>
            </a:b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igh-leve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escripti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a new product or servic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t i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enefit-focuse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i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ailored to the audien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HE FLOW OF AN ELEVATOR PITCH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mmary Sent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nsequence(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enef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e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ding Needs &amp; Use of Proc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on’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alk about The Technology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DOs AND DON’Ts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speak Engli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tailor your message to the audi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get lost in the “How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vator Pitch = Teaching To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blish the context of the innov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n’t just load people down with fa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oversell or overprom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RESOURCES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ting to Win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erry Weis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to Get Your Point Across in 30 second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o O. Fra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CONTACT INFO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1584360"/>
            <a:ext cx="914400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314.909.9760 - home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314.494.1324 - cell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hris@thepowerofpain.com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ww.thepowerofpain.co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lides Available Online at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ww.thepowerofpain.co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HE FLOW OF AN ELEVATOR PITCH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mmary Sent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nsequence(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enef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e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ding Needs &amp; Use of Proc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on’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alk about The Techn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6964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Introdu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HE ORIGIN OF THE TERM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n into a Venture Capitalist or Prospective Customer in an elev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ask you what you 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have the length of the elevator rid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15 to 60 seconds) to convince them to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inue tal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t up a follow-up mee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oal of an elevator pitch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sn’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vince them to invest in your compa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suade them to buy your produ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ELEVATOR PITCH DEFINITION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"/>
          <p:cNvSpPr/>
          <p:nvPr/>
        </p:nvSpPr>
        <p:spPr>
          <a:xfrm>
            <a:off x="1856160" y="2314440"/>
            <a:ext cx="5420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Elevator Pitch is 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hor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br>
              <a:rPr sz="2800"/>
            </a:b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igh-leve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escripti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a new product or servic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t i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enefit-focuse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i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ailored to the audien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WHY YOU NEED AN ELEVATOR PITCH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ople are bus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,000 foot 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ople aren’t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interested in the subject as you a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knowledgeable about the subject as you 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need to prove to a potential investor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are articul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understand sel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can get a customer’s atten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7T22:27:18Z</dcterms:created>
  <dc:creator>Chris O'Leary</dc:creator>
  <dc:description/>
  <dc:language>en-US</dc:language>
  <cp:lastModifiedBy> </cp:lastModifiedBy>
  <dcterms:modified xsi:type="dcterms:W3CDTF">2005-10-11T20:16:45Z</dcterms:modified>
  <cp:revision>234</cp:revision>
  <dc:subject>How to create an effective elevator pitch</dc:subject>
  <dc:title>Elevator Pitch 10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331654246</vt:r8>
  </property>
  <property fmtid="{D5CDD505-2E9C-101B-9397-08002B2CF9AE}" pid="3" name="_AuthorEmail">
    <vt:lpwstr>coleary@talx.com</vt:lpwstr>
  </property>
  <property fmtid="{D5CDD505-2E9C-101B-9397-08002B2CF9AE}" pid="4" name="_AuthorEmailDisplayName">
    <vt:lpwstr>Chris O'Leary</vt:lpwstr>
  </property>
  <property fmtid="{D5CDD505-2E9C-101B-9397-08002B2CF9AE}" pid="5" name="_EmailSubject">
    <vt:lpwstr>Olin Cup 2004 - 5/7 Workshop Confirmation</vt:lpwstr>
  </property>
  <property fmtid="{D5CDD505-2E9C-101B-9397-08002B2CF9AE}" pid="6" name="_ReviewingToolsShownOnce">
    <vt:lpwstr/>
  </property>
</Properties>
</file>