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20.wmf" ContentType="image/x-wmf"/>
  <Override PartName="/ppt/media/image4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6.png" ContentType="image/png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A98C4-C800-4CE0-BF5B-27B6B37CD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6A1A3-A7E4-403F-B5BE-528C574AD7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29E4-4007-4A6A-9961-97E618A88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FE4CD-163A-4AF9-ADC3-ED07C61A8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8717A-01A5-46A0-B351-7A2A70AB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3D255-38DD-4EA1-A55B-A8CE3DE7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9F80A-5AAF-4803-96EE-C9C1C140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48E3A-3AC6-4BD9-AADE-F387E9C7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3F9E9-6349-4409-AB37-71866F85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48681-D70D-4FA5-9A60-6848912F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210E9-982D-4D1D-86E5-8CB96901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3A9F3-B827-4E12-A5F5-18FCFD829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90685-979F-45F3-A757-59EE0A91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BD632-6A86-4EFA-A2B9-2F78BBD5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F3C62-920C-4157-9C51-22A40A27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9567C-2193-46CB-82B7-6AA6E19E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C8794-4BA5-4221-B2FB-89675410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BFA2D-AFC0-4DA0-AC87-11511C8F6C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176A5-E2F8-4BE7-A201-0E8082DB2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B3BE-1FEA-4A1F-B374-00FA5C52B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2984F-4D74-402B-8E66-237DEFB41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0B722-12DE-43B9-82F1-1159B1E84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5F2DF-92D9-41FE-89CD-66EE015E9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C2E4-F10C-47CB-8403-B29287A46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888800" y="6276960"/>
            <a:ext cx="364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C591-89A5-46EF-BD0E-869DF79705B0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7723-1FAE-44E2-B8EC-394DA23E19AD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5053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8: Programación de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353600" y="5486400"/>
            <a:ext cx="70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Inventario de Producto vs Uso de Mano de O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25640" y="1676520"/>
            <a:ext cx="5541840" cy="3735360"/>
            <a:chOff x="1925640" y="1676520"/>
            <a:chExt cx="5541840" cy="37353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1981080" y="1700280"/>
              <a:ext cx="54864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00608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7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7276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8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6160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9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99400" y="5135400"/>
              <a:ext cx="567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32080" y="16765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44680" y="23623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2080" y="308628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4680" y="380988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44680" y="45259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981360" y="3323160"/>
              <a:ext cx="2378160" cy="48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de producto en 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(cientos de horas hombr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B9F8E-F56A-4C40-AA23-3E025C1FD3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onga que es posible reducir el inventario de producto en proceso en un 10% mientras que el uso de la mano de obra disminuye sólo en un 1%, ¿vale la pena la compensac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inventario de producto en proceso es 2 millones de dóla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tilizan 200 personas que cuestan 5 dólares la h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esta 20 centavos mantener 1 dólar de inventario durante un a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B1C6-EB3E-4E57-AE8B-018F06A032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pues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 de disminuir el uso de la mano de obra = 0.01·200·40·52·$5 = $20,8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horro anual de inventario =              0.1·20·$2,000,000 = $40,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o el ahorro de inventario es mayor que el costo debido a la reducción de mano de obra, vale la pena reducir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DE1AD-E362-4BAD-A8A7-F9DBBBC318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431800" y="586728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Relación entre Entradas -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87680" y="1574640"/>
            <a:ext cx="4118040" cy="4234320"/>
            <a:chOff x="2587680" y="1574640"/>
            <a:chExt cx="4118040" cy="423432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627280" y="1574640"/>
              <a:ext cx="4078440" cy="42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496680" y="5562720"/>
              <a:ext cx="2806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Nivel de inventarios de producto en proce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1917000" y="3363480"/>
              <a:ext cx="17398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 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o velocidad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29840" y="3429000"/>
              <a:ext cx="1642320" cy="246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locidad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14960" y="1600200"/>
              <a:ext cx="1736640" cy="398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 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me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04400" y="1600200"/>
              <a:ext cx="1073880" cy="55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ariación en 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FDD59-ADC8-46E0-B29F-E89513FE95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do un conjunto de trabajos que pasan por distintas máquinas, ¿cómo cargar el sistem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t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s los trabajos enviados al comienzo de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fábrica text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nám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trabajos siguen llegando durante e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 garage, 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30BF0-A961-44D9-80DD-460646A341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es de operación de cada máqui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prometidos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oridades de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 a futu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n cargando hacia delante los trabajos y se ve si se cumplen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puede usar capacidad infinita para ver la capacidad necesaria o imponer la capacidad exist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ja: se carga bien al comien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entaja: no asegura bien cumplir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F104-BA73-4194-998E-435CFE9BD8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 retrospec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r con las fechas de vencimiento y retroceder hasta el tiempo actu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ja: asegura el cumplimiento de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entaja: puede cargar mal al comien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enta problemas sobre todo en el caso dinám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 proyectos y 3 máqui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ías de 8 ho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movimiento/espera de 8 ho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485D-C3E6-464C-8100-515B8CB2DA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cargar las máquinas con trabajos de manera de cumplir los plazos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813320" y="297180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Datos de Proyectos par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4114800" cy="16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8C1E3-7B1B-4882-ADEA-B37401630E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234440" y="190512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íneas de Tiempo para la Carga a Futu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905120" y="2514600"/>
            <a:ext cx="6276600" cy="2903400"/>
            <a:chOff x="1905120" y="2514600"/>
            <a:chExt cx="6276600" cy="290340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1905120" y="2774880"/>
              <a:ext cx="579744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740560" y="40258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133720" y="3429000"/>
              <a:ext cx="5562360" cy="685800"/>
              <a:chOff x="2133720" y="3429000"/>
              <a:chExt cx="5562360" cy="685800"/>
            </a:xfrm>
          </p:grpSpPr>
          <p:sp>
            <p:nvSpPr>
              <p:cNvPr id="167" name=""/>
              <p:cNvSpPr/>
              <p:nvPr/>
            </p:nvSpPr>
            <p:spPr>
              <a:xfrm>
                <a:off x="2133720" y="3429000"/>
                <a:ext cx="55623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133720" y="3505320"/>
                <a:ext cx="5409720" cy="534960"/>
                <a:chOff x="2133720" y="3505320"/>
                <a:chExt cx="5409720" cy="534960"/>
              </a:xfrm>
            </p:grpSpPr>
            <p:sp>
              <p:nvSpPr>
                <p:cNvPr id="169" name=""/>
                <p:cNvSpPr/>
                <p:nvPr/>
              </p:nvSpPr>
              <p:spPr>
                <a:xfrm rot="5400000">
                  <a:off x="2705040" y="29336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5400000">
                  <a:off x="4076640" y="29336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5400000">
                  <a:off x="5524200" y="29336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5400000">
                  <a:off x="6895800" y="29336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511000" y="35942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864960" y="35942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25480" y="3606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684480" y="36162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677040" y="379404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>
              <a:off x="6477120" y="31622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45320" y="3009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450864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32720" y="4368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057400" y="4724280"/>
              <a:ext cx="5715000" cy="687600"/>
              <a:chOff x="2057400" y="4724280"/>
              <a:chExt cx="5715000" cy="687600"/>
            </a:xfrm>
          </p:grpSpPr>
          <p:sp>
            <p:nvSpPr>
              <p:cNvPr id="183" name=""/>
              <p:cNvSpPr/>
              <p:nvPr/>
            </p:nvSpPr>
            <p:spPr>
              <a:xfrm>
                <a:off x="2057400" y="472428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2133720" y="4876920"/>
                <a:ext cx="5409720" cy="534960"/>
                <a:chOff x="2133720" y="4876920"/>
                <a:chExt cx="5409720" cy="534960"/>
              </a:xfrm>
            </p:grpSpPr>
            <p:sp>
              <p:nvSpPr>
                <p:cNvPr id="185" name=""/>
                <p:cNvSpPr/>
                <p:nvPr/>
              </p:nvSpPr>
              <p:spPr>
                <a:xfrm rot="5400000">
                  <a:off x="2705040" y="43052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5400000">
                  <a:off x="4076640" y="43052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5400000">
                  <a:off x="5524200" y="43052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5400000">
                  <a:off x="6895800" y="43052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511000" y="4965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864960" y="4965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325480" y="49784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684480" y="49878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677040" y="516564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1994760" y="27273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50080" y="27273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0836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4800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3256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5004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81800" y="40989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10680" y="411480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25840" y="41148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30720" y="41148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20080" y="251460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0C391-8750-4356-A62E-85BC648B85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76520" y="1420920"/>
            <a:ext cx="6629400" cy="4687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861560" y="6019920"/>
            <a:ext cx="518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dicación: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Partir en A con proyecto 5 en vez de proyecto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057400" y="5359320"/>
            <a:ext cx="5715000" cy="687600"/>
            <a:chOff x="2057400" y="5359320"/>
            <a:chExt cx="5715000" cy="687600"/>
          </a:xfrm>
        </p:grpSpPr>
        <p:sp>
          <p:nvSpPr>
            <p:cNvPr id="209" name=""/>
            <p:cNvSpPr/>
            <p:nvPr/>
          </p:nvSpPr>
          <p:spPr>
            <a:xfrm>
              <a:off x="2057400" y="5359320"/>
              <a:ext cx="5715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133720" y="5511960"/>
              <a:ext cx="5409720" cy="534960"/>
              <a:chOff x="2133720" y="5511960"/>
              <a:chExt cx="5409720" cy="534960"/>
            </a:xfrm>
          </p:grpSpPr>
          <p:sp>
            <p:nvSpPr>
              <p:cNvPr id="211" name=""/>
              <p:cNvSpPr/>
              <p:nvPr/>
            </p:nvSpPr>
            <p:spPr>
              <a:xfrm rot="5400000">
                <a:off x="2705040" y="4940280"/>
                <a:ext cx="75960" cy="121896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400000">
                <a:off x="4076640" y="4940280"/>
                <a:ext cx="75960" cy="121896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5524200" y="4940280"/>
                <a:ext cx="75960" cy="121932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400000">
                <a:off x="6895800" y="4940280"/>
                <a:ext cx="75960" cy="121932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11000" y="56008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64960" y="56008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25480" y="56134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684480" y="562284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677040" y="580068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"/>
          <p:cNvSpPr/>
          <p:nvPr/>
        </p:nvSpPr>
        <p:spPr>
          <a:xfrm>
            <a:off x="4317840" y="1432080"/>
            <a:ext cx="324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56600" y="1397160"/>
            <a:ext cx="6242040" cy="3809520"/>
            <a:chOff x="1956600" y="1397160"/>
            <a:chExt cx="6242040" cy="3809520"/>
          </a:xfrm>
        </p:grpSpPr>
        <p:grpSp>
          <p:nvGrpSpPr>
            <p:cNvPr id="222" name=""/>
            <p:cNvGrpSpPr/>
            <p:nvPr/>
          </p:nvGrpSpPr>
          <p:grpSpPr>
            <a:xfrm>
              <a:off x="2057400" y="2158920"/>
              <a:ext cx="5715000" cy="687600"/>
              <a:chOff x="2057400" y="2158920"/>
              <a:chExt cx="5715000" cy="687600"/>
            </a:xfrm>
          </p:grpSpPr>
          <p:sp>
            <p:nvSpPr>
              <p:cNvPr id="223" name=""/>
              <p:cNvSpPr/>
              <p:nvPr/>
            </p:nvSpPr>
            <p:spPr>
              <a:xfrm>
                <a:off x="2057400" y="215892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2133720" y="2311560"/>
                <a:ext cx="5409720" cy="534960"/>
                <a:chOff x="2133720" y="2311560"/>
                <a:chExt cx="5409720" cy="534960"/>
              </a:xfrm>
            </p:grpSpPr>
            <p:sp>
              <p:nvSpPr>
                <p:cNvPr id="225" name=""/>
                <p:cNvSpPr/>
                <p:nvPr/>
              </p:nvSpPr>
              <p:spPr>
                <a:xfrm rot="5400000">
                  <a:off x="2705040" y="173988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5400000">
                  <a:off x="4076640" y="173988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5400000">
                  <a:off x="5524200" y="173988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5400000">
                  <a:off x="6895800" y="173988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511000" y="24004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64960" y="24004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25480" y="24130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684480" y="24224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677040" y="260028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2057400" y="3606840"/>
              <a:ext cx="5715000" cy="687600"/>
              <a:chOff x="2057400" y="3606840"/>
              <a:chExt cx="5715000" cy="687600"/>
            </a:xfrm>
          </p:grpSpPr>
          <p:sp>
            <p:nvSpPr>
              <p:cNvPr id="235" name=""/>
              <p:cNvSpPr/>
              <p:nvPr/>
            </p:nvSpPr>
            <p:spPr>
              <a:xfrm>
                <a:off x="2057400" y="360684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2133720" y="3759480"/>
                <a:ext cx="5409720" cy="534960"/>
                <a:chOff x="2133720" y="3759480"/>
                <a:chExt cx="5409720" cy="534960"/>
              </a:xfrm>
            </p:grpSpPr>
            <p:sp>
              <p:nvSpPr>
                <p:cNvPr id="237" name=""/>
                <p:cNvSpPr/>
                <p:nvPr/>
              </p:nvSpPr>
              <p:spPr>
                <a:xfrm rot="5400000">
                  <a:off x="2705040" y="318780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5400000">
                  <a:off x="4076640" y="318780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5400000">
                  <a:off x="5524200" y="318780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5400000">
                  <a:off x="6895800" y="318780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11000" y="38484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864960" y="38484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325480" y="38610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684480" y="387036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677040" y="404820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>
              <a:off x="6045120" y="18921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6720" y="5067360"/>
              <a:ext cx="24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44800" y="33148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57400" y="5054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031840" y="4876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044800" y="3174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34240" y="4901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632720" y="1739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95680" y="139716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89280" y="256212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50680" y="425124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56600" y="144792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89760" y="144792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3696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1500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4360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96200" y="2895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56080" y="287964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0364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6272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1040" y="287964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61160" y="4632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75560" y="4632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72000" y="46483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91520" y="2933640"/>
              <a:ext cx="685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32240" y="4632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4380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1AB5-1660-4524-911A-513B3FE9C0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a las decisiones concre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cisiones detalladas, complejas y con muchas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ben ser consistentes con el nivel tác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grar que la capacidad disponible se use en forma efectiva y efic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ir equipos y personal entre distintos trabajos y activ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EF32-6125-45E0-9EA2-9035E65D63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2812680" y="502920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s de Carga a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346040" y="2590920"/>
            <a:ext cx="6426360" cy="2171520"/>
            <a:chOff x="1346040" y="2590920"/>
            <a:chExt cx="6426360" cy="217152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1346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3632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5918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6B836-058B-41C1-971C-4B9CFF1300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457720" y="502920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Nivela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47920" y="2590920"/>
            <a:ext cx="6476400" cy="2171520"/>
            <a:chOff x="1447920" y="2590920"/>
            <a:chExt cx="6476400" cy="217152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1447920" y="2590920"/>
              <a:ext cx="22046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719680" y="2590920"/>
              <a:ext cx="22046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373356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CEBB5-1AD0-4795-8DD5-08363C85B8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803240" y="5486400"/>
            <a:ext cx="67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íneas de Tiempo para la Carga Ret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1812960"/>
            <a:ext cx="7191360" cy="3368520"/>
            <a:chOff x="1447920" y="1812960"/>
            <a:chExt cx="7191360" cy="336852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1447920" y="1839960"/>
              <a:ext cx="7191360" cy="33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460520" y="4267080"/>
              <a:ext cx="7086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555560" y="4470480"/>
              <a:ext cx="6706800" cy="630360"/>
              <a:chOff x="1555560" y="4470480"/>
              <a:chExt cx="6706800" cy="63036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260440" y="37652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3960720" y="37652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400000">
                <a:off x="5756040" y="37652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5400000">
                <a:off x="7456320" y="37652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25720" y="45885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702600" y="45885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14120" y="46054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97840" y="46180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82280" y="485460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511280" y="2654280"/>
              <a:ext cx="7086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606320" y="2857680"/>
              <a:ext cx="6706800" cy="630360"/>
              <a:chOff x="1606320" y="2857680"/>
              <a:chExt cx="6706800" cy="630360"/>
            </a:xfrm>
          </p:grpSpPr>
          <p:sp>
            <p:nvSpPr>
              <p:cNvPr id="302" name=""/>
              <p:cNvSpPr/>
              <p:nvPr/>
            </p:nvSpPr>
            <p:spPr>
              <a:xfrm rot="5400000">
                <a:off x="2311200" y="21524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4011480" y="21524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400000">
                <a:off x="5806800" y="21524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400000">
                <a:off x="7507080" y="21524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76480" y="29757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53360" y="29757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64880" y="29926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48600" y="30052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533040" y="324180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67720" y="1812960"/>
              <a:ext cx="1473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 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14880" y="3489480"/>
              <a:ext cx="1473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 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FCBD-C198-403F-BD7A-EA7B31B3D8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2610000" y="49528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s de Carga Ret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905120" y="2590920"/>
            <a:ext cx="5968800" cy="2171520"/>
            <a:chOff x="1905120" y="2590920"/>
            <a:chExt cx="5968800" cy="21715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190512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393696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01992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EFC9-CBFF-4B2D-912B-43112B1043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as cajas de peaje son necesarias en un día de demanda al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auto demora en caja 30 segun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una estadística de la llegada de autos por minu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3E76E-493B-4CC4-959D-BED8368CD7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743280" y="2743200"/>
            <a:ext cx="1819440" cy="2286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105200" y="205740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legadas por minu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F6AF5-72E9-4ED6-B330-43361BAABB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rueba con un número de cajas (n) igual a 1, 2, 3, 4, 5, 6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usca el número de cajas mínimo tal que no más del 3% de los autos espere más de 2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por incrementos de tiemp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hora cero las cajas (3 por ejemplo) se suponen vací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saber cuántas llegadas ocurren en el primer minuto se saca un número aleatorio proporcional a la frecu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8CCE-7AED-494C-A249-3F855585C9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525840" y="1955880"/>
            <a:ext cx="2928600" cy="3072960"/>
            <a:chOff x="3525840" y="1955880"/>
            <a:chExt cx="2928600" cy="307296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3525840" y="2384280"/>
              <a:ext cx="272268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4644720" y="1955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94760" y="21207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0840" y="22352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39560" y="2647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1480" y="3301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50640" y="458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58920" y="2286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792080" y="5715000"/>
            <a:ext cx="60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roporciones Asociadas a las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rot="10623000">
            <a:off x="5076000" y="3068640"/>
            <a:ext cx="1675440" cy="19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4" y="0"/>
                </a:moveTo>
                <a:arcTo wR="10800" hR="10800" stAng="-5385938" swAng="5385938"/>
                <a:lnTo>
                  <a:pt x="10800" y="10800"/>
                </a:lnTo>
                <a:close/>
              </a:path>
              <a:path fill="none" w="21600" h="21600">
                <a:moveTo>
                  <a:pt x="10844" y="0"/>
                </a:moveTo>
                <a:arcTo wR="10800" hR="10800" stAng="-5385938" swAng="5385938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1120" y="502812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A1C09-ED32-4F8E-8056-850772646B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475000" y="2643120"/>
            <a:ext cx="4459320" cy="2766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157760" y="182880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Hist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6DB93-9450-457C-96E0-3A4B4F88BFE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verificar cuánto espera cada auto utilizando regla FIF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vez hecha la simulación para n, se repite para n+1, n+2,..., etc.  Se ven las  estadísticas para cada valor y se elige el número de cajas más adecu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hora la pregunta que surge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s minutos se debe experimentar según la confiabilidad del resulta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1F666-12CF-47EE-BF5D-C0698C0FA4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sultados esp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ena utilización de equipos y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jo nive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en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imización de co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semanal en fáb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gnaciones médicas en hos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de cam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133C-E1E1-481D-AEE8-1CDB1914F5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tención de números aleatorios de una distribución F(x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U[0,1]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409760" y="2721240"/>
            <a:ext cx="7833240" cy="3356280"/>
            <a:chOff x="1409760" y="2721240"/>
            <a:chExt cx="7833240" cy="3356280"/>
          </a:xfrm>
        </p:grpSpPr>
        <p:sp>
          <p:nvSpPr>
            <p:cNvPr id="347" name=""/>
            <p:cNvSpPr/>
            <p:nvPr/>
          </p:nvSpPr>
          <p:spPr>
            <a:xfrm flipV="1">
              <a:off x="2628720" y="28188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28720" y="533376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409760" y="3352320"/>
              <a:ext cx="243756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66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6692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10718400">
              <a:off x="3685320" y="3777480"/>
              <a:ext cx="5531760" cy="22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672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6728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38600" y="38098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628360" y="377172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88600" y="50886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24160" y="42660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924000" y="44956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628720" y="44956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70080" y="360000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00880" y="2721240"/>
              <a:ext cx="67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853080" y="542196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92DD1-EEB0-46E8-9606-93A156CC2C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próximo even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go tres equipos en serie (falla uno y se para la producció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abilidades de falla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, i = 1..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de reparación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i = 1..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gun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porcentaje del tiempo está parado el sistem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dimie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t = 0 se parte generando tiempos de falla de cada máquina (independientes):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FACC-F646-47B1-9367-9F5DB86C12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38095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l sistema esta sin funcion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se generan próximas fallas del equipo 1. De igual manera para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(0,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 la proporción del tiempo con el sistema sin funcionar 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0" y="27432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598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767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343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376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3172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364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33000" y="2787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42080" y="272628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32400" y="277056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55880" y="277056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804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0456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3820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267080" y="5373720"/>
                <a:ext cx="13716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02B6-142B-4199-B8D0-E08205C1F67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determiníst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rogramación de camiones forestales ASIC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n 10 orígenes en el bosque y 5 destinos (plantas de celulosa, puertos, aserraderos, etc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carga y descarga de 20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viaje entre el origen i y el destino j es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50 cam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F06F-1A30-4963-8B01-00EAB0AF04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6 AM, llegan 10 camiones a los 10 orígenes y carg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6:20 AM parten a sus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 10 camiones empiezan a ser cargados en los orígenes a las 6: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ón 1 parte a las 6:20 AM y llega a las 8:45 AM a la planta de celulo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9:45 AM está descargado y parte en un nuevo viaje (reglas heurísticas para ver qué viaje le convien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í se le sigue la pista a cada cam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al llegar a un origen o destino hay algún camión siendo atendido, se hace co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9BC4-9B7A-48B2-A214-AC075E42942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avanza en el día a través de los via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lleva estadística 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dera que se transpor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miones usados y tiempo de trabaj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s de espera en co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s de viaje cargado y descarg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fí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as reglas de asignación de viajes que permitan programar viajes y diseñar flo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8CD26-108C-4024-9357-7F1EFB56F5E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GRAMACIÓN DETALLA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1676160"/>
            <a:ext cx="7772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e tienen los requerimientos mensu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hora deben llevarse a cab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genera una gran cantidad de problemas de programación, secuenciamiento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procesos son diferentes si se trata de procesos en línea o intermit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programación puede resultar muy compleja debido 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ran número de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chas máquinas (o centros de trabaj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areas que ocupan varias máqui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stricciones diver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9883F-5A34-4488-BF58-7A979D3F6E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Algunos problemas que se estudia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cuenciamiento de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un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máquina (o cent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476360" y="2205000"/>
            <a:ext cx="176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854600" y="2281320"/>
          <a:ext cx="2790720" cy="120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4600" y="2281320"/>
                    <a:ext cx="279072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3352680" y="2209680"/>
            <a:ext cx="122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 t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3657600"/>
            <a:ext cx="2828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uencia A-B-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454040" y="4044960"/>
            <a:ext cx="97812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44760" y="4044960"/>
            <a:ext cx="166356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21280" y="4044960"/>
            <a:ext cx="36828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71600" y="4038480"/>
            <a:ext cx="3438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                  B   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09680" y="4343400"/>
            <a:ext cx="267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                      6  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4800600"/>
            <a:ext cx="2828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uencia C-A-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54040" y="5187960"/>
            <a:ext cx="36828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35280" y="5187960"/>
            <a:ext cx="97776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25640" y="5187960"/>
            <a:ext cx="166392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181480"/>
            <a:ext cx="3438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     A           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5486400"/>
            <a:ext cx="3209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            3                    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4120" y="4038480"/>
            <a:ext cx="336204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 Cuál es mejo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¡ La respuesta depende de qué criterio de eficiencia usemo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9200" y="3733920"/>
            <a:ext cx="0" cy="205740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7964C-9467-46FE-AAD7-C7E23D1EFA8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¿ Cuánto tarda cada tarea en ser entregada 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1066680" y="1676520"/>
            <a:ext cx="7172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) A: 2 hrs.   B: 6 hrs.   C: 7 hrs.         &lt;X&gt; = 5 h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) A: 3 hrs.   B: 7 hrs.   C: 1 hrs.         &lt;X&gt; = 3,7 h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2590920"/>
            <a:ext cx="732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ernativa 2 tiene u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empo medio de espe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men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680" y="3200400"/>
            <a:ext cx="625788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l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r las tareas en orden ascendente de tiempo de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66680" y="4724280"/>
            <a:ext cx="762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TEOR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PT minimiza el tiempo medio de esp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5638680"/>
            <a:ext cx="7705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 Cuándo el tiempo medio de espera es un criterio apropiad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B7AC1-A43B-4492-9EE3-DDA0CCB1184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Demostra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990720" y="1677960"/>
            <a:ext cx="7629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ongamos, en general, n tareas y que tenemos un secuenciamient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no 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43000" y="2516040"/>
            <a:ext cx="75531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 Existen tareas i y j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nsecutiv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les que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&gt;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tpo. proceso tarea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14600" y="3657600"/>
            <a:ext cx="84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05520" y="365760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3657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14800" y="3657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3276720"/>
            <a:ext cx="1761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i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309680" y="4789440"/>
                <a:ext cx="642780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= tiempo medio =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+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  <m:r>
                          <m:rPr>
                            <m:lit/>
                            <m:nor/>
                          </m:rPr>
                          <m:t xml:space="preserve">  K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¹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,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3435480" y="3740040"/>
            <a:ext cx="67284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21280" y="3740040"/>
            <a:ext cx="67284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3733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48120" y="4038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290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8120" y="37339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8120" y="373392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3886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3047760" y="396252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38680" y="3733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4038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992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38680" y="3733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38680" y="373392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715000" y="38098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15000" y="3886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638680" y="396252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4038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006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124080" y="38098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105160" y="37339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05520" y="380988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5028840" y="38862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105520" y="39625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09680" y="3733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09680" y="4038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514600" y="37339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14600" y="38098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438280" y="38862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14600" y="39625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33920" y="3733920"/>
            <a:ext cx="115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         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4114800"/>
            <a:ext cx="2523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290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68B0-F0BC-4C14-A00E-251A09ECBAC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en Lín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gu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tienen diversos productos, ¿qué se produce en cada moment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nto cla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prepar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producción clásica los altos tiempos de preparación determinan mayores lot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los sistemas de manufactura flexible (FMS) los menores tiempos de preparación se traducen en lotes más ch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1A58A-8BD8-4C39-B1BD-76D1E6F412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Demostra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3276720" y="3048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48320" y="3048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048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82840" y="2749680"/>
            <a:ext cx="673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68640" y="2749680"/>
            <a:ext cx="673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95480" y="3048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7672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95480" y="27432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71800" y="28954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895480" y="29718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86400" y="2743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86400" y="304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8640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27432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562360" y="28195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62720" y="289548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486040" y="29718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2743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971800" y="28195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952880" y="2743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28195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876560" y="28954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52880" y="29718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2743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57400" y="304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361960" y="274320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62320" y="28195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285640" y="28954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62320" y="297180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2880" y="2666880"/>
            <a:ext cx="84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2320" y="266688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2743200"/>
            <a:ext cx="115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         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3124080"/>
            <a:ext cx="2523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1309680" y="3789360"/>
                <a:ext cx="64198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= tiempo medio =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+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= 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á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1066680" y="1981080"/>
            <a:ext cx="526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¡ Intercambiemos i con j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19320" y="5486400"/>
            <a:ext cx="6410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 ¡ Se puede mejorar, no es óptimo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99B1-BE28-43C8-AC96-0B81E191498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Corol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82600" y="16761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to es un bonito ejemplo de regla que es óptima bajo cierto crite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puede probar que es óptima bajo otros criterios también, como por ejemplo minimizar el inventario en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upuesto escondi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uedo cambiar de tarea sin incurrir en ningún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D7EB1-ECE3-4FDF-9F53-C11E192CE00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¿ Y si hay que preparar la máquina nuevamente según la tarea a la que cambiamos 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104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nemos n tarea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i : tpo. de proces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tij : tpo. de preparación por pasar de i a j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ueremos una secuencia que minimice el tiempo total de trabaj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tiempo total de proceso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n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depende de la secuencia y 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presentación Gráf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7740720" y="2924280"/>
                <a:ext cx="511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847880" y="446076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990880" y="499428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43160" y="400356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62480" y="41562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86160" y="50706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334280" y="46134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41400" y="445464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56000" y="41497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356000" y="50641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60720" y="4987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37040" y="399744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404120" y="46069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2146320" y="4149720"/>
            <a:ext cx="91440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222640" y="4378320"/>
            <a:ext cx="9144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13000" y="437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94240" y="422604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222640" y="4454640"/>
            <a:ext cx="213336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13200" y="430200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37240" y="52927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3365640" y="4758840"/>
            <a:ext cx="19810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2146320" y="4835160"/>
            <a:ext cx="838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65640" y="5292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365280" y="4530600"/>
            <a:ext cx="10666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08640" y="453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441240" y="5140440"/>
            <a:ext cx="83844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89720" y="4454640"/>
            <a:ext cx="838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870600" y="49878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651640" y="430200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51640" y="453060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51640" y="483552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6EF6-E918-473C-8979-8D30C2799E6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¿ Y si hay que preparar la máquina nuevamente según la tarea a la que cambiamos 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asta buscar una manera de recorrer todos los nodos sin repetir ninguno y de modo tal que se minimice la suma de los tij de los arcos por donde se pa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¡ Problema del Vendedor Viajero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emplo clásico de alta complej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CAE5-5405-4E49-9D28-8C932E4D408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¿ Y si   hay fechas de entrega 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1116000" y="1582560"/>
            <a:ext cx="541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n t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16000" y="1811160"/>
            <a:ext cx="3133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tpo. proceso d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16000" y="2116080"/>
            <a:ext cx="5952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fecha establecida de entrega tare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116000" y="2421000"/>
            <a:ext cx="68673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fecha en que realmente se termin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68280" y="2878200"/>
            <a:ext cx="747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diferencia c/r a fecha de entre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68280" y="3335400"/>
            <a:ext cx="229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MAX { 0 , 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78320" y="3564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773600" y="3335400"/>
            <a:ext cx="290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traso tare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3944880"/>
            <a:ext cx="1457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35320" y="3944880"/>
            <a:ext cx="64101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ontrar un secuenciamiento que minimice MA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l máximo retra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92320" y="4707000"/>
            <a:ext cx="122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335320" y="4707000"/>
            <a:ext cx="64864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DD (earliest due date), fecha de entrega más temprana. Secuenciar en orden ascendente de 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192320" y="5545080"/>
            <a:ext cx="7248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TEOR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DD minimiza MA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0D484-2CF9-4980-B711-7AD066671C4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Problemas con más de una máquin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0720" y="1601640"/>
            <a:ext cx="7858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quí ya no hay reglas simples que sean óptimas (e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o co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máquinas si podemos hacer al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66680" y="2744640"/>
            <a:ext cx="176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2681280" y="2816280"/>
          <a:ext cx="4578480" cy="70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2816280"/>
                    <a:ext cx="45784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1066680" y="3733920"/>
            <a:ext cx="762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tareas son tales que de la máquina 1 se pasa a l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4343400"/>
            <a:ext cx="290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lgoritmo de Johnso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66680" y="4800600"/>
            <a:ext cx="73249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entre las tareas no asignadas, elegir la con menor tiempo de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ese tpo. es en la máquina 1, colocarla primero, si no colocarla últ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680D8-AF42-48F2-9208-48A1550EC79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En el ejemplo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838080" y="175248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) E tiene el menor tiempo, 2, en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90720" y="2133720"/>
            <a:ext cx="511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E - ? - ? - ? -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8080" y="251460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) D tiene el menor tiempo, 3, en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38080" y="403848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) A tiene el menor tiempo, 5, en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8080" y="327672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) C tiene el menor tiempo, 4, en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90720" y="4419720"/>
            <a:ext cx="511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E - C - ? - A -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0720" y="3657600"/>
            <a:ext cx="511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E - C - ? - ? -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90720" y="2895480"/>
            <a:ext cx="511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E - ? - ? - ? -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19320" y="5029200"/>
            <a:ext cx="313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final:  E - C - B - A -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7800" y="1828800"/>
            <a:ext cx="0" cy="350532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86400" y="3049560"/>
            <a:ext cx="3286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lgoritmo de Johnson minimiza el tiempo total de ejecución del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7645-6963-46B3-BE7F-6FABB54A95C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¿ Y si hay más máquinas 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914400" y="1600200"/>
            <a:ext cx="793440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roblemas son difíciles en este ca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a complejidad: NP . difíc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egla de Johnson, sin embargo, se puede extender como heurís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3429000"/>
            <a:ext cx="4352760" cy="13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 Y otras medidas objetiv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empo medio de entre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tra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4952880"/>
            <a:ext cx="7858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ótese que al minimizar el largo total del proyecto se favorecen igualmente las medidas anteri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41362-2AC0-42EC-BE9F-890E26DB07D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Máquinas en Paralel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990720" y="1676520"/>
            <a:ext cx="770544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n m  tareas que pueden ser procesadas en cualesquiera de n máqu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objetivo es minimizar el largo total de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92320" y="3716280"/>
            <a:ext cx="20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11280" y="3716280"/>
            <a:ext cx="19144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2 máquina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Tare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3878280" y="4238640"/>
          <a:ext cx="1822320" cy="48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8280" y="4238640"/>
                    <a:ext cx="18223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C7629-FBBE-4D9F-89C8-236AE8B6F0B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Máquinas en Paral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971640" y="3995640"/>
            <a:ext cx="7629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egla “Greedy” no es optimizante, se puede probar un factor de error igual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771640" y="4356000"/>
                <a:ext cx="957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2" name=""/>
          <p:cNvSpPr/>
          <p:nvPr/>
        </p:nvSpPr>
        <p:spPr>
          <a:xfrm>
            <a:off x="3924360" y="435600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Bastante malo como cota de err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71640" y="1844640"/>
            <a:ext cx="313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la “Greedy” (Golo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71640" y="2276640"/>
            <a:ext cx="7705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ignar la tarea más larga a la máquina que primero se desocup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504800" y="335124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511280" y="3052800"/>
            <a:ext cx="12826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06560" y="30528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40080" y="30528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62000" y="3046320"/>
            <a:ext cx="267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          E    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71640" y="3046320"/>
            <a:ext cx="54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71640" y="3503520"/>
            <a:ext cx="54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04800" y="380844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11280" y="3510000"/>
            <a:ext cx="11304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654280" y="3510000"/>
            <a:ext cx="12063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62000" y="3503520"/>
            <a:ext cx="267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      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55FC8-B9B2-483C-80ED-D435991BB3C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en Lín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ómo secuenciar produc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r medio del tiempo de agotamiento (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rograman primero los productos con menor tiempo de agotamiento (menor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981080" y="3048120"/>
                <a:ext cx="43182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ventario</m:t>
                        </m:r>
                        <m:r>
                          <m:rPr>
                            <m:lit/>
                            <m:nor/>
                          </m:rPr>
                          <m:t xml:space="preserve">producto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manda</m:t>
                        </m:r>
                        <m:r>
                          <m:rPr>
                            <m:lit/>
                            <m:nor/>
                          </m:rPr>
                          <m:t xml:space="preserve">producto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E2531-D57A-4715-9E79-8E3EA7DF35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Problemas Dinámicos de Talleres. (Job Shop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438120" y="449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81320" y="4497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71640" y="1773360"/>
            <a:ext cx="7858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problemas teóricos anteriores asumen que las tareas están disponibles en un momento conoc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971640" y="2822400"/>
            <a:ext cx="3133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En la práctic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71640" y="3645000"/>
            <a:ext cx="778176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uchas tareas moviéndose entre muchas máqui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randes incertidumb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43D1-A17B-4A82-8645-9F5249B2F5B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ituación típic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1676520"/>
            <a:ext cx="7858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forman colas frente a las diferentes máquinas, con tareas a proces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92480" y="25210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21280" y="328284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121280" y="25210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68840" y="25210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68840" y="3282840"/>
            <a:ext cx="44460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66680" y="2743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743200" y="2666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2743200"/>
            <a:ext cx="9907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11440" y="2597040"/>
            <a:ext cx="63720" cy="2160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64080" y="2597040"/>
            <a:ext cx="63360" cy="2160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16360" y="2597040"/>
            <a:ext cx="63360" cy="2160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68640" y="2597040"/>
            <a:ext cx="63720" cy="2160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3359160"/>
            <a:ext cx="63360" cy="21600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968640" y="3359160"/>
            <a:ext cx="6372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743200" y="2819520"/>
            <a:ext cx="9907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09880" y="35812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19520" y="2743200"/>
            <a:ext cx="99036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09880" y="3352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419720" y="2666520"/>
            <a:ext cx="106668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25146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38480" y="32767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38480" y="25146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09680" y="25146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14400" y="3505320"/>
            <a:ext cx="176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47920" y="3886200"/>
            <a:ext cx="5267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M3 hay tareas rojas y negras esperando. ¿ Cual despachamos primer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14400" y="4876920"/>
            <a:ext cx="7781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pachar la de menor tiempo de proceso no es necesariamente bueno ya que no tomamos en cuente todo lo que queda por hacer hacia adela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6865E-DBC0-4CB4-B393-64897A22F17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Otros problema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914400" y="1601640"/>
            <a:ext cx="557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ertidumbre en los proces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2666880"/>
            <a:ext cx="7858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todo esto las decisiones deben ser más bien dinám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usan REGLAS DE DESPA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90720" y="358128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lgun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914400" y="3962520"/>
            <a:ext cx="412416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WKR (Least Work Remaining), menor trabajo aún por complet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WINQ (Anticipated wait in next queue), tiempo estimado de espera en la próxima co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181480" y="3962520"/>
            <a:ext cx="359100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CFS (First Come, First Served), primero en llegar es aten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914400" y="1905120"/>
            <a:ext cx="420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de máqu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14400" y="2209680"/>
            <a:ext cx="267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105520" y="4038480"/>
            <a:ext cx="0" cy="213372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9C5E-BF80-4DB6-BAD0-8432C2AF1B1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¿ Cuál regla es mejor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90720" y="1601640"/>
            <a:ext cx="48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osible dar una respuesta preci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90720" y="1981080"/>
            <a:ext cx="648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ma complicado y objeto de estudio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90720" y="2362320"/>
            <a:ext cx="6562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valúa normalmente vía SIMUL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0720" y="2895480"/>
            <a:ext cx="557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ste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90720" y="3276720"/>
            <a:ext cx="778176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r el sistema de producción “virtualmente” en el computa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nerar incertidumbres al “azar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rrer el sistema con las tareas y probar diferentes reg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r en función de distintas medidas de efectivid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5257800"/>
            <a:ext cx="557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gas a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447920" y="5486400"/>
            <a:ext cx="4047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sobre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447920" y="5715000"/>
            <a:ext cx="480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ventarios en proceso acumul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47920" y="5943600"/>
            <a:ext cx="252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1AC4-7DE6-4DE9-AFBB-F1E340BA839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Intermit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barca talleres, imprentas, garages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proyectos o clientes esperan en una línea conforme cada unidad se transfiere de un centro de trabajo hasta el sigu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forma una cola de inventario de producto en proceso en cada centro de trabajo existiendo tiempos de espera para conseguir la disponibilidad de las instal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r lo tanto, puede pensarse en el problema de programación intermitente como una red de co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C0A20-0932-4C42-9FCA-FC259D7B29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ósi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la relación que existe entre las entradas y salidas de un centro de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ntidad de trabajos que llegan 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entro por unidad de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trabajos en proceso que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y en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locidad con que se terminan los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os en un cen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1F0F-ED33-4AAB-B642-FF1636C932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locidad de producción máx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es que presentan cuellos de botel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os crí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apacidad no es clara para sistemas complej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E2F19-835C-49B8-864D-EC2D5F8B0C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716560" y="548640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álculos de Entradas -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05120" y="2057400"/>
            <a:ext cx="6324480" cy="3046320"/>
            <a:chOff x="1905120" y="2057400"/>
            <a:chExt cx="6324480" cy="30463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965240" y="2124000"/>
              <a:ext cx="5959440" cy="29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62520" y="2857680"/>
              <a:ext cx="2133360" cy="1066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roducto en proceso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2 mill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05120" y="2057400"/>
              <a:ext cx="18288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ntr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100.000/se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0800" y="4038480"/>
              <a:ext cx="18288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Sal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100.000/se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0200" y="4508640"/>
              <a:ext cx="530280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ahoma"/>
                </a:rPr>
                <a:t>Tiempo de procesamiento del producto = $2.000.000/$100.000 = 20 semanas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4724280"/>
              <a:ext cx="51055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ECCE9-F65D-4F7B-AD1A-0E76E1237E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19:54:17Z</dcterms:created>
  <dc:creator>Antoine Sauré Valenzuela</dc:creator>
  <dc:description/>
  <dc:language>en-US</dc:language>
  <cp:lastModifiedBy>alumnodii</cp:lastModifiedBy>
  <cp:lastPrinted>2001-08-10T01:13:48Z</cp:lastPrinted>
  <dcterms:modified xsi:type="dcterms:W3CDTF">2007-10-10T21:47:09Z</dcterms:modified>
  <cp:revision>28</cp:revision>
  <dc:subject/>
  <dc:title>Gestión de Operaciones</dc:title>
</cp:coreProperties>
</file>