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20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EDFB-9553-4695-A1DC-FD3427843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7524-FC79-4608-A98A-F4E66871F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91F6-DACB-45A7-8C92-DF0DF0114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0F8F-1014-45C8-AFC7-F5BD47C12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3B5AE-EDAE-4761-BADB-BB337CEA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934B3-75CA-485F-9103-2AF2D2EA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299BC-40F4-494F-9E35-6B8DDA03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6FC35-9144-473D-8F54-C6A1AEC3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3477-F26F-48E9-9FF2-BDA97DBC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E5C50-4848-4822-B7CD-210C75A7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F9D52-60D5-435D-B42D-A0C4310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FA13-E8B6-4DD6-BE54-64F387091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17C61-B5D0-4CE1-82CE-62F74D36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C0AF9-0AE2-4306-88F7-69147350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89206-C646-4766-A62E-A461B466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91BA8-8625-4D86-A702-A3061336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1582-582B-4754-9617-63DAA950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07F1-C9B8-4799-BE4E-D7F20EF95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4A3C-EF30-45F5-AF35-885AB9F7C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91BA-F8B6-4246-A206-685BDCEE3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8FC6-8A62-49A1-A75F-A87D3EF90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9CC1-EC7F-4BCC-9FCB-00FF4BD2A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1AA8-F706-4D57-80A9-96CE9FFE8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B77C-2C5E-46E0-B545-8A15500BA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888800" y="6276960"/>
            <a:ext cx="364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E81B-22DF-48C2-9BA4-AE94B8A4069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9B07-6319-4553-894B-C07D63C1BB4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05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8: Programación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53600" y="548640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ventario de Producto vs Uso de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25640" y="1676520"/>
            <a:ext cx="5541840" cy="3735360"/>
            <a:chOff x="1925640" y="1676520"/>
            <a:chExt cx="5541840" cy="37353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981080" y="1700280"/>
              <a:ext cx="54864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0608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7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276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160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9400" y="5135400"/>
              <a:ext cx="56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2080" y="16765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4680" y="23623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2080" y="30862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4680" y="38098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4680" y="45259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981360" y="3323160"/>
              <a:ext cx="237816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(cientos de horas hombr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2BBF-1C47-421A-A050-E8579D3ECB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s posible reducir el inventario de producto en proceso en un 10% mientras que el uso de la mano de obra disminuye sólo en un 1%, ¿vale la pena la compens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nventario de producto en proceso es 2 millones de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200 personas que cuestan 5 dólares l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esta 20 centavos mantener 1 dólar de inventario durante un a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4F98-B523-4B3C-B5C3-51371C58B1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pue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de disminuir el uso de la mano de obra = 0.01·200·40·52·$5 = $20,8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horro anual de inventario =              0.1·20·$2,000,000 = $40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el ahorro de inventario es mayor que el costo debido a la reducción de mano de obra, vale la pena reducir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0916-A381-4A2D-AA0D-342BE38A2E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31800" y="5867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Relación entr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1574640"/>
            <a:ext cx="4118040" cy="4234320"/>
            <a:chOff x="2587680" y="1574640"/>
            <a:chExt cx="4118040" cy="42343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627280" y="1574640"/>
              <a:ext cx="4078440" cy="42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96680" y="5562720"/>
              <a:ext cx="2806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ivel de inventarios de producto en 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917000" y="3363480"/>
              <a:ext cx="1739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o 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29840" y="3429000"/>
              <a:ext cx="1642320" cy="246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4960" y="1600200"/>
              <a:ext cx="1736640" cy="398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me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04400" y="1600200"/>
              <a:ext cx="1073880" cy="55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ariación en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6CF8-435B-45C1-A258-9E227F0585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un conjunto de trabajos que pasan por distintas máquinas, ¿cómo cargar el sistem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t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 los trabajos enviados al comienzo d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ábrica text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nám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trabajos siguen llegando durante 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 garage, 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8175-378F-4565-A034-79150CFA6B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es de operación de cada máqu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prometid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oridade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a futu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n cargando hacia delante los trabajos y se ve si se cumplen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puede usar capacidad infinita para ver la capacidad necesaria o imponer la capacidad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se carga bien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no asegura bien cumplir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039A-ADC3-4A99-B742-290013F400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retrospe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r con las fechas de vencimiento y retroceder hasta el tiempo act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asegura el cumplimiento de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puede cargar mal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nta problemas sobre todo en el cas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 proyectos y 3 máqu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ías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movimiento/espera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DD77-9791-4DE2-8C53-2FDE056E03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argar las máquinas con trabajos de manera de cumplir los plaz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13320" y="2971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atos de Proyectos par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411480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2383-012D-43B2-A3DC-DD47F1F760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234440" y="190512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a Futu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5120" y="2514600"/>
            <a:ext cx="6276600" cy="2903400"/>
            <a:chOff x="1905120" y="2514600"/>
            <a:chExt cx="6276600" cy="2903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905120" y="2774880"/>
              <a:ext cx="579744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740560" y="40258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33720" y="3429000"/>
              <a:ext cx="5562360" cy="685800"/>
              <a:chOff x="2133720" y="3429000"/>
              <a:chExt cx="556236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2133720" y="3429000"/>
                <a:ext cx="5562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33720" y="3505320"/>
                <a:ext cx="5409720" cy="534960"/>
                <a:chOff x="2133720" y="3505320"/>
                <a:chExt cx="5409720" cy="534960"/>
              </a:xfrm>
            </p:grpSpPr>
            <p:sp>
              <p:nvSpPr>
                <p:cNvPr id="169" name=""/>
                <p:cNvSpPr/>
                <p:nvPr/>
              </p:nvSpPr>
              <p:spPr>
                <a:xfrm rot="5400000">
                  <a:off x="27050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5400000">
                  <a:off x="40766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5400000">
                  <a:off x="55242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68958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1100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6496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25480" y="3606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84480" y="36162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77040" y="37940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477120" y="3162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5320" y="3009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5086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720" y="436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057400" y="4724280"/>
              <a:ext cx="5715000" cy="687600"/>
              <a:chOff x="2057400" y="4724280"/>
              <a:chExt cx="5715000" cy="687600"/>
            </a:xfrm>
          </p:grpSpPr>
          <p:sp>
            <p:nvSpPr>
              <p:cNvPr id="183" name=""/>
              <p:cNvSpPr/>
              <p:nvPr/>
            </p:nvSpPr>
            <p:spPr>
              <a:xfrm>
                <a:off x="2057400" y="472428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133720" y="4876920"/>
                <a:ext cx="5409720" cy="534960"/>
                <a:chOff x="2133720" y="4876920"/>
                <a:chExt cx="5409720" cy="534960"/>
              </a:xfrm>
            </p:grpSpPr>
            <p:sp>
              <p:nvSpPr>
                <p:cNvPr id="185" name=""/>
                <p:cNvSpPr/>
                <p:nvPr/>
              </p:nvSpPr>
              <p:spPr>
                <a:xfrm rot="5400000">
                  <a:off x="27050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5400000">
                  <a:off x="40766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5400000">
                  <a:off x="55242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5400000">
                  <a:off x="68958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1100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86496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5480" y="4978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84480" y="49878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7040" y="51656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199476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5008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083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800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25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004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800" y="40989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0680" y="411480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584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3072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0080" y="251460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F0F0-4BCD-4D87-A33D-0F6319EE64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20920"/>
            <a:ext cx="6629400" cy="4687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861560" y="6019920"/>
            <a:ext cx="51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dicación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Partir en A con proyecto 5 en vez de proyec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5359320"/>
            <a:ext cx="5715000" cy="687600"/>
            <a:chOff x="2057400" y="5359320"/>
            <a:chExt cx="5715000" cy="687600"/>
          </a:xfrm>
        </p:grpSpPr>
        <p:sp>
          <p:nvSpPr>
            <p:cNvPr id="209" name=""/>
            <p:cNvSpPr/>
            <p:nvPr/>
          </p:nvSpPr>
          <p:spPr>
            <a:xfrm>
              <a:off x="2057400" y="535932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33720" y="5511960"/>
              <a:ext cx="5409720" cy="534960"/>
              <a:chOff x="2133720" y="5511960"/>
              <a:chExt cx="5409720" cy="534960"/>
            </a:xfrm>
          </p:grpSpPr>
          <p:sp>
            <p:nvSpPr>
              <p:cNvPr id="211" name=""/>
              <p:cNvSpPr/>
              <p:nvPr/>
            </p:nvSpPr>
            <p:spPr>
              <a:xfrm rot="5400000">
                <a:off x="27050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400000">
                <a:off x="40766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55242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68958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1100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6496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25480" y="5613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84480" y="562284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77040" y="580068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4317840" y="1432080"/>
            <a:ext cx="32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6600" y="1397160"/>
            <a:ext cx="6242040" cy="3809520"/>
            <a:chOff x="1956600" y="1397160"/>
            <a:chExt cx="624204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2057400" y="2158920"/>
              <a:ext cx="5715000" cy="687600"/>
              <a:chOff x="2057400" y="2158920"/>
              <a:chExt cx="5715000" cy="687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057400" y="215892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133720" y="2311560"/>
                <a:ext cx="5409720" cy="534960"/>
                <a:chOff x="2133720" y="2311560"/>
                <a:chExt cx="5409720" cy="534960"/>
              </a:xfrm>
            </p:grpSpPr>
            <p:sp>
              <p:nvSpPr>
                <p:cNvPr id="225" name=""/>
                <p:cNvSpPr/>
                <p:nvPr/>
              </p:nvSpPr>
              <p:spPr>
                <a:xfrm rot="5400000">
                  <a:off x="27050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5400000">
                  <a:off x="40766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400000">
                  <a:off x="55242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5400000">
                  <a:off x="68958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1100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496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25480" y="24130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684480" y="2422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677040" y="260028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2057400" y="3606840"/>
              <a:ext cx="5715000" cy="687600"/>
              <a:chOff x="2057400" y="3606840"/>
              <a:chExt cx="5715000" cy="687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057400" y="360684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2133720" y="3759480"/>
                <a:ext cx="5409720" cy="534960"/>
                <a:chOff x="2133720" y="3759480"/>
                <a:chExt cx="5409720" cy="534960"/>
              </a:xfrm>
            </p:grpSpPr>
            <p:sp>
              <p:nvSpPr>
                <p:cNvPr id="237" name=""/>
                <p:cNvSpPr/>
                <p:nvPr/>
              </p:nvSpPr>
              <p:spPr>
                <a:xfrm rot="5400000">
                  <a:off x="27050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5400000">
                  <a:off x="40766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5400000">
                  <a:off x="55242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5400000">
                  <a:off x="68958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1100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6496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325480" y="38610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84480" y="387036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677040" y="404820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6045120" y="18921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5067360"/>
              <a:ext cx="24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44800" y="3314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505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318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44800" y="31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34240" y="49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632720" y="173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5680" y="139716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9280" y="256212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50680" y="425124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660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976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696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6200" y="2895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608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364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6272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104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11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55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0" y="46483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2933640"/>
              <a:ext cx="685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2240" y="4632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380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5D7C-D2A9-44E9-BDC6-F758F989D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a las decisiones concre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cisiones detalladas, complejas y con much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en ser consistentes con el nivel t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grar que la capacidad disponible se use en forma efectiva y efi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ir equipos y personal entre distintos trabajos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A1F5-5BA9-43B6-8822-AC25258B30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812680" y="50292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46040" y="2590920"/>
            <a:ext cx="6426360" cy="2171520"/>
            <a:chOff x="1346040" y="2590920"/>
            <a:chExt cx="6426360" cy="21715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346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632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918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A224-68A1-44D6-A83B-6FC62E9284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457720" y="50292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Nivela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2590920"/>
            <a:ext cx="6476400" cy="2171520"/>
            <a:chOff x="1447920" y="2590920"/>
            <a:chExt cx="6476400" cy="217152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144792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71968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4DA9-0935-4443-B2A5-7952AAF17C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803240" y="548640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1812960"/>
            <a:ext cx="7191360" cy="3368520"/>
            <a:chOff x="1447920" y="1812960"/>
            <a:chExt cx="7191360" cy="336852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1447920" y="1839960"/>
              <a:ext cx="7191360" cy="33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60520" y="42670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555560" y="4470480"/>
              <a:ext cx="6706800" cy="630360"/>
              <a:chOff x="1555560" y="4470480"/>
              <a:chExt cx="6706800" cy="63036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26044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396072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575604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745632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2572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0260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14120" y="4605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97840" y="4618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2280" y="48546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11280" y="26542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606320" y="2857680"/>
              <a:ext cx="6706800" cy="630360"/>
              <a:chOff x="1606320" y="2857680"/>
              <a:chExt cx="6706800" cy="63036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231120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01148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580680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750708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7648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5336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4880" y="29926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48600" y="30052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33040" y="32418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67720" y="181296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14880" y="348948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B21B-19AA-45E9-97C2-4D298EC251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9528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5968800" cy="2171520"/>
            <a:chOff x="1905120" y="2590920"/>
            <a:chExt cx="5968800" cy="21715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9051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93696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6DCC-2563-4205-A122-9B8A5036E8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s cajas de peaje son necesarias en un día de demanda al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auto demora en caja 30 segu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una estadística de la llegada de auto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5713-063E-4327-B962-74647A84CA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743280" y="2743200"/>
            <a:ext cx="1819440" cy="2286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105200" y="20574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das por minu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8EA5-A1AE-4CF8-A5A2-D454C34ECF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ueba con un número de cajas (n) igual a 1, 2, 3, 4, 5, 6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el número de cajas mínimo tal que no más del 3% de los autos espere más de 2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or incrementos de tiem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hora cero las cajas (3 por ejemplo) se suponen vac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aber cuántas llegadas ocurren en el primer minuto se saca un número aleatorio proporcional a la fr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3EC2-FDED-4396-8954-9A128C5391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25840" y="1955880"/>
            <a:ext cx="2928600" cy="3072960"/>
            <a:chOff x="3525840" y="1955880"/>
            <a:chExt cx="2928600" cy="307296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3525840" y="2384280"/>
              <a:ext cx="27226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644720" y="195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94760" y="2120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0840" y="2235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39560" y="2647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1480" y="3301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50640" y="45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58920" y="2286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792080" y="571500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roporciones Asociadas a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rot="10623000">
            <a:off x="5076000" y="3068640"/>
            <a:ext cx="167544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4" y="0"/>
                </a:moveTo>
                <a:arcTo wR="10800" hR="10800" stAng="-5385938" swAng="5385938"/>
                <a:lnTo>
                  <a:pt x="10800" y="10800"/>
                </a:lnTo>
                <a:close/>
              </a:path>
              <a:path fill="none" w="21600" h="21600">
                <a:moveTo>
                  <a:pt x="10844" y="0"/>
                </a:moveTo>
                <a:arcTo wR="10800" hR="10800" stAng="-5385938" swAng="53859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1120" y="50281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8B77-BF35-4FA7-858A-BE346D10D3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475000" y="2643120"/>
            <a:ext cx="4459320" cy="2766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157760" y="18288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Hist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0E24-671E-4F31-85DE-C8FD226A9E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verificar cuánto espera cada auto utilizando regla FIF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hecha la simulación para n, se repite para n+1, n+2,..., etc.  Se ven las  estadísticas para cada valor y se elige el número de cajas más adecu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la pregunta que surge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minutos se debe experimentar según la confiabilidad del result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98FB-E689-43D7-A775-B9E94A865D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ultados esp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a utilización de equipos y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jo nive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imización de 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semanal en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ciones médicas en 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cam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6230-AB15-41DD-B4D9-87FC5070F1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de números aleatorios de una distribución F(x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[0,1]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09760" y="2721240"/>
            <a:ext cx="7833240" cy="3356280"/>
            <a:chOff x="1409760" y="2721240"/>
            <a:chExt cx="7833240" cy="3356280"/>
          </a:xfrm>
        </p:grpSpPr>
        <p:sp>
          <p:nvSpPr>
            <p:cNvPr id="347" name=""/>
            <p:cNvSpPr/>
            <p:nvPr/>
          </p:nvSpPr>
          <p:spPr>
            <a:xfrm flipV="1">
              <a:off x="2628720" y="28188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28720" y="533376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409760" y="3352320"/>
              <a:ext cx="24375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66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669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0718400">
              <a:off x="3685320" y="3777480"/>
              <a:ext cx="5531760" cy="22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67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672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38600" y="3809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628360" y="37717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88600" y="5088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24160" y="42660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92400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628720" y="4495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70080" y="36000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880" y="2721240"/>
              <a:ext cx="67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853080" y="5421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FF5F-59C9-40AD-9FFD-2F262EA25E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róximo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go tres equipos en serie (falla uno y se para la produc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abilidades de falla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reparació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porcentaje del tiempo está parado el siste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t = 0 se parte generando tiempos de falla de cada máquina (independientes):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FBBB-8851-454A-B5BB-E4E577E32F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3809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l sistema esta sin funcio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se generan próximas fallas del equipo 1. De igual manera para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(0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la proporción del tiempo con el sistema sin funcionar 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743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59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376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3172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364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000" y="2787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42080" y="272628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3240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5588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804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456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3820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267080" y="5373720"/>
                <a:ext cx="1371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CED3-0B0E-4DBC-8CA9-6758061912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rogramación de camiones forestales ASI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n 10 orígenes en el bosque y 5 destinos (plantas de celulosa, puertos, aserraderos, etc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carga y descarga de 20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viaje entre el origen i y el destino j 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0 cam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4554-3EB0-477B-A0A6-2FF0C9FF48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 AM, llegan 10 camiones a los 10 orígenes y carg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:20 AM parten a sus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10 camiones empiezan a ser cargados en los orígenes a las 6: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ón 1 parte a las 6:20 AM y llega a las 8:45 AM a la planta de celulo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9:45 AM está descargado y parte en un nuevo viaje (reglas heurísticas para ver qué viaje le convien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í se le sigue la pista a cada cam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al llegar a un origen o destino hay algún camión siendo atendido, se hace c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599B-5917-4821-B599-6002AF6429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avanza en el día a través de los via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lleva estadística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dera que se transpor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ones usados y tiempo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espera en co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viaje cargado y descarg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fí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s reglas de asignación de viajes que permitan programar viajes y diseñar flo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34B0-E8EF-4D0E-A7F8-198C1642B6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GRAMACIÓN DETALL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 tienen los requerimientos mensu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hora deben llevarse a cab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enera una gran cantidad de problemas de programación, secuenciamiento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procesos son diferentes si se trata de procesos en línea o intermit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programación puede resultar muy compleja debido 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ran número de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chas máquinas (o centros de trabaj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reas que ocupan varias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stricciones diver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0155-0037-4C01-8C02-2B83A3C4B7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Algunos problemas que se estudia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cuenciamiento de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u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máquina (o cen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476360" y="220500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854600" y="2281320"/>
          <a:ext cx="2790720" cy="120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4600" y="2281320"/>
                    <a:ext cx="279072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3352680" y="220968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3657600"/>
            <a:ext cx="282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encia A-B-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54040" y="4044960"/>
            <a:ext cx="97812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4760" y="4044960"/>
            <a:ext cx="166356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1280" y="4044960"/>
            <a:ext cx="36828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71600" y="4038480"/>
            <a:ext cx="343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                  B   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34340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                    6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800600"/>
            <a:ext cx="282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encia C-A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54040" y="5187960"/>
            <a:ext cx="36828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35280" y="5187960"/>
            <a:ext cx="97776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5640" y="5187960"/>
            <a:ext cx="166392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81480"/>
            <a:ext cx="343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     A    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5486400"/>
            <a:ext cx="3209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            3                  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4120" y="4038480"/>
            <a:ext cx="336204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Cuál es mejo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 La respuesta depende de qué criterio de eficiencia usemo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3733920"/>
            <a:ext cx="0" cy="205740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527D-FD0B-4DF0-B346-948EE108EE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¿ Cuánto tarda cada tarea en ser entregada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1676520"/>
            <a:ext cx="7172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A: 2 hrs.   B: 6 hrs.   C: 7 hrs.         &lt;X&gt; = 5 h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A: 3 hrs.   B: 7 hrs.   C: 1 hrs.         &lt;X&gt; = 3,7 h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2590920"/>
            <a:ext cx="732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 2 tiene u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empo medio de esp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en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3200400"/>
            <a:ext cx="625788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r las tareas en orden ascendente de tiempo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4724280"/>
            <a:ext cx="762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TEOR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PT minimiza el tiempo medio de esp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5638680"/>
            <a:ext cx="770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Cuándo el tiempo medio de espera es un criterio apropiad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1C3D-0FE7-4D70-AB69-0816D22C94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Demostra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1677960"/>
            <a:ext cx="762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, en general, n tareas y que tenemos un secuenciamient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o 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2516040"/>
            <a:ext cx="7553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 Existen tareas i y j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secutiv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les qu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&gt;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tpo. proceso tarea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365760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05520" y="36576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3276720"/>
            <a:ext cx="1761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i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309680" y="4789440"/>
                <a:ext cx="64278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= tiempo medio =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+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rPr>
                            <m:lit/>
                            <m:nor/>
                          </m:rPr>
                          <m:t xml:space="preserve">  K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¹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3435480" y="3740040"/>
            <a:ext cx="6728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21280" y="3740040"/>
            <a:ext cx="6728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8120" y="403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8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8120" y="37339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047760" y="39625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3733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4038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3733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8680" y="373392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71500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638680" y="396252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403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12408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105160" y="37339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05520" y="38098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028840" y="3886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962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09680" y="3733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9680" y="4038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514600" y="37339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438280" y="38862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3962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3733920"/>
            <a:ext cx="115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        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114800"/>
            <a:ext cx="2523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B572-0429-4A93-B63E-84FA502B00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tienen diversos productos, ¿qué se produce en cada momen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to cla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epa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producción clásica los altos tiempos de preparación determinan mayores lot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os sistemas de manufactura flexible (FMS) los menores tiempos de preparación se traducen en lotes más ch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C149-2C5E-4795-BF79-C2CA167CD6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Demostra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82840" y="27496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68640" y="27496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95480" y="3048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27432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71800" y="28954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95480" y="29718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8640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2743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62720" y="28954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486040" y="29718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971800" y="2819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952880" y="2743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2819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876560" y="28954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52880" y="29718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361960" y="27432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2819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285640" y="28954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62320" y="29718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266688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2320" y="266688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2743200"/>
            <a:ext cx="115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         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124080"/>
            <a:ext cx="2523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309680" y="3789360"/>
                <a:ext cx="6419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= tiempo medio =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+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= 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á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1066680" y="1981080"/>
            <a:ext cx="526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 Intercambiemos i con j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5486400"/>
            <a:ext cx="641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 ¡ Se puede mejorar, no es óptim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39B3-AA2F-4888-8494-ECA2BC2966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Corol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o es un bonito ejemplo de regla que es óptima bajo cierto crite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puede probar que es óptima bajo otros criterios también, como por ejemplo minimizar el inventario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puesto escond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uedo cambiar de tarea sin incurrir en ningún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5513-338D-4293-AA0C-94A86869E0E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¿ Y si hay que preparar la máquina nuevamente según la tarea a la que cambiamos 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104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emos n tare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i : tpo. de proce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j : tpo. de preparación por pasar de i a j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remos una secuencia que minimice el tiempo total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tiempo total de proces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depende de la secuencia y 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presentación Gráf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740720" y="2924280"/>
                <a:ext cx="511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847880" y="44607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90880" y="499428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43160" y="40035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4156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86160" y="50706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34280" y="46134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41400" y="445464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56000" y="41497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56000" y="50641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60720" y="4987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37040" y="399744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04120" y="46069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146320" y="414972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222640" y="4378320"/>
            <a:ext cx="914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13000" y="437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94240" y="422604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222640" y="4454640"/>
            <a:ext cx="21333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13200" y="430200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37240" y="5292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365640" y="4758840"/>
            <a:ext cx="1981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2146320" y="483516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65640" y="5292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365280" y="4530600"/>
            <a:ext cx="10666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08640" y="453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441240" y="5140440"/>
            <a:ext cx="83844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9720" y="445464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870600" y="49878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51640" y="43020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51640" y="45306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51640" y="483552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DD6A-A80E-4F19-A43E-BB87DC84F25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¿ Y si hay que preparar la máquina nuevamente según la tarea a la que cambiamos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sta buscar una manera de recorrer todos los nodos sin repetir ninguno y de modo tal que se minimice la suma de los tij de los arcos por donde se pa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¡ Problema del Vendedor Viajero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 clásico de alta 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DE9A-6A06-437D-BA11-814B374D0F3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¿ Y si   hay fechas de entrega 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1116000" y="1582560"/>
            <a:ext cx="541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n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1811160"/>
            <a:ext cx="3133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tpo. proceso d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16000" y="2116080"/>
            <a:ext cx="5952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fecha establecida de entrega tare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16000" y="2421000"/>
            <a:ext cx="6867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fecha en que realmente se termin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8280" y="2878200"/>
            <a:ext cx="747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diferencia c/r a fecha de entr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335400"/>
            <a:ext cx="229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MAX { 0 , 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78320" y="3564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73600" y="3335400"/>
            <a:ext cx="290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aso tare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3944880"/>
            <a:ext cx="145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35320" y="3944880"/>
            <a:ext cx="6410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ontrar un secuenciamiento que minimice MA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l máximo retr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92320" y="470700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35320" y="4707000"/>
            <a:ext cx="6486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DD (earliest due date), fecha de entrega más temprana. Secuenciar en orden ascendente de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92320" y="5545080"/>
            <a:ext cx="7248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TEOR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DD minimiza MA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67D6-5D0A-4EFD-99CB-4CE54F64829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Problemas con más de una máquin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1601640"/>
            <a:ext cx="7858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í ya no hay reglas simples que sean óptimas (e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o co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áquinas si podemos hacer al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6680" y="274464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2681280" y="2816280"/>
          <a:ext cx="4578480" cy="70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2816280"/>
                    <a:ext cx="45784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066680" y="3733920"/>
            <a:ext cx="762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tareas son tales que de la máquina 1 se pasa a l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4343400"/>
            <a:ext cx="290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lgoritmo de Johns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4800600"/>
            <a:ext cx="73249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entre las tareas no asignadas, elegir la con menor tiempo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ese tpo. es en la máquina 1, colocarla primero, si no colocarla últ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CAA0-4F26-4062-AF85-F0257376AE0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En el ejemplo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838080" y="175248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 tiene el menor tiempo, 2, en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90720" y="213372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? - ? - ? -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080" y="251460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D tiene el menor tiempo, 3, en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38080" y="403848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) A tiene el menor tiempo, 5, en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327672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C tiene el menor tiempo, 4, en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441972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C - ? - A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0720" y="365760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C - ? - ?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89548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? - ? - ?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5029200"/>
            <a:ext cx="31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:  E - C - B - A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1828800"/>
            <a:ext cx="0" cy="35053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3049560"/>
            <a:ext cx="3286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lgoritmo de Johnson minimiza el tiempo total de ejecución del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5A03-F1A4-4AC1-BC8E-EB09A688ACE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¿ Y si hay más máquinas 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1600200"/>
            <a:ext cx="79344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oblemas son difíciles en este c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mplejidad: NP . difíc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gla de Johnson, sin embargo, se puede extender como heurís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3429000"/>
            <a:ext cx="435276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Y otras medidas objetiv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mpo medio de entre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a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4952880"/>
            <a:ext cx="785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ótese que al minimizar el largo total del proyecto se favorecen igualmente las medidas ant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7C0B-2576-430F-8611-37DBADDC738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Máquinas en Parale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990720" y="1676520"/>
            <a:ext cx="77054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m  tareas que pueden ser procesadas en cualesquiera de n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objetivo es minimizar el largo total de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92320" y="3716280"/>
            <a:ext cx="20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11280" y="3716280"/>
            <a:ext cx="19144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2 máquin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Tare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3878280" y="4238640"/>
          <a:ext cx="1822320" cy="48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8280" y="4238640"/>
                    <a:ext cx="18223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FD29-7FAB-4617-85C8-C97CA7B2B48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áquinas en Paral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995640"/>
            <a:ext cx="762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gla “Greedy” no es optimizante, se puede probar un factor de error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771640" y="4356000"/>
                <a:ext cx="957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3924360" y="435600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Bastante malo como cota de err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844640"/>
            <a:ext cx="313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 “Greedy” (Golo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71640" y="2276640"/>
            <a:ext cx="7705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ignar la tarea más larga a la máquina que primero se desocu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04800" y="335124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511280" y="3052800"/>
            <a:ext cx="12826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06560" y="30528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40080" y="30528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62000" y="304632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          E    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71640" y="3046320"/>
            <a:ext cx="54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71640" y="3503520"/>
            <a:ext cx="54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04800" y="380844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11280" y="3510000"/>
            <a:ext cx="11304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54280" y="3510000"/>
            <a:ext cx="12063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62000" y="350352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FE2D-BAE2-43C7-A466-00D7F070D4F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secuenciar produc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medio del tiempo de agotamiento 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ograman primero los productos con menor tiempo de agotamiento (menor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81080" y="3048120"/>
                <a:ext cx="431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ventario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a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5A68-A0AD-4552-9886-887BC08F07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Problemas Dinámicos de Talleres. (Job Shop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438120" y="449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81320" y="449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71640" y="1773360"/>
            <a:ext cx="7858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blemas teóricos anteriores asumen que las tareas están disponibles en un momento conoc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71640" y="2822400"/>
            <a:ext cx="313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n la práctic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71640" y="3645000"/>
            <a:ext cx="778176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uchas tareas moviéndose entre muchas máqui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randes incertidu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8077-36BF-4C23-9D13-959CA1D0074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tuación típic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676520"/>
            <a:ext cx="785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forman colas frente a las diferentes máquinas, con tareas a proces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9248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21280" y="328284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2128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884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68840" y="3282840"/>
            <a:ext cx="44460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2743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743200" y="2666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274320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11440" y="2597040"/>
            <a:ext cx="6372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64080" y="2597040"/>
            <a:ext cx="6336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16360" y="2597040"/>
            <a:ext cx="6336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68640" y="2597040"/>
            <a:ext cx="6372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3359160"/>
            <a:ext cx="63360" cy="21600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68640" y="3359160"/>
            <a:ext cx="6372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43200" y="281952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98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19520" y="2743200"/>
            <a:ext cx="99036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3352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419720" y="2666520"/>
            <a:ext cx="106668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2767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0968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400" y="350532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3886200"/>
            <a:ext cx="5267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M3 hay tareas rojas y negras esperando. ¿ Cual despachamos primer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14400" y="4876920"/>
            <a:ext cx="7781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pachar la de menor tiempo de proceso no es necesariamente bueno ya que no tomamos en cuente todo lo que queda por hacer hacia adel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84A7-4569-47B5-8BA2-6865EAC695F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tros problema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14400" y="160164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ertidumbre en los proce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2666880"/>
            <a:ext cx="7858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todo esto las decisiones deben ser más bien diná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usan REGLAS DE DESPA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358128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lgu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14400" y="3962520"/>
            <a:ext cx="412416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WKR (Least Work Remaining), menor trabajo aún por complet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WINQ (Anticipated wait in next queue), tiempo estimado de espera en la próxima c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81480" y="3962520"/>
            <a:ext cx="359100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FS (First Come, First Served), primero en llegar es aten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14400" y="1905120"/>
            <a:ext cx="420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de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14400" y="220968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05520" y="4038480"/>
            <a:ext cx="0" cy="213372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7436-2063-4B72-AE8F-D858E86038C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 Cuál regla es mejor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90720" y="1601640"/>
            <a:ext cx="48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osible dar una respuesta preci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1981080"/>
            <a:ext cx="648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ma complicado y objeto de estudio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2362320"/>
            <a:ext cx="656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valúa normalmente vía SIMU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289548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90720" y="3276720"/>
            <a:ext cx="778176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r el sistema de producción “virtualmente” en el comput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r incertidumbres al “aza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rer el sistema con las tareas y probar diferentes reg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r en función de distintas medidas de efectiv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525780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s a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47920" y="5486400"/>
            <a:ext cx="404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sobre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5715000"/>
            <a:ext cx="480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ntarios en proceso acum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5943600"/>
            <a:ext cx="252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669C-59E4-4E4A-9615-E2E1B31A623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Intermit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barca talleres, imprentas, garages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proyectos o clientes esperan en una línea conforme cada unidad se transfiere de un centro de trabajo hasta el sigu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forma una cola de inventario de producto en proceso en cada centro de trabajo existiendo tiempos de espera para conseguir la disponibilidad de las instal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lo tanto, puede pensarse en el problema de programación intermitente como una red de co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1705-95F6-4DBA-A4BC-8FB71A33BB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la relación que existe entre las entradas y salidas de un centro de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ntidad de trabajos que llegan 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entro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trabajos en proceso qu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en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con que se terminan l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en un cen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7307-3417-4C12-8433-840A68A89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de producción máx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es que presentan cuellos de bot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crí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apacidad no es clara para sistemas comple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3F7B-76C5-4A0A-A53A-D77E6FB7ED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16560" y="54864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álculos d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2057400"/>
            <a:ext cx="6324480" cy="3046320"/>
            <a:chOff x="1905120" y="2057400"/>
            <a:chExt cx="6324480" cy="30463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965240" y="2124000"/>
              <a:ext cx="595944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62520" y="2857680"/>
              <a:ext cx="2133360" cy="106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roducto en proces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2 mill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2057400"/>
              <a:ext cx="1828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4038480"/>
              <a:ext cx="182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Sal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0200" y="4508640"/>
              <a:ext cx="53028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ahoma"/>
                </a:rPr>
                <a:t>Tiempo de procesamiento del producto = $2.000.000/$100.000 = 20 semana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4724280"/>
              <a:ext cx="5105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4499-0910-4F73-80AE-4969AD1808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9:54:17Z</dcterms:created>
  <dc:creator>Antoine Sauré Valenzuela</dc:creator>
  <dc:description/>
  <dc:language>en-US</dc:language>
  <cp:lastModifiedBy>alumnodii</cp:lastModifiedBy>
  <cp:lastPrinted>2001-08-10T01:13:48Z</cp:lastPrinted>
  <dcterms:modified xsi:type="dcterms:W3CDTF">2007-10-10T21:47:09Z</dcterms:modified>
  <cp:revision>28</cp:revision>
  <dc:subject/>
  <dc:title>Gestión de Operaciones</dc:title>
</cp:coreProperties>
</file>