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121D-614C-492E-B09B-17DA332D6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AB86-46ED-4CCC-8538-A50E8D453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43C9-77EB-4221-89E7-F6F39EDB1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6412-9309-4711-85EF-70B0C41D1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392C4-550A-4B9B-8567-836A893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AA51-03F8-427C-9551-3377B57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A38BB-51CA-4317-8AF1-5DBB31D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193DB-5620-4A69-857B-9D42C75D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46E17-51D3-4C81-8FBC-14E5686D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0EB27-C6DD-4CAA-BF5F-ADC2AAD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EC356-A85E-40B1-80D6-0BF4F6C6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C687-546F-43A7-B1BB-2F0C68D35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DC342-F474-45A6-B8B8-B13A741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DCD3-6B59-454A-BFD1-0D57BB7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4EAC-E890-4AB8-BE3D-7CEF361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66677-EB0B-472D-9B2C-D250FB66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57A1-3F33-43D1-A830-0A5C9F9A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3F2B-1495-47E1-B8FD-AF3CDAEDF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8BD3-14C8-4D51-AF3A-1160573AA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16F5-0B0C-486A-94FD-962BF75B8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DB61-09B1-448D-AEDD-95C2E66D5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FACE-A26C-46CC-9093-3F68F1789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CF06-EF86-40C3-9C29-5E21232EC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8685-4D38-409A-BCF6-6133CA3AB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888800" y="6276960"/>
            <a:ext cx="364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750D-0811-4098-B8AD-C3529429430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686-C027-41BF-9103-2CFC1737176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8: Programación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BFDF-2F9C-4B33-B642-DD084788E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65D5-3A23-4ED4-B1A9-124A1D12C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66EA-103E-4E33-BF96-B310741585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4DEE-A04E-4896-9CEE-D83523CAE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2CE9-1A77-46B7-AED8-ED4D49A82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5770-E001-447E-AFE7-528BD1E6F2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C318-CF4F-4679-943D-4CDD2F9603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D7F9-A2DB-4A15-AE01-7130F4CE50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EB28-5FBE-4869-B265-7A1513DDBE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D862-A7AE-4657-AF0A-E8804AFDB4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DA72-DB89-4AA4-8B8C-509716967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5934-3378-4397-8BDD-77033BD80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EC9E-107E-4EB8-8956-0BB978D5F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3C7B-3549-468D-894A-5283D81355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9159-920B-435B-8E74-D2BAAD807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07C1-D95C-4FC2-8165-F09000833E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B508-B1A0-4E1C-9A52-8DBC2515F5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E805-112E-478C-A778-5A5CB87887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0FC1-73B7-4024-9551-83B0E0E50E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06E6-395B-4659-93DE-85DDBB1F82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41F5-066E-43B0-BDBC-EA076E924C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CFE6-5F00-4189-92F3-5086E8EDD9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47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E098-7D2E-486A-9E59-8F40FC9210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E21F-4049-400A-AB96-16EDFE41E9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BCEF-E312-4A72-AE36-85DF2FE1CE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27E1-9328-4B35-9706-69A390186F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22C0-D2C5-421A-97D4-551CD9DC20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0C60-9772-48B3-9F41-F1E3DD96A1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GRAMACIÓN DETALL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 tienen los requerimientos mens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hora deben llevarse a cab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enera una gran cantidad de problemas de programación, secuenciamiento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rocesos son diferentes si se trata de procesos en línea o intermit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programación puede resultar muy compleja debido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n número de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chas máquinas (o centros de trabaj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reas que ocupan varias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stricciones diver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EF5E-31B6-41B5-BDD4-2127E35AB8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lgunos problemas que se estudi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cuenciamiento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u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áquina (o cen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220500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854600" y="2281320"/>
          <a:ext cx="2790720" cy="120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281320"/>
                    <a:ext cx="279072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352680" y="22096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3657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A-B-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54040" y="4044960"/>
            <a:ext cx="9781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4760" y="4044960"/>
            <a:ext cx="16635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1280" y="4044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4038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     B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34340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                    6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800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C-A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54040" y="5187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5187960"/>
            <a:ext cx="9777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5640" y="5187960"/>
            <a:ext cx="16639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81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A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5486400"/>
            <a:ext cx="320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            3   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4038480"/>
            <a:ext cx="33620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l es mejo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La respuesta depende de qué criterio de eficiencia usemo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3733920"/>
            <a:ext cx="0" cy="20574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7362-32A2-41DE-96E3-27FB4010F1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Cuánto tarda cada tarea en ser entregada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1676520"/>
            <a:ext cx="7172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A: 2 hrs.   B: 6 hrs.   C: 7 hrs.         &lt;X&gt; = 5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A: 3 hrs.   B: 7 hrs.   C: 1 hrs.         &lt;X&gt; = 3,7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590920"/>
            <a:ext cx="73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 2 tiene u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empo medio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en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3200400"/>
            <a:ext cx="62578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las tareas en orden ascendente de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472428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PT minimiza el tiempo medio de es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5638680"/>
            <a:ext cx="770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ndo el tiempo medio de espera es un criterio apropi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9413-67C4-43CC-8938-BEE676E33D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167796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, en general, n tareas y que tenemos un secuenciamient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 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2516040"/>
            <a:ext cx="7553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Existen tareas i y j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ecutiv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les qu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tare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65760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3657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3276720"/>
            <a:ext cx="1761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309680" y="4789440"/>
                <a:ext cx="6427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rPr>
                            <m:lit/>
                            <m:nor/>
                          </m:rPr>
                          <m:t xml:space="preserve">  K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¹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4354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12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37339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047760" y="39625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3733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37339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50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38680" y="39625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12408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105160" y="37339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38098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28840" y="3886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962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37339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3886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962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373392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        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11480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C7EC-5CD0-4917-AC44-D1AB3D3285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6622-498E-4B19-88C1-06964DBE88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86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2743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28954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95480" y="29718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2743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8954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040" y="29718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97180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52880" y="2743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7656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52880" y="29718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61960" y="2743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564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9718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26668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266688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74320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         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12408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309680" y="3789360"/>
                <a:ext cx="6419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 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066680" y="1981080"/>
            <a:ext cx="52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Intercambiemos i con j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5486400"/>
            <a:ext cx="641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¡ Se puede mejorar, no es óptim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864F-547D-40C5-AA78-32BDB21009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rol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o es un bonito ejemplo de regla que es óptima bajo cierto crite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puede probar que es óptima bajo otros criterios también, como por ejemplo minimizar el inventario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puesto escond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o cambiar de tarea sin incurrir en ningún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61DC-7916-40E6-ABA9-69FDDDD647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104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emos n tare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i : tpo.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j : tpo. de preparación por pasar de i a 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remos una secuencia que minimice el tiempo total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tiempo total de proce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epende de la secuencia y 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presentación Gráf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740720" y="2924280"/>
                <a:ext cx="5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847880" y="44607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90880" y="4994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43160" y="4003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4156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6160" y="50706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34280" y="46134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41400" y="44546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56000" y="41497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50641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60720" y="4987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37040" y="39974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04120" y="46069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146320" y="41497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222640" y="437832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13000" y="437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94240" y="422604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222640" y="4454640"/>
            <a:ext cx="21333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13200" y="430200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37240" y="5292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365640" y="475884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2146320" y="483516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5640" y="529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65280" y="45306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08640" y="453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441240" y="5140440"/>
            <a:ext cx="8384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9720" y="445464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70600" y="4987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51640" y="43020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51640" y="4530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51640" y="483552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9C4A-0BC7-4127-AD8F-140C7AFB7F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sta buscar una manera de recorrer todos los nodos sin repetir ninguno y de modo tal que se minimice la suma de los tij de los arcos por donde se pa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¡ Problema del Vendedor Viajero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clásico de alta 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2C95-D480-4EE5-9317-2A1C71D33D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 Y si   hay fechas de entrega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116000" y="1582560"/>
            <a:ext cx="541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1811160"/>
            <a:ext cx="3133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d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2116080"/>
            <a:ext cx="5952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stablecida de entrega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2421000"/>
            <a:ext cx="6867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n que realmente se termin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8280" y="2878200"/>
            <a:ext cx="747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diferencia c/r a fecha 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335400"/>
            <a:ext cx="229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MAX { 0 , 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8320" y="3564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73600" y="3335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3944880"/>
            <a:ext cx="145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35320" y="3944880"/>
            <a:ext cx="6410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ontrar un secuenciamiento que minimice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máximo retr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92320" y="470700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35320" y="4707000"/>
            <a:ext cx="6486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DD (earliest due date), fecha de entrega más temprana. Secuenciar en orden ascendente de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92320" y="5545080"/>
            <a:ext cx="7248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DD minimiza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FB74-CEDB-47CB-890F-9AA2FB9737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Problemas con más de una máqui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160164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í ya no hay reglas simples que sean óptimas (e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áquinas si podemos hacer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274464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681280" y="2816280"/>
          <a:ext cx="457848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816280"/>
                    <a:ext cx="45784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066680" y="373392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areas son tales que de la máquina 1 se pasa a l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4343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oritmo de Johns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4800600"/>
            <a:ext cx="73249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entre las tareas no asignadas, elegir la con menor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e tpo. es en la máquina 1, colocarla primero, si no colocarla últ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2C7C-36AA-47CF-9771-DC4C2403CB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n el ejemplo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838080" y="1752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 tiene el menor tiempo, 2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0720" y="2133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25146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D tiene el menor tiempo, 3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8080" y="4038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) A tiene el menor tiempo, 5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327672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C tiene el menor tiempo, 4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4419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0720" y="365760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89548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5029200"/>
            <a:ext cx="31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:  E - C - B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1828800"/>
            <a:ext cx="0" cy="3505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3049560"/>
            <a:ext cx="328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goritmo de Johnson minimiza el tiempo total de ejecución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41C4-0EBE-4802-8B99-8B79987E1A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¿ Y si hay más máquinas 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600200"/>
            <a:ext cx="79344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blemas son difíciles en este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mplejidad: NP . difí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de Johnson, sin embargo, se puede extender como heurís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3429000"/>
            <a:ext cx="435276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Y otras medidas objetiv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medio de entr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495288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ótese que al minimizar el largo total del proyecto se favorecen igualmente las medidas ant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8A92-47E2-4A53-8275-48DFD98582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1676520"/>
            <a:ext cx="77054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m  tareas que pueden ser procesadas en cualesquiera de n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bjetivo es minimizar el largo total de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92320" y="3716280"/>
            <a:ext cx="20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1280" y="3716280"/>
            <a:ext cx="1914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2 máquin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are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3878280" y="4238640"/>
          <a:ext cx="1822320" cy="48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8280" y="4238640"/>
                    <a:ext cx="1822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8485-740A-4C18-8FDE-528F9A1EB1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99564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“Greedy” no es optimizante, se puede probar un factor de error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771640" y="4356000"/>
                <a:ext cx="957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3924360" y="43560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astante malo como cota de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84464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 “Greedy” (Golo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2276640"/>
            <a:ext cx="770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r la tarea más larga a la máquina que primero se desocu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04800" y="33512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11280" y="3052800"/>
            <a:ext cx="12826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6560" y="30528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40080" y="30528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62000" y="30463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     E   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71640" y="30463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35035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4800" y="38084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11280" y="3510000"/>
            <a:ext cx="11304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54280" y="3510000"/>
            <a:ext cx="1206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62000" y="35035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FF0E-BAF2-4708-B10D-E04E693D6F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6193-DD35-4EA7-A1B1-15D469CE5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roblemas Dinámicos de Talleres. (Job Shop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438120" y="449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1320" y="449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71640" y="1773360"/>
            <a:ext cx="785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blemas teóricos anteriores asumen que las tareas están disponibles en un momento conoc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2822400"/>
            <a:ext cx="313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práctic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3645000"/>
            <a:ext cx="77817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chas tareas moviéndose entre muchas máqu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andes incertidu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B90C-5121-4984-A0BF-369F4FDFD9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tuación típic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67652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forman colas frente a las diferentes máquinas, con tareas a proces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924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21280" y="32828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212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884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68840" y="32828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43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274320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114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1636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86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359160"/>
            <a:ext cx="63360" cy="21600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68640" y="3359160"/>
            <a:ext cx="63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43200" y="281952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19520" y="2743200"/>
            <a:ext cx="99036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419720" y="2666520"/>
            <a:ext cx="10666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2767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350532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886200"/>
            <a:ext cx="526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M3 hay tareas rojas y negras esperando. ¿ Cual despachamos primer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4876920"/>
            <a:ext cx="778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pachar la de menor tiempo de proceso no es necesariamente bueno ya que no tomamos en cuente todo lo que queda por hacer hacia adel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0CEF-9F8A-4099-B412-9AA15D3F6F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os problema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160164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ertidumbre en los proce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266688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todo esto las decisiones deben ser más bien diná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san REGLAS DE DESPA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358128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u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3962520"/>
            <a:ext cx="41241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WKR (Least Work Remaining), menor trabajo aún por comple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WINQ (Anticipated wait in next queue), tiempo estimado de espera en la próxima 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3962520"/>
            <a:ext cx="3591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FS (First Come, First Served), primero en llegar es aten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1905120"/>
            <a:ext cx="420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de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4400" y="220968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038480"/>
            <a:ext cx="0" cy="2133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8D8A-2D8B-4CAB-A4C1-A22F367BEA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 Cuál regla es mejor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1601640"/>
            <a:ext cx="48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sible dar una respuesta prec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981080"/>
            <a:ext cx="648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ma complicado y objeto de estudio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2362320"/>
            <a:ext cx="65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valúa normalmente vía SIM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289548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3276720"/>
            <a:ext cx="778176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el sistema de producción “virtualmente” en el comput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incertidumbres al “az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r el sistema con las tareas y probar diferentes reg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en función de distintas medidas de efectiv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25780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s a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5486400"/>
            <a:ext cx="404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sobre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715000"/>
            <a:ext cx="480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ntarios en proceso acum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5943600"/>
            <a:ext cx="252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C6E8-E61F-43CB-B4CE-03565B697A6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CDFA-BA06-4BC2-B1EA-55239D570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C098-D696-434E-A500-2319C1E3F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016B-7093-48BD-9414-CA435C7D9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4F15-EB8F-4579-9D58-1705CFF0E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alumnodii</cp:lastModifiedBy>
  <cp:lastPrinted>2001-08-10T01:13:48Z</cp:lastPrinted>
  <dcterms:modified xsi:type="dcterms:W3CDTF">2007-10-10T21:47:09Z</dcterms:modified>
  <cp:revision>28</cp:revision>
  <dc:subject/>
  <dc:title>Gestión de Operaciones</dc:title>
</cp:coreProperties>
</file>