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20.wmf" ContentType="image/x-wmf"/>
  <Override PartName="/ppt/media/image4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6.png" ContentType="image/png"/>
  <Override PartName="/ppt/media/image1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D6D53-B7FB-4D1D-A803-C0E0E56F50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4F58D-7448-495C-A6FC-C47228ECA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72F4E-F33E-44B4-AD1E-7FB8735A5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9687-F3FC-4BB8-9244-48EA96382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93D0E1-B043-407D-9B4D-3E0922284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86FFA-8A54-4907-85C2-8ADF4C45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064C0D-EBF0-4B7C-B4E6-82FF993B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4392D9-9AAB-4519-A6AE-3FB0A3DC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29C817-F7FF-4D6A-9CB5-157F5DC2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A00D85-7E96-4717-8E84-C96E9B9B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06C1D-8EA8-4030-BC87-A2696F62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283A5-9A3B-488E-8A7F-DED4EC256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DA00C9-49AC-4E26-B540-57F8D912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C17FE9-410C-4006-B823-46D127DD7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7C95C-4937-4DA6-B022-79DA89A4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C00CD-1F1F-49D6-BD3A-F8ACB396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13B5E-DA78-45CF-93C8-D05C2C40F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CFCE3-5626-429A-8A49-269DEEDCA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E427-3250-4DD3-A1B8-3B9C8C9616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1192C-99C0-4F30-992E-4C009E7A6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C035-FD46-4C69-A4E8-DDB02DF0E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B002-5775-4528-B3AE-019C98D4B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9EE93-CA3E-456F-852A-7FCC3A660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C0FD2-530F-4E80-BE2A-A9A8EB11D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4888800" y="6276960"/>
            <a:ext cx="364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EA0B-0FBD-45EF-9A17-F7690831E1A6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17D8-C276-4AC9-8CB7-229938C9F31A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35053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Tema 8: Programación de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353600" y="5486400"/>
            <a:ext cx="70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Inventario de Producto vs Uso de Mano de O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925640" y="1676520"/>
            <a:ext cx="5541840" cy="3735360"/>
            <a:chOff x="1925640" y="1676520"/>
            <a:chExt cx="5541840" cy="3735360"/>
          </a:xfrm>
        </p:grpSpPr>
        <p:pic>
          <p:nvPicPr>
            <p:cNvPr id="127" name="" descr=""/>
            <p:cNvPicPr/>
            <p:nvPr/>
          </p:nvPicPr>
          <p:blipFill>
            <a:blip r:embed="rId1"/>
            <a:stretch/>
          </p:blipFill>
          <p:spPr>
            <a:xfrm>
              <a:off x="1981080" y="1700280"/>
              <a:ext cx="54864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00608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7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7276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8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61600" y="5135400"/>
              <a:ext cx="48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9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99400" y="5135400"/>
              <a:ext cx="5677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32080" y="16765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44680" y="23623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4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2080" y="30862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4680" y="380988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44680" y="4525920"/>
              <a:ext cx="44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16200000">
              <a:off x="981360" y="3323160"/>
              <a:ext cx="2378160" cy="48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(cientos de horas hombr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C1F5-3DB4-422C-AA46-4866C6434C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onga que es posible reducir el inventario de producto en proceso en un 10% mientras que el uso de la mano de obra disminuye sólo en un 1%, ¿vale la pena la compensació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inventario de producto en proceso es 2 millones de dóla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utilizan 200 personas que cuestan 5 dólares la hor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uesta 20 centavos mantener 1 dólar de inventario durante un añ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FBB16-5287-4239-9AD0-7E30D1E8BC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spues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de disminuir el uso de la mano de obra = 0.01·200·40·52·$5 = $20,8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horro anual de inventario =              0.1·20·$2,000,000 = $40,000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o el ahorro de inventario es mayor que el costo debido a la reducción de mano de obra, vale la pena reducir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5B8A-FF2A-44CE-8C41-D370888953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431800" y="5867280"/>
            <a:ext cx="484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Relación entr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87680" y="1574640"/>
            <a:ext cx="4118040" cy="4234320"/>
            <a:chOff x="2587680" y="1574640"/>
            <a:chExt cx="4118040" cy="4234320"/>
          </a:xfrm>
        </p:grpSpPr>
        <p:pic>
          <p:nvPicPr>
            <p:cNvPr id="145" name="" descr=""/>
            <p:cNvPicPr/>
            <p:nvPr/>
          </p:nvPicPr>
          <p:blipFill>
            <a:blip r:embed="rId1"/>
            <a:stretch/>
          </p:blipFill>
          <p:spPr>
            <a:xfrm>
              <a:off x="2627280" y="1574640"/>
              <a:ext cx="4078440" cy="421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3496680" y="5562720"/>
              <a:ext cx="28065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Nivel de inventarios de producto en 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16200000">
              <a:off x="1917000" y="3363480"/>
              <a:ext cx="173988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o 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29840" y="3429000"/>
              <a:ext cx="1642320" cy="246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locidad de prod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414960" y="1600200"/>
              <a:ext cx="1736640" cy="398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 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med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504400" y="1600200"/>
              <a:ext cx="1073880" cy="5508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ariación en 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tiempo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procesa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6E00D-7979-4D8D-8292-99987D423B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do un conjunto de trabajos que pasan por distintas máquinas, ¿cómo cargar el sistem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s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ático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odos los trabajos enviados al comienzo d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 fábrica texti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námic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trabajos siguen llegando durante el dí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s: garage, impren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5DEE4-9EA0-4163-98D6-DE86F81485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4479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es de operación de cada máquin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prometid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ioridades de los clie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foq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a futu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van cargando hacia delante los trabajos y se ve si se cumplen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puede usar capacidad infinita para ver la capacidad necesaria o imponer la capacidad existen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se carga bien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no asegura bien cumplir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178B5-803B-4490-9123-720D2CF99D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 retrospectiv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r con las fechas de vencimiento y retroceder hasta el tiempo actu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ja: asegura el cumplimiento de los plaz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ventaja: puede cargar mal al comienz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enta problemas sobre todo en el caso dinámic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 proyectos y 3 máquin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upues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ías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movimiento/espera de 8 hor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0BA01-9778-4CAD-9C39-28BE4A0FAA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eben cargar las máquinas con trabajos de manera de cumplir los plazos de entreg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1813320" y="2971800"/>
            <a:ext cx="46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atos de Proyectos par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4114800" cy="1682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3BC2E-52D6-412E-BE12-A7CDD3B7C8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234440" y="1905120"/>
            <a:ext cx="60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a Futur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905120" y="2514600"/>
            <a:ext cx="6276600" cy="2903400"/>
            <a:chOff x="1905120" y="2514600"/>
            <a:chExt cx="6276600" cy="2903400"/>
          </a:xfrm>
        </p:grpSpPr>
        <p:pic>
          <p:nvPicPr>
            <p:cNvPr id="164" name="" descr=""/>
            <p:cNvPicPr/>
            <p:nvPr/>
          </p:nvPicPr>
          <p:blipFill>
            <a:blip r:embed="rId1"/>
            <a:stretch/>
          </p:blipFill>
          <p:spPr>
            <a:xfrm>
              <a:off x="1905120" y="2774880"/>
              <a:ext cx="5797440" cy="26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740560" y="40258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133720" y="3429000"/>
              <a:ext cx="5562360" cy="685800"/>
              <a:chOff x="2133720" y="3429000"/>
              <a:chExt cx="5562360" cy="685800"/>
            </a:xfrm>
          </p:grpSpPr>
          <p:sp>
            <p:nvSpPr>
              <p:cNvPr id="167" name=""/>
              <p:cNvSpPr/>
              <p:nvPr/>
            </p:nvSpPr>
            <p:spPr>
              <a:xfrm>
                <a:off x="2133720" y="3429000"/>
                <a:ext cx="556236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133720" y="3505320"/>
                <a:ext cx="5409720" cy="534960"/>
                <a:chOff x="2133720" y="3505320"/>
                <a:chExt cx="5409720" cy="534960"/>
              </a:xfrm>
            </p:grpSpPr>
            <p:sp>
              <p:nvSpPr>
                <p:cNvPr id="169" name=""/>
                <p:cNvSpPr/>
                <p:nvPr/>
              </p:nvSpPr>
              <p:spPr>
                <a:xfrm rot="5400000">
                  <a:off x="27050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5400000">
                  <a:off x="4076640" y="29336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5400000">
                  <a:off x="55242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5400000">
                  <a:off x="6895800" y="29336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51100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3864960" y="35942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325480" y="3606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684480" y="36162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677040" y="37940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" name=""/>
            <p:cNvSpPr/>
            <p:nvPr/>
          </p:nvSpPr>
          <p:spPr>
            <a:xfrm>
              <a:off x="6477120" y="31622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45320" y="30099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257800" y="450864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632720" y="43689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057400" y="4724280"/>
              <a:ext cx="5715000" cy="687600"/>
              <a:chOff x="2057400" y="4724280"/>
              <a:chExt cx="5715000" cy="687600"/>
            </a:xfrm>
          </p:grpSpPr>
          <p:sp>
            <p:nvSpPr>
              <p:cNvPr id="183" name=""/>
              <p:cNvSpPr/>
              <p:nvPr/>
            </p:nvSpPr>
            <p:spPr>
              <a:xfrm>
                <a:off x="2057400" y="472428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"/>
              <p:cNvGrpSpPr/>
              <p:nvPr/>
            </p:nvGrpSpPr>
            <p:grpSpPr>
              <a:xfrm>
                <a:off x="2133720" y="4876920"/>
                <a:ext cx="5409720" cy="534960"/>
                <a:chOff x="2133720" y="4876920"/>
                <a:chExt cx="5409720" cy="534960"/>
              </a:xfrm>
            </p:grpSpPr>
            <p:sp>
              <p:nvSpPr>
                <p:cNvPr id="185" name=""/>
                <p:cNvSpPr/>
                <p:nvPr/>
              </p:nvSpPr>
              <p:spPr>
                <a:xfrm rot="5400000">
                  <a:off x="27050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 rot="5400000">
                  <a:off x="4076640" y="430524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rot="5400000">
                  <a:off x="55242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5400000">
                  <a:off x="6895800" y="430524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51100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864960" y="49658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325480" y="4978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684480" y="49878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677040" y="516564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199476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50080" y="27273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083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24800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256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50040" y="27432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81800" y="409896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010680" y="411480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584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30720" y="411480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20080" y="251460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87BA2-2E70-4803-9436-B2D125111E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676520" y="1420920"/>
            <a:ext cx="6629400" cy="46879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861560" y="6019920"/>
            <a:ext cx="518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Indicación: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Partir en A con proyecto 5 en vez de proyecto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057400" y="5359320"/>
            <a:ext cx="5715000" cy="687600"/>
            <a:chOff x="2057400" y="5359320"/>
            <a:chExt cx="5715000" cy="687600"/>
          </a:xfrm>
        </p:grpSpPr>
        <p:sp>
          <p:nvSpPr>
            <p:cNvPr id="209" name=""/>
            <p:cNvSpPr/>
            <p:nvPr/>
          </p:nvSpPr>
          <p:spPr>
            <a:xfrm>
              <a:off x="2057400" y="5359320"/>
              <a:ext cx="57150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2133720" y="5511960"/>
              <a:ext cx="5409720" cy="534960"/>
              <a:chOff x="2133720" y="5511960"/>
              <a:chExt cx="5409720" cy="534960"/>
            </a:xfrm>
          </p:grpSpPr>
          <p:sp>
            <p:nvSpPr>
              <p:cNvPr id="211" name=""/>
              <p:cNvSpPr/>
              <p:nvPr/>
            </p:nvSpPr>
            <p:spPr>
              <a:xfrm rot="5400000">
                <a:off x="27050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400000">
                <a:off x="4076640" y="4940280"/>
                <a:ext cx="75960" cy="121896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5400000">
                <a:off x="55242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5400000">
                <a:off x="6895800" y="4940280"/>
                <a:ext cx="75960" cy="1219320"/>
              </a:xfrm>
              <a:custGeom>
                <a:avLst/>
                <a:gdLst>
                  <a:gd name="textAreaLeft" fmla="*/ 0 w 75960"/>
                  <a:gd name="textAreaRight" fmla="*/ 27360 w 75960"/>
                  <a:gd name="textAreaTop" fmla="*/ 31680 h 1219320"/>
                  <a:gd name="textAreaBottom" fmla="*/ 1187640 h 1219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51100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864960" y="56008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325480" y="5613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84480" y="562284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677040" y="580068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0" name=""/>
          <p:cNvSpPr/>
          <p:nvPr/>
        </p:nvSpPr>
        <p:spPr>
          <a:xfrm>
            <a:off x="4317840" y="1432080"/>
            <a:ext cx="3240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956600" y="1397160"/>
            <a:ext cx="6242040" cy="3809520"/>
            <a:chOff x="1956600" y="1397160"/>
            <a:chExt cx="6242040" cy="3809520"/>
          </a:xfrm>
        </p:grpSpPr>
        <p:grpSp>
          <p:nvGrpSpPr>
            <p:cNvPr id="222" name=""/>
            <p:cNvGrpSpPr/>
            <p:nvPr/>
          </p:nvGrpSpPr>
          <p:grpSpPr>
            <a:xfrm>
              <a:off x="2057400" y="2158920"/>
              <a:ext cx="5715000" cy="687600"/>
              <a:chOff x="2057400" y="2158920"/>
              <a:chExt cx="5715000" cy="687600"/>
            </a:xfrm>
          </p:grpSpPr>
          <p:sp>
            <p:nvSpPr>
              <p:cNvPr id="223" name=""/>
              <p:cNvSpPr/>
              <p:nvPr/>
            </p:nvSpPr>
            <p:spPr>
              <a:xfrm>
                <a:off x="2057400" y="215892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133720" y="2311560"/>
                <a:ext cx="5409720" cy="534960"/>
                <a:chOff x="2133720" y="2311560"/>
                <a:chExt cx="5409720" cy="534960"/>
              </a:xfrm>
            </p:grpSpPr>
            <p:sp>
              <p:nvSpPr>
                <p:cNvPr id="225" name=""/>
                <p:cNvSpPr/>
                <p:nvPr/>
              </p:nvSpPr>
              <p:spPr>
                <a:xfrm rot="5400000">
                  <a:off x="27050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rot="5400000">
                  <a:off x="4076640" y="173988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rot="5400000">
                  <a:off x="55242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rot="5400000">
                  <a:off x="6895800" y="173988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51100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864960" y="24004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325480" y="241308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684480" y="242244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677040" y="260028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4" name=""/>
            <p:cNvGrpSpPr/>
            <p:nvPr/>
          </p:nvGrpSpPr>
          <p:grpSpPr>
            <a:xfrm>
              <a:off x="2057400" y="3606840"/>
              <a:ext cx="5715000" cy="687600"/>
              <a:chOff x="2057400" y="3606840"/>
              <a:chExt cx="5715000" cy="687600"/>
            </a:xfrm>
          </p:grpSpPr>
          <p:sp>
            <p:nvSpPr>
              <p:cNvPr id="235" name=""/>
              <p:cNvSpPr/>
              <p:nvPr/>
            </p:nvSpPr>
            <p:spPr>
              <a:xfrm>
                <a:off x="2057400" y="3606840"/>
                <a:ext cx="5715000" cy="685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2133720" y="3759480"/>
                <a:ext cx="5409720" cy="534960"/>
                <a:chOff x="2133720" y="3759480"/>
                <a:chExt cx="5409720" cy="534960"/>
              </a:xfrm>
            </p:grpSpPr>
            <p:sp>
              <p:nvSpPr>
                <p:cNvPr id="237" name=""/>
                <p:cNvSpPr/>
                <p:nvPr/>
              </p:nvSpPr>
              <p:spPr>
                <a:xfrm rot="5400000">
                  <a:off x="27050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rot="5400000">
                  <a:off x="4076640" y="3187800"/>
                  <a:ext cx="75960" cy="121896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8960"/>
                    <a:gd name="textAreaBottom" fmla="*/ 1187280 h 12189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rot="5400000">
                  <a:off x="55242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5400000">
                  <a:off x="6895800" y="3187800"/>
                  <a:ext cx="75960" cy="1219320"/>
                </a:xfrm>
                <a:custGeom>
                  <a:avLst/>
                  <a:gdLst>
                    <a:gd name="textAreaLeft" fmla="*/ 0 w 75960"/>
                    <a:gd name="textAreaRight" fmla="*/ 27360 w 75960"/>
                    <a:gd name="textAreaTop" fmla="*/ 31680 h 1219320"/>
                    <a:gd name="textAreaBottom" fmla="*/ 1187640 h 1219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51100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864960" y="38484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325480" y="386100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684480" y="3870360"/>
                  <a:ext cx="482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ía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677040" y="4048200"/>
                  <a:ext cx="2244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Línea de tiempo para el proyecto 4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6" name=""/>
            <p:cNvSpPr/>
            <p:nvPr/>
          </p:nvSpPr>
          <p:spPr>
            <a:xfrm>
              <a:off x="6045120" y="18921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46720" y="5067360"/>
              <a:ext cx="242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44800" y="331488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57400" y="5054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031840" y="48769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044800" y="31744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34240" y="490176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632720" y="17395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95680" y="139716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289280" y="256212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50680" y="4251240"/>
              <a:ext cx="9093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5660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89760" y="144792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3696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0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943600" y="14479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96200" y="2895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55608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0364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56272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1040" y="287964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611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75560" y="4632480"/>
              <a:ext cx="2523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0" y="464832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91520" y="2933640"/>
              <a:ext cx="68580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32240" y="4632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1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43800" y="2895480"/>
              <a:ext cx="32400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3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7BBC-5B46-4A26-B4CB-12945C8630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 genera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rresponden a las decisiones concret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on decisiones detalladas, complejas y con muchas alternativ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ben ser consistentes con el nivel táctic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jetiv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grar que la capacidad disponible se use en forma efectiva y efic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tribuir equipos y personal entre distintos trabajos y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664E3-392C-4C20-9584-7766F0BC83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2812680" y="5029200"/>
            <a:ext cx="399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a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346040" y="2590920"/>
            <a:ext cx="6426360" cy="2171520"/>
            <a:chOff x="1346040" y="2590920"/>
            <a:chExt cx="6426360" cy="2171520"/>
          </a:xfrm>
        </p:grpSpPr>
        <p:pic>
          <p:nvPicPr>
            <p:cNvPr id="276" name="" descr=""/>
            <p:cNvPicPr/>
            <p:nvPr/>
          </p:nvPicPr>
          <p:blipFill>
            <a:blip r:embed="rId1"/>
            <a:stretch/>
          </p:blipFill>
          <p:spPr>
            <a:xfrm>
              <a:off x="1346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3632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" descr=""/>
            <p:cNvPicPr/>
            <p:nvPr/>
          </p:nvPicPr>
          <p:blipFill>
            <a:blip r:embed="rId3"/>
            <a:stretch/>
          </p:blipFill>
          <p:spPr>
            <a:xfrm>
              <a:off x="591804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00B5-DAB1-429B-B6F6-DFFF0DC3EE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2457720" y="5029200"/>
            <a:ext cx="47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jemplo de Nivelación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447920" y="2590920"/>
            <a:ext cx="6476400" cy="2171520"/>
            <a:chOff x="1447920" y="2590920"/>
            <a:chExt cx="6476400" cy="2171520"/>
          </a:xfrm>
        </p:grpSpPr>
        <p:pic>
          <p:nvPicPr>
            <p:cNvPr id="282" name="" descr=""/>
            <p:cNvPicPr/>
            <p:nvPr/>
          </p:nvPicPr>
          <p:blipFill>
            <a:blip r:embed="rId1"/>
            <a:stretch/>
          </p:blipFill>
          <p:spPr>
            <a:xfrm>
              <a:off x="144792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719680" y="2590920"/>
              <a:ext cx="220464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373356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554C-A86E-4D33-983B-8C160B02B8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1803240" y="5486400"/>
            <a:ext cx="671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íneas de Tiempo para la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1447920" y="1812960"/>
            <a:ext cx="7191360" cy="3368520"/>
            <a:chOff x="1447920" y="1812960"/>
            <a:chExt cx="7191360" cy="3368520"/>
          </a:xfrm>
        </p:grpSpPr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1447920" y="1839960"/>
              <a:ext cx="7191360" cy="33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1460520" y="42670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1555560" y="4470480"/>
              <a:ext cx="6706800" cy="630360"/>
              <a:chOff x="1555560" y="4470480"/>
              <a:chExt cx="6706800" cy="630360"/>
            </a:xfrm>
          </p:grpSpPr>
          <p:sp>
            <p:nvSpPr>
              <p:cNvPr id="291" name=""/>
              <p:cNvSpPr/>
              <p:nvPr/>
            </p:nvSpPr>
            <p:spPr>
              <a:xfrm rot="5400000">
                <a:off x="226044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5400000">
                <a:off x="3960720" y="37652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5400000">
                <a:off x="575604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5400000">
                <a:off x="7456320" y="37652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02572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702600" y="45885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514120" y="46054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97840" y="46180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482280" y="48546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1511280" y="2654280"/>
              <a:ext cx="7086600" cy="9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606320" y="2857680"/>
              <a:ext cx="6706800" cy="630360"/>
              <a:chOff x="1606320" y="2857680"/>
              <a:chExt cx="6706800" cy="630360"/>
            </a:xfrm>
          </p:grpSpPr>
          <p:sp>
            <p:nvSpPr>
              <p:cNvPr id="302" name=""/>
              <p:cNvSpPr/>
              <p:nvPr/>
            </p:nvSpPr>
            <p:spPr>
              <a:xfrm rot="5400000">
                <a:off x="231120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5400000">
                <a:off x="4011480" y="2152440"/>
                <a:ext cx="100800" cy="151092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0920"/>
                  <a:gd name="textAreaBottom" fmla="*/ 1471680 h 1510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5400000">
                <a:off x="580680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5400000">
                <a:off x="7507080" y="2152440"/>
                <a:ext cx="100800" cy="1511280"/>
              </a:xfrm>
              <a:custGeom>
                <a:avLst/>
                <a:gdLst>
                  <a:gd name="textAreaLeft" fmla="*/ 0 w 100800"/>
                  <a:gd name="textAreaRight" fmla="*/ 36360 w 100800"/>
                  <a:gd name="textAreaTop" fmla="*/ 39240 h 1511280"/>
                  <a:gd name="textAreaBottom" fmla="*/ 1472040 h 151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7648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53360" y="29757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564880" y="29926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248600" y="300528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Día 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533040" y="3241800"/>
                <a:ext cx="2244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000" spc="-1" strike="noStrike">
                    <a:solidFill>
                      <a:srgbClr val="000000"/>
                    </a:solidFill>
                    <a:latin typeface="Tahoma"/>
                  </a:rPr>
                  <a:t>Línea de tiempo para el proyecto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867720" y="181296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14880" y="3489480"/>
              <a:ext cx="147312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Tahoma"/>
                </a:rPr>
                <a:t>Fecha de venc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35755-2693-4A8A-AD9C-A7B569EC67F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arga de Máqui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4" name=""/>
          <p:cNvSpPr/>
          <p:nvPr/>
        </p:nvSpPr>
        <p:spPr>
          <a:xfrm>
            <a:off x="2610000" y="4952880"/>
            <a:ext cx="474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Gráficas de Carga Retrospe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905120" y="2590920"/>
            <a:ext cx="5968800" cy="2171520"/>
            <a:chOff x="1905120" y="2590920"/>
            <a:chExt cx="5968800" cy="2171520"/>
          </a:xfrm>
        </p:grpSpPr>
        <p:pic>
          <p:nvPicPr>
            <p:cNvPr id="316" name="" descr=""/>
            <p:cNvPicPr/>
            <p:nvPr/>
          </p:nvPicPr>
          <p:blipFill>
            <a:blip r:embed="rId1"/>
            <a:stretch/>
          </p:blipFill>
          <p:spPr>
            <a:xfrm>
              <a:off x="19051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" descr=""/>
            <p:cNvPicPr/>
            <p:nvPr/>
          </p:nvPicPr>
          <p:blipFill>
            <a:blip r:embed="rId2"/>
            <a:stretch/>
          </p:blipFill>
          <p:spPr>
            <a:xfrm>
              <a:off x="3936960" y="2590920"/>
              <a:ext cx="1854360" cy="21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" descr=""/>
            <p:cNvPicPr/>
            <p:nvPr/>
          </p:nvPicPr>
          <p:blipFill>
            <a:blip r:embed="rId3"/>
            <a:stretch/>
          </p:blipFill>
          <p:spPr>
            <a:xfrm>
              <a:off x="6019920" y="2590920"/>
              <a:ext cx="1854000" cy="21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0CE0-A984-4674-A3EB-6ECFD1FC23B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blem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Cuántas cajas de peaje son necesarias en un día de demanda alt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da auto demora en caja 30 segun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tiene una estadística de la llegada de autos por minu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5F51-6331-4F24-B187-F0609031ABB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3743280" y="2743200"/>
            <a:ext cx="1819440" cy="22860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105200" y="2057400"/>
            <a:ext cx="32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Llegadas por minu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52D9-1BAA-4874-91D5-772B3D8588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ueba con un número de cajas (n) igual a 1, 2, 3, 4, 5, 6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busca el número de cajas mínimo tal que no más del 3% de los autos espere más de 2 minu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or incrementos de tiemp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 la hora cero las cajas (3 por ejemplo) se suponen vací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ara saber cuántas llegadas ocurren en el primer minuto se saca un número aleatorio proporcional a la frecu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1C854-486A-4055-B751-FB839F7DBEE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525840" y="1955880"/>
            <a:ext cx="2928600" cy="3072960"/>
            <a:chOff x="3525840" y="1955880"/>
            <a:chExt cx="2928600" cy="3072960"/>
          </a:xfrm>
        </p:grpSpPr>
        <p:pic>
          <p:nvPicPr>
            <p:cNvPr id="328" name="" descr=""/>
            <p:cNvPicPr/>
            <p:nvPr/>
          </p:nvPicPr>
          <p:blipFill>
            <a:blip r:embed="rId1"/>
            <a:stretch/>
          </p:blipFill>
          <p:spPr>
            <a:xfrm>
              <a:off x="3525840" y="2384280"/>
              <a:ext cx="272268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4644720" y="19558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94760" y="21207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80840" y="223524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39560" y="26478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71480" y="330192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50640" y="458460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58920" y="228600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333399"/>
                  </a:solidFill>
                  <a:latin typeface="Tahoma"/>
                </a:rPr>
                <a:t>2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1792080" y="571500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roporciones Asociadas a las Frecu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 rot="10623000">
            <a:off x="5076000" y="3068640"/>
            <a:ext cx="1675440" cy="1980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44" y="0"/>
                </a:moveTo>
                <a:arcTo wR="10800" hR="10800" stAng="-5385938" swAng="5385938"/>
                <a:lnTo>
                  <a:pt x="10800" y="10800"/>
                </a:lnTo>
                <a:close/>
              </a:path>
              <a:path fill="none" w="21600" h="21600">
                <a:moveTo>
                  <a:pt x="10844" y="0"/>
                </a:moveTo>
                <a:arcTo wR="10800" hR="10800" stAng="-5385938" swAng="5385938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171120" y="502812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665FE-F762-4CD7-9A33-D610F99993A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2475000" y="2643120"/>
            <a:ext cx="4459320" cy="2766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157760" y="1828800"/>
            <a:ext cx="19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Hist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07485-0860-43BC-92E5-E35D19E4FF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uede verificar cuánto espera cada auto utilizando regla FIF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a vez hecha la simulación para n, se repite para n+1, n+2,..., etc.  Se ven las  estadísticas para cada valor y se elige el número de cajas más adecuad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hora la pregunta que surge 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Cuántos minutos se debe experimentar según la confiabilidad del resultado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AEECD-5A5B-403E-BE6E-2490BDB438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ultados esperad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a utilización de equipos y pers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ajo nivel de invent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Buen servic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inimización de co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semanal en fábr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signaciones médicas en hospit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gramación de cam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D4999-5ED6-45FE-86A2-904CC70C77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Obtención de números aleatorios de una distribución F(x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1072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y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U[0,1]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409760" y="2721240"/>
            <a:ext cx="7833240" cy="3356280"/>
            <a:chOff x="1409760" y="2721240"/>
            <a:chExt cx="7833240" cy="3356280"/>
          </a:xfrm>
        </p:grpSpPr>
        <p:sp>
          <p:nvSpPr>
            <p:cNvPr id="347" name=""/>
            <p:cNvSpPr/>
            <p:nvPr/>
          </p:nvSpPr>
          <p:spPr>
            <a:xfrm flipV="1">
              <a:off x="2628720" y="2818800"/>
              <a:ext cx="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28720" y="5333760"/>
              <a:ext cx="42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1409760" y="3352320"/>
              <a:ext cx="2437560" cy="1980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0669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0669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 rot="10718400">
              <a:off x="3685320" y="3777480"/>
              <a:ext cx="5531760" cy="223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672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6728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38600" y="3809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628360" y="377172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88600" y="508860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24160" y="42660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3924000" y="44956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628720" y="44956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70080" y="3600000"/>
              <a:ext cx="46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Tahoma"/>
                </a:rPr>
                <a:t>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880" y="2721240"/>
              <a:ext cx="67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Tahoma"/>
                </a:rPr>
                <a:t>c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Tahoma"/>
                </a:rPr>
                <a:t>(x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3853080" y="542196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9AA44-F53D-49CA-858D-4FF4D4BD563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próximo even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engo tres equipos en serie (falla uno y se para la producció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babilidades de falla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s de reparación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i = 1..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porcentaje del tiempo está parado el sistema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cedimien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t = 0 se parte generando tiempos de falla de cada máquina (independientes):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f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t) =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271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A12D-2A93-4398-9853-AD40AC3D71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82600" y="38095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y A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el sistema esta sin funcio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se generan próximas fallas del equipo 1. De igual manera para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 y (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(0, 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+T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) la proporción del tiempo con el sistema sin funcionar es: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0" y="27432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60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7598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809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95288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34320" y="2666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376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3172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3640" y="2345400"/>
            <a:ext cx="37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A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000" y="2787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42080" y="272628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43240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55880" y="2770560"/>
            <a:ext cx="700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 </a:t>
            </a: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+ 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804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80456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838200" y="2770560"/>
            <a:ext cx="320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Tahoma"/>
              </a:rPr>
              <a:t>t</a:t>
            </a:r>
            <a:r>
              <a:rPr b="0" lang="es-ES_tradnl" sz="1600" spc="-1" strike="noStrike" baseline="-25000">
                <a:solidFill>
                  <a:srgbClr val="333399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4267080" y="5373720"/>
                <a:ext cx="137160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5ADC0-53BA-4E6C-B3E6-8558A4D7927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imulación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programación de camiones forestales ASICAM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at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n 10 orígenes en el bosque y 5 destinos (plantas de celulosa, puertos, aserraderos, etc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carga y descarga de 20 minu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viaje entre el origen i y el destino j es 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50 camio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B72EF-66B4-466C-B9D8-1F63BBEE6D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 AM, llegan 10 camiones a los 10 orígenes y carg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6:20 AM parten a sus destin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ros 10 camiones empiezan a ser cargados en los orígenes a las 6: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mión 1 parte a las 6:20 AM y llega a las 8:45 AM a la planta de celulo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as 9:45 AM está descargado y parte en un nuevo viaje (reglas heurísticas para ver qué viaje le conviene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sí se le sigue la pista a cada cam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al llegar a un origen o destino hay algún camión siendo atendido, se hace co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2591-5BE0-418C-9461-B28A0331A5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mul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avanza en el día a través de los viaj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lleva estadística 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dera que se transport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miones usados y tiempo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espera en col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s de viaje cargado y descarga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afí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enas reglas de asignación de viajes que permitan programar viajes y diseñar flo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89A0F-EAEB-47DD-8D90-8B41C2BF842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ROGRAMACIÓN DETALLA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82600" y="1676160"/>
            <a:ext cx="777240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e tienen los requerimientos mensual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Ahora deben llevarse a cab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e genera una gran cantidad de problemas de programación, secuenciamiento, etc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os procesos son diferentes si se trata de procesos en línea o intermit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La programación puede resultar muy compleja debido 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ran número de tare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uchas máquinas (o centros de trabaj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areas que ocupan varias máqui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stricciones divers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BE2C9-DD16-4A9D-8410-EEB9C01EE8D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Algunos problemas que se estudia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)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cuenciamiento de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un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máquina (o cent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476360" y="220500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4854600" y="2281320"/>
          <a:ext cx="2790720" cy="120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4600" y="2281320"/>
                    <a:ext cx="279072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>
            <a:off x="3352680" y="2209680"/>
            <a:ext cx="12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3657600"/>
            <a:ext cx="282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encia A-B-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454040" y="4044960"/>
            <a:ext cx="97812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44760" y="4044960"/>
            <a:ext cx="166356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21280" y="4044960"/>
            <a:ext cx="36828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371600" y="4038480"/>
            <a:ext cx="343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                  B          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09680" y="434340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                      6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4800600"/>
            <a:ext cx="2828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cuencia C-A-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454040" y="5187960"/>
            <a:ext cx="36828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35280" y="5187960"/>
            <a:ext cx="97776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825640" y="5187960"/>
            <a:ext cx="1663920" cy="291960"/>
          </a:xfrm>
          <a:prstGeom prst="rect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447920" y="5181480"/>
            <a:ext cx="3438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     A    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600200" y="5486400"/>
            <a:ext cx="3209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            3                     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34120" y="4038480"/>
            <a:ext cx="336204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Cuál es mejo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¡ La respuesta depende de qué criterio de eficiencia usemos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9200" y="3733920"/>
            <a:ext cx="0" cy="205740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1D834-9109-4E88-B527-440BDB30485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¿ Cuánto tarda cada tarea en ser entregada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2" name=""/>
          <p:cNvSpPr/>
          <p:nvPr/>
        </p:nvSpPr>
        <p:spPr>
          <a:xfrm>
            <a:off x="1066680" y="1676520"/>
            <a:ext cx="7172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A: 2 hrs.   B: 6 hrs.   C: 7 hrs.         &lt;X&gt; = 5 h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A: 3 hrs.   B: 7 hrs.   C: 1 hrs.         &lt;X&gt; = 3,7 h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066680" y="2590920"/>
            <a:ext cx="7324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ernativa 2 tiene u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tiempo medio de espe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men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066680" y="3200400"/>
            <a:ext cx="625788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: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r las tareas en orden ascendente de tiempo de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66680" y="4724280"/>
            <a:ext cx="762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TEOR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SPT minimiza el tiempo medio de espe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990720" y="5638680"/>
            <a:ext cx="7705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Cuándo el tiempo medio de espera es un criterio apropiad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4AF95-4D15-4F50-BEEB-4E21D6F43D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Demostra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"/>
          <p:cNvSpPr/>
          <p:nvPr/>
        </p:nvSpPr>
        <p:spPr>
          <a:xfrm>
            <a:off x="990720" y="1677960"/>
            <a:ext cx="7629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, en general, n tareas y que tenemos un secuenciamient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no 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S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143000" y="2516040"/>
            <a:ext cx="7553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 Existen tareas i y j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nsecutiv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les que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&gt;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tpo. proceso tarea 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514600" y="365760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105520" y="36576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2900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11480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3276720"/>
            <a:ext cx="176184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i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1309680" y="4789440"/>
                <a:ext cx="6427800" cy="114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 = tiempo medio =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+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onde</m:t>
                        </m:r>
                        <m:r>
                          <m:rPr>
                            <m:lit/>
                            <m:nor/>
                          </m:rPr>
                          <m:t xml:space="preserve">  K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  <m:r>
                              <m:t xml:space="preserve">¹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,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3435480" y="3740040"/>
            <a:ext cx="6728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21280" y="3740040"/>
            <a:ext cx="672840" cy="29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04812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048120" y="403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290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48120" y="37339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8120" y="37339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12408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3047760" y="39625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3733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4038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01992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638680" y="37339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638680" y="373392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571500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71500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638680" y="396252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00600" y="3733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40384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80060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312408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5105160" y="37339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105520" y="38098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5028840" y="3886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105520" y="3962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09680" y="3733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09680" y="4038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6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2514600" y="37339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514600" y="38098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2438280" y="38862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4600" y="3962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3733920"/>
            <a:ext cx="115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          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114800"/>
            <a:ext cx="2523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4290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006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87F76-9A80-4CCC-95D1-062B6494CFF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egu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 se tienen diversos productos, ¿qué se produce en cada moment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unto clav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iempos de preparació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producción clásica los altos tiempos de preparación determinan mayores lotes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n los sistemas de manufactura flexible (FMS) los menores tiempos de preparación se traducen en lotes más ch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955FC-C02A-4DAC-AC63-D3184DE759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Demostración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32767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048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82840" y="274968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968640" y="2749680"/>
            <a:ext cx="6732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95480" y="2743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95480" y="3048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2767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548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95480" y="27432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971800" y="28954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H="1">
            <a:off x="2895480" y="2971800"/>
            <a:ext cx="1526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8640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48640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86728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486400" y="2743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86400" y="27432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562360" y="2819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62720" y="28954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5486040" y="29718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64832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6483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2971800" y="2819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952880" y="2743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28195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4876560" y="28954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952880" y="29718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2743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57400" y="30481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05740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2361960" y="27432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362320" y="2819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2285640" y="289548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62320" y="29718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952880" y="2666880"/>
            <a:ext cx="847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362320" y="266688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2743200"/>
            <a:ext cx="1152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         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48120" y="3124080"/>
            <a:ext cx="2523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+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1309680" y="3789360"/>
                <a:ext cx="641988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β</m:t>
                        </m:r>
                        <m:r>
                          <m:rPr>
                            <m:lit/>
                            <m:nor/>
                          </m:rPr>
                          <m:t xml:space="preserve"> = tiempo medio = 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+ 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= </m:t>
                        </m:r>
                        <m:r>
                          <m:t xml:space="preserve">α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á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α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4" name=""/>
          <p:cNvSpPr/>
          <p:nvPr/>
        </p:nvSpPr>
        <p:spPr>
          <a:xfrm>
            <a:off x="1066680" y="1981080"/>
            <a:ext cx="5267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¡ Intercambiemos i con j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219320" y="5486400"/>
            <a:ext cx="6410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 ¡ Se puede mejorar, no es óptimo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2F049-5D04-480E-AF4A-3C81BC13748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Corol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82600" y="16761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sto es un bonito ejemplo de regla que es óptima bajo cierto criteri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puede probar que es óptima bajo otros criterios también, como por ejemplo minimizar el inventario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upuesto escondid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uedo cambiar de tarea sin incurrir en ningún cos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43FFA-EF04-4073-9261-2F105E9F482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Tahoma"/>
              </a:rPr>
              <a:t>¿ Y si hay que preparar la máquina nuevamente según la tarea a la que cambiamos 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10480" cy="20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enemos n tarea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pi : tpo. de proces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tij : tpo. de preparación por pasar de i a j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eremos una secuencia que minimice el tiempo total de trabaj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tiempo total de proceso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depende de la secuencia y 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presentación Gráfic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7740720" y="2924280"/>
                <a:ext cx="5112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1847880" y="44607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990880" y="499428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143160" y="40035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62480" y="41562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286160" y="50706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334280" y="461340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41400" y="445464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356000" y="41497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356000" y="50641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060720" y="498780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37040" y="399744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404120" y="4606920"/>
            <a:ext cx="31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2146320" y="4149720"/>
            <a:ext cx="91440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2222640" y="4378320"/>
            <a:ext cx="9144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13000" y="4378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94240" y="422604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222640" y="4454640"/>
            <a:ext cx="21333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13200" y="430200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737240" y="52927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3365640" y="4758840"/>
            <a:ext cx="19810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H="1" flipV="1">
            <a:off x="2146320" y="4835160"/>
            <a:ext cx="838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65640" y="5292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3365280" y="4530600"/>
            <a:ext cx="106668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508640" y="4530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441240" y="5140440"/>
            <a:ext cx="838440" cy="7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89720" y="4454640"/>
            <a:ext cx="83808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6870600" y="49878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651640" y="43020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651640" y="453060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651640" y="4835520"/>
            <a:ext cx="847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15D63-19AA-4D62-B3F0-28EAE451417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¿ Y si hay que preparar la máquina nuevamente según la tarea a la que cambiamos 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Basta buscar una manera de recorrer todos los nodos sin repetir ninguno y de modo tal que se minimice la suma de los tij de los arcos por donde se pa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¡ Problema del Vendedor Viajero 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jemplo clásico de alta complej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B0ED-B7AC-472B-9BAE-686935EA122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¿ Y si   hay fechas de entrega 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1116000" y="1582560"/>
            <a:ext cx="5419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n t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116000" y="1811160"/>
            <a:ext cx="31338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tpo. proceso de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16000" y="2116080"/>
            <a:ext cx="59529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fecha establecida de entrega tare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116000" y="2421000"/>
            <a:ext cx="686736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fecha en que realmente se termin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8280" y="2878200"/>
            <a:ext cx="747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: diferencia c/r a fecha de entre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268280" y="3335400"/>
            <a:ext cx="22957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MAX { 0 , 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478320" y="356400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773600" y="3335400"/>
            <a:ext cx="290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raso tarea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116000" y="3944880"/>
            <a:ext cx="1457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35320" y="3944880"/>
            <a:ext cx="641016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ontrar un secuenciamiento que minimice MA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l máximo retr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1192320" y="4707000"/>
            <a:ext cx="1228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335320" y="4707000"/>
            <a:ext cx="648648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DD (earliest due date), fecha de entrega más temprana. Secuenciar en orden ascendente de d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92320" y="5545080"/>
            <a:ext cx="724824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 u="sng">
                <a:solidFill>
                  <a:srgbClr val="333399"/>
                </a:solidFill>
                <a:uFillTx/>
                <a:latin typeface="Arial"/>
              </a:rPr>
              <a:t>TEOREM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 EDD minimiza MA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85AFD-66B1-4830-80F0-16E1E617E24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Problemas con más de una máquin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990720" y="1601640"/>
            <a:ext cx="7858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quí ya no hay reglas simples que sean óptimas (en gene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ro con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máquinas si podemos hacer alg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066680" y="274464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2681280" y="2816280"/>
          <a:ext cx="4578480" cy="70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1280" y="2816280"/>
                    <a:ext cx="45784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"/>
          <p:cNvSpPr/>
          <p:nvPr/>
        </p:nvSpPr>
        <p:spPr>
          <a:xfrm>
            <a:off x="1066680" y="3733920"/>
            <a:ext cx="7629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tareas son tales que de la máquina 1 se pasa a la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4343400"/>
            <a:ext cx="2905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lgoritmo de Johnso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066680" y="4800600"/>
            <a:ext cx="732492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entre las tareas no asignadas, elegir la con menor tiempo de proc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ese tpo. es en la máquina 1, colocarla primero, si no colocarla últim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B70B5-8DDF-46E7-98E8-92DD7542EAD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En el ejemplo: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>
            <a:off x="838080" y="175248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) E tiene el menor tiempo, 2, en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90720" y="213372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? - ? - ? -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838080" y="251460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) D tiene el menor tiempo, 3, en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838080" y="403848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) A tiene el menor tiempo, 5, en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838080" y="327672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) C tiene el menor tiempo, 4, en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990720" y="441972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C - ? - A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90720" y="365760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C - ? - ?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990720" y="2895480"/>
            <a:ext cx="5114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&gt; E - ? - ? - ?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219320" y="5029200"/>
            <a:ext cx="3133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 final:  E - C - B - A -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7800" y="1828800"/>
            <a:ext cx="0" cy="3505320"/>
          </a:xfrm>
          <a:prstGeom prst="line">
            <a:avLst/>
          </a:prstGeom>
          <a:ln w="7632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486400" y="3049560"/>
            <a:ext cx="3286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algoritmo de Johnson minimiza el tiempo total de ejecución del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5D664-586F-423C-BC28-50CF8115D42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¿ Y si hay más máquinas 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"/>
          <p:cNvSpPr/>
          <p:nvPr/>
        </p:nvSpPr>
        <p:spPr>
          <a:xfrm>
            <a:off x="914400" y="1600200"/>
            <a:ext cx="793440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problemas son difíciles en este ca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complejidad: NP . difíci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gla de Johnson, sin embargo, se puede extender como heurís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3429000"/>
            <a:ext cx="4352760" cy="13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 Y otras medidas objetiv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iempo medio de entreg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ra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914400" y="4952880"/>
            <a:ext cx="785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ótese que al minimizar el largo total del proyecto se favorecen igualmente las medidas anteri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AE71F-7DD8-4877-ABAD-5FA63F44126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99"/>
                </a:solidFill>
                <a:latin typeface="Tahoma"/>
              </a:rPr>
              <a:t>Máquinas en Paralel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4" name=""/>
          <p:cNvSpPr/>
          <p:nvPr/>
        </p:nvSpPr>
        <p:spPr>
          <a:xfrm>
            <a:off x="990720" y="1676520"/>
            <a:ext cx="77054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xisten m  tareas que pueden ser procesadas en cualesquiera de n máqu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objetivo es minimizar el largo total de proce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192320" y="3716280"/>
            <a:ext cx="20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11280" y="3716280"/>
            <a:ext cx="19144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2 máquin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 Tare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3878280" y="4238640"/>
          <a:ext cx="1822320" cy="48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8280" y="4238640"/>
                    <a:ext cx="182232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FA0C4-1460-4F47-AA51-19EE6B7F988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Máquinas en Paral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971640" y="3995640"/>
            <a:ext cx="7629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 regla “Greedy” no es optimizante, se puede probar un factor de error igual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2771640" y="4356000"/>
                <a:ext cx="9572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2" name=""/>
          <p:cNvSpPr/>
          <p:nvPr/>
        </p:nvSpPr>
        <p:spPr>
          <a:xfrm>
            <a:off x="3924360" y="4356000"/>
            <a:ext cx="4276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(Bastante malo como cota de erro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844640"/>
            <a:ext cx="313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gla “Greedy” (Golo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71640" y="2276640"/>
            <a:ext cx="7705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signar la tarea más larga a la máquina que primero se desocup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04800" y="335124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511280" y="3052800"/>
            <a:ext cx="128268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806560" y="3052800"/>
            <a:ext cx="52092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340080" y="3052800"/>
            <a:ext cx="5205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962000" y="304632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           E    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971640" y="3046320"/>
            <a:ext cx="54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971640" y="3503520"/>
            <a:ext cx="542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504800" y="3808440"/>
            <a:ext cx="3276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511280" y="3510000"/>
            <a:ext cx="113040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54280" y="3510000"/>
            <a:ext cx="120636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62000" y="350352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            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656B1-C629-4D80-A96F-D611E19014C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en Líne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¿Cómo secuenciar produccion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medio del tiempo de agotamiento (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programan primero los productos con menor tiempo de agotamiento (menor r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981080" y="3048120"/>
                <a:ext cx="43182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nventario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manda</m:t>
                        </m:r>
                        <m:r>
                          <m:rPr>
                            <m:lit/>
                            <m:nor/>
                          </m:rPr>
                          <m:t xml:space="preserve">producto</m:t>
                        </m:r>
                        <m:r>
                          <m:t xml:space="preserve">i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045D3-3762-49A2-AD97-91BC9D7A4A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Tahoma"/>
              </a:rPr>
              <a:t>Problemas Dinámicos de Talleres. (Job Shop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438120" y="449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81320" y="449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71640" y="1773360"/>
            <a:ext cx="7858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problemas teóricos anteriores asumen que las tareas están disponibles en un momento conoci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71640" y="2822400"/>
            <a:ext cx="3133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En la práctica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971640" y="3645000"/>
            <a:ext cx="778176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uchas tareas moviéndose entre muchas máqui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Grandes incertidumb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1E3D5-E3E0-4CD8-B50D-F630BEB5B72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ituación típica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1676520"/>
            <a:ext cx="78580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forman colas frente a las diferentes máquinas, con tareas a proces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9248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121280" y="328284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12128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568840" y="2521080"/>
            <a:ext cx="36828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568840" y="3282840"/>
            <a:ext cx="444600" cy="444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066680" y="27432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743200" y="2666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43200" y="274320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11440" y="2597040"/>
            <a:ext cx="6372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664080" y="2597040"/>
            <a:ext cx="6336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16360" y="2597040"/>
            <a:ext cx="6336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68640" y="2597040"/>
            <a:ext cx="63720" cy="216000"/>
          </a:xfrm>
          <a:prstGeom prst="ellipse">
            <a:avLst/>
          </a:prstGeom>
          <a:solidFill>
            <a:srgbClr val="00e4a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16360" y="3359160"/>
            <a:ext cx="63360" cy="21600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968640" y="3359160"/>
            <a:ext cx="6372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743200" y="2819520"/>
            <a:ext cx="99072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09880" y="358128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19520" y="2743200"/>
            <a:ext cx="99036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9880" y="33526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4419720" y="2666520"/>
            <a:ext cx="106668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038480" y="327672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03848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209680" y="2514600"/>
            <a:ext cx="619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14400" y="3505320"/>
            <a:ext cx="176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ej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3886200"/>
            <a:ext cx="52671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M3 hay tareas rojas y negras esperando. ¿ Cual despachamos primero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914400" y="4876920"/>
            <a:ext cx="77817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spachar la de menor tiempo de proceso no es necesariamente bueno ya que no tomamos en cuente todo lo que queda por hacer hacia adela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D7D2E-7421-42ED-87FD-A577D773CC4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Otros problema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3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914400" y="160164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certidumbre en los proces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14400" y="2666880"/>
            <a:ext cx="7858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or todo esto las decisiones deben ser más bien dinám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usan REGLAS DE DESPACH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990720" y="3581280"/>
            <a:ext cx="1304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lguna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914400" y="3962520"/>
            <a:ext cx="4124160" cy="22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PT (Shortest Processing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WKR (Least Work Remaining), menor trabajo aún por complet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WINQ (Anticipated wait in next queue), tiempo estimado de espera en la próxima co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181480" y="3962520"/>
            <a:ext cx="3591000" cy="14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CFS (First Come, First Served), primero en llegar es atend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914400" y="1905120"/>
            <a:ext cx="420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allas de máqu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914400" y="2209680"/>
            <a:ext cx="2676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105520" y="4038480"/>
            <a:ext cx="0" cy="2133720"/>
          </a:xfrm>
          <a:prstGeom prst="line">
            <a:avLst/>
          </a:prstGeom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793FF-11EF-4DF2-BF34-B2C39F38092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¿ Cuál regla es mejor 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4" name=""/>
          <p:cNvSpPr/>
          <p:nvPr/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990720" y="1601640"/>
            <a:ext cx="4886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mposible dar una respuesta precis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990720" y="1981080"/>
            <a:ext cx="6486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ema complicado y objeto de estudio const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90720" y="2362320"/>
            <a:ext cx="6562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 evalúa normalmente vía SIMUL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990720" y="289548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iste 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90720" y="3276720"/>
            <a:ext cx="7781760" cy="20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gramar el sistema de producción “virtualmente” en el computad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nerar incertidumbres al “azar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rrer el sistema con las tareas y probar diferentes reg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r en función de distintas medidas de efectivida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5257800"/>
            <a:ext cx="5572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gas a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447920" y="5486400"/>
            <a:ext cx="4047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dad de sobre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447920" y="5715000"/>
            <a:ext cx="4809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ventarios en proceso acumu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5943600"/>
            <a:ext cx="2523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tc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6E7F6-AE7A-4CC2-A884-779FD88DAAE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Procesos Intermiten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barca talleres, imprentas, garages.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os proyectos o clientes esperan en una línea conforme cada unidad se transfiere de un centro de trabajo hasta el sigu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forma una cola de inventario de producto en proceso en cada centro de trabajo existiendo tiempos de espera para conseguir la disponibilidad de las instal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or lo tanto, puede pensarse en el problema de programación intermitente como una red de co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27C5-FA47-413F-B189-21A3372130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ósi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dministrar la relación que existe entre las entradas y salidas de un centro de trabaj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fini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ntrad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ntidad de trabajos que llegan a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n centro por unidad de tiemp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rga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úmero de trabajos en proceso que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hay en 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ción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con que se terminan los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en un centr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D8A6F-9D30-4261-9231-85E58859735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apacidad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velocidad de producción máx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ara tener en cuent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aciones que presentan cuellos de botell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Trabajos crít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La capacidad no es clara para sistemas complej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591A1-E1B8-44F7-8518-58A6040032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Control de Entradas - Sali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716560" y="5486400"/>
            <a:ext cx="44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álculos de Entradas - Sal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905120" y="2057400"/>
            <a:ext cx="6324480" cy="3046320"/>
            <a:chOff x="1905120" y="2057400"/>
            <a:chExt cx="6324480" cy="304632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1965240" y="2124000"/>
              <a:ext cx="5959440" cy="297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62520" y="2857680"/>
              <a:ext cx="2133360" cy="10666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Producto en proceso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2 millon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05120" y="2057400"/>
              <a:ext cx="18288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Entra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4038480"/>
              <a:ext cx="18288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Sali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ahoma"/>
                </a:rPr>
                <a:t>$100.000/seman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50200" y="4508640"/>
              <a:ext cx="530280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100" spc="-1" strike="noStrike">
                  <a:solidFill>
                    <a:srgbClr val="000000"/>
                  </a:solidFill>
                  <a:latin typeface="Tahoma"/>
                </a:rPr>
                <a:t>Tiempo de procesamiento del producto = $2.000.000/$100.000 = 20 semanas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09680" y="4724280"/>
              <a:ext cx="510552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ema 8: Programación de Operaciones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2F7A-A284-48F2-982F-2B64CC6591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8T19:54:17Z</dcterms:created>
  <dc:creator>Antoine Sauré Valenzuela</dc:creator>
  <dc:description/>
  <dc:language>en-US</dc:language>
  <cp:lastModifiedBy>alumnodii</cp:lastModifiedBy>
  <cp:lastPrinted>2001-08-10T01:13:48Z</cp:lastPrinted>
  <dcterms:modified xsi:type="dcterms:W3CDTF">2007-10-10T21:47:09Z</dcterms:modified>
  <cp:revision>28</cp:revision>
  <dc:subject/>
  <dc:title>Gestión de Operaciones</dc:title>
</cp:coreProperties>
</file>