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0817-2A53-4BB7-88E7-3A92E45C4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3B73-5832-46C3-864C-E6BBD2AC4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8864-AC89-403C-8B1B-FCF022D7E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3439-9C15-40CD-A8C3-61958F9E8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BF5B3-A318-41E7-9E0A-571F6697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2FB7-1EE3-4022-8B68-B2610B3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4E700-2799-4000-BFF6-8B455323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537F9-BBEB-42C0-A1D1-AAFFFDE8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CC524-83A2-4067-A20B-1C1AB7B9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76F02-37C4-42E9-8A01-5E13CAF8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91B9C-CF56-40E6-992F-CAC83E7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A390-F3ED-4B07-A894-9B30D3342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AA912-6F2B-4F3D-B15B-E86F54E2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5586-7F57-423F-9B66-A3211C7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2D60D-14DE-4FAB-BC10-337BAA9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5DB6-4347-4DC1-822D-1645FEB3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70469-78B4-42CE-9E2F-7A8BD240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70B3-1E44-4E59-A3C2-1267AFB1A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7574-2E3F-4258-AE01-57658DF27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6889-BF26-4DB3-9A04-FDAACEEBC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04EE-3CA2-410F-A72A-61C411B77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1D2A-D27E-4DA4-B118-718497BCA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40FA-F790-406C-999F-AC9C56E6A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9239-E497-4AD4-B67B-F089FCC48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58756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E15-08F7-4D9E-845A-32F42FCAB43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0169-8F20-4010-85FF-BAFCDCE26175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5053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7: Planeación Agre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velar la Fuerza de Trabajo y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variación en la demanda debe absorberse mediante el uso de inventarios, tiempo extra, subcontrataciones, arreglos de cooperación o cualquiera de las opciones que influyen en la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puede incurrir en 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609A-C05A-40F1-B184-1694C0859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30080" y="1828800"/>
            <a:ext cx="7056360" cy="3325320"/>
            <a:chOff x="1630080" y="1828800"/>
            <a:chExt cx="7056360" cy="3325320"/>
          </a:xfrm>
        </p:grpSpPr>
        <p:sp>
          <p:nvSpPr>
            <p:cNvPr id="130" name=""/>
            <p:cNvSpPr/>
            <p:nvPr/>
          </p:nvSpPr>
          <p:spPr>
            <a:xfrm>
              <a:off x="2783520" y="1828800"/>
              <a:ext cx="0" cy="293832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6680" y="4761360"/>
              <a:ext cx="4027680" cy="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76680" y="3690360"/>
              <a:ext cx="417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630080" y="2270160"/>
              <a:ext cx="6210720" cy="2564640"/>
              <a:chOff x="1630080" y="2270160"/>
              <a:chExt cx="6210720" cy="2564640"/>
            </a:xfrm>
          </p:grpSpPr>
          <p:sp>
            <p:nvSpPr>
              <p:cNvPr id="134" name=""/>
              <p:cNvSpPr/>
              <p:nvPr/>
            </p:nvSpPr>
            <p:spPr>
              <a:xfrm>
                <a:off x="3997800" y="2996640"/>
                <a:ext cx="1362240" cy="183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89" y="55"/>
                    </a:moveTo>
                    <a:arcTo wR="10800" hR="10800" stAng="-5052804" swAng="35333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89" y="55"/>
                    </a:moveTo>
                    <a:arcTo wR="10800" hR="10800" stAng="-5052804" swAng="35333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26320" y="2996640"/>
                <a:ext cx="1363680" cy="183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1" y="8226"/>
                    </a:moveTo>
                    <a:arcTo wR="10800" hR="10800" stAng="-9972827" swAng="42174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1" y="8226"/>
                    </a:moveTo>
                    <a:arcTo wR="10800" hR="10800" stAng="-9972827" swAng="421745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30080" y="2480400"/>
                <a:ext cx="2560680" cy="183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63" y="12513"/>
                    </a:moveTo>
                    <a:arcTo wR="10800" hR="10800" stAng="547484" swAng="48571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63" y="12513"/>
                    </a:moveTo>
                    <a:arcTo wR="10800" hR="10800" stAng="547484" swAng="4857134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80120" y="2270160"/>
                <a:ext cx="2560680" cy="2048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18" swAng="45643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18" swAng="4564362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762960" y="4699440"/>
              <a:ext cx="19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630440" y="3709800"/>
              <a:ext cx="6210360" cy="169560"/>
              <a:chOff x="1630440" y="3709800"/>
              <a:chExt cx="6210360" cy="169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997440" y="3764160"/>
                <a:ext cx="1362600" cy="11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85" y="55"/>
                    </a:moveTo>
                    <a:arcTo wR="10800" hR="10800" stAng="-5053927" swAng="3471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85" y="55"/>
                    </a:moveTo>
                    <a:arcTo wR="10800" hR="10800" stAng="-5053927" swAng="3471433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25960" y="3764160"/>
                <a:ext cx="1364400" cy="11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7" y="8201"/>
                    </a:moveTo>
                    <a:arcTo wR="10800" hR="10800" stAng="-9964477" swAng="4210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7" y="8201"/>
                    </a:moveTo>
                    <a:arcTo wR="10800" hR="10800" stAng="-9964477" swAng="4210257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30440" y="3726360"/>
                <a:ext cx="2560320" cy="11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96" y="12296"/>
                    </a:moveTo>
                    <a:arcTo wR="10800" hR="10800" stAng="477853" swAng="49267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96" y="12296"/>
                    </a:moveTo>
                    <a:arcTo wR="10800" hR="10800" stAng="477853" swAng="4926765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81200" y="3709800"/>
                <a:ext cx="2559600" cy="13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5" y="21600"/>
                    </a:moveTo>
                    <a:arcTo wR="10800" hR="10800" stAng="5404618" swAng="4657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5" y="21600"/>
                    </a:moveTo>
                    <a:arcTo wR="10800" hR="10800" stAng="5404618" swAng="4657080"/>
                  </a:path>
                </a:pathLst>
              </a:custGeom>
              <a:noFill/>
              <a:ln cap="rnd"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98980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722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550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784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19920" y="3858120"/>
              <a:ext cx="0" cy="4633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02720" y="3858120"/>
              <a:ext cx="0" cy="367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85520" y="3858120"/>
              <a:ext cx="0" cy="3675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96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040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200" y="3858120"/>
              <a:ext cx="0" cy="2718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15640" y="3858120"/>
              <a:ext cx="0" cy="175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98440" y="3858120"/>
              <a:ext cx="0" cy="1756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80880" y="3858120"/>
              <a:ext cx="0" cy="799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9920" y="4050000"/>
              <a:ext cx="646920" cy="36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5120" y="4235760"/>
              <a:ext cx="131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5240" y="3954240"/>
              <a:ext cx="646920" cy="2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20800" y="4043880"/>
              <a:ext cx="156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828880" y="52578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ducción para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BB97-A9BE-4433-B313-79C849CC6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i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ste caso la fuerza de trabajo absorbe todos los cambios en la demanda, sin necesidad de mantener inventarios ni utilizar alguna de las variables disponibles para la planeación agreg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eden utilizarse estas dos estrategias puras junto combinaciones entre ellas para satisfacer las fluctuaciones de la deman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452F-54C4-4608-A668-3BFA92C7B7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rategias Pur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425600" y="1905120"/>
            <a:ext cx="6847560" cy="3293640"/>
            <a:chOff x="1425600" y="1905120"/>
            <a:chExt cx="6847560" cy="3293640"/>
          </a:xfrm>
        </p:grpSpPr>
        <p:sp>
          <p:nvSpPr>
            <p:cNvPr id="166" name=""/>
            <p:cNvSpPr/>
            <p:nvPr/>
          </p:nvSpPr>
          <p:spPr>
            <a:xfrm>
              <a:off x="4289760" y="4653360"/>
              <a:ext cx="325368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160" y="1905120"/>
              <a:ext cx="0" cy="278604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98920" y="4699080"/>
              <a:ext cx="4175640" cy="0"/>
            </a:xfrm>
            <a:prstGeom prst="line">
              <a:avLst/>
            </a:prstGeom>
            <a:ln w="12600">
              <a:solidFill>
                <a:srgbClr val="ff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98920" y="3683520"/>
              <a:ext cx="433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425600" y="2296800"/>
              <a:ext cx="6847560" cy="2249640"/>
              <a:chOff x="1425600" y="2296800"/>
              <a:chExt cx="6847560" cy="2249640"/>
            </a:xfrm>
          </p:grpSpPr>
          <p:sp>
            <p:nvSpPr>
              <p:cNvPr id="171" name=""/>
              <p:cNvSpPr/>
              <p:nvPr/>
            </p:nvSpPr>
            <p:spPr>
              <a:xfrm>
                <a:off x="4037760" y="2932920"/>
                <a:ext cx="1501560" cy="161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76" y="54"/>
                    </a:moveTo>
                    <a:arcTo wR="10800" hR="10800" stAng="-5056975" swAng="35422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76" y="54"/>
                    </a:moveTo>
                    <a:arcTo wR="10800" hR="10800" stAng="-5056975" swAng="354225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78520" y="2932560"/>
                <a:ext cx="1500840" cy="161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1" y="8227"/>
                    </a:moveTo>
                    <a:arcTo wR="10800" hR="10800" stAng="-9973160" swAng="42143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1" y="8227"/>
                    </a:moveTo>
                    <a:arcTo wR="10800" hR="10800" stAng="-9973160" swAng="421433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25600" y="2480760"/>
                <a:ext cx="2823840" cy="161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65" y="12500"/>
                    </a:moveTo>
                    <a:arcTo wR="10800" hR="10800" stAng="543434" swAng="48609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65" y="12500"/>
                    </a:moveTo>
                    <a:arcTo wR="10800" hR="10800" stAng="543434" swAng="486091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48960" y="2296800"/>
                <a:ext cx="2824200" cy="179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6" y="21600"/>
                    </a:moveTo>
                    <a:arcTo wR="10800" hR="10800" stAng="5404343" swAng="45684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6" y="21600"/>
                    </a:moveTo>
                    <a:arcTo wR="10800" hR="10800" stAng="5404343" swAng="456847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831720" y="4640040"/>
              <a:ext cx="20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040280" y="2827440"/>
              <a:ext cx="413640" cy="83304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67960" y="2835000"/>
              <a:ext cx="756360" cy="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224680" y="2827440"/>
              <a:ext cx="527760" cy="83304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410080" y="2736000"/>
              <a:ext cx="75600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60760" y="2473200"/>
              <a:ext cx="128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pacidad Ad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674440" y="525780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oducción par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D17D1-720A-4003-BA72-599DAC2F0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 de contratación y desp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lut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p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o so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de desahu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5BA1-D62C-4F7C-957D-D7285736BB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horas extras y horas no trabaja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de mantención en una 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olescenc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2ACC-9A6E-4308-AA16-4EDB907FF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os Asoci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s de subcontratistas y mano de obra eventu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didas de productiv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o de agotamient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6B7D-1ECF-4928-B6B9-D09AF72087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las de Decisión por Lóg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ir entre una forma nivelada y una siguiendo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en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nóstico para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onstante de suav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438280" y="5192640"/>
                <a:ext cx="5715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0</m:t>
                    </m:r>
                    <m:r>
                      <m:t xml:space="preserve">≤</m:t>
                    </m:r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CAB3-65D8-43D3-84FA-7E4D71027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comerci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gramación Line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cantidad a produci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demanda a satisfacer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nivel de inventario del período t al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7F45-A90C-4652-A40F-1FD9DADA23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tiempo normal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a mano de obra en sobretiempo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de los subcontratistas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añadida por contrat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producción perdida por desp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267E9-ADAA-4B09-9D6E-B2BAB93FB4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 el horizonte táctico el mercado se puede considerar mad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empresa enfrenta una demanda que puede estar sujeta a estacionalidades y otras vari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capacidad productiva está definida, a nivel grueso, por las instalaciones exist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o aún es posible jugar con la 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demanda tampoco es necesariamente un dato exóge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A1C4-F08E-4953-A9D3-077003DB20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bás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de produc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ervación de fluj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ponibilidad de sobre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394000" y="2590920"/>
                <a:ext cx="4032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62320" y="3657600"/>
                <a:ext cx="40924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390760" y="4795920"/>
                <a:ext cx="4033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BAE3-C3A3-463E-916B-8210B8D86D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ndo 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06600" y="2168640"/>
                <a:ext cx="52894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482920" y="3805200"/>
                <a:ext cx="4330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8615-A2E4-4395-9212-DE93437C57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o de contrat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33240" y="487692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el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48120" y="2590920"/>
            <a:ext cx="3510360" cy="2034000"/>
            <a:chOff x="3048120" y="2590920"/>
            <a:chExt cx="3510360" cy="2034000"/>
          </a:xfrm>
        </p:grpSpPr>
        <p:sp>
          <p:nvSpPr>
            <p:cNvPr id="208" name=""/>
            <p:cNvSpPr/>
            <p:nvPr/>
          </p:nvSpPr>
          <p:spPr>
            <a:xfrm>
              <a:off x="3048120" y="43434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25909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57200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09520" y="403812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33412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276360" y="281952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95520" y="431784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7720" y="312408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4200" y="38480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24240" y="3962520"/>
              <a:ext cx="534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-L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A0ED-72F4-4F76-B7AC-7954A4BBF3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quemas de 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el caso no lineal a tram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función objetivo el costo 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52480" y="4073400"/>
                <a:ext cx="6902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208600" y="4937040"/>
            <a:ext cx="665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primero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canza valor f antes qu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eda ser &gt;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2144880"/>
                <a:ext cx="37638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≤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 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828A-4F60-4DCA-9350-5A74FFF93B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ivel de planeación agregada no se ve el detalle de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 fábrica de calzado, con 500 modelos y 8 números por model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.000 decision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e número se puede reducir por ejemplo a 50 agregando por similitud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e deman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ma de produci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4D09-C220-4E98-A522-B06826FB85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gregación y Desagregación de Información y Decisione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 existir consistencia entre el nivel táctico y la producción detallada pos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vez agregado se tiene una caja negra, es decir, debe dar lo mismo cuanto se hace de cada mode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no se pueden agregar mocasines con boto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solución agregada ind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genera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inanci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rimientos de personal y maqu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 necesa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2577-E939-4AC9-B26A-41474B24AF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Por qué planificar?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determinar los requerimientos de recursos en el mediano plaz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requerimientos se originan en los planes táctic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ompatibilizar la capacidad productiva con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FD4D-97FB-4212-9650-94154C51E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 Típ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ación de beneficios (minimización de cost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jorar 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zar la producción fu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enas relaciones labo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ben ser consistentes con el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1728F-3ADD-4C3F-9C88-20DA288AD4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licto Demanda-Capaci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pacidad “normal”, existe un período de tiempo en el que la oferta es excedida por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073320" y="3178080"/>
            <a:ext cx="0" cy="2789280"/>
          </a:xfrm>
          <a:prstGeom prst="line">
            <a:avLst/>
          </a:prstGeom>
          <a:ln w="1260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73320" y="5931000"/>
            <a:ext cx="4194360" cy="0"/>
          </a:xfrm>
          <a:prstGeom prst="line">
            <a:avLst/>
          </a:prstGeom>
          <a:ln w="12600">
            <a:solidFill>
              <a:srgbClr val="ff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19240" y="4842000"/>
            <a:ext cx="4351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8440" y="4490280"/>
            <a:ext cx="1335960" cy="10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8" y="54"/>
                </a:moveTo>
                <a:arcTo wR="10800" hR="10800" stAng="-5056327" swAng="3546385"/>
                <a:lnTo>
                  <a:pt x="10800" y="10800"/>
                </a:lnTo>
                <a:close/>
              </a:path>
              <a:path fill="none" w="21600" h="21600">
                <a:moveTo>
                  <a:pt x="11878" y="54"/>
                </a:moveTo>
                <a:arcTo wR="10800" hR="10800" stAng="-5056327" swAng="35463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1920" y="4490280"/>
            <a:ext cx="1336680" cy="106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1" y="8229"/>
                </a:moveTo>
                <a:arcTo wR="10800" hR="10800" stAng="-9973574" swAng="4224305"/>
                <a:lnTo>
                  <a:pt x="10800" y="10800"/>
                </a:lnTo>
                <a:close/>
              </a:path>
              <a:path fill="none" w="21600" h="21600">
                <a:moveTo>
                  <a:pt x="311" y="8229"/>
                </a:moveTo>
                <a:arcTo wR="10800" hR="10800" stAng="-9973574" swAng="422430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5720" y="4192200"/>
            <a:ext cx="2513880" cy="106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66" y="12494"/>
                </a:moveTo>
                <a:arcTo wR="10800" hR="10800" stAng="541393" swAng="4858607"/>
                <a:lnTo>
                  <a:pt x="10800" y="10800"/>
                </a:lnTo>
                <a:close/>
              </a:path>
              <a:path fill="none" w="21600" h="21600">
                <a:moveTo>
                  <a:pt x="21466" y="12494"/>
                </a:moveTo>
                <a:arcTo wR="10800" hR="10800" stAng="541393" swAng="48586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9440" y="4071600"/>
            <a:ext cx="2514240" cy="11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568887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56888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35720" y="5791320"/>
            <a:ext cx="2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545000"/>
            <a:ext cx="1218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dad “norm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6560" y="514044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71B2D-954D-4C05-A4EF-E735DD31D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Manejar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ajar precios para alisa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es los días miérco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rifas de hoteles fuera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quidaciones: venta de ropa en fin de tempor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Management: líneas aér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ris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mé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F58E8-6153-489B-A2A8-C77CBD8ED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arrollo de productos complem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taurant tipo almuerzo ofrece comi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endas de deportes combinan ski con deportes náu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92BA-EF39-4D2C-B524-B98E43463A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 Manejar la Oferta (Capacida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taciones y desp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os cost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ras extras y semanas cor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: Eu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mano de obra temp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o de invent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 alisar la producción en demandas estacion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00EC0-00CA-43A0-AE35-03C2F5C91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Variables de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ontratis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eglos de cooperación (alianzas estratégicas o táctica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rolíne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te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7: Planeación Agregada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86BE-E25E-4EB3-AF23-174CD398F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21:38:58Z</dcterms:created>
  <dc:creator>Antoine Sauré Valenzuela</dc:creator>
  <dc:description/>
  <dc:language>en-US</dc:language>
  <cp:lastModifiedBy>Felipe Castro A.</cp:lastModifiedBy>
  <cp:lastPrinted>2001-04-23T21:37:54Z</cp:lastPrinted>
  <dcterms:modified xsi:type="dcterms:W3CDTF">2004-03-25T02:15:09Z</dcterms:modified>
  <cp:revision>21</cp:revision>
  <dc:subject/>
  <dc:title>Gestión de Operaciones</dc:title>
</cp:coreProperties>
</file>