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DE94-98A9-4559-9477-60269F7B2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2A25-0942-4812-951F-B9710691A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CC2D-BBC7-4E72-91A2-99B665357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4723-C27D-4523-A187-AF94CA043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2B88B-4E1E-46F5-8102-3079779E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019F2-CB07-460A-B0D3-E42AFA4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C2C6F-F7C4-40FB-BA43-AD0672CE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B717A-3508-4B0C-AD79-A65BA6BF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A3FE-4B31-41F6-9144-B1E20664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D2327-4486-4C02-8DFD-3356489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5558C-276E-4060-A7F6-738F6349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6AF4-5354-4359-99A6-62DC4DFFD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898BA-D0D7-4D3E-85D5-96A5763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7A6A7-2B12-400B-84A2-439CBCE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CD31-35C0-4C2D-9907-FA0DCF3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108AF-85E9-4309-8C18-544A7384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C7AB0-EB2A-4FB8-B084-2341E89A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8E85-5D7A-4BCD-9B35-8E1468A30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6B03-96C6-4114-B9D5-69ED99660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BE74-E9C6-4630-9D94-1D5FC1BC1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0BE9-2F45-4319-9E37-6C9D3DD7C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93FF-157A-4D52-86FE-91F026C8B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C5FD-A6C1-4826-8055-E7EF7FF52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838B-A6E1-4C65-BB2C-59D1178E3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AF5-7A70-4EE6-92AE-37C003E5E3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2FE-9EBC-4C84-86B2-1493150F7F4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7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BA5E-595A-45D6-B9A2-E1238AD65A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30080" y="1828800"/>
            <a:ext cx="7056360" cy="3325320"/>
            <a:chOff x="1630080" y="1828800"/>
            <a:chExt cx="7056360" cy="3325320"/>
          </a:xfrm>
        </p:grpSpPr>
        <p:sp>
          <p:nvSpPr>
            <p:cNvPr id="130" name=""/>
            <p:cNvSpPr/>
            <p:nvPr/>
          </p:nvSpPr>
          <p:spPr>
            <a:xfrm>
              <a:off x="2783520" y="1828800"/>
              <a:ext cx="0" cy="293832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6680" y="4761360"/>
              <a:ext cx="402768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6680" y="3690360"/>
              <a:ext cx="417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630080" y="2270160"/>
              <a:ext cx="6210720" cy="2564640"/>
              <a:chOff x="1630080" y="2270160"/>
              <a:chExt cx="6210720" cy="25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97800" y="2996640"/>
                <a:ext cx="1362240" cy="18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9" y="55"/>
                    </a:moveTo>
                    <a:arcTo wR="10800" hR="10800" stAng="-5052804" swAng="35333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9" y="55"/>
                    </a:moveTo>
                    <a:arcTo wR="10800" hR="10800" stAng="-5052804" swAng="35333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26320" y="2996640"/>
                <a:ext cx="1363680" cy="183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6"/>
                    </a:moveTo>
                    <a:arcTo wR="10800" hR="10800" stAng="-9972827" swAng="42174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6"/>
                    </a:moveTo>
                    <a:arcTo wR="10800" hR="10800" stAng="-9972827" swAng="421745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0080" y="2480400"/>
                <a:ext cx="2560680" cy="18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3" y="12513"/>
                    </a:moveTo>
                    <a:arcTo wR="10800" hR="10800" stAng="547484" swAng="48571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3" y="12513"/>
                    </a:moveTo>
                    <a:arcTo wR="10800" hR="10800" stAng="547484" swAng="485713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80120" y="2270160"/>
                <a:ext cx="2560680" cy="20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564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56436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762960" y="4699440"/>
              <a:ext cx="19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0440" y="3709800"/>
              <a:ext cx="6210360" cy="169560"/>
              <a:chOff x="1630440" y="3709800"/>
              <a:chExt cx="6210360" cy="169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997440" y="3764160"/>
                <a:ext cx="13626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5" y="55"/>
                    </a:moveTo>
                    <a:arcTo wR="10800" hR="10800" stAng="-5053927" swAng="3471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5" y="55"/>
                    </a:moveTo>
                    <a:arcTo wR="10800" hR="10800" stAng="-5053927" swAng="3471433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25960" y="3764160"/>
                <a:ext cx="13644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7" y="8201"/>
                    </a:moveTo>
                    <a:arcTo wR="10800" hR="10800" stAng="-9964477" swAng="4210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7" y="8201"/>
                    </a:moveTo>
                    <a:arcTo wR="10800" hR="10800" stAng="-9964477" swAng="4210257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30440" y="3726360"/>
                <a:ext cx="256032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96" y="12296"/>
                    </a:moveTo>
                    <a:arcTo wR="10800" hR="10800" stAng="477853" swAng="4926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96" y="12296"/>
                    </a:moveTo>
                    <a:arcTo wR="10800" hR="10800" stAng="477853" swAng="4926765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81200" y="3709800"/>
                <a:ext cx="2559600" cy="13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657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657080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98980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22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50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78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992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027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855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04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2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156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84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80880" y="3858120"/>
              <a:ext cx="0" cy="799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9920" y="4050000"/>
              <a:ext cx="646920" cy="36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5120" y="4235760"/>
              <a:ext cx="131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5240" y="3954240"/>
              <a:ext cx="64692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20800" y="4043880"/>
              <a:ext cx="156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828880" y="52578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F7EF-3D41-4077-A69F-00B03BC7DB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0FB9-634E-48F2-B7F7-17014FA50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25600" y="1905120"/>
            <a:ext cx="6847560" cy="3293640"/>
            <a:chOff x="1425600" y="1905120"/>
            <a:chExt cx="6847560" cy="3293640"/>
          </a:xfrm>
        </p:grpSpPr>
        <p:sp>
          <p:nvSpPr>
            <p:cNvPr id="166" name=""/>
            <p:cNvSpPr/>
            <p:nvPr/>
          </p:nvSpPr>
          <p:spPr>
            <a:xfrm>
              <a:off x="4289760" y="4653360"/>
              <a:ext cx="32536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160" y="1905120"/>
              <a:ext cx="0" cy="278604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98920" y="4699080"/>
              <a:ext cx="417564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98920" y="3683520"/>
              <a:ext cx="433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25600" y="2296800"/>
              <a:ext cx="6847560" cy="2249640"/>
              <a:chOff x="1425600" y="2296800"/>
              <a:chExt cx="6847560" cy="2249640"/>
            </a:xfrm>
          </p:grpSpPr>
          <p:sp>
            <p:nvSpPr>
              <p:cNvPr id="171" name=""/>
              <p:cNvSpPr/>
              <p:nvPr/>
            </p:nvSpPr>
            <p:spPr>
              <a:xfrm>
                <a:off x="4037760" y="2932920"/>
                <a:ext cx="1501560" cy="161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76" y="54"/>
                    </a:moveTo>
                    <a:arcTo wR="10800" hR="10800" stAng="-5056975" swAng="3542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76" y="54"/>
                    </a:moveTo>
                    <a:arcTo wR="10800" hR="10800" stAng="-5056975" swAng="354225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78520" y="2932560"/>
                <a:ext cx="1500840" cy="161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7"/>
                    </a:moveTo>
                    <a:arcTo wR="10800" hR="10800" stAng="-9973160" swAng="4214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7"/>
                    </a:moveTo>
                    <a:arcTo wR="10800" hR="10800" stAng="-9973160" swAng="4214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25600" y="2480760"/>
                <a:ext cx="2823840" cy="16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5" y="12500"/>
                    </a:moveTo>
                    <a:arcTo wR="10800" hR="10800" stAng="543434" swAng="4860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5" y="12500"/>
                    </a:moveTo>
                    <a:arcTo wR="10800" hR="10800" stAng="543434" swAng="48609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48960" y="2296800"/>
                <a:ext cx="2824200" cy="179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6" y="21600"/>
                    </a:moveTo>
                    <a:arcTo wR="10800" hR="10800" stAng="5404343" swAng="45684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6" y="21600"/>
                    </a:moveTo>
                    <a:arcTo wR="10800" hR="10800" stAng="5404343" swAng="456847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831720" y="4640040"/>
              <a:ext cx="20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040280" y="2827440"/>
              <a:ext cx="41364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67960" y="2835000"/>
              <a:ext cx="75636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224680" y="2827440"/>
              <a:ext cx="52776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410080" y="2736000"/>
              <a:ext cx="756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0760" y="2473200"/>
              <a:ext cx="128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pacidad Ad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674440" y="52578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6F72-ED34-4F0B-97EA-C3F6BFE071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23C1-A4E2-429D-B6CE-D4B38F1A2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C098-06B7-4B15-A6D8-0645DE3DB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1657-CF6E-4F1A-94CF-3FFCFE2DD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0494-2CB1-4766-A3D9-A1D96518FF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B893-0A0B-4566-9A2B-62B9AACD39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7C71-BE43-488B-A10E-3F171F22F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horizonte táctico el mercado se puede considerar mad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empresa enfrenta una demanda que puede estar sujeta a estacionalidades y otras vari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apacidad productiva está definida, a nivel grueso, por las instalaciones exist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o aún es posible jugar con la 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emanda tampoco es necesariamente un dato exóge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D067-6CDA-4F84-9D9D-C97A94DBC1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FAE8-A44F-4E3F-BE40-B2EFF7084B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01AE-A9CE-43F6-A874-E1FB2F0D88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208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D6FF-35FA-4682-9980-CA98F4822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5AEB-25CD-44D3-BE93-0259BB646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F268-8814-46D4-A92B-B539DD3050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2AE3-2B16-4CB7-8586-92D9C0F382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Por qué planificar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determinar los requerimientos de recursos en el mediano plaz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requerimientos se originan en los planes táctic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ompatibilizar la capacidad productiva con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5590-6C76-47BC-9602-F5541CEFF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jorar 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zar la producción fu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D090-7AC7-4A3C-9307-702BE719F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o Demanda-Capa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acidad “normal”, existe un período de tiempo en el que la oferta es excedida por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073320" y="3178080"/>
            <a:ext cx="0" cy="2789280"/>
          </a:xfrm>
          <a:prstGeom prst="line">
            <a:avLst/>
          </a:prstGeom>
          <a:ln w="1260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3320" y="5931000"/>
            <a:ext cx="4194360" cy="0"/>
          </a:xfrm>
          <a:prstGeom prst="line">
            <a:avLst/>
          </a:prstGeom>
          <a:ln w="126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9240" y="4842000"/>
            <a:ext cx="4351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8440" y="4490280"/>
            <a:ext cx="1335960" cy="10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8" y="54"/>
                </a:moveTo>
                <a:arcTo wR="10800" hR="10800" stAng="-5056327" swAng="3546385"/>
                <a:lnTo>
                  <a:pt x="10800" y="10800"/>
                </a:lnTo>
                <a:close/>
              </a:path>
              <a:path fill="none" w="21600" h="21600">
                <a:moveTo>
                  <a:pt x="11878" y="54"/>
                </a:moveTo>
                <a:arcTo wR="10800" hR="10800" stAng="-5056327" swAng="35463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1920" y="4490280"/>
            <a:ext cx="1336680" cy="10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1" y="8229"/>
                </a:moveTo>
                <a:arcTo wR="10800" hR="10800" stAng="-9973574" swAng="4224305"/>
                <a:lnTo>
                  <a:pt x="10800" y="10800"/>
                </a:lnTo>
                <a:close/>
              </a:path>
              <a:path fill="none" w="21600" h="21600">
                <a:moveTo>
                  <a:pt x="311" y="8229"/>
                </a:moveTo>
                <a:arcTo wR="10800" hR="10800" stAng="-9973574" swAng="422430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5720" y="4192200"/>
            <a:ext cx="2513880" cy="106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4"/>
                </a:moveTo>
                <a:arcTo wR="10800" hR="10800" stAng="541393" swAng="4858607"/>
                <a:lnTo>
                  <a:pt x="10800" y="10800"/>
                </a:lnTo>
                <a:close/>
              </a:path>
              <a:path fill="none" w="21600" h="21600">
                <a:moveTo>
                  <a:pt x="21466" y="12494"/>
                </a:moveTo>
                <a:arcTo wR="10800" hR="10800" stAng="541393" swAng="48586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9440" y="4071600"/>
            <a:ext cx="2514240" cy="11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5688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56888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35720" y="5791320"/>
            <a:ext cx="2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545000"/>
            <a:ext cx="121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dad “norm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6560" y="514044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073F-94B7-42FC-9755-0CD96209F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CF86-E0BE-41C8-97F0-1667121CC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689D-333F-4E4C-959B-5D48CE18A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Oferta (Capacida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3F86-D935-4CFC-963E-216B7709D3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AE8A-8140-4A60-9A65-F16727F6CD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15:09Z</dcterms:modified>
  <cp:revision>21</cp:revision>
  <dc:subject/>
  <dc:title>Gestión de Operaciones</dc:title>
</cp:coreProperties>
</file>