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50CD-9D50-417C-8A46-E637597F4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0ED5-F4E9-47B6-898E-B03F0BBA0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FD69-0292-42C4-BB06-685FC2BAA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B7DF-0518-4C05-A5F5-752F46CCB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DEE7-965C-40DA-BB9E-7867AA80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CF2E4-375B-4DD5-93CD-D8AA3C5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F5950-4FD5-4269-8F22-AD4B475E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C0B4-3D69-4D85-8954-EF853F4F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4D08F-D8F5-4F8B-A683-FC9AEB6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7988B-974C-4F54-A6FB-4DE9A228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80C0F-8D37-44E0-9AAE-8D61995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7FD3-9003-47E4-988C-CEAB26B51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C6F4-8DD8-470E-9C75-ECA8883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3D438-1F2C-4B08-BF1A-EF5EDA1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67EC-4292-44B9-B5EE-3C64DC71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792D-A71D-4ECE-8546-B670282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EAF27-08B9-4D67-97B4-739F2E96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695B-E54D-49EA-9ADE-0EE0E903C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FD6F-0BB4-4F5B-82FF-69B137E81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2F8-DBB7-405D-87DF-29F7FA45C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44B7-B3D5-458A-9101-62AB47B1B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867D-C4F8-433F-8045-09185E7EB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E2A1-7F07-489F-A3BD-2A1EA117C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20E0-8F88-4E3C-8D1E-478B214B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E7A-82E1-4C7C-9B32-08B0C60BACF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272-1F57-4E07-A562-7775B83593E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7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83B9-70A6-414A-B417-E362D60637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30080" y="1828800"/>
            <a:ext cx="7056360" cy="3325320"/>
            <a:chOff x="1630080" y="1828800"/>
            <a:chExt cx="7056360" cy="3325320"/>
          </a:xfrm>
        </p:grpSpPr>
        <p:sp>
          <p:nvSpPr>
            <p:cNvPr id="130" name=""/>
            <p:cNvSpPr/>
            <p:nvPr/>
          </p:nvSpPr>
          <p:spPr>
            <a:xfrm>
              <a:off x="2783520" y="1828800"/>
              <a:ext cx="0" cy="293832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6680" y="4761360"/>
              <a:ext cx="402768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6680" y="3690360"/>
              <a:ext cx="417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630080" y="2270160"/>
              <a:ext cx="6210720" cy="2564640"/>
              <a:chOff x="1630080" y="2270160"/>
              <a:chExt cx="6210720" cy="25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97800" y="2996640"/>
                <a:ext cx="1362240" cy="18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9" y="55"/>
                    </a:moveTo>
                    <a:arcTo wR="10800" hR="10800" stAng="-5052804" swAng="35333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9" y="55"/>
                    </a:moveTo>
                    <a:arcTo wR="10800" hR="10800" stAng="-5052804" swAng="35333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26320" y="2996640"/>
                <a:ext cx="1363680" cy="183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6"/>
                    </a:moveTo>
                    <a:arcTo wR="10800" hR="10800" stAng="-9972827" swAng="42174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6"/>
                    </a:moveTo>
                    <a:arcTo wR="10800" hR="10800" stAng="-9972827" swAng="421745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0080" y="2480400"/>
                <a:ext cx="2560680" cy="18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3" y="12513"/>
                    </a:moveTo>
                    <a:arcTo wR="10800" hR="10800" stAng="547484" swAng="48571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3" y="12513"/>
                    </a:moveTo>
                    <a:arcTo wR="10800" hR="10800" stAng="547484" swAng="485713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80120" y="2270160"/>
                <a:ext cx="2560680" cy="20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564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56436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762960" y="4699440"/>
              <a:ext cx="19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0440" y="3709800"/>
              <a:ext cx="6210360" cy="169560"/>
              <a:chOff x="1630440" y="3709800"/>
              <a:chExt cx="6210360" cy="169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997440" y="3764160"/>
                <a:ext cx="13626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5" y="55"/>
                    </a:moveTo>
                    <a:arcTo wR="10800" hR="10800" stAng="-5053927" swAng="3471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5" y="55"/>
                    </a:moveTo>
                    <a:arcTo wR="10800" hR="10800" stAng="-5053927" swAng="3471433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25960" y="3764160"/>
                <a:ext cx="13644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7" y="8201"/>
                    </a:moveTo>
                    <a:arcTo wR="10800" hR="10800" stAng="-9964477" swAng="4210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7" y="8201"/>
                    </a:moveTo>
                    <a:arcTo wR="10800" hR="10800" stAng="-9964477" swAng="4210257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30440" y="3726360"/>
                <a:ext cx="256032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96" y="12296"/>
                    </a:moveTo>
                    <a:arcTo wR="10800" hR="10800" stAng="477853" swAng="4926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96" y="12296"/>
                    </a:moveTo>
                    <a:arcTo wR="10800" hR="10800" stAng="477853" swAng="4926765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81200" y="3709800"/>
                <a:ext cx="2559600" cy="13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657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657080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98980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22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50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78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992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027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855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04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2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156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84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80880" y="3858120"/>
              <a:ext cx="0" cy="799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9920" y="4050000"/>
              <a:ext cx="646920" cy="36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5120" y="4235760"/>
              <a:ext cx="131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5240" y="3954240"/>
              <a:ext cx="64692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20800" y="4043880"/>
              <a:ext cx="156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828880" y="52578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DE25-8BA5-440B-914E-18EC214509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BBAE-BFA0-46B8-9B40-7DCAC7DEF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25600" y="1905120"/>
            <a:ext cx="6847560" cy="3293640"/>
            <a:chOff x="1425600" y="1905120"/>
            <a:chExt cx="6847560" cy="3293640"/>
          </a:xfrm>
        </p:grpSpPr>
        <p:sp>
          <p:nvSpPr>
            <p:cNvPr id="166" name=""/>
            <p:cNvSpPr/>
            <p:nvPr/>
          </p:nvSpPr>
          <p:spPr>
            <a:xfrm>
              <a:off x="4289760" y="4653360"/>
              <a:ext cx="32536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160" y="1905120"/>
              <a:ext cx="0" cy="278604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98920" y="4699080"/>
              <a:ext cx="417564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98920" y="3683520"/>
              <a:ext cx="433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25600" y="2296800"/>
              <a:ext cx="6847560" cy="2249640"/>
              <a:chOff x="1425600" y="2296800"/>
              <a:chExt cx="6847560" cy="2249640"/>
            </a:xfrm>
          </p:grpSpPr>
          <p:sp>
            <p:nvSpPr>
              <p:cNvPr id="171" name=""/>
              <p:cNvSpPr/>
              <p:nvPr/>
            </p:nvSpPr>
            <p:spPr>
              <a:xfrm>
                <a:off x="4037760" y="2932920"/>
                <a:ext cx="1501560" cy="161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76" y="54"/>
                    </a:moveTo>
                    <a:arcTo wR="10800" hR="10800" stAng="-5056975" swAng="3542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76" y="54"/>
                    </a:moveTo>
                    <a:arcTo wR="10800" hR="10800" stAng="-5056975" swAng="354225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78520" y="2932560"/>
                <a:ext cx="1500840" cy="161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7"/>
                    </a:moveTo>
                    <a:arcTo wR="10800" hR="10800" stAng="-9973160" swAng="4214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7"/>
                    </a:moveTo>
                    <a:arcTo wR="10800" hR="10800" stAng="-9973160" swAng="4214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25600" y="2480760"/>
                <a:ext cx="2823840" cy="16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5" y="12500"/>
                    </a:moveTo>
                    <a:arcTo wR="10800" hR="10800" stAng="543434" swAng="4860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5" y="12500"/>
                    </a:moveTo>
                    <a:arcTo wR="10800" hR="10800" stAng="543434" swAng="48609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48960" y="2296800"/>
                <a:ext cx="2824200" cy="179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6" y="21600"/>
                    </a:moveTo>
                    <a:arcTo wR="10800" hR="10800" stAng="5404343" swAng="45684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6" y="21600"/>
                    </a:moveTo>
                    <a:arcTo wR="10800" hR="10800" stAng="5404343" swAng="456847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831720" y="4640040"/>
              <a:ext cx="20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040280" y="2827440"/>
              <a:ext cx="41364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67960" y="2835000"/>
              <a:ext cx="75636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224680" y="2827440"/>
              <a:ext cx="52776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410080" y="2736000"/>
              <a:ext cx="756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0760" y="2473200"/>
              <a:ext cx="128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pacidad Ad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674440" y="52578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58AD-7E6F-47F5-8BC3-8C53AF7A4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8EAC-BE95-4AA6-ABA6-6D4D40DB7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2692-EBCE-41DC-B9F1-C04A58EE2B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EFC2-E03D-4058-B499-A0E5342DF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C5F1-0740-4A70-9ECA-F98288D97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F415-EDC6-48B3-BB55-70FCBF0D0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8054-223A-4A13-B835-9507582A06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horizonte táctico el mercado se puede considerar mad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empresa enfrenta una demanda que puede estar sujeta a estacionalidades y otras vari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apacidad productiva está definida, a nivel grueso, por las instalaciones exist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o aún es posible jugar con la 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emanda tampoco es necesariamente un dato exóge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0BC4-0DAC-4B93-9172-F9019C3076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9A2E-086A-4996-87DD-ADD6168EFA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3145-BBDE-4E5A-ADBC-FE32EEB15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208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D244-4D1F-4EEB-8A3A-D04AB867E5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B61C-F5B9-489D-8FC4-2B8511151B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C7B9-C7D5-43AD-9330-D65247AC91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ED0A-21A4-40E0-8831-C755D9367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Por qué planificar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determinar los requerimientos de recursos en el mediano plaz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requerimientos se originan en los planes táctic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ompatibilizar la capacidad productiva con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DA4F-E00B-414C-90EF-345745C70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jorar 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zar la producción fu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60BE-C1C7-4969-B6BD-ACD2F34AE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o Demanda-Capa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acidad “normal”, existe un período de tiempo en el que la oferta es excedida por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073320" y="3178080"/>
            <a:ext cx="0" cy="2789280"/>
          </a:xfrm>
          <a:prstGeom prst="line">
            <a:avLst/>
          </a:prstGeom>
          <a:ln w="1260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3320" y="5931000"/>
            <a:ext cx="4194360" cy="0"/>
          </a:xfrm>
          <a:prstGeom prst="line">
            <a:avLst/>
          </a:prstGeom>
          <a:ln w="126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9240" y="4842000"/>
            <a:ext cx="4351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8440" y="4490280"/>
            <a:ext cx="1335960" cy="10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8" y="54"/>
                </a:moveTo>
                <a:arcTo wR="10800" hR="10800" stAng="-5056327" swAng="3546385"/>
                <a:lnTo>
                  <a:pt x="10800" y="10800"/>
                </a:lnTo>
                <a:close/>
              </a:path>
              <a:path fill="none" w="21600" h="21600">
                <a:moveTo>
                  <a:pt x="11878" y="54"/>
                </a:moveTo>
                <a:arcTo wR="10800" hR="10800" stAng="-5056327" swAng="35463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1920" y="4490280"/>
            <a:ext cx="1336680" cy="10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1" y="8229"/>
                </a:moveTo>
                <a:arcTo wR="10800" hR="10800" stAng="-9973574" swAng="4224305"/>
                <a:lnTo>
                  <a:pt x="10800" y="10800"/>
                </a:lnTo>
                <a:close/>
              </a:path>
              <a:path fill="none" w="21600" h="21600">
                <a:moveTo>
                  <a:pt x="311" y="8229"/>
                </a:moveTo>
                <a:arcTo wR="10800" hR="10800" stAng="-9973574" swAng="422430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5720" y="4192200"/>
            <a:ext cx="2513880" cy="106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4"/>
                </a:moveTo>
                <a:arcTo wR="10800" hR="10800" stAng="541393" swAng="4858607"/>
                <a:lnTo>
                  <a:pt x="10800" y="10800"/>
                </a:lnTo>
                <a:close/>
              </a:path>
              <a:path fill="none" w="21600" h="21600">
                <a:moveTo>
                  <a:pt x="21466" y="12494"/>
                </a:moveTo>
                <a:arcTo wR="10800" hR="10800" stAng="541393" swAng="48586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9440" y="4071600"/>
            <a:ext cx="2514240" cy="11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5688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56888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35720" y="5791320"/>
            <a:ext cx="2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545000"/>
            <a:ext cx="121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dad “norm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6560" y="514044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C77F-AB2F-4EF2-9070-451A351D6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7554-25C2-426D-82DA-972F043D4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426C-3725-446E-98EF-0C925C42A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Oferta (Capacida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D08C-4BD5-4EFA-8F06-2E3521E2C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50FC-F298-4C33-A86E-5E54B1A03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15:09Z</dcterms:modified>
  <cp:revision>21</cp:revision>
  <dc:subject/>
  <dc:title>Gestión de Operaciones</dc:title>
</cp:coreProperties>
</file>