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E2E1-1237-465D-B6F2-3DF2369A7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B115E-342F-4D3C-9BC2-DCCF7F5CB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97A69-5B7A-4D58-9D9A-021E5B073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90DBB-D32D-4397-9DE4-E58940425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1006F-57F9-483D-9CEA-178F8F49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D6FFA-371F-4965-B621-32C21335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8D4FD-99EF-415F-85DF-F4FC1888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07821-DD61-4286-81AA-4C828580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23301-7863-415A-8B4B-98A946E0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5E8EE-D044-4214-842F-7206852A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C13D4-838B-4B45-8CE0-92A175E2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DD60-9F17-4A50-9C30-18F2146CC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F44C8-BBA8-4633-932E-8D95D802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0001C-0E98-4E36-B194-27452809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9B88B-EB41-44CA-9D92-A1C3166D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0251B-8CBC-422C-9FD4-A6D0D7DE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69698-1354-440E-9677-2D05E85E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D2C99-7247-4708-AA53-F9547A8AB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B218-B6EB-4347-9A3F-C56640C8D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3763F-245C-41D5-859E-97CCB3AD9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85F14-2CDC-45F5-8D5A-1D0EA7A38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45A77-5BAF-4E65-A328-A91201800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1AFD-6799-466F-B2A4-E7BD9CB2E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BD84D-FEDA-4FAA-8F1D-0CE16489D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58756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ma 6: Planeación Agrega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AB88-D527-4CDE-B610-53BC488D7C5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Tema 6: Planeación Agrega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761C-48C3-45D1-B5C4-7E59D6051C85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057400" y="3505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6: Transporte y Logíst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47AA-D5A5-42FA-A94D-55E2033559A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Rectangle 73"/>
          <p:cNvSpPr/>
          <p:nvPr/>
        </p:nvSpPr>
        <p:spPr>
          <a:xfrm>
            <a:off x="1143000" y="1428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sa 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0" y="621504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Por intercambio de nodo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4705200" y="4362480"/>
            <a:ext cx="685800" cy="60948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Oval 5"/>
          <p:cNvSpPr/>
          <p:nvPr/>
        </p:nvSpPr>
        <p:spPr>
          <a:xfrm>
            <a:off x="3287880" y="23781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Oval 6"/>
          <p:cNvSpPr/>
          <p:nvPr/>
        </p:nvSpPr>
        <p:spPr>
          <a:xfrm>
            <a:off x="1366920" y="51116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Oval 7"/>
          <p:cNvSpPr/>
          <p:nvPr/>
        </p:nvSpPr>
        <p:spPr>
          <a:xfrm>
            <a:off x="3602160" y="550080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1319040" y="19130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033880" y="1903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4884840" y="45147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3626280" y="2747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5237640" y="2208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5883840" y="570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9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657800" y="545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1657800" y="2195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Line 16"/>
          <p:cNvSpPr/>
          <p:nvPr/>
        </p:nvSpPr>
        <p:spPr>
          <a:xfrm flipH="1">
            <a:off x="1689120" y="2822400"/>
            <a:ext cx="46080" cy="225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Line 17"/>
          <p:cNvSpPr/>
          <p:nvPr/>
        </p:nvSpPr>
        <p:spPr>
          <a:xfrm>
            <a:off x="2200320" y="2468520"/>
            <a:ext cx="1096920" cy="24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Line 18"/>
          <p:cNvSpPr/>
          <p:nvPr/>
        </p:nvSpPr>
        <p:spPr>
          <a:xfrm flipH="1" flipV="1">
            <a:off x="6017760" y="2453760"/>
            <a:ext cx="1065240" cy="55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Line 19"/>
          <p:cNvSpPr/>
          <p:nvPr/>
        </p:nvSpPr>
        <p:spPr>
          <a:xfrm flipH="1" flipV="1">
            <a:off x="2225520" y="5543640"/>
            <a:ext cx="1438560" cy="37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Oval 20"/>
          <p:cNvSpPr/>
          <p:nvPr/>
        </p:nvSpPr>
        <p:spPr>
          <a:xfrm>
            <a:off x="5583240" y="538632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3826440" y="5873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5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7712640" y="4749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8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Oval 23"/>
          <p:cNvSpPr/>
          <p:nvPr/>
        </p:nvSpPr>
        <p:spPr>
          <a:xfrm>
            <a:off x="7507440" y="4414680"/>
            <a:ext cx="914400" cy="89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7198200" y="311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7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Oval 25"/>
          <p:cNvSpPr/>
          <p:nvPr/>
        </p:nvSpPr>
        <p:spPr>
          <a:xfrm>
            <a:off x="6935760" y="285264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Line 26"/>
          <p:cNvSpPr/>
          <p:nvPr/>
        </p:nvSpPr>
        <p:spPr>
          <a:xfrm flipV="1">
            <a:off x="4457880" y="5010120"/>
            <a:ext cx="399960" cy="70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Oval 27"/>
          <p:cNvSpPr/>
          <p:nvPr/>
        </p:nvSpPr>
        <p:spPr>
          <a:xfrm>
            <a:off x="4154400" y="3357720"/>
            <a:ext cx="789120" cy="67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Text Box 28"/>
          <p:cNvSpPr/>
          <p:nvPr/>
        </p:nvSpPr>
        <p:spPr>
          <a:xfrm>
            <a:off x="4416840" y="3573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6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Line 29"/>
          <p:cNvSpPr/>
          <p:nvPr/>
        </p:nvSpPr>
        <p:spPr>
          <a:xfrm flipH="1" flipV="1">
            <a:off x="4057560" y="3238560"/>
            <a:ext cx="24768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Line 30"/>
          <p:cNvSpPr/>
          <p:nvPr/>
        </p:nvSpPr>
        <p:spPr>
          <a:xfrm flipH="1" flipV="1">
            <a:off x="4629240" y="4019400"/>
            <a:ext cx="20952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Line 31"/>
          <p:cNvSpPr/>
          <p:nvPr/>
        </p:nvSpPr>
        <p:spPr>
          <a:xfrm flipH="1" flipV="1">
            <a:off x="5276880" y="5028840"/>
            <a:ext cx="3808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Line 32"/>
          <p:cNvSpPr/>
          <p:nvPr/>
        </p:nvSpPr>
        <p:spPr>
          <a:xfrm>
            <a:off x="7658280" y="3676680"/>
            <a:ext cx="133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Line 33"/>
          <p:cNvSpPr/>
          <p:nvPr/>
        </p:nvSpPr>
        <p:spPr>
          <a:xfrm flipH="1">
            <a:off x="6515280" y="5219640"/>
            <a:ext cx="1180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Line 34"/>
          <p:cNvSpPr/>
          <p:nvPr/>
        </p:nvSpPr>
        <p:spPr>
          <a:xfrm flipV="1">
            <a:off x="5257800" y="2895480"/>
            <a:ext cx="1713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8ADD-1867-4C5E-B0F5-AC7A4E98801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5880" y="1643040"/>
            <a:ext cx="8129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Mejoras sobre estas heurísticas son bastante efec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Consider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Capacidad vehícu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Tiempo dispon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Ventanas de tiem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B) Simulación con reglas heuríst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E5E1-D7C8-4B14-980B-2AA1A1527BD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Uso Modelos Matemáticos y Sistemas Computacion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Problemas complejos de difícil  resolución manual, por lógica. Se busca minimizar desperdicio, dar flexibi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Premio Edelman de la Sociedad de EE.UU de Ciencias de Administración busca aplicaciones con impacto en este camp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Ca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ransportes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Aéreo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American Airl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renes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Ferrocarriles de Fra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Urbano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SEA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Comunicaciones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A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Finanzas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Portfol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Producción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: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Cerest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Hewlett-Packa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En todos estos casos además flexibilidad de respues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18CA-F163-44CA-A07F-682925AD3F4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182600" y="167652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Sea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Asegurar entrega en horario fijado en dos horas de rango a un cliente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iles de entregas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Combina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lbertus Extra Bold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Sistema de Información Geográfic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Modelo Heurístico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Sistema de Comunicación (GPS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Requiere manejar altos volúmenes de información en comunicación en </a:t>
            </a:r>
            <a:r>
              <a:rPr b="0" lang="es-ES_tradnl" sz="1600" spc="-1" strike="noStrike">
                <a:solidFill>
                  <a:srgbClr val="ffffff"/>
                </a:solidFill>
                <a:latin typeface="Albertus Extra Bold"/>
              </a:rPr>
              <a:t>gfa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línea,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7575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Respuesta rápida y flexible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1967-11C4-47E6-9D7E-50AE5D087D1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1182600" y="167652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Algunas Experiencia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Chilectra: Empresa eléctrica de Santiago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Emergencia: Como atender fallas: caída de cable (alta prioridad a falla en domicilio)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Objetiv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inimizar tiempo de respuesta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Solución Propuest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Sistema Computarizado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eter al sistemas fallas manualment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23B7-BFE6-4B38-9587-E888C517FC9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1182600" y="167652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Mecanismo de Resolució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Algoritmo heurístico en tiempo real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étodo inserción modificado para minimizar tiempo esperado de llegada, Gilbert Laporte (U. Montreal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Incluye método suavizamiento exponencial para predecir fallas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Prueba 2 semana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ejorar en tiempo de llegadas 16% en días normales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45% de días lluviosos (mil fallas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A9A0-DD58-4E5C-B34B-798B205214D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182600" y="167652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Problema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No hay SIG de Santiago bien desarrollado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Input automático de fallas incluyendo como ubicar direcciones en mapa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Medium"/>
              </a:rPr>
              <a:t>Falt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SIG para ubicar fallas y direccion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GPS para localizar vehículo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Integración automática de dato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2CEA-5A7D-4875-BA2C-7076ED37D47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Caso de Líneas Aéreas  (American Airlin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Despacho de aviones y tripul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Problema muy difícil.  Cómo combinar las casi infinitas posibles combin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Se usa 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Crear dinámicamente secuencia de viajes (tours) factibles que cubran los itinerari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E26E-A033-4379-88CC-EF790946B10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Se usa modelos matemáticos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Tour factibles:  Parte de la base y vuelve a ella. Respeta restricciones de tiempos de vuelo, aeropuertos, mantención, tripul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Un modelo asegura que se cumplan todos los itinerarios fijados, y que se use la flota y tripulaciones disponibles en forma factib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0FD6-167E-418C-912A-35F117857D9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Este problema es de muy gran tam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Avance computadores, algoritmos, supone muy bu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anejo de información en línea, comunic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Flexibilidad de respues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Tours se definen diariam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Ahorros en cientos de millones de dóla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816E-4330-4189-8014-DF08E3250FA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072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Group 2"/>
          <p:cNvGrpSpPr/>
          <p:nvPr/>
        </p:nvGrpSpPr>
        <p:grpSpPr>
          <a:xfrm>
            <a:off x="1071720" y="1357200"/>
            <a:ext cx="6919920" cy="5082840"/>
            <a:chOff x="1071720" y="1357200"/>
            <a:chExt cx="6919920" cy="5082840"/>
          </a:xfrm>
        </p:grpSpPr>
        <p:sp>
          <p:nvSpPr>
            <p:cNvPr id="104" name="Line 3"/>
            <p:cNvSpPr/>
            <p:nvPr/>
          </p:nvSpPr>
          <p:spPr>
            <a:xfrm>
              <a:off x="4293000" y="1842840"/>
              <a:ext cx="0" cy="4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05" name="Text Box 4"/>
            <p:cNvSpPr/>
            <p:nvPr/>
          </p:nvSpPr>
          <p:spPr>
            <a:xfrm>
              <a:off x="3219120" y="2257920"/>
              <a:ext cx="244548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Producción Final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1856880" y="1357200"/>
              <a:ext cx="395928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Proveedores Materia Prima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07" name="Text Box 6"/>
            <p:cNvSpPr/>
            <p:nvPr/>
          </p:nvSpPr>
          <p:spPr>
            <a:xfrm>
              <a:off x="2801520" y="3088080"/>
              <a:ext cx="3281040" cy="862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Bodega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Centro de Distribución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08" name="Line 7"/>
            <p:cNvSpPr/>
            <p:nvPr/>
          </p:nvSpPr>
          <p:spPr>
            <a:xfrm>
              <a:off x="4293000" y="2673000"/>
              <a:ext cx="0" cy="4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>
              <a:off x="4307760" y="3900960"/>
              <a:ext cx="0" cy="4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2861280" y="4333680"/>
              <a:ext cx="304236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Puntos de Ventas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4322880" y="4731480"/>
              <a:ext cx="0" cy="4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921040" y="5163840"/>
              <a:ext cx="304236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Clientes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2280960" y="5730120"/>
              <a:ext cx="42354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Problema de infraestructura. 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Tahoma"/>
                </a:rPr>
                <a:t>Contexto de culturas de eficiencia</a:t>
              </a:r>
              <a:endParaRPr b="0" lang="en-US" sz="20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6559920" y="1773360"/>
              <a:ext cx="1431720" cy="93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Productos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termedios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>
              <a:off x="5784480" y="1600560"/>
              <a:ext cx="775080" cy="32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6" name="Line 15"/>
            <p:cNvSpPr/>
            <p:nvPr/>
          </p:nvSpPr>
          <p:spPr>
            <a:xfrm flipH="1">
              <a:off x="5679720" y="2119320"/>
              <a:ext cx="86472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4715280" y="1851120"/>
              <a:ext cx="14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Transporte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>
              <a:off x="1071720" y="2277720"/>
              <a:ext cx="135684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Repuestos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19" name="Text Box 19"/>
            <p:cNvSpPr/>
            <p:nvPr/>
          </p:nvSpPr>
          <p:spPr>
            <a:xfrm>
              <a:off x="2215080" y="2626920"/>
              <a:ext cx="15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Mantención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20" name="Text Box 20"/>
            <p:cNvSpPr/>
            <p:nvPr/>
          </p:nvSpPr>
          <p:spPr>
            <a:xfrm>
              <a:off x="4710600" y="2673000"/>
              <a:ext cx="14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Transporte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sp>
          <p:nvSpPr>
            <p:cNvPr id="121" name="Text Box 21"/>
            <p:cNvSpPr/>
            <p:nvPr/>
          </p:nvSpPr>
          <p:spPr>
            <a:xfrm>
              <a:off x="4710600" y="3918240"/>
              <a:ext cx="14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Transporte</a:t>
              </a:r>
              <a:endParaRPr b="0" lang="en-US" sz="1800" spc="-1" strike="noStrike">
                <a:solidFill>
                  <a:srgbClr val="333399"/>
                </a:solidFill>
                <a:latin typeface="Tahoma"/>
              </a:endParaRPr>
            </a:p>
          </p:txBody>
        </p:sp>
      </p:grpSp>
      <p:cxnSp>
        <p:nvCxnSpPr>
          <p:cNvPr id="122" name="Straight Arrow Connector 26"/>
          <p:cNvCxnSpPr>
            <a:stCxn id="118" idx="3"/>
            <a:endCxn id="105" idx="1"/>
          </p:cNvCxnSpPr>
          <p:nvPr/>
        </p:nvCxnSpPr>
        <p:spPr>
          <a:xfrm flipV="1">
            <a:off x="2428920" y="2457000"/>
            <a:ext cx="7912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D984-45C2-4372-AF9C-A2081B87130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lbertus Extra Bold"/>
              </a:rPr>
              <a:t>Determinación de Precios Dinámicos (Yield Managemen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lbertus Medium"/>
              </a:rPr>
              <a:t>Ejemplos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Aerolíne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Distintos precios por igual servici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Hote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Distinto precio a lo largo del tiempo de reserv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Problema Bás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Si conozco la función de demanda en distintos períodos o tipos de cliente para un producto, como fijar los precios para maximizar retorno rute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C814-3AAF-42ED-AD13-5E8F50D7EF6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P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Albertus Medium"/>
              </a:rPr>
              <a:t>i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=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precio del producto en período 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q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Albertus Medium"/>
              </a:rPr>
              <a:t>i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=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cantidad a vender en período 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q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Albertus Medium"/>
              </a:rPr>
              <a:t>i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 = 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f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Albertus Medium"/>
              </a:rPr>
              <a:t>i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 (p</a:t>
            </a:r>
            <a:r>
              <a:rPr b="1" lang="es-ES_tradnl" sz="2200" spc="-1" strike="noStrike" baseline="-25000">
                <a:solidFill>
                  <a:srgbClr val="000000"/>
                </a:solidFill>
                <a:latin typeface="Albertus Medium"/>
              </a:rPr>
              <a:t>i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). Función de demanda en período 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L = 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lbertus Medium"/>
              </a:rPr>
              <a:t>Cantidad total para la venta en N períod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4FF2-599F-4DD1-8856-CEE9494F6F5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43000" y="17146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lbertus Medium"/>
              </a:rPr>
              <a:t>Para cada período k= 1,2,....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Lo que</a:t>
            </a:r>
            <a:r>
              <a:rPr b="0" lang="es-ES_tradnl" sz="18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queda por vender del período k al N, es igual L menos  lo ya vend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Problemas no lineales dinámicos difíciles de resol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5"/>
              <p:cNvSpPr txBox="1"/>
              <p:nvPr/>
            </p:nvSpPr>
            <p:spPr>
              <a:xfrm>
                <a:off x="1643040" y="2143080"/>
                <a:ext cx="22147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jeto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78CB-DBDE-4BC1-94A4-D06ECA14C8B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Importancia 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Buena y rápida información (funciones de demand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Manejo rápido y confiable de pre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Medium"/>
              </a:rPr>
              <a:t>En líneas aéreas gran impa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Medium"/>
              </a:rPr>
              <a:t>Se usa para decisiones de precios en tiempo r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9BA4-3A08-4E22-8FA3-E6F8BCE298D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 de Apl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Transporte Urb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22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Equilibrio de Tráf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Usado para planific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Equilibrio: ningún usuario puede mejorar unilateralmente su costo de viaje </a:t>
            </a:r>
            <a:r>
              <a:rPr b="0" lang="es-ES_tradnl" sz="1600" spc="-1" strike="noStrike">
                <a:solidFill>
                  <a:srgbClr val="ffffff"/>
                </a:solidFill>
                <a:latin typeface="Albertus Extra Bold"/>
              </a:rPr>
              <a:t>el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(Nas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Supuestos: libre merca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Plena inform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Movimientos lib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Métodos sofisticados: (Transformación a Optimizació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EMME2 (Michael Florian, U. Montre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C603-9B12-4C00-9DE9-3EF04360D98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Transporte Urb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Se usa en decisiones de inversión como línea del metro, sistema de concesiones de cam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También respuesta rápida para decisiones de corto plazo como Semáforos, manejar tacos (rutas alternativ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Modelos de equilibrio dinám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Requiere sistema de captación de información, comunicación a central y modelo de decisiones en tiempo real</a:t>
            </a: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spcBef>
                <a:spcPts val="2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C0BC-EE19-4492-85F4-25AE44CFB8C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Transpor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Despacho de Vehículos: Importancia operacion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Casos Típ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Entregas a clientes o lo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De bodegas a supermerc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Grandes tienda a cli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Embotelladora de bebidas a cli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3D0E-4AF7-4FF0-B0C5-1F91490D636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Transpor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lbertus Extra Bold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Diseño de flo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Asignación de clientes a vehícu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Ruteo de vehícu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B9B1-17B9-4048-9603-F9A7ED35067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9720" y="1676520"/>
            <a:ext cx="79549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Generalmente se desea minimizar tiempo de viaje to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Veamos esta situ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2649600" y="25336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1162080" y="3905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2786040" y="52862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7383600" y="38275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5424480" y="49449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5348160" y="28591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423440" y="4137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896920" y="2724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632200" y="3060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7668720" y="40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3080880" y="5504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5729040" y="514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CC27-48A5-4DA8-9338-11C5C4BDCD8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2468520" y="19591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981000" y="33307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2604960" y="47116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7202520" y="32529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5243400" y="43704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5167440" y="22845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242360" y="35622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2715840" y="214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5451120" y="248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7487640" y="3513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2899800" y="4929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5547960" y="4568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Line 17"/>
          <p:cNvSpPr/>
          <p:nvPr/>
        </p:nvSpPr>
        <p:spPr>
          <a:xfrm flipV="1">
            <a:off x="1905120" y="2742840"/>
            <a:ext cx="3219480" cy="89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Line 18"/>
          <p:cNvSpPr/>
          <p:nvPr/>
        </p:nvSpPr>
        <p:spPr>
          <a:xfrm>
            <a:off x="5657760" y="3219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Line 19"/>
          <p:cNvSpPr/>
          <p:nvPr/>
        </p:nvSpPr>
        <p:spPr>
          <a:xfrm flipH="1">
            <a:off x="3543480" y="4857840"/>
            <a:ext cx="171432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Line 20"/>
          <p:cNvSpPr/>
          <p:nvPr/>
        </p:nvSpPr>
        <p:spPr>
          <a:xfrm>
            <a:off x="3505320" y="5410080"/>
            <a:ext cx="914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4419720" y="5753160"/>
            <a:ext cx="325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Line 22"/>
          <p:cNvSpPr/>
          <p:nvPr/>
        </p:nvSpPr>
        <p:spPr>
          <a:xfrm flipV="1">
            <a:off x="7696080" y="4172040"/>
            <a:ext cx="0" cy="158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Line 23"/>
          <p:cNvSpPr/>
          <p:nvPr/>
        </p:nvSpPr>
        <p:spPr>
          <a:xfrm flipH="1" flipV="1">
            <a:off x="6915240" y="1904760"/>
            <a:ext cx="761760" cy="13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Line 24"/>
          <p:cNvSpPr/>
          <p:nvPr/>
        </p:nvSpPr>
        <p:spPr>
          <a:xfrm flipH="1">
            <a:off x="3390840" y="1905120"/>
            <a:ext cx="352440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Line 25"/>
          <p:cNvSpPr/>
          <p:nvPr/>
        </p:nvSpPr>
        <p:spPr>
          <a:xfrm flipH="1">
            <a:off x="1714320" y="2533680"/>
            <a:ext cx="74268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-214200" y="6121440"/>
            <a:ext cx="5430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Albertus Extra Bold"/>
              </a:rPr>
              <a:t>Secuencia malla B-2-3-4-5-1-B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DD55-43B4-41FD-B805-9B311928CFE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Line 3"/>
          <p:cNvSpPr/>
          <p:nvPr/>
        </p:nvSpPr>
        <p:spPr>
          <a:xfrm flipV="1">
            <a:off x="1658880" y="2352600"/>
            <a:ext cx="83016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3476520" y="2163600"/>
            <a:ext cx="16876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6159600" y="3949560"/>
            <a:ext cx="1224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Line 6"/>
          <p:cNvSpPr/>
          <p:nvPr/>
        </p:nvSpPr>
        <p:spPr>
          <a:xfrm flipH="1">
            <a:off x="3517560" y="4753080"/>
            <a:ext cx="171612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6093000" y="2567160"/>
            <a:ext cx="129672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Line 8"/>
          <p:cNvSpPr/>
          <p:nvPr/>
        </p:nvSpPr>
        <p:spPr>
          <a:xfrm flipH="1" flipV="1">
            <a:off x="1558440" y="4019400"/>
            <a:ext cx="1057320" cy="9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2468520" y="1768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981000" y="31399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2604960" y="45212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7202520" y="30621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Oval 15"/>
          <p:cNvSpPr/>
          <p:nvPr/>
        </p:nvSpPr>
        <p:spPr>
          <a:xfrm>
            <a:off x="5243400" y="41799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Oval 16"/>
          <p:cNvSpPr/>
          <p:nvPr/>
        </p:nvSpPr>
        <p:spPr>
          <a:xfrm>
            <a:off x="5167440" y="20937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242360" y="33717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2715840" y="1959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5451120" y="229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7487640" y="3322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2899800" y="4738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5547960" y="4378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214200" y="6121440"/>
            <a:ext cx="52214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Albertus Extra Bold"/>
              </a:rPr>
              <a:t>Secuencia mejor B-1-2-5-3-4-B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7B28-3BAE-4B28-87A4-61E3FC631BE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57176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lbertus Extra Bold"/>
              </a:rPr>
              <a:t>Métodos para un buen rut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odelo matemát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lbertus Extra Bold"/>
              </a:rPr>
              <a:t>Métodos Heuríst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A) Heurísticas Directas Clark-Wr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Mandar un vehículo a cada clie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Ver la mejor manera de eliminar un vehícul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Oval 3"/>
          <p:cNvSpPr/>
          <p:nvPr/>
        </p:nvSpPr>
        <p:spPr>
          <a:xfrm>
            <a:off x="480960" y="4751280"/>
            <a:ext cx="809640" cy="7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47720" y="492300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B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3121200" y="368784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616200" y="46162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3448080" y="449424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201840" y="378000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2031840" y="3639960"/>
            <a:ext cx="527040" cy="47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2138400" y="37558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2906640" y="541656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033720" y="553392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Line 13"/>
          <p:cNvSpPr/>
          <p:nvPr/>
        </p:nvSpPr>
        <p:spPr>
          <a:xfrm flipV="1">
            <a:off x="927000" y="3928680"/>
            <a:ext cx="1001880" cy="77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Line 14"/>
          <p:cNvSpPr/>
          <p:nvPr/>
        </p:nvSpPr>
        <p:spPr>
          <a:xfrm flipH="1">
            <a:off x="1158480" y="4071960"/>
            <a:ext cx="841320" cy="67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Line 15"/>
          <p:cNvSpPr/>
          <p:nvPr/>
        </p:nvSpPr>
        <p:spPr>
          <a:xfrm flipV="1">
            <a:off x="1273320" y="3978360"/>
            <a:ext cx="171108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Line 16"/>
          <p:cNvSpPr/>
          <p:nvPr/>
        </p:nvSpPr>
        <p:spPr>
          <a:xfrm flipH="1">
            <a:off x="1346040" y="4175280"/>
            <a:ext cx="17798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Line 17"/>
          <p:cNvSpPr/>
          <p:nvPr/>
        </p:nvSpPr>
        <p:spPr>
          <a:xfrm flipV="1">
            <a:off x="1355760" y="4676400"/>
            <a:ext cx="2046240" cy="36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Line 18"/>
          <p:cNvSpPr/>
          <p:nvPr/>
        </p:nvSpPr>
        <p:spPr>
          <a:xfrm flipH="1">
            <a:off x="1357200" y="4857840"/>
            <a:ext cx="1990800" cy="35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Line 19"/>
          <p:cNvSpPr/>
          <p:nvPr/>
        </p:nvSpPr>
        <p:spPr>
          <a:xfrm flipH="1" flipV="1">
            <a:off x="1074600" y="5454720"/>
            <a:ext cx="165744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1149480" y="5337000"/>
            <a:ext cx="1699920" cy="1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4226040" y="5119560"/>
            <a:ext cx="809640" cy="7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4492800" y="5291280"/>
            <a:ext cx="31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B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7304040" y="500364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Oval 24"/>
          <p:cNvSpPr/>
          <p:nvPr/>
        </p:nvSpPr>
        <p:spPr>
          <a:xfrm>
            <a:off x="7211880" y="490068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Oval 25"/>
          <p:cNvSpPr/>
          <p:nvPr/>
        </p:nvSpPr>
        <p:spPr>
          <a:xfrm>
            <a:off x="6651720" y="5784840"/>
            <a:ext cx="527040" cy="47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6778800" y="5902200"/>
            <a:ext cx="31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Line 27"/>
          <p:cNvSpPr/>
          <p:nvPr/>
        </p:nvSpPr>
        <p:spPr>
          <a:xfrm flipV="1">
            <a:off x="4672080" y="3930480"/>
            <a:ext cx="1023840" cy="11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Line 28"/>
          <p:cNvSpPr/>
          <p:nvPr/>
        </p:nvSpPr>
        <p:spPr>
          <a:xfrm flipH="1">
            <a:off x="4984920" y="3995640"/>
            <a:ext cx="2255760" cy="12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Line 29"/>
          <p:cNvSpPr/>
          <p:nvPr/>
        </p:nvSpPr>
        <p:spPr>
          <a:xfrm flipV="1">
            <a:off x="5064120" y="5221080"/>
            <a:ext cx="20829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Line 30"/>
          <p:cNvSpPr/>
          <p:nvPr/>
        </p:nvSpPr>
        <p:spPr>
          <a:xfrm flipH="1" flipV="1">
            <a:off x="4819680" y="5823000"/>
            <a:ext cx="165744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Line 31"/>
          <p:cNvSpPr/>
          <p:nvPr/>
        </p:nvSpPr>
        <p:spPr>
          <a:xfrm>
            <a:off x="4970520" y="5705640"/>
            <a:ext cx="162396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5813280" y="36496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Oval 33"/>
          <p:cNvSpPr/>
          <p:nvPr/>
        </p:nvSpPr>
        <p:spPr>
          <a:xfrm>
            <a:off x="5722920" y="361800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7343640" y="367668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Oval 35"/>
          <p:cNvSpPr/>
          <p:nvPr/>
        </p:nvSpPr>
        <p:spPr>
          <a:xfrm>
            <a:off x="7219800" y="3559320"/>
            <a:ext cx="527040" cy="474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Line 36"/>
          <p:cNvSpPr/>
          <p:nvPr/>
        </p:nvSpPr>
        <p:spPr>
          <a:xfrm>
            <a:off x="6248520" y="37609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95280" y="61246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Solución Inici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Text Box 40"/>
          <p:cNvSpPr/>
          <p:nvPr/>
        </p:nvSpPr>
        <p:spPr>
          <a:xfrm>
            <a:off x="3857760" y="6072120"/>
            <a:ext cx="25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Bookman Old Style"/>
              </a:rPr>
              <a:t>Pas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Line 41"/>
          <p:cNvSpPr/>
          <p:nvPr/>
        </p:nvSpPr>
        <p:spPr>
          <a:xfrm flipH="1">
            <a:off x="5000400" y="5072040"/>
            <a:ext cx="219060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2C89-9375-4F31-ACED-6CAECDA97C3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Ruteo de Vehícu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Footer Placeholder 3"/>
          <p:cNvSpPr/>
          <p:nvPr/>
        </p:nvSpPr>
        <p:spPr>
          <a:xfrm rot="21562800">
            <a:off x="5587560" y="621504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6: Transporte y Logística      #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4743360" y="4592520"/>
            <a:ext cx="685800" cy="6098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3325680" y="26082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Oval 5"/>
          <p:cNvSpPr/>
          <p:nvPr/>
        </p:nvSpPr>
        <p:spPr>
          <a:xfrm>
            <a:off x="1405080" y="53420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3639960" y="573084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357200" y="21430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5072040" y="21337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923000" y="47451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3664440" y="2978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1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275800" y="2438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2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5922000" y="5932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9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1695960" y="568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4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1695960" y="2425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3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Line 15"/>
          <p:cNvSpPr/>
          <p:nvPr/>
        </p:nvSpPr>
        <p:spPr>
          <a:xfrm flipH="1">
            <a:off x="1727280" y="3052800"/>
            <a:ext cx="46080" cy="225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2238480" y="2698920"/>
            <a:ext cx="1096920" cy="245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Line 17"/>
          <p:cNvSpPr/>
          <p:nvPr/>
        </p:nvSpPr>
        <p:spPr>
          <a:xfrm flipH="1">
            <a:off x="5008680" y="3540240"/>
            <a:ext cx="19224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Line 18"/>
          <p:cNvSpPr/>
          <p:nvPr/>
        </p:nvSpPr>
        <p:spPr>
          <a:xfrm flipH="1" flipV="1">
            <a:off x="2263320" y="5773320"/>
            <a:ext cx="1266840" cy="428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Oval 19"/>
          <p:cNvSpPr/>
          <p:nvPr/>
        </p:nvSpPr>
        <p:spPr>
          <a:xfrm>
            <a:off x="5621400" y="5616720"/>
            <a:ext cx="914400" cy="89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3864600" y="6103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5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7750800" y="4979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8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Oval 22"/>
          <p:cNvSpPr/>
          <p:nvPr/>
        </p:nvSpPr>
        <p:spPr>
          <a:xfrm>
            <a:off x="7545240" y="464508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7236360" y="3341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7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Oval 24"/>
          <p:cNvSpPr/>
          <p:nvPr/>
        </p:nvSpPr>
        <p:spPr>
          <a:xfrm>
            <a:off x="6973920" y="3083040"/>
            <a:ext cx="914400" cy="89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Line 25"/>
          <p:cNvSpPr/>
          <p:nvPr/>
        </p:nvSpPr>
        <p:spPr>
          <a:xfrm flipV="1">
            <a:off x="4248000" y="5221080"/>
            <a:ext cx="30492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Oval 26"/>
          <p:cNvSpPr/>
          <p:nvPr/>
        </p:nvSpPr>
        <p:spPr>
          <a:xfrm>
            <a:off x="4192560" y="3587760"/>
            <a:ext cx="789120" cy="67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4455000" y="3803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Bookman Old Style"/>
              </a:rPr>
              <a:t>6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Line 28"/>
          <p:cNvSpPr/>
          <p:nvPr/>
        </p:nvSpPr>
        <p:spPr>
          <a:xfrm flipH="1">
            <a:off x="4285800" y="2592360"/>
            <a:ext cx="762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Line 29"/>
          <p:cNvSpPr/>
          <p:nvPr/>
        </p:nvSpPr>
        <p:spPr>
          <a:xfrm flipH="1" flipV="1">
            <a:off x="4667400" y="4249440"/>
            <a:ext cx="20952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Line 30"/>
          <p:cNvSpPr/>
          <p:nvPr/>
        </p:nvSpPr>
        <p:spPr>
          <a:xfrm flipH="1" flipV="1">
            <a:off x="5371920" y="522144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Line 31"/>
          <p:cNvSpPr/>
          <p:nvPr/>
        </p:nvSpPr>
        <p:spPr>
          <a:xfrm>
            <a:off x="7696080" y="3906720"/>
            <a:ext cx="133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Line 32"/>
          <p:cNvSpPr/>
          <p:nvPr/>
        </p:nvSpPr>
        <p:spPr>
          <a:xfrm flipH="1">
            <a:off x="6552720" y="5450040"/>
            <a:ext cx="11811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Line 35"/>
          <p:cNvSpPr/>
          <p:nvPr/>
        </p:nvSpPr>
        <p:spPr>
          <a:xfrm flipV="1">
            <a:off x="5295960" y="3087360"/>
            <a:ext cx="171360" cy="148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Rectangle 73"/>
          <p:cNvSpPr/>
          <p:nvPr/>
        </p:nvSpPr>
        <p:spPr>
          <a:xfrm>
            <a:off x="1143000" y="1428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lución Inici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21:38:58Z</dcterms:created>
  <dc:creator>Antoine Sauré Valenzuela</dc:creator>
  <dc:description/>
  <dc:language>en-US</dc:language>
  <cp:lastModifiedBy>Felipe Castro A.</cp:lastModifiedBy>
  <cp:lastPrinted>2001-04-23T21:37:54Z</cp:lastPrinted>
  <dcterms:modified xsi:type="dcterms:W3CDTF">2004-03-25T02:08:35Z</dcterms:modified>
  <cp:revision>54</cp:revision>
  <dc:subject/>
  <dc:title>Gestión de Operaciones</dc:title>
</cp:coreProperties>
</file>