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97B4C3-B5D9-4C00-81C4-86B6F99443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662B6-B177-4D9A-BE81-219B40E404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938018-B60C-4230-9B1C-C7FB3E2EA8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10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43824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182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10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43824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06B493-CC6C-4681-89D8-308D761FD4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2847CF-B97D-4EAA-A719-BD0E8FED4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3FFC09-A069-429D-B4E2-E0A0694AE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EACAC1-80DE-48A8-A185-883CE66AF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A43183-FC93-42DF-92AC-62FEDBBA8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154A4A-E193-42F2-9AA9-B7DE067DE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17100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044506-1867-4A37-92AA-20068B7FD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F98C63-3357-4A40-A862-FE307FA90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E76DE6-3209-4E6B-BAA5-2282B4DF8F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09DD29-0E0F-4C32-971A-BB5724497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D2F3DC-30ED-443F-9F31-2004CBE4B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6F3007-6DAE-4EBD-88B3-E064B5D14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02E596-967A-4090-BFE0-C76AB7402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DA0DE3-73B4-4F89-AEE2-932544BB8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B3CF52-1E17-4C84-BE04-7E88245298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EB3C4-BD6B-4D7E-8B95-78D5DB03A4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D7EE1A-2ED2-4837-B391-4522C40D5B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150560" y="17100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D0C8FE-C8B4-45B2-B5EE-E28CB0E1C4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EA9012-4F27-4755-973F-C5122EC9EE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63C99D-91AE-473F-86A4-735DFA0DEB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EFC38E-632A-4224-98E3-5B7DCD6DAE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65232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652320"/>
            <a:ext cx="328320" cy="47484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07460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074600"/>
            <a:ext cx="368280" cy="47484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00188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54468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33524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1"/>
          </p:nvPr>
        </p:nvSpPr>
        <p:spPr>
          <a:xfrm rot="21562800">
            <a:off x="5587560" y="62737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Tema 6: Planeación Agregada      #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42BC6-75ED-4623-B914-1C80925A6A70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8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49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ahoma"/>
                </a:endParaRPr>
              </a:p>
            </p:txBody>
          </p:sp>
          <p:sp>
            <p:nvSpPr>
              <p:cNvPr id="50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ahoma"/>
                </a:endParaRPr>
              </a:p>
            </p:txBody>
          </p:sp>
        </p:grpSp>
        <p:grpSp>
          <p:nvGrpSpPr>
            <p:cNvPr id="51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2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ahoma"/>
                </a:endParaRPr>
              </a:p>
            </p:txBody>
          </p:sp>
          <p:sp>
            <p:nvSpPr>
              <p:cNvPr id="53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ahoma"/>
                </a:endParaRPr>
              </a:p>
            </p:txBody>
          </p:sp>
        </p:grpSp>
        <p:sp>
          <p:nvSpPr>
            <p:cNvPr id="54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ahoma"/>
              </a:endParaRPr>
            </a:p>
          </p:txBody>
        </p:sp>
        <p:sp>
          <p:nvSpPr>
            <p:cNvPr id="55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ahoma"/>
              </a:endParaRPr>
            </a:p>
          </p:txBody>
        </p:sp>
        <p:sp>
          <p:nvSpPr>
            <p:cNvPr id="56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ahoma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3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4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1c1c1c"/>
                </a:solidFill>
                <a:latin typeface="Times New Roman"/>
              </a:rPr>
              <a:t>Tema 6: Planeación Agregada      #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5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9A7E4-49EB-4862-842A-1AC653AE7CE2}" type="slidenum">
              <a:rPr b="0" lang="es-ES_tradnl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20570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Gestión de Operac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2057400" y="3505320"/>
            <a:ext cx="624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Tema 6: Transporte y Logística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Slide Number Placeholder 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0C2FB-3463-4EC9-9D8C-063FE3AD5740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Ruteo de Vehícul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2" name="Footer Placeholder 3"/>
          <p:cNvSpPr/>
          <p:nvPr/>
        </p:nvSpPr>
        <p:spPr>
          <a:xfrm rot="21562800">
            <a:off x="5587560" y="6215040"/>
            <a:ext cx="28958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Tema 6: Transporte y Logística      #</a:t>
            </a:r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Rectangle 73"/>
          <p:cNvSpPr/>
          <p:nvPr/>
        </p:nvSpPr>
        <p:spPr>
          <a:xfrm>
            <a:off x="1143000" y="142884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asa a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4" name="Text Box 3"/>
          <p:cNvSpPr/>
          <p:nvPr/>
        </p:nvSpPr>
        <p:spPr>
          <a:xfrm>
            <a:off x="0" y="6215040"/>
            <a:ext cx="407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Bookman Old Style"/>
              </a:rPr>
              <a:t>Por intercambio de nodos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Rectangle 4"/>
          <p:cNvSpPr/>
          <p:nvPr/>
        </p:nvSpPr>
        <p:spPr>
          <a:xfrm>
            <a:off x="4705200" y="4362480"/>
            <a:ext cx="685800" cy="609480"/>
          </a:xfrm>
          <a:prstGeom prst="rect">
            <a:avLst/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6" name="Oval 5"/>
          <p:cNvSpPr/>
          <p:nvPr/>
        </p:nvSpPr>
        <p:spPr>
          <a:xfrm>
            <a:off x="3287880" y="237816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7" name="Oval 6"/>
          <p:cNvSpPr/>
          <p:nvPr/>
        </p:nvSpPr>
        <p:spPr>
          <a:xfrm>
            <a:off x="1366920" y="511164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Oval 7"/>
          <p:cNvSpPr/>
          <p:nvPr/>
        </p:nvSpPr>
        <p:spPr>
          <a:xfrm>
            <a:off x="3602160" y="5500800"/>
            <a:ext cx="914400" cy="895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9" name="Oval 8"/>
          <p:cNvSpPr/>
          <p:nvPr/>
        </p:nvSpPr>
        <p:spPr>
          <a:xfrm>
            <a:off x="1319040" y="191304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Oval 9"/>
          <p:cNvSpPr/>
          <p:nvPr/>
        </p:nvSpPr>
        <p:spPr>
          <a:xfrm>
            <a:off x="5033880" y="190332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1" name="Text Box 10"/>
          <p:cNvSpPr/>
          <p:nvPr/>
        </p:nvSpPr>
        <p:spPr>
          <a:xfrm>
            <a:off x="4884840" y="4514760"/>
            <a:ext cx="41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Bookman Old Style"/>
              </a:rPr>
              <a:t>B</a:t>
            </a:r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Text Box 11"/>
          <p:cNvSpPr/>
          <p:nvPr/>
        </p:nvSpPr>
        <p:spPr>
          <a:xfrm>
            <a:off x="3626280" y="27478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99"/>
                </a:solidFill>
                <a:latin typeface="Bookman Old Style"/>
              </a:rPr>
              <a:t>1</a:t>
            </a:r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3" name="Text Box 12"/>
          <p:cNvSpPr/>
          <p:nvPr/>
        </p:nvSpPr>
        <p:spPr>
          <a:xfrm>
            <a:off x="5237640" y="2208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99"/>
                </a:solidFill>
                <a:latin typeface="Bookman Old Style"/>
              </a:rPr>
              <a:t>2</a:t>
            </a:r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Text Box 13"/>
          <p:cNvSpPr/>
          <p:nvPr/>
        </p:nvSpPr>
        <p:spPr>
          <a:xfrm>
            <a:off x="5883840" y="5702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99"/>
                </a:solidFill>
                <a:latin typeface="Bookman Old Style"/>
              </a:rPr>
              <a:t>9</a:t>
            </a:r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5" name="Text Box 14"/>
          <p:cNvSpPr/>
          <p:nvPr/>
        </p:nvSpPr>
        <p:spPr>
          <a:xfrm>
            <a:off x="1657800" y="54514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99"/>
                </a:solidFill>
                <a:latin typeface="Bookman Old Style"/>
              </a:rPr>
              <a:t>4</a:t>
            </a:r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Text Box 15"/>
          <p:cNvSpPr/>
          <p:nvPr/>
        </p:nvSpPr>
        <p:spPr>
          <a:xfrm>
            <a:off x="1657800" y="21956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99"/>
                </a:solidFill>
                <a:latin typeface="Bookman Old Style"/>
              </a:rPr>
              <a:t>3</a:t>
            </a:r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7" name="Line 16"/>
          <p:cNvSpPr/>
          <p:nvPr/>
        </p:nvSpPr>
        <p:spPr>
          <a:xfrm flipH="1">
            <a:off x="1689120" y="2822400"/>
            <a:ext cx="46080" cy="2254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Line 17"/>
          <p:cNvSpPr/>
          <p:nvPr/>
        </p:nvSpPr>
        <p:spPr>
          <a:xfrm>
            <a:off x="2200320" y="2468520"/>
            <a:ext cx="1096920" cy="246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9" name="Line 18"/>
          <p:cNvSpPr/>
          <p:nvPr/>
        </p:nvSpPr>
        <p:spPr>
          <a:xfrm flipH="1" flipV="1">
            <a:off x="6017760" y="2453760"/>
            <a:ext cx="1065240" cy="551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Line 19"/>
          <p:cNvSpPr/>
          <p:nvPr/>
        </p:nvSpPr>
        <p:spPr>
          <a:xfrm flipH="1" flipV="1">
            <a:off x="2225520" y="5543640"/>
            <a:ext cx="1438560" cy="371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1" name="Oval 20"/>
          <p:cNvSpPr/>
          <p:nvPr/>
        </p:nvSpPr>
        <p:spPr>
          <a:xfrm>
            <a:off x="5583240" y="5386320"/>
            <a:ext cx="914400" cy="895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2" name="Text Box 21"/>
          <p:cNvSpPr/>
          <p:nvPr/>
        </p:nvSpPr>
        <p:spPr>
          <a:xfrm>
            <a:off x="3826440" y="587376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99"/>
                </a:solidFill>
                <a:latin typeface="Bookman Old Style"/>
              </a:rPr>
              <a:t>5</a:t>
            </a:r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Text Box 22"/>
          <p:cNvSpPr/>
          <p:nvPr/>
        </p:nvSpPr>
        <p:spPr>
          <a:xfrm>
            <a:off x="7712640" y="47498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99"/>
                </a:solidFill>
                <a:latin typeface="Bookman Old Style"/>
              </a:rPr>
              <a:t>8</a:t>
            </a:r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4" name="Oval 23"/>
          <p:cNvSpPr/>
          <p:nvPr/>
        </p:nvSpPr>
        <p:spPr>
          <a:xfrm>
            <a:off x="7507440" y="4414680"/>
            <a:ext cx="914400" cy="895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Text Box 24"/>
          <p:cNvSpPr/>
          <p:nvPr/>
        </p:nvSpPr>
        <p:spPr>
          <a:xfrm>
            <a:off x="7198200" y="31114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99"/>
                </a:solidFill>
                <a:latin typeface="Bookman Old Style"/>
              </a:rPr>
              <a:t>7</a:t>
            </a:r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6" name="Oval 25"/>
          <p:cNvSpPr/>
          <p:nvPr/>
        </p:nvSpPr>
        <p:spPr>
          <a:xfrm>
            <a:off x="6935760" y="2852640"/>
            <a:ext cx="914400" cy="895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Line 26"/>
          <p:cNvSpPr/>
          <p:nvPr/>
        </p:nvSpPr>
        <p:spPr>
          <a:xfrm flipV="1">
            <a:off x="4457880" y="5010120"/>
            <a:ext cx="399960" cy="704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8" name="Oval 27"/>
          <p:cNvSpPr/>
          <p:nvPr/>
        </p:nvSpPr>
        <p:spPr>
          <a:xfrm>
            <a:off x="4154400" y="3357720"/>
            <a:ext cx="789120" cy="676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9" name="Text Box 28"/>
          <p:cNvSpPr/>
          <p:nvPr/>
        </p:nvSpPr>
        <p:spPr>
          <a:xfrm>
            <a:off x="4416840" y="357336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99"/>
                </a:solidFill>
                <a:latin typeface="Bookman Old Style"/>
              </a:rPr>
              <a:t>6</a:t>
            </a:r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Line 29"/>
          <p:cNvSpPr/>
          <p:nvPr/>
        </p:nvSpPr>
        <p:spPr>
          <a:xfrm flipH="1" flipV="1">
            <a:off x="4057560" y="3238560"/>
            <a:ext cx="247680" cy="20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1" name="Line 30"/>
          <p:cNvSpPr/>
          <p:nvPr/>
        </p:nvSpPr>
        <p:spPr>
          <a:xfrm flipH="1" flipV="1">
            <a:off x="4629240" y="4019400"/>
            <a:ext cx="209520" cy="3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Line 31"/>
          <p:cNvSpPr/>
          <p:nvPr/>
        </p:nvSpPr>
        <p:spPr>
          <a:xfrm flipH="1" flipV="1">
            <a:off x="5276880" y="5028840"/>
            <a:ext cx="3808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3" name="Line 32"/>
          <p:cNvSpPr/>
          <p:nvPr/>
        </p:nvSpPr>
        <p:spPr>
          <a:xfrm>
            <a:off x="7658280" y="3676680"/>
            <a:ext cx="1332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Line 33"/>
          <p:cNvSpPr/>
          <p:nvPr/>
        </p:nvSpPr>
        <p:spPr>
          <a:xfrm flipH="1">
            <a:off x="6515280" y="5219640"/>
            <a:ext cx="118080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5" name="Line 34"/>
          <p:cNvSpPr/>
          <p:nvPr/>
        </p:nvSpPr>
        <p:spPr>
          <a:xfrm flipV="1">
            <a:off x="5257800" y="2895480"/>
            <a:ext cx="17136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Slide Number Placeholder 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83B7D-43C6-45E1-9907-9AE4E618C149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Ruteo de Vehícul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785880" y="1643040"/>
            <a:ext cx="812952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lbertus Extra Bold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Albertus Extra Bold"/>
              </a:rPr>
              <a:t>Mejoras sobre estas heurísticas son bastante efectiv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99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lbertus Extra Bold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Albertus Extra Bold"/>
              </a:rPr>
              <a:t>Considera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999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lbertus Extra Bold"/>
              </a:rPr>
              <a:t>Capacidad vehícul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3999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lbertus Extra Bold"/>
              </a:rPr>
              <a:t>Tiempo disponi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3999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lbertus Extra Bold"/>
              </a:rPr>
              <a:t>Ventanas de tiemp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399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lbertus Extra Bold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Albertus Extra Bold"/>
              </a:rPr>
              <a:t>B) Simulación con reglas heurístic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Footer Placeholder 3"/>
          <p:cNvSpPr/>
          <p:nvPr/>
        </p:nvSpPr>
        <p:spPr>
          <a:xfrm rot="21562800">
            <a:off x="5587560" y="6215040"/>
            <a:ext cx="28958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Tema 6: Transporte y Logística      #</a:t>
            </a:r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Slide Number Placeholder 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C2834-8D3E-42F9-9573-4BC4C4A6C735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Uso Modelos Matemáticos y Sistemas Computacional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lbertus Extra Bold"/>
              </a:rPr>
              <a:t>Problemas complejos de difícil  resolución manual, por lógica. Se busca minimizar desperdicio, dar flexibilidad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lbertus Extra Bold"/>
              </a:rPr>
              <a:t>Premio Edelman de la Sociedad de EE.UU de Ciencias de Administración busca aplicaciones con impacto en este camp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lbertus Extra Bold"/>
              </a:rPr>
              <a:t>Cas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Transportes </a:t>
            </a: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Aéreo</a:t>
            </a: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:</a:t>
            </a: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American Airlin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Trenes</a:t>
            </a: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:</a:t>
            </a: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Ferrocarriles de Franci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Urbano </a:t>
            </a: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:</a:t>
            </a: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SEA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Comunicaciones </a:t>
            </a: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:</a:t>
            </a: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AT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Finanzas</a:t>
            </a: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:</a:t>
            </a: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Portfolio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Producción</a:t>
            </a: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: </a:t>
            </a: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Ceresta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Hewlett-Packar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lbertus Extra Bold"/>
              </a:rPr>
              <a:t>En todos estos casos además flexibilidad de respuest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Footer Placeholder 3"/>
          <p:cNvSpPr/>
          <p:nvPr/>
        </p:nvSpPr>
        <p:spPr>
          <a:xfrm rot="21562800">
            <a:off x="5587560" y="6215040"/>
            <a:ext cx="28958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Tema 6: Transporte y Logística      #</a:t>
            </a:r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Slide Number Placeholder 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2621F-E02C-4664-8A0B-21F982861047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as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6" name="Footer Placeholder 3"/>
          <p:cNvSpPr/>
          <p:nvPr/>
        </p:nvSpPr>
        <p:spPr>
          <a:xfrm rot="21562800">
            <a:off x="5587560" y="6215040"/>
            <a:ext cx="28958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Tema 6: Transporte y Logística      #</a:t>
            </a:r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Rectangle 3"/>
          <p:cNvSpPr/>
          <p:nvPr/>
        </p:nvSpPr>
        <p:spPr>
          <a:xfrm>
            <a:off x="1182600" y="1676520"/>
            <a:ext cx="777240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lbertus Extra Bold"/>
              </a:rPr>
              <a:t>Sear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lbertus Extra Bold"/>
              </a:rPr>
              <a:t>Asegurar entrega en horario fijado en dos horas de rango a un cliente.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lbertus Extra Bold"/>
              </a:rPr>
              <a:t>Miles de entregas.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lbertus Extra Bold"/>
              </a:rPr>
              <a:t>Combina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lbertus Extra Bold"/>
              </a:rPr>
              <a:t>	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buClr>
                <a:srgbClr val="7575d1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   </a:t>
            </a: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Sistema de Información Geográfica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buClr>
                <a:srgbClr val="7575d1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   </a:t>
            </a: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Modelo Heurístico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buClr>
                <a:srgbClr val="7575d1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   </a:t>
            </a: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Sistema de Comunicación (GPS)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buClr>
                <a:srgbClr val="7575d1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   </a:t>
            </a: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Requiere manejar altos volúmenes de información en comunicación en </a:t>
            </a:r>
            <a:r>
              <a:rPr b="0" lang="es-ES_tradnl" sz="1600" spc="-1" strike="noStrike">
                <a:solidFill>
                  <a:srgbClr val="ffffff"/>
                </a:solidFill>
                <a:latin typeface="Albertus Extra Bold"/>
              </a:rPr>
              <a:t>gfa</a:t>
            </a: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línea,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buClr>
                <a:srgbClr val="7575d1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   </a:t>
            </a: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Respuesta rápida y flexible.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Slide Number Placeholder 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096AB-4646-4FBD-913B-2200E0765540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as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0" name="Footer Placeholder 3"/>
          <p:cNvSpPr/>
          <p:nvPr/>
        </p:nvSpPr>
        <p:spPr>
          <a:xfrm rot="21562800">
            <a:off x="5587560" y="6215040"/>
            <a:ext cx="28958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Tema 6: Transporte y Logística      #</a:t>
            </a:r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Rectangle 3"/>
          <p:cNvSpPr/>
          <p:nvPr/>
        </p:nvSpPr>
        <p:spPr>
          <a:xfrm>
            <a:off x="1182600" y="1676520"/>
            <a:ext cx="777240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lbertus Extra Bold"/>
              </a:rPr>
              <a:t>Algunas Experiencias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lbertus Extra Bold"/>
              </a:rPr>
              <a:t>Chilectra: Empresa eléctrica de Santiago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spcBef>
                <a:spcPts val="24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lbertus Extra Bold"/>
              </a:rPr>
              <a:t>Emergencia: Como atender fallas: caída de cable (alta prioridad a falla en domicilio).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lbertus Extra Bold"/>
              </a:rPr>
              <a:t>Objetivo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lbertus Extra Bold"/>
              </a:rPr>
              <a:t>Minimizar tiempo de respuesta.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lbertus Extra Bold"/>
              </a:rPr>
              <a:t>Solución Propuesta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lbertus Extra Bold"/>
              </a:rPr>
              <a:t>Sistema Computarizado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spcBef>
                <a:spcPts val="24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lbertus Extra Bold"/>
              </a:rPr>
              <a:t>Meter al sistemas fallas manualmente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Slide Number Placeholder 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399DE-42BA-4631-B9DE-AB37CDBFF3E5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as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4" name="Footer Placeholder 3"/>
          <p:cNvSpPr/>
          <p:nvPr/>
        </p:nvSpPr>
        <p:spPr>
          <a:xfrm rot="21562800">
            <a:off x="5587560" y="6215040"/>
            <a:ext cx="28958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Tema 6: Transporte y Logística      #</a:t>
            </a:r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Rectangle 3"/>
          <p:cNvSpPr/>
          <p:nvPr/>
        </p:nvSpPr>
        <p:spPr>
          <a:xfrm>
            <a:off x="1182600" y="1676520"/>
            <a:ext cx="777240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lbertus Extra Bold"/>
              </a:rPr>
              <a:t>Mecanismo de Resolución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lbertus Extra Bold"/>
              </a:rPr>
              <a:t>Algoritmo heurístico en tiempo real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spcBef>
                <a:spcPts val="24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lbertus Extra Bold"/>
              </a:rPr>
              <a:t>Método inserción modificado para minimizar tiempo esperado de llegada, Gilbert Laporte (U. Montreal)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spcBef>
                <a:spcPts val="24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lbertus Extra Bold"/>
              </a:rPr>
              <a:t>Incluye método suavizamiento exponencial para predecir fallas.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lbertus Extra Bold"/>
              </a:rPr>
              <a:t>Prueba 2 semanas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lbertus Extra Bold"/>
              </a:rPr>
              <a:t>Mejorar en tiempo de llegadas 16% en días normales.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spcBef>
                <a:spcPts val="24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lbertus Extra Bold"/>
              </a:rPr>
              <a:t>45% de días lluviosos (mil fallas)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2" marL="12574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Slide Number Placeholder 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CE81F-BB6B-4846-8BF5-BC0735010F30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as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8" name="Footer Placeholder 3"/>
          <p:cNvSpPr/>
          <p:nvPr/>
        </p:nvSpPr>
        <p:spPr>
          <a:xfrm rot="21562800">
            <a:off x="5587560" y="6215040"/>
            <a:ext cx="28958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Tema 6: Transporte y Logística      #</a:t>
            </a:r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Rectangle 3"/>
          <p:cNvSpPr/>
          <p:nvPr/>
        </p:nvSpPr>
        <p:spPr>
          <a:xfrm>
            <a:off x="1182600" y="1676520"/>
            <a:ext cx="777240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lbertus Extra Bold"/>
              </a:rPr>
              <a:t>Problemas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lbertus Extra Bold"/>
              </a:rPr>
              <a:t>No hay SIG de Santiago bien desarrollado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spcBef>
                <a:spcPts val="24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lbertus Extra Bold"/>
              </a:rPr>
              <a:t>Input automático de fallas incluyendo como ubicar direcciones en mapa.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lbertus Medium"/>
              </a:rPr>
              <a:t>Falta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lbertus Extra Bold"/>
              </a:rPr>
              <a:t>SIG para ubicar fallas y direcciones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lbertus Extra Bold"/>
              </a:rPr>
              <a:t>GPS para localizar vehículos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spcBef>
                <a:spcPts val="24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lbertus Extra Bold"/>
              </a:rPr>
              <a:t>Integración automática de datos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Slide Number Placeholder 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FD1D3-49DB-4E47-A495-8058E1AAEE33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as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lbertus Extra Bold"/>
              </a:rPr>
              <a:t>Caso de Líneas Aéreas  (American Airlin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lbertus Extra Bold"/>
              </a:rPr>
              <a:t>Despacho de aviones y tripulacio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lbertus Extra Bold"/>
              </a:rPr>
              <a:t>Problema muy difícil.  Cómo combinar las casi infinitas posibles combinacion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lbertus Extra Bold"/>
              </a:rPr>
              <a:t>Se usa modelos matemátic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Crear dinámicamente secuencia de viajes (tours) factibles que cubran los itinerario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Footer Placeholder 3"/>
          <p:cNvSpPr/>
          <p:nvPr/>
        </p:nvSpPr>
        <p:spPr>
          <a:xfrm rot="21562800">
            <a:off x="5587560" y="6215040"/>
            <a:ext cx="28958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Tema 6: Transporte y Logística      #</a:t>
            </a:r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Slide Number Placeholder 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E2585-8BEB-4E01-A8D0-338A4DC3922D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as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lbertus Extra Bold"/>
              </a:rPr>
              <a:t>Se usa modelos matemáticos (cont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lbertus Extra Bold"/>
              </a:rPr>
              <a:t>Tour factibles:  Parte de la base y vuelve a ella. Respeta restricciones de tiempos de vuelo, aeropuertos, mantención, tripulació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lbertus Extra Bold"/>
              </a:rPr>
              <a:t>Un modelo asegura que se cumplan todos los itinerarios fijados, y que se use la flota y tripulaciones disponibles en forma factibl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Footer Placeholder 3"/>
          <p:cNvSpPr/>
          <p:nvPr/>
        </p:nvSpPr>
        <p:spPr>
          <a:xfrm rot="21562800">
            <a:off x="5587560" y="6215040"/>
            <a:ext cx="28958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Tema 6: Transporte y Logística      #</a:t>
            </a:r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Slide Number Placeholder 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2A314-286D-4635-AC50-EC35A6BA23F4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as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lbertus Extra Bold"/>
              </a:rPr>
              <a:t>Este problema es de muy gran tamañ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lbertus Extra Bold"/>
              </a:rPr>
              <a:t>Avance computadores, algoritmos, supone muy bue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lbertus Extra Bold"/>
              </a:rPr>
              <a:t>Manejo de información en línea, comunicacion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lbertus Extra Bold"/>
              </a:rPr>
              <a:t>Flexibilidad de respues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lbertus Extra Bold"/>
              </a:rPr>
              <a:t>Tours se definen diariamen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lbertus Extra Bold"/>
              </a:rPr>
              <a:t>Ahorros en cientos de millones de dólar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Footer Placeholder 3"/>
          <p:cNvSpPr/>
          <p:nvPr/>
        </p:nvSpPr>
        <p:spPr>
          <a:xfrm rot="21562800">
            <a:off x="5587560" y="6215040"/>
            <a:ext cx="28958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Tema 6: Transporte y Logística      #</a:t>
            </a:r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oter Placeholder 3"/>
          <p:cNvSpPr/>
          <p:nvPr/>
        </p:nvSpPr>
        <p:spPr>
          <a:xfrm rot="21562800">
            <a:off x="5587560" y="6215040"/>
            <a:ext cx="28958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Tema 6: Transporte y Logística      #</a:t>
            </a:r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Slide Number Placeholder 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02EF8-6E53-4C35-85FD-4FB4D9E65826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5072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03" name="Group 2"/>
          <p:cNvGrpSpPr/>
          <p:nvPr/>
        </p:nvGrpSpPr>
        <p:grpSpPr>
          <a:xfrm>
            <a:off x="1071720" y="1357200"/>
            <a:ext cx="6919920" cy="5082840"/>
            <a:chOff x="1071720" y="1357200"/>
            <a:chExt cx="6919920" cy="5082840"/>
          </a:xfrm>
        </p:grpSpPr>
        <p:sp>
          <p:nvSpPr>
            <p:cNvPr id="104" name="Line 3"/>
            <p:cNvSpPr/>
            <p:nvPr/>
          </p:nvSpPr>
          <p:spPr>
            <a:xfrm>
              <a:off x="4293000" y="1842840"/>
              <a:ext cx="0" cy="41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ahoma"/>
              </a:endParaRPr>
            </a:p>
          </p:txBody>
        </p:sp>
        <p:sp>
          <p:nvSpPr>
            <p:cNvPr id="105" name="Text Box 4"/>
            <p:cNvSpPr/>
            <p:nvPr/>
          </p:nvSpPr>
          <p:spPr>
            <a:xfrm>
              <a:off x="3219120" y="2257920"/>
              <a:ext cx="2445480" cy="3988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99"/>
                  </a:solidFill>
                  <a:latin typeface="Tahoma"/>
                </a:rPr>
                <a:t>Producción Final</a:t>
              </a:r>
              <a:endParaRPr b="0" lang="en-US" sz="2000" spc="-1" strike="noStrike">
                <a:solidFill>
                  <a:srgbClr val="333399"/>
                </a:solidFill>
                <a:latin typeface="Tahoma"/>
              </a:endParaRPr>
            </a:p>
          </p:txBody>
        </p:sp>
        <p:sp>
          <p:nvSpPr>
            <p:cNvPr id="106" name="Text Box 5"/>
            <p:cNvSpPr/>
            <p:nvPr/>
          </p:nvSpPr>
          <p:spPr>
            <a:xfrm>
              <a:off x="1856880" y="1357200"/>
              <a:ext cx="3959280" cy="3988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99"/>
                  </a:solidFill>
                  <a:latin typeface="Tahoma"/>
                </a:rPr>
                <a:t>Proveedores Materia Prima</a:t>
              </a:r>
              <a:endParaRPr b="0" lang="en-US" sz="2000" spc="-1" strike="noStrike">
                <a:solidFill>
                  <a:srgbClr val="333399"/>
                </a:solidFill>
                <a:latin typeface="Tahoma"/>
              </a:endParaRPr>
            </a:p>
          </p:txBody>
        </p:sp>
        <p:sp>
          <p:nvSpPr>
            <p:cNvPr id="107" name="Text Box 6"/>
            <p:cNvSpPr/>
            <p:nvPr/>
          </p:nvSpPr>
          <p:spPr>
            <a:xfrm>
              <a:off x="2801520" y="3088080"/>
              <a:ext cx="3281040" cy="862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99"/>
                  </a:solidFill>
                  <a:latin typeface="Tahoma"/>
                </a:rPr>
                <a:t>Bodega</a:t>
              </a:r>
              <a:endParaRPr b="0" lang="en-US" sz="2000" spc="-1" strike="noStrike">
                <a:solidFill>
                  <a:srgbClr val="333399"/>
                </a:solidFill>
                <a:latin typeface="Tahoma"/>
              </a:endParaRPr>
            </a:p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99"/>
                  </a:solidFill>
                  <a:latin typeface="Tahoma"/>
                </a:rPr>
                <a:t>Centro de Distribución</a:t>
              </a:r>
              <a:endParaRPr b="0" lang="en-US" sz="2000" spc="-1" strike="noStrike">
                <a:solidFill>
                  <a:srgbClr val="333399"/>
                </a:solidFill>
                <a:latin typeface="Tahoma"/>
              </a:endParaRPr>
            </a:p>
          </p:txBody>
        </p:sp>
        <p:sp>
          <p:nvSpPr>
            <p:cNvPr id="108" name="Line 7"/>
            <p:cNvSpPr/>
            <p:nvPr/>
          </p:nvSpPr>
          <p:spPr>
            <a:xfrm>
              <a:off x="4293000" y="2673000"/>
              <a:ext cx="0" cy="41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ahoma"/>
              </a:endParaRPr>
            </a:p>
          </p:txBody>
        </p:sp>
        <p:sp>
          <p:nvSpPr>
            <p:cNvPr id="109" name="Line 8"/>
            <p:cNvSpPr/>
            <p:nvPr/>
          </p:nvSpPr>
          <p:spPr>
            <a:xfrm>
              <a:off x="4307760" y="3900960"/>
              <a:ext cx="0" cy="41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ahoma"/>
              </a:endParaRPr>
            </a:p>
          </p:txBody>
        </p:sp>
        <p:sp>
          <p:nvSpPr>
            <p:cNvPr id="110" name="Text Box 9"/>
            <p:cNvSpPr/>
            <p:nvPr/>
          </p:nvSpPr>
          <p:spPr>
            <a:xfrm>
              <a:off x="2861280" y="4333680"/>
              <a:ext cx="3042360" cy="3988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99"/>
                  </a:solidFill>
                  <a:latin typeface="Tahoma"/>
                </a:rPr>
                <a:t>Puntos de Ventas</a:t>
              </a:r>
              <a:endParaRPr b="0" lang="en-US" sz="2000" spc="-1" strike="noStrike">
                <a:solidFill>
                  <a:srgbClr val="333399"/>
                </a:solidFill>
                <a:latin typeface="Tahoma"/>
              </a:endParaRPr>
            </a:p>
          </p:txBody>
        </p:sp>
        <p:sp>
          <p:nvSpPr>
            <p:cNvPr id="111" name="Line 10"/>
            <p:cNvSpPr/>
            <p:nvPr/>
          </p:nvSpPr>
          <p:spPr>
            <a:xfrm>
              <a:off x="4322880" y="4731480"/>
              <a:ext cx="0" cy="41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ahoma"/>
              </a:endParaRPr>
            </a:p>
          </p:txBody>
        </p:sp>
        <p:sp>
          <p:nvSpPr>
            <p:cNvPr id="112" name="Text Box 11"/>
            <p:cNvSpPr/>
            <p:nvPr/>
          </p:nvSpPr>
          <p:spPr>
            <a:xfrm>
              <a:off x="2921040" y="5163840"/>
              <a:ext cx="3042360" cy="3988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99"/>
                  </a:solidFill>
                  <a:latin typeface="Tahoma"/>
                </a:rPr>
                <a:t>Clientes</a:t>
              </a:r>
              <a:endParaRPr b="0" lang="en-US" sz="2000" spc="-1" strike="noStrike">
                <a:solidFill>
                  <a:srgbClr val="333399"/>
                </a:solidFill>
                <a:latin typeface="Tahoma"/>
              </a:endParaRPr>
            </a:p>
          </p:txBody>
        </p:sp>
        <p:sp>
          <p:nvSpPr>
            <p:cNvPr id="113" name="Text Box 12"/>
            <p:cNvSpPr/>
            <p:nvPr/>
          </p:nvSpPr>
          <p:spPr>
            <a:xfrm>
              <a:off x="2280960" y="5730120"/>
              <a:ext cx="4235400" cy="70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99"/>
                  </a:solidFill>
                  <a:latin typeface="Tahoma"/>
                </a:rPr>
                <a:t>Problema de infraestructura. </a:t>
              </a:r>
              <a:endParaRPr b="0" lang="en-US" sz="2000" spc="-1" strike="noStrike">
                <a:solidFill>
                  <a:srgbClr val="333399"/>
                </a:solidFill>
                <a:latin typeface="Tahoma"/>
              </a:endParaRPr>
            </a:p>
            <a:p>
              <a:pPr algn="ctr">
                <a:lnSpc>
                  <a:spcPct val="7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99"/>
                  </a:solidFill>
                  <a:latin typeface="Tahoma"/>
                </a:rPr>
                <a:t>Contexto de culturas de eficiencia</a:t>
              </a:r>
              <a:endParaRPr b="0" lang="en-US" sz="2000" spc="-1" strike="noStrike">
                <a:solidFill>
                  <a:srgbClr val="333399"/>
                </a:solidFill>
                <a:latin typeface="Tahoma"/>
              </a:endParaRPr>
            </a:p>
          </p:txBody>
        </p:sp>
        <p:sp>
          <p:nvSpPr>
            <p:cNvPr id="114" name="Text Box 13"/>
            <p:cNvSpPr/>
            <p:nvPr/>
          </p:nvSpPr>
          <p:spPr>
            <a:xfrm>
              <a:off x="6559920" y="1773360"/>
              <a:ext cx="1431720" cy="93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333399"/>
                  </a:solidFill>
                  <a:latin typeface="Tahoma"/>
                </a:rPr>
                <a:t>Productos</a:t>
              </a:r>
              <a:endParaRPr b="0" lang="en-US" sz="1800" spc="-1" strike="noStrike">
                <a:solidFill>
                  <a:srgbClr val="333399"/>
                </a:solidFill>
                <a:latin typeface="Tahoma"/>
              </a:endParaRPr>
            </a:p>
            <a:p>
              <a:pPr>
                <a:lnSpc>
                  <a:spcPct val="8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333399"/>
                  </a:solidFill>
                  <a:latin typeface="Tahoma"/>
                </a:rPr>
                <a:t>Intermedios</a:t>
              </a:r>
              <a:endParaRPr b="0" lang="en-US" sz="1800" spc="-1" strike="noStrike">
                <a:solidFill>
                  <a:srgbClr val="333399"/>
                </a:solidFill>
                <a:latin typeface="Tahoma"/>
              </a:endParaRPr>
            </a:p>
          </p:txBody>
        </p:sp>
        <p:sp>
          <p:nvSpPr>
            <p:cNvPr id="115" name="Line 14"/>
            <p:cNvSpPr/>
            <p:nvPr/>
          </p:nvSpPr>
          <p:spPr>
            <a:xfrm>
              <a:off x="5784480" y="1600560"/>
              <a:ext cx="775080" cy="328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ahoma"/>
              </a:endParaRPr>
            </a:p>
          </p:txBody>
        </p:sp>
        <p:sp>
          <p:nvSpPr>
            <p:cNvPr id="116" name="Line 15"/>
            <p:cNvSpPr/>
            <p:nvPr/>
          </p:nvSpPr>
          <p:spPr>
            <a:xfrm flipH="1">
              <a:off x="5679720" y="2119320"/>
              <a:ext cx="864720" cy="31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ahoma"/>
              </a:endParaRPr>
            </a:p>
          </p:txBody>
        </p:sp>
        <p:sp>
          <p:nvSpPr>
            <p:cNvPr id="117" name="Text Box 16"/>
            <p:cNvSpPr/>
            <p:nvPr/>
          </p:nvSpPr>
          <p:spPr>
            <a:xfrm>
              <a:off x="4715280" y="1851120"/>
              <a:ext cx="143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333399"/>
                  </a:solidFill>
                  <a:latin typeface="Tahoma"/>
                </a:rPr>
                <a:t>Transporte</a:t>
              </a:r>
              <a:endParaRPr b="0" lang="en-US" sz="1800" spc="-1" strike="noStrike">
                <a:solidFill>
                  <a:srgbClr val="333399"/>
                </a:solidFill>
                <a:latin typeface="Tahoma"/>
              </a:endParaRPr>
            </a:p>
          </p:txBody>
        </p:sp>
        <p:sp>
          <p:nvSpPr>
            <p:cNvPr id="118" name="Text Box 17"/>
            <p:cNvSpPr/>
            <p:nvPr/>
          </p:nvSpPr>
          <p:spPr>
            <a:xfrm>
              <a:off x="1071720" y="2277720"/>
              <a:ext cx="1356840" cy="3682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333399"/>
                  </a:solidFill>
                  <a:latin typeface="Tahoma"/>
                </a:rPr>
                <a:t>Repuestos</a:t>
              </a:r>
              <a:endParaRPr b="0" lang="en-US" sz="1800" spc="-1" strike="noStrike">
                <a:solidFill>
                  <a:srgbClr val="333399"/>
                </a:solidFill>
                <a:latin typeface="Tahoma"/>
              </a:endParaRPr>
            </a:p>
          </p:txBody>
        </p:sp>
        <p:sp>
          <p:nvSpPr>
            <p:cNvPr id="119" name="Text Box 19"/>
            <p:cNvSpPr/>
            <p:nvPr/>
          </p:nvSpPr>
          <p:spPr>
            <a:xfrm>
              <a:off x="2215080" y="2626920"/>
              <a:ext cx="15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333399"/>
                  </a:solidFill>
                  <a:latin typeface="Tahoma"/>
                </a:rPr>
                <a:t>Mantención</a:t>
              </a:r>
              <a:endParaRPr b="0" lang="en-US" sz="1800" spc="-1" strike="noStrike">
                <a:solidFill>
                  <a:srgbClr val="333399"/>
                </a:solidFill>
                <a:latin typeface="Tahoma"/>
              </a:endParaRPr>
            </a:p>
          </p:txBody>
        </p:sp>
        <p:sp>
          <p:nvSpPr>
            <p:cNvPr id="120" name="Text Box 20"/>
            <p:cNvSpPr/>
            <p:nvPr/>
          </p:nvSpPr>
          <p:spPr>
            <a:xfrm>
              <a:off x="4710600" y="2673000"/>
              <a:ext cx="143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333399"/>
                  </a:solidFill>
                  <a:latin typeface="Tahoma"/>
                </a:rPr>
                <a:t>Transporte</a:t>
              </a:r>
              <a:endParaRPr b="0" lang="en-US" sz="1800" spc="-1" strike="noStrike">
                <a:solidFill>
                  <a:srgbClr val="333399"/>
                </a:solidFill>
                <a:latin typeface="Tahoma"/>
              </a:endParaRPr>
            </a:p>
          </p:txBody>
        </p:sp>
        <p:sp>
          <p:nvSpPr>
            <p:cNvPr id="121" name="Text Box 21"/>
            <p:cNvSpPr/>
            <p:nvPr/>
          </p:nvSpPr>
          <p:spPr>
            <a:xfrm>
              <a:off x="4710600" y="3918240"/>
              <a:ext cx="143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333399"/>
                  </a:solidFill>
                  <a:latin typeface="Tahoma"/>
                </a:rPr>
                <a:t>Transporte</a:t>
              </a:r>
              <a:endParaRPr b="0" lang="en-US" sz="1800" spc="-1" strike="noStrike">
                <a:solidFill>
                  <a:srgbClr val="333399"/>
                </a:solidFill>
                <a:latin typeface="Tahoma"/>
              </a:endParaRPr>
            </a:p>
          </p:txBody>
        </p:sp>
      </p:grpSp>
      <p:cxnSp>
        <p:nvCxnSpPr>
          <p:cNvPr id="122" name="Straight Arrow Connector 26"/>
          <p:cNvCxnSpPr>
            <a:stCxn id="118" idx="3"/>
            <a:endCxn id="105" idx="1"/>
          </p:cNvCxnSpPr>
          <p:nvPr/>
        </p:nvCxnSpPr>
        <p:spPr>
          <a:xfrm flipV="1">
            <a:off x="2428920" y="2457000"/>
            <a:ext cx="79128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Slide Number Placeholder 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A6D1B-B332-41C9-8AD6-78B8E7FF25B2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as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lbertus Extra Bold"/>
              </a:rPr>
              <a:t>Determinación de Precios Dinámicos (Yield Management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lbertus Medium"/>
              </a:rPr>
              <a:t>Ejemplos: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lbertus Extra Bold"/>
              </a:rPr>
              <a:t>Aerolínea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Distintos precios por igual servicio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lbertus Extra Bold"/>
              </a:rPr>
              <a:t>Hotel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Distinto precio a lo largo del tiempo de reserva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lbertus Extra Bold"/>
              </a:rPr>
              <a:t>Problema Bási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lbertus Extra Bold"/>
              </a:rPr>
              <a:t>Si conozco la función de demanda en distintos períodos o tipos de cliente para un producto, como fijar los precios para maximizar retorno ruteo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Footer Placeholder 3"/>
          <p:cNvSpPr/>
          <p:nvPr/>
        </p:nvSpPr>
        <p:spPr>
          <a:xfrm rot="21562800">
            <a:off x="5587560" y="6215040"/>
            <a:ext cx="28958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Tema 6: Transporte y Logística      #</a:t>
            </a:r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Slide Number Placeholder 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B3B78-826D-4BA2-90A3-D080C24F9F19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odel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lbertus Medium"/>
              </a:rPr>
              <a:t>P</a:t>
            </a:r>
            <a:r>
              <a:rPr b="1" lang="es-ES_tradnl" sz="2200" spc="-1" strike="noStrike" baseline="-25000">
                <a:solidFill>
                  <a:srgbClr val="000000"/>
                </a:solidFill>
                <a:latin typeface="Albertus Medium"/>
              </a:rPr>
              <a:t>i</a:t>
            </a:r>
            <a:r>
              <a:rPr b="1" lang="es-ES_tradnl" sz="2200" spc="-1" strike="noStrike">
                <a:solidFill>
                  <a:srgbClr val="000000"/>
                </a:solidFill>
                <a:latin typeface="Albertus Medium"/>
              </a:rPr>
              <a:t>=</a:t>
            </a:r>
            <a:r>
              <a:rPr b="1" lang="es-ES_tradnl" sz="22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s-ES_tradnl" sz="2200" spc="-1" strike="noStrike">
                <a:solidFill>
                  <a:srgbClr val="000000"/>
                </a:solidFill>
                <a:latin typeface="Albertus Medium"/>
              </a:rPr>
              <a:t>precio del producto en período i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lbertus Medium"/>
              </a:rPr>
              <a:t>q</a:t>
            </a:r>
            <a:r>
              <a:rPr b="1" lang="es-ES_tradnl" sz="2200" spc="-1" strike="noStrike" baseline="-25000">
                <a:solidFill>
                  <a:srgbClr val="000000"/>
                </a:solidFill>
                <a:latin typeface="Albertus Medium"/>
              </a:rPr>
              <a:t>i</a:t>
            </a:r>
            <a:r>
              <a:rPr b="1" lang="es-ES_tradnl" sz="2200" spc="-1" strike="noStrike">
                <a:solidFill>
                  <a:srgbClr val="000000"/>
                </a:solidFill>
                <a:latin typeface="Albertus Medium"/>
              </a:rPr>
              <a:t>=</a:t>
            </a:r>
            <a:r>
              <a:rPr b="1" lang="es-ES_tradnl" sz="22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s-ES_tradnl" sz="2200" spc="-1" strike="noStrike">
                <a:solidFill>
                  <a:srgbClr val="000000"/>
                </a:solidFill>
                <a:latin typeface="Albertus Medium"/>
              </a:rPr>
              <a:t>cantidad a vender en período i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lbertus Medium"/>
              </a:rPr>
              <a:t>q</a:t>
            </a:r>
            <a:r>
              <a:rPr b="1" lang="es-ES_tradnl" sz="2200" spc="-1" strike="noStrike" baseline="-25000">
                <a:solidFill>
                  <a:srgbClr val="000000"/>
                </a:solidFill>
                <a:latin typeface="Albertus Medium"/>
              </a:rPr>
              <a:t>i</a:t>
            </a:r>
            <a:r>
              <a:rPr b="1" lang="es-ES_tradnl" sz="2200" spc="-1" strike="noStrike">
                <a:solidFill>
                  <a:srgbClr val="000000"/>
                </a:solidFill>
                <a:latin typeface="Albertus Medium"/>
              </a:rPr>
              <a:t> = </a:t>
            </a:r>
            <a:r>
              <a:rPr b="1" lang="es-ES_tradnl" sz="22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s-ES_tradnl" sz="2200" spc="-1" strike="noStrike">
                <a:solidFill>
                  <a:srgbClr val="000000"/>
                </a:solidFill>
                <a:latin typeface="Albertus Medium"/>
              </a:rPr>
              <a:t>f</a:t>
            </a:r>
            <a:r>
              <a:rPr b="1" lang="es-ES_tradnl" sz="2200" spc="-1" strike="noStrike" baseline="-25000">
                <a:solidFill>
                  <a:srgbClr val="000000"/>
                </a:solidFill>
                <a:latin typeface="Albertus Medium"/>
              </a:rPr>
              <a:t>i</a:t>
            </a:r>
            <a:r>
              <a:rPr b="1" lang="es-ES_tradnl" sz="2200" spc="-1" strike="noStrike">
                <a:solidFill>
                  <a:srgbClr val="000000"/>
                </a:solidFill>
                <a:latin typeface="Albertus Medium"/>
              </a:rPr>
              <a:t> (p</a:t>
            </a:r>
            <a:r>
              <a:rPr b="1" lang="es-ES_tradnl" sz="2200" spc="-1" strike="noStrike" baseline="-25000">
                <a:solidFill>
                  <a:srgbClr val="000000"/>
                </a:solidFill>
                <a:latin typeface="Albertus Medium"/>
              </a:rPr>
              <a:t>i</a:t>
            </a:r>
            <a:r>
              <a:rPr b="1" lang="es-ES_tradnl" sz="2200" spc="-1" strike="noStrike">
                <a:solidFill>
                  <a:srgbClr val="000000"/>
                </a:solidFill>
                <a:latin typeface="Albertus Medium"/>
              </a:rPr>
              <a:t>). Función de demanda en período i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lbertus Medium"/>
              </a:rPr>
              <a:t>L = </a:t>
            </a:r>
            <a:r>
              <a:rPr b="1" lang="es-ES_tradnl" sz="22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s-ES_tradnl" sz="2200" spc="-1" strike="noStrike">
                <a:solidFill>
                  <a:srgbClr val="000000"/>
                </a:solidFill>
                <a:latin typeface="Albertus Medium"/>
              </a:rPr>
              <a:t>Cantidad total para la venta en N período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Footer Placeholder 3"/>
          <p:cNvSpPr/>
          <p:nvPr/>
        </p:nvSpPr>
        <p:spPr>
          <a:xfrm rot="21562800">
            <a:off x="5587560" y="6215040"/>
            <a:ext cx="28958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Tema 6: Transporte y Logística      #</a:t>
            </a:r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Slide Number Placeholder 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29627-EC2C-48D1-8CB1-73324B2712A1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odel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143000" y="171468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lbertus Medium"/>
              </a:rPr>
              <a:t>Para cada período k= 1,2,....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lbertus Extra Bold"/>
              </a:rPr>
              <a:t>Lo que</a:t>
            </a:r>
            <a:r>
              <a:rPr b="0" lang="es-ES_tradnl" sz="1800" spc="-1" strike="noStrike">
                <a:solidFill>
                  <a:srgbClr val="000000"/>
                </a:solidFill>
                <a:latin typeface="Albertus Medium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lbertus Extra Bold"/>
              </a:rPr>
              <a:t>queda por vender del período k al N, es igual L menos  lo ya vendid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lbertus Extra Bold"/>
              </a:rPr>
              <a:t>Problemas no lineales dinámicos difíciles de resolv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Footer Placeholder 3"/>
          <p:cNvSpPr/>
          <p:nvPr/>
        </p:nvSpPr>
        <p:spPr>
          <a:xfrm rot="21562800">
            <a:off x="5587560" y="6215040"/>
            <a:ext cx="28958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Tema 6: Transporte y Logística      #</a:t>
            </a:r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4" name="Object 5"/>
              <p:cNvSpPr txBox="1"/>
              <p:nvPr/>
            </p:nvSpPr>
            <p:spPr>
              <a:xfrm>
                <a:off x="1643040" y="2143080"/>
                <a:ext cx="2214720" cy="289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r>
                          <m:t xml:space="preserve"> </m:t>
                        </m:r>
                        <m:r>
                          <m:t xml:space="preserve">z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k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ujeto</m:t>
                        </m:r>
                        <m:r>
                          <m:t xml:space="preserve"> </m:t>
                        </m:r>
                        <m:r>
                          <m:t xml:space="preserve">a</m:t>
                        </m:r>
                        <m:r>
                          <m:t xml:space="preserve">:</m:t>
                        </m:r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k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L</m:t>
                            </m:r>
                            <m:r>
                              <m:t xml:space="preserve">−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k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Slide Number Placeholder 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1872D-1064-4A39-9B9D-5AB35B89832D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as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lbertus Extra Bold"/>
              </a:rPr>
              <a:t>Importancia 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lbertus Extra Bold"/>
              </a:rPr>
              <a:t>Buena y rápida información (funciones de demanda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lbertus Extra Bold"/>
              </a:rPr>
              <a:t>Manejo rápido y confiable de preci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lbertus Medium"/>
              </a:rPr>
              <a:t>En líneas aéreas gran impact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lbertus Medium"/>
              </a:rPr>
              <a:t>Se usa para decisiones de precios en tiempo re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27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Footer Placeholder 3"/>
          <p:cNvSpPr/>
          <p:nvPr/>
        </p:nvSpPr>
        <p:spPr>
          <a:xfrm rot="21562800">
            <a:off x="5587560" y="6215040"/>
            <a:ext cx="28958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Tema 6: Transporte y Logística      #</a:t>
            </a:r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Slide Number Placeholder 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2253A-5212-404E-ACD0-1A0B559F8C8C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asos de Aplic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lbertus Extra Bold"/>
              </a:rPr>
              <a:t>Transporte Urban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76280">
              <a:lnSpc>
                <a:spcPct val="22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   </a:t>
            </a: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Equilibrio de Tráfic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7628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   </a:t>
            </a: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Usado para planifica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7628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   </a:t>
            </a: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Equilibrio: ningún usuario puede mejorar unilateralmente su costo de viaje </a:t>
            </a:r>
            <a:r>
              <a:rPr b="0" lang="es-ES_tradnl" sz="1600" spc="-1" strike="noStrike">
                <a:solidFill>
                  <a:srgbClr val="ffffff"/>
                </a:solidFill>
                <a:latin typeface="Albertus Extra Bold"/>
              </a:rPr>
              <a:t>el </a:t>
            </a: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(Nash)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7628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   </a:t>
            </a: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Supuestos: libre mercad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7628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   </a:t>
            </a: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Plena informació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7628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   </a:t>
            </a: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Movimientos libr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7628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   </a:t>
            </a: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Métodos sofisticados: (Transformación a Optimización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7628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   </a:t>
            </a: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EMME2 (Michael Florian, U. Montreal)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27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Footer Placeholder 3"/>
          <p:cNvSpPr/>
          <p:nvPr/>
        </p:nvSpPr>
        <p:spPr>
          <a:xfrm rot="21562800">
            <a:off x="5587560" y="6215040"/>
            <a:ext cx="28958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Tema 6: Transporte y Logística      #</a:t>
            </a:r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Slide Number Placeholder 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1A0C3-136E-45BA-B419-B1C3FDE7C912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as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lbertus Extra Bold"/>
              </a:rPr>
              <a:t>Transporte Urban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lbertus Extra Bold"/>
              </a:rPr>
              <a:t>Se usa en decisiones de inversión como línea del metro, sistema de concesiones de camin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lbertus Extra Bold"/>
              </a:rPr>
              <a:t>También respuesta rápida para decisiones de corto plazo como Semáforos, manejar tacos (rutas alternativas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lbertus Extra Bold"/>
              </a:rPr>
              <a:t>Modelos de equilibrio dinámic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lbertus Extra Bold"/>
              </a:rPr>
              <a:t>Requiere sistema de captación de información, comunicación a central y modelo de decisiones en tiempo real</a:t>
            </a: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0">
              <a:spcBef>
                <a:spcPts val="27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Footer Placeholder 3"/>
          <p:cNvSpPr/>
          <p:nvPr/>
        </p:nvSpPr>
        <p:spPr>
          <a:xfrm rot="21562800">
            <a:off x="5587560" y="6215040"/>
            <a:ext cx="28958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Tema 6: Transporte y Logística      #</a:t>
            </a:r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1BA0B-954A-4D99-8DA4-DBF180073793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Problemas de Transport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lbertus Extra Bold"/>
              </a:rPr>
              <a:t>Despacho de Vehículos: Importancia operaciona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lbertus Extra Bold"/>
              </a:rPr>
              <a:t>Casos Típic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lbertus Extra Bold"/>
              </a:rPr>
              <a:t>Entregas a clientes o loca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lbertus Extra Bold"/>
              </a:rPr>
              <a:t>De bodegas a supermercad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lbertus Extra Bold"/>
              </a:rPr>
              <a:t>Grandes tienda a clien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lbertus Extra Bold"/>
              </a:rPr>
              <a:t>Embotelladora de bebidas a clien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Footer Placeholder 3"/>
          <p:cNvSpPr/>
          <p:nvPr/>
        </p:nvSpPr>
        <p:spPr>
          <a:xfrm rot="21562800">
            <a:off x="5587560" y="6215040"/>
            <a:ext cx="28958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Tema 6: Transporte y Logística      #</a:t>
            </a:r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lide Number Placeholder 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B0D99-913D-4896-A75B-F0458714F5A9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Problemas de Transport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43000" y="164304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lbertus Extra Bold"/>
              </a:rPr>
              <a:t>Problem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lbertus Extra Bold"/>
              </a:rPr>
              <a:t>Diseño de flo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lbertus Extra Bold"/>
              </a:rPr>
              <a:t>Asignación de clientes a vehícul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lbertus Extra Bold"/>
              </a:rPr>
              <a:t>Ruteo de vehícul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Footer Placeholder 3"/>
          <p:cNvSpPr/>
          <p:nvPr/>
        </p:nvSpPr>
        <p:spPr>
          <a:xfrm rot="21562800">
            <a:off x="5587560" y="6215040"/>
            <a:ext cx="28958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Tema 6: Transporte y Logística      #</a:t>
            </a:r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25C94-B30E-4641-B6AF-1DA026BAA077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Ruteo de Vehícul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99720" y="1676520"/>
            <a:ext cx="795492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lbertus Extra Bold"/>
              </a:rPr>
              <a:t>Generalmente se desea minimizar tiempo de viaje tot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lbertus Extra Bold"/>
              </a:rPr>
              <a:t>Veamos esta situación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Footer Placeholder 3"/>
          <p:cNvSpPr/>
          <p:nvPr/>
        </p:nvSpPr>
        <p:spPr>
          <a:xfrm rot="21562800">
            <a:off x="5587560" y="6215040"/>
            <a:ext cx="28958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Tema 6: Transporte y Logística      #</a:t>
            </a:r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Oval 5"/>
          <p:cNvSpPr/>
          <p:nvPr/>
        </p:nvSpPr>
        <p:spPr>
          <a:xfrm>
            <a:off x="2649600" y="253368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Oval 6"/>
          <p:cNvSpPr/>
          <p:nvPr/>
        </p:nvSpPr>
        <p:spPr>
          <a:xfrm>
            <a:off x="1162080" y="390528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Oval 7"/>
          <p:cNvSpPr/>
          <p:nvPr/>
        </p:nvSpPr>
        <p:spPr>
          <a:xfrm>
            <a:off x="2786040" y="528624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Oval 8"/>
          <p:cNvSpPr/>
          <p:nvPr/>
        </p:nvSpPr>
        <p:spPr>
          <a:xfrm>
            <a:off x="7383600" y="382752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Oval 9"/>
          <p:cNvSpPr/>
          <p:nvPr/>
        </p:nvSpPr>
        <p:spPr>
          <a:xfrm>
            <a:off x="5424480" y="494496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Oval 10"/>
          <p:cNvSpPr/>
          <p:nvPr/>
        </p:nvSpPr>
        <p:spPr>
          <a:xfrm>
            <a:off x="5348160" y="285912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Text Box 11"/>
          <p:cNvSpPr/>
          <p:nvPr/>
        </p:nvSpPr>
        <p:spPr>
          <a:xfrm>
            <a:off x="1423440" y="413712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Bookman Old Style"/>
              </a:rPr>
              <a:t>B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Text Box 12"/>
          <p:cNvSpPr/>
          <p:nvPr/>
        </p:nvSpPr>
        <p:spPr>
          <a:xfrm>
            <a:off x="2896920" y="27241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Bookman Old Style"/>
              </a:rPr>
              <a:t>1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Text Box 13"/>
          <p:cNvSpPr/>
          <p:nvPr/>
        </p:nvSpPr>
        <p:spPr>
          <a:xfrm>
            <a:off x="5632200" y="30607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Bookman Old Style"/>
              </a:rPr>
              <a:t>2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Text Box 14"/>
          <p:cNvSpPr/>
          <p:nvPr/>
        </p:nvSpPr>
        <p:spPr>
          <a:xfrm>
            <a:off x="7668720" y="40878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Bookman Old Style"/>
              </a:rPr>
              <a:t>5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Text Box 15"/>
          <p:cNvSpPr/>
          <p:nvPr/>
        </p:nvSpPr>
        <p:spPr>
          <a:xfrm>
            <a:off x="3080880" y="55040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Bookman Old Style"/>
              </a:rPr>
              <a:t>4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5729040" y="51436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Bookman Old Style"/>
              </a:rPr>
              <a:t>3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D4BA6-2F14-424F-B0AA-28CB44A9007D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Ruteo de Vehícul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Footer Placeholder 3"/>
          <p:cNvSpPr/>
          <p:nvPr/>
        </p:nvSpPr>
        <p:spPr>
          <a:xfrm rot="21562800">
            <a:off x="5587560" y="6215040"/>
            <a:ext cx="28958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Tema 6: Transporte y Logística      #</a:t>
            </a:r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Oval 5"/>
          <p:cNvSpPr/>
          <p:nvPr/>
        </p:nvSpPr>
        <p:spPr>
          <a:xfrm>
            <a:off x="2468520" y="195912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Oval 6"/>
          <p:cNvSpPr/>
          <p:nvPr/>
        </p:nvSpPr>
        <p:spPr>
          <a:xfrm>
            <a:off x="981000" y="333072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Oval 7"/>
          <p:cNvSpPr/>
          <p:nvPr/>
        </p:nvSpPr>
        <p:spPr>
          <a:xfrm>
            <a:off x="2604960" y="471168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Oval 8"/>
          <p:cNvSpPr/>
          <p:nvPr/>
        </p:nvSpPr>
        <p:spPr>
          <a:xfrm>
            <a:off x="7202520" y="325296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Oval 9"/>
          <p:cNvSpPr/>
          <p:nvPr/>
        </p:nvSpPr>
        <p:spPr>
          <a:xfrm>
            <a:off x="5243400" y="437040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Oval 10"/>
          <p:cNvSpPr/>
          <p:nvPr/>
        </p:nvSpPr>
        <p:spPr>
          <a:xfrm>
            <a:off x="5167440" y="228456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Text Box 11"/>
          <p:cNvSpPr/>
          <p:nvPr/>
        </p:nvSpPr>
        <p:spPr>
          <a:xfrm>
            <a:off x="1242360" y="356220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Bookman Old Style"/>
              </a:rPr>
              <a:t>B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Text Box 12"/>
          <p:cNvSpPr/>
          <p:nvPr/>
        </p:nvSpPr>
        <p:spPr>
          <a:xfrm>
            <a:off x="2715840" y="21495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Bookman Old Style"/>
              </a:rPr>
              <a:t>1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Text Box 13"/>
          <p:cNvSpPr/>
          <p:nvPr/>
        </p:nvSpPr>
        <p:spPr>
          <a:xfrm>
            <a:off x="5451120" y="24861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Bookman Old Style"/>
              </a:rPr>
              <a:t>2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Text Box 14"/>
          <p:cNvSpPr/>
          <p:nvPr/>
        </p:nvSpPr>
        <p:spPr>
          <a:xfrm>
            <a:off x="7487640" y="35132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Bookman Old Style"/>
              </a:rPr>
              <a:t>5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Text Box 15"/>
          <p:cNvSpPr/>
          <p:nvPr/>
        </p:nvSpPr>
        <p:spPr>
          <a:xfrm>
            <a:off x="2899800" y="49291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Bookman Old Style"/>
              </a:rPr>
              <a:t>4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Text Box 16"/>
          <p:cNvSpPr/>
          <p:nvPr/>
        </p:nvSpPr>
        <p:spPr>
          <a:xfrm>
            <a:off x="5547960" y="45687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Bookman Old Style"/>
              </a:rPr>
              <a:t>3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Line 17"/>
          <p:cNvSpPr/>
          <p:nvPr/>
        </p:nvSpPr>
        <p:spPr>
          <a:xfrm flipV="1">
            <a:off x="1905120" y="2742840"/>
            <a:ext cx="3219480" cy="895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Line 18"/>
          <p:cNvSpPr/>
          <p:nvPr/>
        </p:nvSpPr>
        <p:spPr>
          <a:xfrm>
            <a:off x="5657760" y="32194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Line 19"/>
          <p:cNvSpPr/>
          <p:nvPr/>
        </p:nvSpPr>
        <p:spPr>
          <a:xfrm flipH="1">
            <a:off x="3543480" y="4857840"/>
            <a:ext cx="1714320" cy="247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Line 20"/>
          <p:cNvSpPr/>
          <p:nvPr/>
        </p:nvSpPr>
        <p:spPr>
          <a:xfrm>
            <a:off x="3505320" y="5410080"/>
            <a:ext cx="91440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Line 21"/>
          <p:cNvSpPr/>
          <p:nvPr/>
        </p:nvSpPr>
        <p:spPr>
          <a:xfrm>
            <a:off x="4419720" y="5753160"/>
            <a:ext cx="325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Line 22"/>
          <p:cNvSpPr/>
          <p:nvPr/>
        </p:nvSpPr>
        <p:spPr>
          <a:xfrm flipV="1">
            <a:off x="7696080" y="4172040"/>
            <a:ext cx="0" cy="1581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Line 23"/>
          <p:cNvSpPr/>
          <p:nvPr/>
        </p:nvSpPr>
        <p:spPr>
          <a:xfrm flipH="1" flipV="1">
            <a:off x="6915240" y="1904760"/>
            <a:ext cx="761760" cy="135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Line 24"/>
          <p:cNvSpPr/>
          <p:nvPr/>
        </p:nvSpPr>
        <p:spPr>
          <a:xfrm flipH="1">
            <a:off x="3390840" y="1905120"/>
            <a:ext cx="3524400" cy="36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Line 25"/>
          <p:cNvSpPr/>
          <p:nvPr/>
        </p:nvSpPr>
        <p:spPr>
          <a:xfrm flipH="1">
            <a:off x="1714320" y="2533680"/>
            <a:ext cx="742680" cy="857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Rectangle 2"/>
          <p:cNvSpPr/>
          <p:nvPr/>
        </p:nvSpPr>
        <p:spPr>
          <a:xfrm>
            <a:off x="-214200" y="6121440"/>
            <a:ext cx="543060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0000"/>
                </a:solidFill>
                <a:latin typeface="Albertus Extra Bold"/>
              </a:rPr>
              <a:t>Secuencia malla B-2-3-4-5-1-B</a:t>
            </a:r>
            <a:endParaRPr b="0" lang="en-US" sz="26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E956F-EB85-4466-9592-A68BE6F3498B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Ruteo de Vehícul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Footer Placeholder 3"/>
          <p:cNvSpPr/>
          <p:nvPr/>
        </p:nvSpPr>
        <p:spPr>
          <a:xfrm rot="21562800">
            <a:off x="5587560" y="6215040"/>
            <a:ext cx="28958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Tema 6: Transporte y Logística      #</a:t>
            </a:r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Line 3"/>
          <p:cNvSpPr/>
          <p:nvPr/>
        </p:nvSpPr>
        <p:spPr>
          <a:xfrm flipV="1">
            <a:off x="1658880" y="2352600"/>
            <a:ext cx="830160" cy="812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Line 4"/>
          <p:cNvSpPr/>
          <p:nvPr/>
        </p:nvSpPr>
        <p:spPr>
          <a:xfrm>
            <a:off x="3476520" y="2163600"/>
            <a:ext cx="1687680" cy="20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Line 5"/>
          <p:cNvSpPr/>
          <p:nvPr/>
        </p:nvSpPr>
        <p:spPr>
          <a:xfrm flipH="1">
            <a:off x="6159600" y="3949560"/>
            <a:ext cx="122400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Line 6"/>
          <p:cNvSpPr/>
          <p:nvPr/>
        </p:nvSpPr>
        <p:spPr>
          <a:xfrm flipH="1">
            <a:off x="3517560" y="4753080"/>
            <a:ext cx="1716120" cy="247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Line 7"/>
          <p:cNvSpPr/>
          <p:nvPr/>
        </p:nvSpPr>
        <p:spPr>
          <a:xfrm>
            <a:off x="6093000" y="2567160"/>
            <a:ext cx="1296720" cy="63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Line 8"/>
          <p:cNvSpPr/>
          <p:nvPr/>
        </p:nvSpPr>
        <p:spPr>
          <a:xfrm flipH="1" flipV="1">
            <a:off x="1558440" y="4019400"/>
            <a:ext cx="1057320" cy="905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Oval 11"/>
          <p:cNvSpPr/>
          <p:nvPr/>
        </p:nvSpPr>
        <p:spPr>
          <a:xfrm>
            <a:off x="2468520" y="176832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Oval 12"/>
          <p:cNvSpPr/>
          <p:nvPr/>
        </p:nvSpPr>
        <p:spPr>
          <a:xfrm>
            <a:off x="981000" y="313992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Oval 13"/>
          <p:cNvSpPr/>
          <p:nvPr/>
        </p:nvSpPr>
        <p:spPr>
          <a:xfrm>
            <a:off x="2604960" y="452124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Oval 14"/>
          <p:cNvSpPr/>
          <p:nvPr/>
        </p:nvSpPr>
        <p:spPr>
          <a:xfrm>
            <a:off x="7202520" y="306216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5" name="Oval 15"/>
          <p:cNvSpPr/>
          <p:nvPr/>
        </p:nvSpPr>
        <p:spPr>
          <a:xfrm>
            <a:off x="5243400" y="417996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6" name="Oval 16"/>
          <p:cNvSpPr/>
          <p:nvPr/>
        </p:nvSpPr>
        <p:spPr>
          <a:xfrm>
            <a:off x="5167440" y="209376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Text Box 17"/>
          <p:cNvSpPr/>
          <p:nvPr/>
        </p:nvSpPr>
        <p:spPr>
          <a:xfrm>
            <a:off x="1242360" y="337176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Bookman Old Style"/>
              </a:rPr>
              <a:t>B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8" name="Text Box 18"/>
          <p:cNvSpPr/>
          <p:nvPr/>
        </p:nvSpPr>
        <p:spPr>
          <a:xfrm>
            <a:off x="2715840" y="19591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Bookman Old Style"/>
              </a:rPr>
              <a:t>1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" name="Text Box 19"/>
          <p:cNvSpPr/>
          <p:nvPr/>
        </p:nvSpPr>
        <p:spPr>
          <a:xfrm>
            <a:off x="5451120" y="22953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Bookman Old Style"/>
              </a:rPr>
              <a:t>2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Text Box 20"/>
          <p:cNvSpPr/>
          <p:nvPr/>
        </p:nvSpPr>
        <p:spPr>
          <a:xfrm>
            <a:off x="7487640" y="33228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Bookman Old Style"/>
              </a:rPr>
              <a:t>5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Text Box 21"/>
          <p:cNvSpPr/>
          <p:nvPr/>
        </p:nvSpPr>
        <p:spPr>
          <a:xfrm>
            <a:off x="2899800" y="47386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Bookman Old Style"/>
              </a:rPr>
              <a:t>4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2" name="Text Box 22"/>
          <p:cNvSpPr/>
          <p:nvPr/>
        </p:nvSpPr>
        <p:spPr>
          <a:xfrm>
            <a:off x="5547960" y="43783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Bookman Old Style"/>
              </a:rPr>
              <a:t>3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Rectangle 2"/>
          <p:cNvSpPr/>
          <p:nvPr/>
        </p:nvSpPr>
        <p:spPr>
          <a:xfrm>
            <a:off x="214200" y="6121440"/>
            <a:ext cx="522144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0000"/>
                </a:solidFill>
                <a:latin typeface="Albertus Extra Bold"/>
              </a:rPr>
              <a:t>Secuencia mejor B-1-2-5-3-4-B</a:t>
            </a:r>
            <a:endParaRPr b="0" lang="en-US" sz="26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Slide Number Placeholder 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C36A6-14C9-4E5D-971A-169C99408A69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99"/>
                </a:solidFill>
                <a:latin typeface="Tahoma"/>
              </a:rPr>
              <a:t>Ruteo de Vehículo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57176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lbertus Extra Bold"/>
              </a:rPr>
              <a:t>Métodos para un buen rute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lbertus Extra Bold"/>
              </a:rPr>
              <a:t>Modelo matemátic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lbertus Extra Bold"/>
              </a:rPr>
              <a:t>Métodos Heurístic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A) Heurísticas Directas Clark-Wrigh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Mandar un vehículo a cada client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Ver la mejor manera de eliminar un vehícul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Oval 3"/>
          <p:cNvSpPr/>
          <p:nvPr/>
        </p:nvSpPr>
        <p:spPr>
          <a:xfrm>
            <a:off x="480960" y="4751280"/>
            <a:ext cx="809640" cy="757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8" name="Text Box 4"/>
          <p:cNvSpPr/>
          <p:nvPr/>
        </p:nvSpPr>
        <p:spPr>
          <a:xfrm>
            <a:off x="747720" y="4923000"/>
            <a:ext cx="31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333399"/>
                </a:solidFill>
                <a:latin typeface="Bookman Old Style"/>
              </a:rPr>
              <a:t>B</a:t>
            </a:r>
            <a:endParaRPr b="0" lang="en-US" sz="1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Oval 5"/>
          <p:cNvSpPr/>
          <p:nvPr/>
        </p:nvSpPr>
        <p:spPr>
          <a:xfrm>
            <a:off x="3121200" y="3687840"/>
            <a:ext cx="527040" cy="474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0" name="Text Box 6"/>
          <p:cNvSpPr/>
          <p:nvPr/>
        </p:nvSpPr>
        <p:spPr>
          <a:xfrm>
            <a:off x="3616200" y="4616280"/>
            <a:ext cx="31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333399"/>
                </a:solidFill>
                <a:latin typeface="Bookman Old Style"/>
              </a:rPr>
              <a:t>3</a:t>
            </a:r>
            <a:endParaRPr b="0" lang="en-US" sz="1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1" name="Oval 7"/>
          <p:cNvSpPr/>
          <p:nvPr/>
        </p:nvSpPr>
        <p:spPr>
          <a:xfrm>
            <a:off x="3448080" y="4494240"/>
            <a:ext cx="527040" cy="474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Text Box 8"/>
          <p:cNvSpPr/>
          <p:nvPr/>
        </p:nvSpPr>
        <p:spPr>
          <a:xfrm>
            <a:off x="3201840" y="3780000"/>
            <a:ext cx="31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333399"/>
                </a:solidFill>
                <a:latin typeface="Bookman Old Style"/>
              </a:rPr>
              <a:t>2</a:t>
            </a:r>
            <a:endParaRPr b="0" lang="en-US" sz="1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3" name="Oval 9"/>
          <p:cNvSpPr/>
          <p:nvPr/>
        </p:nvSpPr>
        <p:spPr>
          <a:xfrm>
            <a:off x="2031840" y="3639960"/>
            <a:ext cx="527040" cy="474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4" name="Text Box 10"/>
          <p:cNvSpPr/>
          <p:nvPr/>
        </p:nvSpPr>
        <p:spPr>
          <a:xfrm>
            <a:off x="2138400" y="3755880"/>
            <a:ext cx="31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333399"/>
                </a:solidFill>
                <a:latin typeface="Bookman Old Style"/>
              </a:rPr>
              <a:t>1</a:t>
            </a:r>
            <a:endParaRPr b="0" lang="en-US" sz="1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Oval 11"/>
          <p:cNvSpPr/>
          <p:nvPr/>
        </p:nvSpPr>
        <p:spPr>
          <a:xfrm>
            <a:off x="2906640" y="5416560"/>
            <a:ext cx="527040" cy="474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6" name="Text Box 12"/>
          <p:cNvSpPr/>
          <p:nvPr/>
        </p:nvSpPr>
        <p:spPr>
          <a:xfrm>
            <a:off x="3033720" y="5533920"/>
            <a:ext cx="31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333399"/>
                </a:solidFill>
                <a:latin typeface="Bookman Old Style"/>
              </a:rPr>
              <a:t>4</a:t>
            </a:r>
            <a:endParaRPr b="0" lang="en-US" sz="1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7" name="Line 13"/>
          <p:cNvSpPr/>
          <p:nvPr/>
        </p:nvSpPr>
        <p:spPr>
          <a:xfrm flipV="1">
            <a:off x="927000" y="3928680"/>
            <a:ext cx="1001880" cy="77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Line 14"/>
          <p:cNvSpPr/>
          <p:nvPr/>
        </p:nvSpPr>
        <p:spPr>
          <a:xfrm flipH="1">
            <a:off x="1158480" y="4071960"/>
            <a:ext cx="841320" cy="671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9" name="Line 15"/>
          <p:cNvSpPr/>
          <p:nvPr/>
        </p:nvSpPr>
        <p:spPr>
          <a:xfrm flipV="1">
            <a:off x="1273320" y="3978360"/>
            <a:ext cx="1711080" cy="861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0" name="Line 16"/>
          <p:cNvSpPr/>
          <p:nvPr/>
        </p:nvSpPr>
        <p:spPr>
          <a:xfrm flipH="1">
            <a:off x="1346040" y="4175280"/>
            <a:ext cx="17798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Line 17"/>
          <p:cNvSpPr/>
          <p:nvPr/>
        </p:nvSpPr>
        <p:spPr>
          <a:xfrm flipV="1">
            <a:off x="1355760" y="4676400"/>
            <a:ext cx="2046240" cy="366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2" name="Line 18"/>
          <p:cNvSpPr/>
          <p:nvPr/>
        </p:nvSpPr>
        <p:spPr>
          <a:xfrm flipH="1">
            <a:off x="1357200" y="4857840"/>
            <a:ext cx="1990800" cy="35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3" name="Line 19"/>
          <p:cNvSpPr/>
          <p:nvPr/>
        </p:nvSpPr>
        <p:spPr>
          <a:xfrm flipH="1" flipV="1">
            <a:off x="1074600" y="5454720"/>
            <a:ext cx="1657440" cy="231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Line 20"/>
          <p:cNvSpPr/>
          <p:nvPr/>
        </p:nvSpPr>
        <p:spPr>
          <a:xfrm>
            <a:off x="1149480" y="5337000"/>
            <a:ext cx="1699920" cy="19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5" name="Oval 21"/>
          <p:cNvSpPr/>
          <p:nvPr/>
        </p:nvSpPr>
        <p:spPr>
          <a:xfrm>
            <a:off x="4226040" y="5119560"/>
            <a:ext cx="809640" cy="757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6" name="Text Box 22"/>
          <p:cNvSpPr/>
          <p:nvPr/>
        </p:nvSpPr>
        <p:spPr>
          <a:xfrm>
            <a:off x="4492800" y="5291280"/>
            <a:ext cx="31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333399"/>
                </a:solidFill>
                <a:latin typeface="Bookman Old Style"/>
              </a:rPr>
              <a:t>B</a:t>
            </a:r>
            <a:endParaRPr b="0" lang="en-US" sz="1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Text Box 23"/>
          <p:cNvSpPr/>
          <p:nvPr/>
        </p:nvSpPr>
        <p:spPr>
          <a:xfrm>
            <a:off x="7304040" y="5003640"/>
            <a:ext cx="31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333399"/>
                </a:solidFill>
                <a:latin typeface="Bookman Old Style"/>
              </a:rPr>
              <a:t>3</a:t>
            </a:r>
            <a:endParaRPr b="0" lang="en-US" sz="1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8" name="Oval 24"/>
          <p:cNvSpPr/>
          <p:nvPr/>
        </p:nvSpPr>
        <p:spPr>
          <a:xfrm>
            <a:off x="7211880" y="4900680"/>
            <a:ext cx="527040" cy="474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9" name="Oval 25"/>
          <p:cNvSpPr/>
          <p:nvPr/>
        </p:nvSpPr>
        <p:spPr>
          <a:xfrm>
            <a:off x="6651720" y="5784840"/>
            <a:ext cx="527040" cy="474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Text Box 26"/>
          <p:cNvSpPr/>
          <p:nvPr/>
        </p:nvSpPr>
        <p:spPr>
          <a:xfrm>
            <a:off x="6778800" y="5902200"/>
            <a:ext cx="31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333399"/>
                </a:solidFill>
                <a:latin typeface="Bookman Old Style"/>
              </a:rPr>
              <a:t>4</a:t>
            </a:r>
            <a:endParaRPr b="0" lang="en-US" sz="1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1" name="Line 27"/>
          <p:cNvSpPr/>
          <p:nvPr/>
        </p:nvSpPr>
        <p:spPr>
          <a:xfrm flipV="1">
            <a:off x="4672080" y="3930480"/>
            <a:ext cx="1023840" cy="114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2" name="Line 28"/>
          <p:cNvSpPr/>
          <p:nvPr/>
        </p:nvSpPr>
        <p:spPr>
          <a:xfrm flipH="1">
            <a:off x="4984920" y="3995640"/>
            <a:ext cx="2255760" cy="12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Line 29"/>
          <p:cNvSpPr/>
          <p:nvPr/>
        </p:nvSpPr>
        <p:spPr>
          <a:xfrm flipV="1">
            <a:off x="5064120" y="5221080"/>
            <a:ext cx="2082960" cy="137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4" name="Line 30"/>
          <p:cNvSpPr/>
          <p:nvPr/>
        </p:nvSpPr>
        <p:spPr>
          <a:xfrm flipH="1" flipV="1">
            <a:off x="4819680" y="5823000"/>
            <a:ext cx="1657440" cy="231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5" name="Line 31"/>
          <p:cNvSpPr/>
          <p:nvPr/>
        </p:nvSpPr>
        <p:spPr>
          <a:xfrm>
            <a:off x="4970520" y="5705640"/>
            <a:ext cx="1623960" cy="19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Text Box 32"/>
          <p:cNvSpPr/>
          <p:nvPr/>
        </p:nvSpPr>
        <p:spPr>
          <a:xfrm>
            <a:off x="5813280" y="3649680"/>
            <a:ext cx="31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333399"/>
                </a:solidFill>
                <a:latin typeface="Bookman Old Style"/>
              </a:rPr>
              <a:t>1</a:t>
            </a:r>
            <a:endParaRPr b="0" lang="en-US" sz="1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Oval 33"/>
          <p:cNvSpPr/>
          <p:nvPr/>
        </p:nvSpPr>
        <p:spPr>
          <a:xfrm>
            <a:off x="5722920" y="3618000"/>
            <a:ext cx="527040" cy="474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8" name="Text Box 34"/>
          <p:cNvSpPr/>
          <p:nvPr/>
        </p:nvSpPr>
        <p:spPr>
          <a:xfrm>
            <a:off x="7343640" y="3676680"/>
            <a:ext cx="31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333399"/>
                </a:solidFill>
                <a:latin typeface="Bookman Old Style"/>
              </a:rPr>
              <a:t>2</a:t>
            </a:r>
            <a:endParaRPr b="0" lang="en-US" sz="1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9" name="Oval 35"/>
          <p:cNvSpPr/>
          <p:nvPr/>
        </p:nvSpPr>
        <p:spPr>
          <a:xfrm>
            <a:off x="7219800" y="3559320"/>
            <a:ext cx="527040" cy="474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0" name="Line 36"/>
          <p:cNvSpPr/>
          <p:nvPr/>
        </p:nvSpPr>
        <p:spPr>
          <a:xfrm>
            <a:off x="6248520" y="376092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1" name="Text Box 37"/>
          <p:cNvSpPr/>
          <p:nvPr/>
        </p:nvSpPr>
        <p:spPr>
          <a:xfrm>
            <a:off x="395280" y="6124680"/>
            <a:ext cx="318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Bookman Old Style"/>
              </a:rPr>
              <a:t>Solución Inicial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2" name="Text Box 40"/>
          <p:cNvSpPr/>
          <p:nvPr/>
        </p:nvSpPr>
        <p:spPr>
          <a:xfrm>
            <a:off x="3857760" y="6072120"/>
            <a:ext cx="258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Bookman Old Style"/>
              </a:rPr>
              <a:t>Paso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3" name="Line 41"/>
          <p:cNvSpPr/>
          <p:nvPr/>
        </p:nvSpPr>
        <p:spPr>
          <a:xfrm flipH="1">
            <a:off x="5000400" y="5072040"/>
            <a:ext cx="2190600" cy="20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4" name="Footer Placeholder 3"/>
          <p:cNvSpPr/>
          <p:nvPr/>
        </p:nvSpPr>
        <p:spPr>
          <a:xfrm rot="21562800">
            <a:off x="5587560" y="6215040"/>
            <a:ext cx="28958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Tema 6: Transporte y Logística      #</a:t>
            </a:r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Slide Number Placeholder 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B11B4-BD4D-4629-A072-17DA7773462E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Ruteo de Vehícul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7" name="Footer Placeholder 3"/>
          <p:cNvSpPr/>
          <p:nvPr/>
        </p:nvSpPr>
        <p:spPr>
          <a:xfrm rot="21562800">
            <a:off x="5587560" y="6215040"/>
            <a:ext cx="28958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Tema 6: Transporte y Logística      #</a:t>
            </a:r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Rectangle 2"/>
          <p:cNvSpPr/>
          <p:nvPr/>
        </p:nvSpPr>
        <p:spPr>
          <a:xfrm>
            <a:off x="4743360" y="4592520"/>
            <a:ext cx="685800" cy="609840"/>
          </a:xfrm>
          <a:prstGeom prst="rect">
            <a:avLst/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9" name="Oval 4"/>
          <p:cNvSpPr/>
          <p:nvPr/>
        </p:nvSpPr>
        <p:spPr>
          <a:xfrm>
            <a:off x="3325680" y="260820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0" name="Oval 5"/>
          <p:cNvSpPr/>
          <p:nvPr/>
        </p:nvSpPr>
        <p:spPr>
          <a:xfrm>
            <a:off x="1405080" y="534204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1" name="Oval 6"/>
          <p:cNvSpPr/>
          <p:nvPr/>
        </p:nvSpPr>
        <p:spPr>
          <a:xfrm>
            <a:off x="3639960" y="5730840"/>
            <a:ext cx="914400" cy="895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2" name="Oval 7"/>
          <p:cNvSpPr/>
          <p:nvPr/>
        </p:nvSpPr>
        <p:spPr>
          <a:xfrm>
            <a:off x="1357200" y="214308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3" name="Oval 8"/>
          <p:cNvSpPr/>
          <p:nvPr/>
        </p:nvSpPr>
        <p:spPr>
          <a:xfrm>
            <a:off x="5072040" y="213372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4" name="Text Box 9"/>
          <p:cNvSpPr/>
          <p:nvPr/>
        </p:nvSpPr>
        <p:spPr>
          <a:xfrm>
            <a:off x="4923000" y="4745160"/>
            <a:ext cx="41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Bookman Old Style"/>
              </a:rPr>
              <a:t>B</a:t>
            </a:r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5" name="Text Box 10"/>
          <p:cNvSpPr/>
          <p:nvPr/>
        </p:nvSpPr>
        <p:spPr>
          <a:xfrm>
            <a:off x="3664440" y="29782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99"/>
                </a:solidFill>
                <a:latin typeface="Bookman Old Style"/>
              </a:rPr>
              <a:t>1</a:t>
            </a:r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6" name="Text Box 11"/>
          <p:cNvSpPr/>
          <p:nvPr/>
        </p:nvSpPr>
        <p:spPr>
          <a:xfrm>
            <a:off x="5275800" y="24382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99"/>
                </a:solidFill>
                <a:latin typeface="Bookman Old Style"/>
              </a:rPr>
              <a:t>2</a:t>
            </a:r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7" name="Text Box 12"/>
          <p:cNvSpPr/>
          <p:nvPr/>
        </p:nvSpPr>
        <p:spPr>
          <a:xfrm>
            <a:off x="5922000" y="5932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99"/>
                </a:solidFill>
                <a:latin typeface="Bookman Old Style"/>
              </a:rPr>
              <a:t>9</a:t>
            </a:r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8" name="Text Box 13"/>
          <p:cNvSpPr/>
          <p:nvPr/>
        </p:nvSpPr>
        <p:spPr>
          <a:xfrm>
            <a:off x="1695960" y="56815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99"/>
                </a:solidFill>
                <a:latin typeface="Bookman Old Style"/>
              </a:rPr>
              <a:t>4</a:t>
            </a:r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9" name="Text Box 14"/>
          <p:cNvSpPr/>
          <p:nvPr/>
        </p:nvSpPr>
        <p:spPr>
          <a:xfrm>
            <a:off x="1695960" y="24256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99"/>
                </a:solidFill>
                <a:latin typeface="Bookman Old Style"/>
              </a:rPr>
              <a:t>3</a:t>
            </a:r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0" name="Line 15"/>
          <p:cNvSpPr/>
          <p:nvPr/>
        </p:nvSpPr>
        <p:spPr>
          <a:xfrm flipH="1">
            <a:off x="1727280" y="3052800"/>
            <a:ext cx="46080" cy="2254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1" name="Line 16"/>
          <p:cNvSpPr/>
          <p:nvPr/>
        </p:nvSpPr>
        <p:spPr>
          <a:xfrm>
            <a:off x="2238480" y="2698920"/>
            <a:ext cx="1096920" cy="245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2" name="Line 17"/>
          <p:cNvSpPr/>
          <p:nvPr/>
        </p:nvSpPr>
        <p:spPr>
          <a:xfrm flipH="1">
            <a:off x="5008680" y="3540240"/>
            <a:ext cx="192240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3" name="Line 18"/>
          <p:cNvSpPr/>
          <p:nvPr/>
        </p:nvSpPr>
        <p:spPr>
          <a:xfrm flipH="1" flipV="1">
            <a:off x="2263320" y="5773320"/>
            <a:ext cx="1266840" cy="428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4" name="Oval 19"/>
          <p:cNvSpPr/>
          <p:nvPr/>
        </p:nvSpPr>
        <p:spPr>
          <a:xfrm>
            <a:off x="5621400" y="5616720"/>
            <a:ext cx="914400" cy="89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99"/>
                </a:solidFill>
                <a:latin typeface="Tahoma"/>
              </a:rPr>
              <a:t>9</a:t>
            </a:r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5" name="Text Box 20"/>
          <p:cNvSpPr/>
          <p:nvPr/>
        </p:nvSpPr>
        <p:spPr>
          <a:xfrm>
            <a:off x="3864600" y="61038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99"/>
                </a:solidFill>
                <a:latin typeface="Bookman Old Style"/>
              </a:rPr>
              <a:t>5</a:t>
            </a:r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6" name="Text Box 21"/>
          <p:cNvSpPr/>
          <p:nvPr/>
        </p:nvSpPr>
        <p:spPr>
          <a:xfrm>
            <a:off x="7750800" y="49798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99"/>
                </a:solidFill>
                <a:latin typeface="Bookman Old Style"/>
              </a:rPr>
              <a:t>8</a:t>
            </a:r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7" name="Oval 22"/>
          <p:cNvSpPr/>
          <p:nvPr/>
        </p:nvSpPr>
        <p:spPr>
          <a:xfrm>
            <a:off x="7545240" y="4645080"/>
            <a:ext cx="914400" cy="895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8" name="Text Box 23"/>
          <p:cNvSpPr/>
          <p:nvPr/>
        </p:nvSpPr>
        <p:spPr>
          <a:xfrm>
            <a:off x="7236360" y="33415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99"/>
                </a:solidFill>
                <a:latin typeface="Bookman Old Style"/>
              </a:rPr>
              <a:t>7</a:t>
            </a:r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9" name="Oval 24"/>
          <p:cNvSpPr/>
          <p:nvPr/>
        </p:nvSpPr>
        <p:spPr>
          <a:xfrm>
            <a:off x="6973920" y="3083040"/>
            <a:ext cx="914400" cy="895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0" name="Line 25"/>
          <p:cNvSpPr/>
          <p:nvPr/>
        </p:nvSpPr>
        <p:spPr>
          <a:xfrm flipV="1">
            <a:off x="4248000" y="5221080"/>
            <a:ext cx="304920" cy="43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1" name="Oval 26"/>
          <p:cNvSpPr/>
          <p:nvPr/>
        </p:nvSpPr>
        <p:spPr>
          <a:xfrm>
            <a:off x="4192560" y="3587760"/>
            <a:ext cx="789120" cy="676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Text Box 27"/>
          <p:cNvSpPr/>
          <p:nvPr/>
        </p:nvSpPr>
        <p:spPr>
          <a:xfrm>
            <a:off x="4455000" y="380376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99"/>
                </a:solidFill>
                <a:latin typeface="Bookman Old Style"/>
              </a:rPr>
              <a:t>6</a:t>
            </a:r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3" name="Line 28"/>
          <p:cNvSpPr/>
          <p:nvPr/>
        </p:nvSpPr>
        <p:spPr>
          <a:xfrm flipH="1">
            <a:off x="4285800" y="2592360"/>
            <a:ext cx="762120" cy="34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Line 29"/>
          <p:cNvSpPr/>
          <p:nvPr/>
        </p:nvSpPr>
        <p:spPr>
          <a:xfrm flipH="1" flipV="1">
            <a:off x="4667400" y="4249440"/>
            <a:ext cx="209520" cy="32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5" name="Line 30"/>
          <p:cNvSpPr/>
          <p:nvPr/>
        </p:nvSpPr>
        <p:spPr>
          <a:xfrm flipH="1" flipV="1">
            <a:off x="5371920" y="5221440"/>
            <a:ext cx="5331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Line 31"/>
          <p:cNvSpPr/>
          <p:nvPr/>
        </p:nvSpPr>
        <p:spPr>
          <a:xfrm>
            <a:off x="7696080" y="3906720"/>
            <a:ext cx="1335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7" name="Line 32"/>
          <p:cNvSpPr/>
          <p:nvPr/>
        </p:nvSpPr>
        <p:spPr>
          <a:xfrm flipH="1">
            <a:off x="6552720" y="5450040"/>
            <a:ext cx="118116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Line 35"/>
          <p:cNvSpPr/>
          <p:nvPr/>
        </p:nvSpPr>
        <p:spPr>
          <a:xfrm flipV="1">
            <a:off x="5295960" y="3087360"/>
            <a:ext cx="171360" cy="148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9" name="Rectangle 73"/>
          <p:cNvSpPr/>
          <p:nvPr/>
        </p:nvSpPr>
        <p:spPr>
          <a:xfrm>
            <a:off x="1143000" y="142884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olución Inicial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9T21:38:58Z</dcterms:created>
  <dc:creator>Antoine Sauré Valenzuela</dc:creator>
  <dc:description/>
  <dc:language>en-US</dc:language>
  <cp:lastModifiedBy>Felipe Castro A.</cp:lastModifiedBy>
  <cp:lastPrinted>2001-04-23T21:37:54Z</cp:lastPrinted>
  <dcterms:modified xsi:type="dcterms:W3CDTF">2004-03-25T02:08:35Z</dcterms:modified>
  <cp:revision>54</cp:revision>
  <dc:subject/>
  <dc:title>Gestión de Operaciones</dc:title>
</cp:coreProperties>
</file>