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BFC7-C8B4-4138-B21E-BAA26B57F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F25F-BE61-4D28-9F3A-D9B70D9A7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B3C2-993C-451C-BB80-07818A27C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B9B4-D8D5-4004-BD4A-7DB0040DF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A2567-C211-4B49-B9C4-DDD9ADF9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E7CD5-4867-45D7-8B6C-3FEDD489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40070-01C9-40B1-BFF7-FE34CD5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4C28B-868A-4E4F-BB89-B0C01064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A1D29-CF39-4FB9-9680-D87EB48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5FEE7-52AD-4BD8-A403-1F4DA8C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0A8CE-1CB8-4AB2-8AE5-C64D3A1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9D12-3499-4777-9B98-14DE1235A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74F3D-6C46-48B3-980E-BC2A307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83DD-1F7C-479C-B3B9-600A357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A9ED6-858D-4967-A7AF-622E3D53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98534-97C0-4867-9F19-E76AC29E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C45BA-B3D0-40F5-A0DB-2D2A301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5E60-F88C-4B82-8B7B-93AC63CFC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8DF5-12D6-4C6A-916F-4C964BB0E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048B8-8F9C-4CE2-ACE1-0E8ED3AB7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C1A7-E7D7-420B-9F24-B848B3225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EE3E-BDC6-40F0-BE7F-57392CE73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11D0-F81E-4D1E-8141-D202CA17A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0391-BF21-4B9F-B506-D1E817B1F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58756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ma 6: Planeación Agrega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279-EA23-400E-B681-B8AC7D0462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Tema 6: Planeación Agrega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5229-7FBB-41F4-B888-3AC97FCE87A6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574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6: Transporte y Log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D6AE-1B91-4552-8766-EFAA4F363D8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Rectangle 73"/>
          <p:cNvSpPr/>
          <p:nvPr/>
        </p:nvSpPr>
        <p:spPr>
          <a:xfrm>
            <a:off x="1143000" y="142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sa 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21504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Por intercambio de no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705200" y="4362480"/>
            <a:ext cx="685800" cy="6094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3287880" y="23781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1366920" y="51116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3602160" y="550080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319040" y="19130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33880" y="1903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884840" y="45147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626280" y="2747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237640" y="2208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883840" y="570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657800" y="545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657800" y="2195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1689120" y="2822400"/>
            <a:ext cx="46080" cy="22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2200320" y="2468520"/>
            <a:ext cx="10969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Line 18"/>
          <p:cNvSpPr/>
          <p:nvPr/>
        </p:nvSpPr>
        <p:spPr>
          <a:xfrm flipH="1" flipV="1">
            <a:off x="6017760" y="2453760"/>
            <a:ext cx="1065240" cy="55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Line 19"/>
          <p:cNvSpPr/>
          <p:nvPr/>
        </p:nvSpPr>
        <p:spPr>
          <a:xfrm flipH="1" flipV="1">
            <a:off x="2225520" y="5543640"/>
            <a:ext cx="1438560" cy="37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Oval 20"/>
          <p:cNvSpPr/>
          <p:nvPr/>
        </p:nvSpPr>
        <p:spPr>
          <a:xfrm>
            <a:off x="5583240" y="538632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3826440" y="587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7712640" y="4749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8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Oval 23"/>
          <p:cNvSpPr/>
          <p:nvPr/>
        </p:nvSpPr>
        <p:spPr>
          <a:xfrm>
            <a:off x="7507440" y="4414680"/>
            <a:ext cx="914400" cy="8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7198200" y="311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Oval 25"/>
          <p:cNvSpPr/>
          <p:nvPr/>
        </p:nvSpPr>
        <p:spPr>
          <a:xfrm>
            <a:off x="6935760" y="28526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Line 26"/>
          <p:cNvSpPr/>
          <p:nvPr/>
        </p:nvSpPr>
        <p:spPr>
          <a:xfrm flipV="1">
            <a:off x="4457880" y="5010120"/>
            <a:ext cx="399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4154400" y="3357720"/>
            <a:ext cx="789120" cy="67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416840" y="3573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6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Line 29"/>
          <p:cNvSpPr/>
          <p:nvPr/>
        </p:nvSpPr>
        <p:spPr>
          <a:xfrm flipH="1" flipV="1">
            <a:off x="4057560" y="3238560"/>
            <a:ext cx="24768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Line 30"/>
          <p:cNvSpPr/>
          <p:nvPr/>
        </p:nvSpPr>
        <p:spPr>
          <a:xfrm flipH="1" flipV="1">
            <a:off x="4629240" y="4019400"/>
            <a:ext cx="20952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Line 31"/>
          <p:cNvSpPr/>
          <p:nvPr/>
        </p:nvSpPr>
        <p:spPr>
          <a:xfrm flipH="1" flipV="1">
            <a:off x="5276880" y="5028840"/>
            <a:ext cx="3808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Line 32"/>
          <p:cNvSpPr/>
          <p:nvPr/>
        </p:nvSpPr>
        <p:spPr>
          <a:xfrm>
            <a:off x="7658280" y="3676680"/>
            <a:ext cx="133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Line 33"/>
          <p:cNvSpPr/>
          <p:nvPr/>
        </p:nvSpPr>
        <p:spPr>
          <a:xfrm flipH="1">
            <a:off x="6515280" y="5219640"/>
            <a:ext cx="1180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Line 34"/>
          <p:cNvSpPr/>
          <p:nvPr/>
        </p:nvSpPr>
        <p:spPr>
          <a:xfrm flipV="1">
            <a:off x="5257800" y="2895480"/>
            <a:ext cx="171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D19E-3291-429E-AC5A-1B1637DBE9F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812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Mejoras sobre estas heurísticas son bastante efec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Capacidad vehícu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Tiempo dispon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Ventanas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B) Simulación con reglas heurís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DED-21F0-4898-9B62-1D34E216E92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so Modelos Matemáticos y Sistemas Computaci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oblemas complejos de difícil  resolución manual, por lógica. Se busca minimizar desperdicio, dar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emio Edelman de la Sociedad de EE.UU de Ciencias de Administración busca aplicaciones con impacto en este ca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a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ransportes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éreo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merican Airl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renes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Ferrocarriles de F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Urbano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EA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omunicaciones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Finanzas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ortfol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roducción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eres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Hewlett-Packa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En todos estos casos además flexibilidad de respues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37D-75BE-48E1-978E-D0116FCAC6E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Sea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segurar entrega en horario fijado en dos horas de rango a un cliente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iles de entrega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ombin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lbertus Extra Bold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istema de Información Geográfic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odelo Heurístic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istema de Comunicación (GPS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Requiere manejar altos volúmenes de información en comunicación en </a:t>
            </a:r>
            <a:r>
              <a:rPr b="0" lang="es-ES_tradnl" sz="1600" spc="-1" strike="noStrike">
                <a:solidFill>
                  <a:srgbClr val="ffffff"/>
                </a:solidFill>
                <a:latin typeface="Albertus Extra Bold"/>
              </a:rPr>
              <a:t>gfa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línea,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Respuesta rápida y flexible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5DE7-ACDA-43C7-B70E-0776DD20EFF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Algunas Experienci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hilectra: Empresa eléctrica de Santiag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Emergencia: Como atender fallas: caída de cable (alta prioridad a falla en domicilio)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Objetiv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inimizar tiempo de respuesta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Solución Propuest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stema Computarizad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eter al sistemas fallas manualment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02DA-2B03-443B-8B8E-ED590419083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Mecanismo de Resolu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lgoritmo heurístico en tiempo real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étodo inserción modificado para minimizar tiempo esperado de llegada, Gilbert Laporte (U. Montreal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cluye método suavizamiento exponencial para predecir falla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Prueba 2 seman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ejorar en tiempo de llegadas 16% en días normale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45% de días lluviosos (mil fallas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D381-424C-488D-B6DE-F32D432825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Problem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No hay SIG de Santiago bien desarrollad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put automático de fallas incluyendo como ubicar direcciones en mapa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Falt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G para ubicar fallas y direccion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GPS para localizar vehículo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tegración automática de dato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2C6-B7D3-413E-9B2B-590BA1E4171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Caso de Líneas Aéreas  (American Airli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espacho de aviones y tripul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Problema muy difícil.  Cómo combinar las casi infinitas posibles combin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Se usa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rear dinámicamente secuencia de viajes (tours) factibles que cubran los itinerari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B91-70DD-4C03-8DDF-D338AA67B9A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Se usa modelos matemático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Tour factibles:  Parte de la base y vuelve a ella. Respeta restricciones de tiempos de vuelo, aeropuertos, mantención, tripul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Un modelo asegura que se cumplan todos los itinerarios fijados, y que se use la flota y tripulaciones disponibles en forma facti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F3B1-58F0-4328-9CF3-E215DE8BDDC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Este problema es de muy gran tam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Avance computadores, algoritmos, supone muy bu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anejo de información en línea, comunic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Flexibilidad de respue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Tours se definen diari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horros en cientos de millones de dóla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B734-D39B-406A-87CD-910185D21D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072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1071720" y="1357200"/>
            <a:ext cx="6919920" cy="5082840"/>
            <a:chOff x="1071720" y="1357200"/>
            <a:chExt cx="6919920" cy="5082840"/>
          </a:xfrm>
        </p:grpSpPr>
        <p:sp>
          <p:nvSpPr>
            <p:cNvPr id="104" name="Line 3"/>
            <p:cNvSpPr/>
            <p:nvPr/>
          </p:nvSpPr>
          <p:spPr>
            <a:xfrm>
              <a:off x="4293000" y="184284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5" name="Text Box 4"/>
            <p:cNvSpPr/>
            <p:nvPr/>
          </p:nvSpPr>
          <p:spPr>
            <a:xfrm>
              <a:off x="3219120" y="2257920"/>
              <a:ext cx="244548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ducción Final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1856880" y="1357200"/>
              <a:ext cx="395928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veedores Materia Prim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2801520" y="3088080"/>
              <a:ext cx="3281040" cy="86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Bodeg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entro de Distribución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4293000" y="267300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4307760" y="390096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861280" y="4333680"/>
              <a:ext cx="3042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untos de Ventas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322880" y="473148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921040" y="5163840"/>
              <a:ext cx="3042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lientes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2280960" y="5730120"/>
              <a:ext cx="42354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blema de infraestructura. 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ontexto de culturas de eficienci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6559920" y="1773360"/>
              <a:ext cx="1431720" cy="93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Product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termedi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5784480" y="1600560"/>
              <a:ext cx="77508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 flipH="1">
              <a:off x="5679720" y="2119320"/>
              <a:ext cx="8647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4715280" y="185112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071720" y="2277720"/>
              <a:ext cx="13568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Repuest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2215080" y="2626920"/>
              <a:ext cx="15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Mantención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4710600" y="267300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4710600" y="391824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cxnSp>
        <p:nvCxnSpPr>
          <p:cNvPr id="122" name="Straight Arrow Connector 26"/>
          <p:cNvCxnSpPr>
            <a:stCxn id="118" idx="3"/>
            <a:endCxn id="105" idx="1"/>
          </p:cNvCxnSpPr>
          <p:nvPr/>
        </p:nvCxnSpPr>
        <p:spPr>
          <a:xfrm flipV="1">
            <a:off x="2428920" y="2457000"/>
            <a:ext cx="791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13B-E8BE-41F9-8384-B00EC5C61B2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lbertus Extra Bold"/>
              </a:rPr>
              <a:t>Determinación de Precios Dinámicos (Yield Managemen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lbertus Medium"/>
              </a:rPr>
              <a:t>Ejemplo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erolín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Distintos precios por igual servic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Hot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Distinto precio a lo largo del tiempo de reserv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Problema Bás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 conozco la función de demanda en distintos períodos o tipos de cliente para un producto, como fijar los precios para maximizar retorno rute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76BC-D5B9-4794-86DD-143E1D62DC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P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=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precio del producto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q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=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cantidad a vender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q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 = 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f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 (p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). Función de demanda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L = 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Cantidad total para la venta en N períod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C05-296F-45D5-A644-D901645955D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lbertus Medium"/>
              </a:rPr>
              <a:t>Para cada período k= 1,2,....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Lo que</a:t>
            </a:r>
            <a:r>
              <a:rPr b="0" lang="es-ES_tradnl" sz="1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queda por vender del período k al N, es igual L menos  lo ya vend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oblemas no lineales dinámicos difíciles de resol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5"/>
              <p:cNvSpPr txBox="1"/>
              <p:nvPr/>
            </p:nvSpPr>
            <p:spPr>
              <a:xfrm>
                <a:off x="1643040" y="2143080"/>
                <a:ext cx="22147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F45E-373F-45A5-8E8D-6B69F0A6D7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Importancia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Buena y rápida información (funciones de demand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anejo rápido y confiable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En líneas aéreas gran impa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Se usa para decisiones de precios en tiempo r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52EA-832B-4F32-BC21-B16D35E5C25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 de Apl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Transporte Urb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2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quilibrio de Tráf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Usado para planific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quilibrio: ningún usuario puede mejorar unilateralmente su costo de viaje </a:t>
            </a:r>
            <a:r>
              <a:rPr b="0" lang="es-ES_tradnl" sz="1600" spc="-1" strike="noStrike">
                <a:solidFill>
                  <a:srgbClr val="ffffff"/>
                </a:solidFill>
                <a:latin typeface="Albertus Extra Bold"/>
              </a:rPr>
              <a:t>el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(Nas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upuestos: libre merc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len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ovimientos lib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étodos sofisticados: (Transformación a Optimiz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MME2 (Michael Florian, U. Montre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24A2-139E-46DB-BAA8-1393062B5D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Transporte Urb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Se usa en decisiones de inversión como línea del metro, sistema de concesiones de cam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También respuesta rápida para decisiones de corto plazo como Semáforos, manejar tacos (rutas alternativ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odelos de equilibri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Requiere sistema de captación de información, comunicación a central y modelo de decisiones en tiempo real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417D-85DB-4A65-A51F-F78B6DBA19C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Despacho de Vehículos: Importancia operac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Casos Típ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Entregas a clientes 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e bodegas a superme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Grandes tienda a cli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Embotelladora de bebidas a cli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2CC-2FB7-4DA4-9A3D-6C10108A994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iseño de fl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Asignación de clientes a vehí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Ruteo de vehí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7D8-1665-4D43-9811-1C140C495B2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9720" y="1676520"/>
            <a:ext cx="7954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Generalmente se desea minimizar tiempo de viaje 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Veamos esta situ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649600" y="2533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162080" y="3905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786040" y="5286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7383600" y="38275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5424480" y="4944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5348160" y="2859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423440" y="4137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896920" y="2724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632200" y="3060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668720" y="40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080880" y="5504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72904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5A40-28E5-424B-9ED6-9900EAEB61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468520" y="1959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981000" y="3330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604960" y="4711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202520" y="3252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243400" y="43704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5167440" y="22845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42360" y="3562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15840" y="21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451120" y="248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7487640" y="351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2899800" y="492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54796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1905120" y="2742840"/>
            <a:ext cx="321948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657760" y="3219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Line 19"/>
          <p:cNvSpPr/>
          <p:nvPr/>
        </p:nvSpPr>
        <p:spPr>
          <a:xfrm flipH="1">
            <a:off x="3543480" y="4857840"/>
            <a:ext cx="171432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3505320" y="5410080"/>
            <a:ext cx="9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419720" y="5753160"/>
            <a:ext cx="32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7696080" y="417204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6915240" y="1904760"/>
            <a:ext cx="76176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Line 24"/>
          <p:cNvSpPr/>
          <p:nvPr/>
        </p:nvSpPr>
        <p:spPr>
          <a:xfrm flipH="1">
            <a:off x="3390840" y="1905120"/>
            <a:ext cx="35244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Line 25"/>
          <p:cNvSpPr/>
          <p:nvPr/>
        </p:nvSpPr>
        <p:spPr>
          <a:xfrm flipH="1">
            <a:off x="1714320" y="2533680"/>
            <a:ext cx="7426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-214200" y="6121440"/>
            <a:ext cx="5430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lbertus Extra Bold"/>
              </a:rPr>
              <a:t>Secuencia malla B-2-3-4-5-1-B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7426-FDDF-48E5-9086-E1A665607E5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1658880" y="2352600"/>
            <a:ext cx="83016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476520" y="2163600"/>
            <a:ext cx="16876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6159600" y="3949560"/>
            <a:ext cx="122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517560" y="4753080"/>
            <a:ext cx="171612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6093000" y="2567160"/>
            <a:ext cx="129672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Line 8"/>
          <p:cNvSpPr/>
          <p:nvPr/>
        </p:nvSpPr>
        <p:spPr>
          <a:xfrm flipH="1" flipV="1">
            <a:off x="1558440" y="4019400"/>
            <a:ext cx="105732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2468520" y="1768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981000" y="31399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2604960" y="4521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202520" y="30621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5243400" y="4179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5167440" y="20937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42360" y="33717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715840" y="195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451120" y="229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487640" y="3322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2899800" y="47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5547960" y="4378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14200" y="6121440"/>
            <a:ext cx="52214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lbertus Extra Bold"/>
              </a:rPr>
              <a:t>Secuencia mejor B-1-2-5-3-4-B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426-1FAF-4F4D-A166-9C788AF0A2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5717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étodos para un buen rut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odelo matemá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étodos Heurí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) Heurísticas Directas Clark-Wr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andar un vehículo a cada cli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Ver la mejor manera de eliminar un vehícul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480960" y="4751280"/>
            <a:ext cx="809640" cy="7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47720" y="492300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121200" y="368784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616200" y="4616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448080" y="449424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201840" y="378000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031840" y="3639960"/>
            <a:ext cx="5270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138400" y="37558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2906640" y="541656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033720" y="553392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927000" y="3928680"/>
            <a:ext cx="10018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1158480" y="4071960"/>
            <a:ext cx="84132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Line 15"/>
          <p:cNvSpPr/>
          <p:nvPr/>
        </p:nvSpPr>
        <p:spPr>
          <a:xfrm flipV="1">
            <a:off x="1273320" y="3978360"/>
            <a:ext cx="171108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Line 16"/>
          <p:cNvSpPr/>
          <p:nvPr/>
        </p:nvSpPr>
        <p:spPr>
          <a:xfrm flipH="1">
            <a:off x="1346040" y="4175280"/>
            <a:ext cx="17798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1355760" y="4676400"/>
            <a:ext cx="204624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1357200" y="4857840"/>
            <a:ext cx="1990800" cy="35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1074600" y="5454720"/>
            <a:ext cx="165744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149480" y="5337000"/>
            <a:ext cx="169992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226040" y="5119560"/>
            <a:ext cx="809640" cy="7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4492800" y="529128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7304040" y="50036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7211880" y="490068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6651720" y="5784840"/>
            <a:ext cx="5270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6778800" y="590220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Line 27"/>
          <p:cNvSpPr/>
          <p:nvPr/>
        </p:nvSpPr>
        <p:spPr>
          <a:xfrm flipV="1">
            <a:off x="4672080" y="3930480"/>
            <a:ext cx="1023840" cy="11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4984920" y="3995640"/>
            <a:ext cx="2255760" cy="12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Line 29"/>
          <p:cNvSpPr/>
          <p:nvPr/>
        </p:nvSpPr>
        <p:spPr>
          <a:xfrm flipV="1">
            <a:off x="5064120" y="5221080"/>
            <a:ext cx="20829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Line 30"/>
          <p:cNvSpPr/>
          <p:nvPr/>
        </p:nvSpPr>
        <p:spPr>
          <a:xfrm flipH="1" flipV="1">
            <a:off x="4819680" y="5823000"/>
            <a:ext cx="165744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970520" y="5705640"/>
            <a:ext cx="162396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5813280" y="36496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Oval 33"/>
          <p:cNvSpPr/>
          <p:nvPr/>
        </p:nvSpPr>
        <p:spPr>
          <a:xfrm>
            <a:off x="5722920" y="361800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7343640" y="36766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Oval 35"/>
          <p:cNvSpPr/>
          <p:nvPr/>
        </p:nvSpPr>
        <p:spPr>
          <a:xfrm>
            <a:off x="7219800" y="355932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Line 36"/>
          <p:cNvSpPr/>
          <p:nvPr/>
        </p:nvSpPr>
        <p:spPr>
          <a:xfrm>
            <a:off x="6248520" y="3760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95280" y="61246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Solución Inici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3857760" y="607212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as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Line 41"/>
          <p:cNvSpPr/>
          <p:nvPr/>
        </p:nvSpPr>
        <p:spPr>
          <a:xfrm flipH="1">
            <a:off x="5000400" y="5072040"/>
            <a:ext cx="21906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AE92-FE15-45AF-B345-F9454B1CABB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4743360" y="4592520"/>
            <a:ext cx="685800" cy="6098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3325680" y="2608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1405080" y="53420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639960" y="57308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357200" y="21430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5072040" y="2133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923000" y="47451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664440" y="2978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275800" y="2438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922000" y="593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695960" y="568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95960" y="2425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Line 15"/>
          <p:cNvSpPr/>
          <p:nvPr/>
        </p:nvSpPr>
        <p:spPr>
          <a:xfrm flipH="1">
            <a:off x="1727280" y="3052800"/>
            <a:ext cx="46080" cy="22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238480" y="2698920"/>
            <a:ext cx="1096920" cy="24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H="1">
            <a:off x="5008680" y="3540240"/>
            <a:ext cx="19224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H="1" flipV="1">
            <a:off x="2263320" y="5773320"/>
            <a:ext cx="1266840" cy="42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Oval 19"/>
          <p:cNvSpPr/>
          <p:nvPr/>
        </p:nvSpPr>
        <p:spPr>
          <a:xfrm>
            <a:off x="5621400" y="5616720"/>
            <a:ext cx="914400" cy="89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3864600" y="6103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750800" y="4979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8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Oval 22"/>
          <p:cNvSpPr/>
          <p:nvPr/>
        </p:nvSpPr>
        <p:spPr>
          <a:xfrm>
            <a:off x="7545240" y="464508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7236360" y="334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6973920" y="30830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4248000" y="5221080"/>
            <a:ext cx="30492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4192560" y="3587760"/>
            <a:ext cx="789120" cy="67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455000" y="380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6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28"/>
          <p:cNvSpPr/>
          <p:nvPr/>
        </p:nvSpPr>
        <p:spPr>
          <a:xfrm flipH="1">
            <a:off x="4285800" y="2592360"/>
            <a:ext cx="762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Line 29"/>
          <p:cNvSpPr/>
          <p:nvPr/>
        </p:nvSpPr>
        <p:spPr>
          <a:xfrm flipH="1" flipV="1">
            <a:off x="4667400" y="424944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Line 30"/>
          <p:cNvSpPr/>
          <p:nvPr/>
        </p:nvSpPr>
        <p:spPr>
          <a:xfrm flipH="1" flipV="1">
            <a:off x="5371920" y="522144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1"/>
          <p:cNvSpPr/>
          <p:nvPr/>
        </p:nvSpPr>
        <p:spPr>
          <a:xfrm>
            <a:off x="7696080" y="3906720"/>
            <a:ext cx="133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Line 32"/>
          <p:cNvSpPr/>
          <p:nvPr/>
        </p:nvSpPr>
        <p:spPr>
          <a:xfrm flipH="1">
            <a:off x="6552720" y="5450040"/>
            <a:ext cx="1181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Line 35"/>
          <p:cNvSpPr/>
          <p:nvPr/>
        </p:nvSpPr>
        <p:spPr>
          <a:xfrm flipV="1">
            <a:off x="5295960" y="3087360"/>
            <a:ext cx="17136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Rectangle 73"/>
          <p:cNvSpPr/>
          <p:nvPr/>
        </p:nvSpPr>
        <p:spPr>
          <a:xfrm>
            <a:off x="1143000" y="142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lución Inici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Felipe Castro A.</cp:lastModifiedBy>
  <cp:lastPrinted>2001-04-23T21:37:54Z</cp:lastPrinted>
  <dcterms:modified xsi:type="dcterms:W3CDTF">2004-03-25T02:08:35Z</dcterms:modified>
  <cp:revision>54</cp:revision>
  <dc:subject/>
  <dc:title>Gestión de Operaciones</dc:title>
</cp:coreProperties>
</file>