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C9DB-7675-4EA0-B1BD-3AF77BF61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BE83-5058-4359-BA96-97E0ABF3C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8BAE-EE38-4E61-8390-81662DDB9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A362-AFD4-4F79-BB03-51D9CFA35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7F99C-A41B-40FD-9DCF-690E701C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B0F2C-958F-4395-ADBA-2E40C05D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DBEAD-BD86-4DAA-AA90-97B1C5A1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DB5ED-E080-4ABE-A3DF-F5394509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C4947-D31A-4421-B7DE-01EF91FB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C1AD6-48AE-4AD4-8E35-46C90860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193F4-AC42-4084-861E-C89E5742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45B2-31B2-4345-A453-6421155A3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D671D-4ED9-4B64-98A5-79B33703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9EC64-8314-449C-9607-8D2F36E9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F38EC-D05A-4032-A55E-1DEC0C78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6D1B2-9CAA-49C2-89CA-38C2827F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BB6D5-3FC0-425B-A758-3DE51856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6935-8FC4-44B5-B06A-0E6384E89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FD5D-2994-4787-A3AA-509257B1F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5956-1039-43C3-8D63-8C07CC229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16F7-7B7B-4794-89D3-C452D8A98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B649-AACF-44AF-8EB6-C07DBFBC4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6742-F6B3-4F1C-A3CE-2436CCCD0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CC17-11D7-46B0-8D5C-0788A5C73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79060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F852-1C37-4CC1-88FD-E82AAD21F8F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6BD-63B3-4D5D-8D84-B43988291DEC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505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5: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55400" y="54435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iveles de Inventario E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7640" y="2554200"/>
            <a:ext cx="5898960" cy="2705400"/>
            <a:chOff x="2087640" y="2554200"/>
            <a:chExt cx="5898960" cy="270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158920" y="2554200"/>
              <a:ext cx="582768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90920" y="41148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9640" y="49831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669680" y="3657600"/>
              <a:ext cx="1112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n exis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2680" y="2819520"/>
              <a:ext cx="829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terva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 o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0960" y="3606840"/>
              <a:ext cx="1503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= Q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7560" y="3632040"/>
              <a:ext cx="102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ote =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C7D7-5874-4F37-8EFB-AFE26EFAA2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óptimo (Q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87520" y="2217600"/>
                <a:ext cx="2133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87520" y="3662280"/>
                <a:ext cx="4356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5067360"/>
                <a:ext cx="541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F1A4-4274-4014-B9BE-A8F1150B86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74920" y="1998720"/>
                <a:ext cx="617220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Q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IC</m:t>
                            </m:r>
                          </m:e>
                        </m:rad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es muy robus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3313-8FD3-4756-90C0-3E4C8D0E01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86240" y="5748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osto Total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57600" y="2501640"/>
            <a:ext cx="6313320" cy="3184920"/>
            <a:chOff x="1857600" y="2501640"/>
            <a:chExt cx="6313320" cy="3184920"/>
          </a:xfrm>
        </p:grpSpPr>
        <p:sp>
          <p:nvSpPr>
            <p:cNvPr id="147" name=""/>
            <p:cNvSpPr/>
            <p:nvPr/>
          </p:nvSpPr>
          <p:spPr>
            <a:xfrm flipV="1">
              <a:off x="449568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97144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4760" y="5410080"/>
              <a:ext cx="1589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 lote 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8440" y="5207040"/>
              <a:ext cx="50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O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4920" y="2908440"/>
              <a:ext cx="1206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 + 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4120" y="3327480"/>
              <a:ext cx="1576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4406760"/>
              <a:ext cx="19209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orden de 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83876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5400">
              <a:off x="1072440" y="3288240"/>
              <a:ext cx="1849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anual ($/año)(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2840" y="3276720"/>
              <a:ext cx="734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C4E8-B19F-4F9F-AF8E-0E63B1FA9E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ventas pendi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 por tiempo en satisfacer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27400" y="4013280"/>
            <a:ext cx="5504040" cy="1981080"/>
            <a:chOff x="2327400" y="4013280"/>
            <a:chExt cx="5504040" cy="1981080"/>
          </a:xfrm>
        </p:grpSpPr>
        <p:sp>
          <p:nvSpPr>
            <p:cNvPr id="160" name=""/>
            <p:cNvSpPr/>
            <p:nvPr/>
          </p:nvSpPr>
          <p:spPr>
            <a:xfrm flipH="1">
              <a:off x="3569760" y="4013280"/>
              <a:ext cx="8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473800"/>
              <a:ext cx="33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400" y="4672080"/>
              <a:ext cx="135252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0040" y="45752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0040" y="4584600"/>
              <a:ext cx="177192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0800" y="4782960"/>
              <a:ext cx="200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3960" y="5540400"/>
              <a:ext cx="325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5486400"/>
              <a:ext cx="220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5703840"/>
              <a:ext cx="16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4476600"/>
              <a:ext cx="473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Q-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40957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Ne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32440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06560" y="306072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3D02-3057-46E7-BBE3-8E7939AFB8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rivar con respecto a Q y 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94000" y="2370240"/>
                <a:ext cx="4387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16EB-F5E3-4EDD-8FF8-FCEAB1C88F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Demanda Alea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Continua (Q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n cada momento el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decidir en que momento orde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 (se usa Q* por ser robus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: punto de re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: tiempo de entr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: demanda med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inventario de segur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: probabilidad de servir todas las deman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DA49-E347-4F48-8C0E-77C5C24FF0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620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664000" y="5257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Continua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18840" y="2400480"/>
            <a:ext cx="6725160" cy="2791080"/>
            <a:chOff x="1518840" y="2400480"/>
            <a:chExt cx="6725160" cy="279108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1600200" y="2400480"/>
              <a:ext cx="66438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133720" y="40384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29600" y="491508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19800">
              <a:off x="821520" y="3391560"/>
              <a:ext cx="1680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xistenci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54640" y="3886200"/>
              <a:ext cx="275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63560" y="361152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8040" y="34592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0720" y="36878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5456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3904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00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65F5-0FBA-40B2-8425-D2C71C929A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873440" y="5562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istribución de Probabilidad de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011320" y="1676520"/>
            <a:ext cx="5763600" cy="3736800"/>
            <a:chOff x="2011320" y="1676520"/>
            <a:chExt cx="5763600" cy="37368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016000" y="1676520"/>
              <a:ext cx="57564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262320" y="5105520"/>
              <a:ext cx="3027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urante el tiempo de entre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39440" y="2239920"/>
              <a:ext cx="25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l nivel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3960" y="3352680"/>
              <a:ext cx="1316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existenc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1672920" y="3058200"/>
              <a:ext cx="953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recu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6B80-ED7C-4C42-8AD1-0A1B8BE244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nto de reord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relación entre z y el nivel de servicio deseado, asumiendo un distribución de demanda norm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1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84.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2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7.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3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9.9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74920" y="2293920"/>
                <a:ext cx="4419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tiempo de ord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8A16-DCCD-4E36-8FD9-D0DDCB206F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considera como Inventario a las cantidades almacenada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 p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ue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ene un fuerte impacto en relación al uso de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5C94-44FF-49E9-8242-7F895BE50F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promedio: 200 cajas al 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 de entrega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 dí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standard de la demanda diaria: 15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seado: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 = $20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 = 20%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 = $10 por un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macén funciona 5 días a la semana, 50 semanas al año (250 días al año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449D-2204-43E1-9F8B-92E23188EF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colocar una orden de 1.000 cajas cada vez que el inventario alcance 1.295 unidades (en promedio de pide cada 5 dí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362320" y="1676520"/>
                <a:ext cx="640080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manda promedio an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 al añ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*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·20·250·2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·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el tiempo de orde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el tiempo de orde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0 unidade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3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5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176200" y="5867280"/>
            <a:ext cx="67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a varianza de una suma es la suma de las varianzas cuando las variables 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de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3322-EE32-4422-AEF2-7B50576AD7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Q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907160" cy="38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5172-F9B8-4E2E-82F7-35F2A53241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Periódica (P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l inventario periódicamente al revi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se hace un pedido sema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ubrir demanda cuando se hace la revisión y se hace pedido para llegar a un nivel objetivo (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tiempo entre pedi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inventario meta u objetivo, debe cubrir hasta que llegue el siguiente ped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’: demanda promedio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’: inventario de seguridad en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7B13-F8C7-42F9-A855-A970325219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071800" y="2154240"/>
            <a:ext cx="5675040" cy="3691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67680" y="57913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007720" y="2362320"/>
            <a:ext cx="5536080" cy="3502080"/>
            <a:chOff x="2007720" y="2362320"/>
            <a:chExt cx="5536080" cy="3502080"/>
          </a:xfrm>
        </p:grpSpPr>
        <p:sp>
          <p:nvSpPr>
            <p:cNvPr id="220" name=""/>
            <p:cNvSpPr/>
            <p:nvPr/>
          </p:nvSpPr>
          <p:spPr>
            <a:xfrm>
              <a:off x="2514600" y="25146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81880" y="55879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14400">
              <a:off x="1295280" y="3711960"/>
              <a:ext cx="1707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68640" y="23623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86760" y="516096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393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05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7556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64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66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3000" y="29462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4920" y="33526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4800" y="342900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21680" y="279396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0360" y="36068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8640" y="38098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470480" y="365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05320"/>
              <a:ext cx="763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F038-802E-44B8-A37C-CE8592F979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P usando Q* (Q óptim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400480" y="2286000"/>
                <a:ext cx="3733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175480" y="3336840"/>
            <a:ext cx="56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lo que se obtiene un intervalo de r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amente ópt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413080" y="4876920"/>
                <a:ext cx="3336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'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99D9C-128D-40B6-ADBD-90393EA706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 óptimo (Q*) = 1.0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diaria = 2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l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19520" y="3200400"/>
                <a:ext cx="54100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dí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50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45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2</m:t>
                        </m:r>
                        <m:r>
                          <m:rPr>
                            <m:lit/>
                            <m:nor/>
                          </m:rPr>
                          <m:t xml:space="preserve">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8B5B-CB6A-4EC7-9EEE-3313261B4A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revisar cada 5 días y llevar el nivel de inventario a 2.542 ca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1939680" y="2970360"/>
            <a:ext cx="65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ta: El sistema P considera 742 unidades de inventa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guridad, en cambio el sistema Q sólo 495. Esto se deb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l sistema P debe cubrir la demanda por más d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C060-44E9-443F-9A2A-B9EF62455F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303640" y="2367000"/>
            <a:ext cx="485928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4B91-1FD5-43B2-8551-3A2348B766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P para demanda crec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BA66-5816-426C-9C5E-5A9886F86D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tivos para llevar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tección contra la incertidumb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fabr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or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Economías de esc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por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ambios en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est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tocks estraté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6A38-1154-4ED3-968F-13D599AD1E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 Promedi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735200" y="2714760"/>
                <a:ext cx="59767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vel promedio de inventar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nventario promedi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nventario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F657-BF2E-4E2C-B195-E04D775633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833840" y="541188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Nivel de Servicio versus Nivel de Inventario (Q=100, 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 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981080" y="1981080"/>
            <a:ext cx="5714280" cy="3352320"/>
            <a:chOff x="1981080" y="1981080"/>
            <a:chExt cx="5714280" cy="3352320"/>
          </a:xfrm>
        </p:grpSpPr>
        <p:grpSp>
          <p:nvGrpSpPr>
            <p:cNvPr id="261" name=""/>
            <p:cNvGrpSpPr/>
            <p:nvPr/>
          </p:nvGrpSpPr>
          <p:grpSpPr>
            <a:xfrm>
              <a:off x="1981080" y="1981080"/>
              <a:ext cx="5714280" cy="3352320"/>
              <a:chOff x="1981080" y="1981080"/>
              <a:chExt cx="5714280" cy="335232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981080" y="1981080"/>
                <a:ext cx="5714280" cy="3352320"/>
                <a:chOff x="1981080" y="1981080"/>
                <a:chExt cx="5714280" cy="3352320"/>
              </a:xfrm>
            </p:grpSpPr>
            <p:pic>
              <p:nvPicPr>
                <p:cNvPr id="2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81080" y="1981080"/>
                  <a:ext cx="5670720" cy="335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>
                  <a:off x="2693160" y="4610160"/>
                  <a:ext cx="500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flipV="1">
                <a:off x="2707200" y="2151360"/>
                <a:ext cx="0" cy="24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735360" y="4952880"/>
              <a:ext cx="2270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017720" y="3167640"/>
              <a:ext cx="2203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servicio (por cient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37880" y="41911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9040" y="379728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52120" y="35053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33160" y="32004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04480" y="29592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5680" y="277344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08760" y="2666880"/>
              <a:ext cx="59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01760" y="256536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1747-36F4-4D4C-8672-613922FF39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tículos Múlt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n restricciones de capacidad y de capital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penalizar (artificialmente) Q para reducir inventarios. Una penalización adecuada lleva a ocupar bien la capac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5128-3118-40A1-A615-BC455AEC23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stemas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ABC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: 20% de los artículos, 80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cuidad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: 50% de los artículos, 5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menos rigur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BBB1-F9C1-422B-8A08-81CB7EB4EB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Permite flexibilidad al momento de programa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ermite mantener el tránsito (inventarios en proces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.- Espec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F73A-7D45-449F-A3A1-CEAAE52C3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rincipales decisiones relacionadas a la administración de inventario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¿Qué artículos mantener en inventar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¿Cuánt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¿Cuánd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¿Qué tipo de sistema de administración de inventarios utiliz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C46D-0CFF-421C-918B-0AD5A459A5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estructuras del costo de inventario incorporan los siguientes tipos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Costo del artíc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Costo de poner ordenes de compra o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osto de invent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ros, pérdidas y obsolesc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inexis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2DD6-FC9E-4D83-9155-058B6EE91E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tener en cuenta los siguientes concep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pend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ciclo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terminí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ea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4D57-097B-4736-96EB-1B453600F1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0" y="53341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atrone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2286000"/>
            <a:ext cx="8051760" cy="2664000"/>
            <a:chOff x="711360" y="2286000"/>
            <a:chExt cx="8051760" cy="2664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0800" y="2286000"/>
              <a:ext cx="79423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8700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64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200" y="2362320"/>
              <a:ext cx="18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aterias pri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51640" y="2362320"/>
              <a:ext cx="196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s termin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artes de re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2716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0932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71FD-A0E3-4EA3-8B77-C4B0DC61A1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manda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entas perdidas o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: demanda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largo del cicl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costo fijo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: costo del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: tasa anual de costo de inventario (interés + almacena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82E2-803D-4C2D-A942-DCAEE6A7A2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alumnodii</cp:lastModifiedBy>
  <cp:lastPrinted>2001-08-09T20:48:00Z</cp:lastPrinted>
  <dcterms:modified xsi:type="dcterms:W3CDTF">2007-09-26T20:31:41Z</dcterms:modified>
  <cp:revision>109</cp:revision>
  <dc:subject/>
  <dc:title>Modelamiento Físico de Interfaces</dc:title>
</cp:coreProperties>
</file>