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9338E-9213-47F6-A105-6D2D01093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9BDD6-4FF9-4A32-B347-DBD9A9E1D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10EDB-1EB4-4636-8014-E46904E62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F171-4EF3-4DFF-BC9B-3E79FAB10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5EF88-FBF0-4686-B433-3CD30C4E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1F727-44D2-49C0-850E-C207788E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5168F-6781-49D9-BF96-07DE53F1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F4561-52BB-47AA-B86E-859A91AE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74454-BA69-4BA7-B763-FD0E8BC8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2D2AD-F24E-4F61-B9B3-90CC489F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1E057-A26D-47DE-AB4E-A4B2CF18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49E8-E122-4135-BE72-4A4DE9C25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77E10-E04C-40A2-88DE-0D3FFD9F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0DBEE-4058-425E-92BF-63FBCE4C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37B7A-174C-4C93-AADE-99079EAD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862F4-4B09-4DC9-97AA-8F9308A3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9DE43-26C3-4432-99EF-25AE9031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B3ACE-10E4-4F6F-95A3-B7318963B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A8F5-0B4E-4A3D-87A9-2E2E46DC8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03402-6858-470D-811E-389D5594A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54CB-E89E-43BE-8ADE-65AE96CF2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DABB-87F4-4E36-9220-04CD3F8BD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3DD6E-CC7E-4186-86D4-2A4FBFF8D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26182-CBE1-477D-AB1A-035C66206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79060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30C2-525A-4E30-A761-03B50545142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1026-3628-42A6-8665-076FAD183E3D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505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5: Inven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155400" y="544356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Niveles de Inventario E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087640" y="2554200"/>
            <a:ext cx="5898960" cy="2705400"/>
            <a:chOff x="2087640" y="2554200"/>
            <a:chExt cx="5898960" cy="27054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158920" y="2554200"/>
              <a:ext cx="5827680" cy="26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590920" y="4114800"/>
              <a:ext cx="49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59640" y="49831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1669680" y="3657600"/>
              <a:ext cx="1112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n exis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12680" y="2819520"/>
              <a:ext cx="829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terva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 o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0960" y="3606840"/>
              <a:ext cx="1503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= Q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27560" y="3632040"/>
              <a:ext cx="1026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ote =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5EE6-68C7-4B7E-A3E8-0B0201E8AE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óptimo (Q*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387520" y="2217600"/>
                <a:ext cx="2133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387520" y="3662280"/>
                <a:ext cx="4356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286000" y="5067360"/>
                <a:ext cx="5410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083F-5086-4C68-95A5-664D535054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374920" y="1998720"/>
                <a:ext cx="6172200" cy="19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∗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Q</m:t>
                            </m:r>
                            <m:r>
                              <m:t xml:space="preserve">∗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IC</m:t>
                            </m:r>
                          </m:e>
                        </m:rad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 es muy robus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AED3-99F3-4A50-BD54-AC47995EC6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9588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86240" y="5748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osto Total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857600" y="2501640"/>
            <a:ext cx="6313320" cy="3184920"/>
            <a:chOff x="1857600" y="2501640"/>
            <a:chExt cx="6313320" cy="3184920"/>
          </a:xfrm>
        </p:grpSpPr>
        <p:sp>
          <p:nvSpPr>
            <p:cNvPr id="147" name=""/>
            <p:cNvSpPr/>
            <p:nvPr/>
          </p:nvSpPr>
          <p:spPr>
            <a:xfrm flipV="1">
              <a:off x="449568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971440" y="35812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04760" y="5410080"/>
              <a:ext cx="1589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 lote (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58440" y="5207040"/>
              <a:ext cx="50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O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4920" y="2908440"/>
              <a:ext cx="12063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 + 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4120" y="3327480"/>
              <a:ext cx="1576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56360" y="4406760"/>
              <a:ext cx="192096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orden de ped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838760"/>
              <a:ext cx="533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5400">
              <a:off x="1072440" y="3288240"/>
              <a:ext cx="1849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anual ($/año)(T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12840" y="3276720"/>
              <a:ext cx="7340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íni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4DC21-AFBD-42E7-A344-49640FCF21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ventas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ventas pendi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 por tiempo en satisfacer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327400" y="4013280"/>
            <a:ext cx="5504040" cy="1981080"/>
            <a:chOff x="2327400" y="4013280"/>
            <a:chExt cx="5504040" cy="1981080"/>
          </a:xfrm>
        </p:grpSpPr>
        <p:sp>
          <p:nvSpPr>
            <p:cNvPr id="160" name=""/>
            <p:cNvSpPr/>
            <p:nvPr/>
          </p:nvSpPr>
          <p:spPr>
            <a:xfrm flipH="1">
              <a:off x="3569760" y="4013280"/>
              <a:ext cx="82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70120" y="5473800"/>
              <a:ext cx="336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78400" y="4672080"/>
              <a:ext cx="1352520" cy="12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10040" y="45752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10040" y="4584600"/>
              <a:ext cx="1771920" cy="11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0800" y="4782960"/>
              <a:ext cx="2001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3960" y="5540400"/>
              <a:ext cx="3254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8840" y="5486400"/>
              <a:ext cx="2206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83120" y="5703840"/>
              <a:ext cx="1684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54240" y="4476600"/>
              <a:ext cx="473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Q-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27400" y="409572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Ne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9400" y="532440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806560" y="3060720"/>
                <a:ext cx="309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3265-3B11-4BD3-B079-12A5018526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rivar con respecto a Q y 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94000" y="2370240"/>
                <a:ext cx="43876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C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9AE2-E912-4005-B673-88375E44DF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Demanda Aleato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Continua (Q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n cada momento el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decidir en que momento orde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 (se usa Q* por ser robus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: punto de re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: tiempo de entreg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: demanda med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inventario de segur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: probabilidad de servir todas las deman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0F74E-6E97-4B09-AB8C-1C0ABC1E76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6208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664000" y="525780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Continua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518840" y="2400480"/>
            <a:ext cx="6725160" cy="2791080"/>
            <a:chOff x="1518840" y="2400480"/>
            <a:chExt cx="6725160" cy="279108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1600200" y="2400480"/>
              <a:ext cx="664380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133720" y="403848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29600" y="491508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219800">
              <a:off x="821520" y="3391560"/>
              <a:ext cx="1680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xistencia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54640" y="3886200"/>
              <a:ext cx="275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63560" y="361152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8040" y="34592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30720" y="36878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5456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3904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800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5C73-46FA-40FF-A7CE-76E8230E0D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873440" y="556272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istribución de Probabilidad de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011320" y="1676520"/>
            <a:ext cx="5763600" cy="3736800"/>
            <a:chOff x="2011320" y="1676520"/>
            <a:chExt cx="5763600" cy="373680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2016000" y="1676520"/>
              <a:ext cx="575640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262320" y="5105520"/>
              <a:ext cx="3027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urante el tiempo de entre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39440" y="2239920"/>
              <a:ext cx="253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l nivel de servi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3960" y="3352680"/>
              <a:ext cx="13161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existenc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1672920" y="3058200"/>
              <a:ext cx="953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recu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E9C8-F7D5-457A-888F-0CA8423D51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nto de reord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 relación entre z y el nivel de servicio deseado, asumiendo un distribución de demanda norm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1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84.1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2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7.7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3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9.9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74920" y="2293920"/>
                <a:ext cx="4419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tiempo de ord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2525-AB3D-4C82-AAC9-D74FE77931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considera como Inventario a las cantidades almacenadas 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teria pr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n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ue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ene un fuerte impacto en relación al uso de cap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34D6-609D-41E4-98F0-7AA07CB54E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promedio: 200 cajas al d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 de entrega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 dí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viación standard de la demanda diaria: 15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seado: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 = $20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 = 20%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 = $10 por un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macén funciona 5 días a la semana, 50 semanas al año (250 días al año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6D2E-5CF6-40B9-BAFA-6686552142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colocar una orden de 1.000 cajas cada vez que el inventario alcance 1.295 unidades (en promedio de pide cada 5 dí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362320" y="1676520"/>
                <a:ext cx="640080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manda promedio anua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 al añ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*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·20·250·2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·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el tiempo de orde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el tiempo de orden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300 unidade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300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5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2176200" y="5867280"/>
            <a:ext cx="67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La varianza de una suma es la suma de las varianzas cuando las variables 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depe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FBF1-76F2-48FA-A5C0-457AF46596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Q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907160" cy="38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142D-974B-465E-BAED-127CAD7093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Periódica (P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l inventario periódicamente al revis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jemplo: se hace un pedido sema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ubrir demanda cuando se hace la revisión y se hace pedido para llegar a un nivel objetivo (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: tiempo entre pedi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inventario meta u objetivo, debe cubrir hasta que llegue el siguiente pedi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’: demanda promedio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’: inventario de seguridad en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AD639-2F45-4E75-A067-3DDF8E9379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071800" y="2154240"/>
            <a:ext cx="5675040" cy="3691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767680" y="579132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007720" y="2362320"/>
            <a:ext cx="5536080" cy="3502080"/>
            <a:chOff x="2007720" y="2362320"/>
            <a:chExt cx="5536080" cy="3502080"/>
          </a:xfrm>
        </p:grpSpPr>
        <p:sp>
          <p:nvSpPr>
            <p:cNvPr id="220" name=""/>
            <p:cNvSpPr/>
            <p:nvPr/>
          </p:nvSpPr>
          <p:spPr>
            <a:xfrm>
              <a:off x="2514600" y="25146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81880" y="55879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14400">
              <a:off x="1295280" y="3711960"/>
              <a:ext cx="1707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68640" y="2362320"/>
              <a:ext cx="266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86760" y="516096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393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05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7556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64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66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23000" y="29462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84920" y="33526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94800" y="342900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21680" y="279396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50360" y="36068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8640" y="38098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470480" y="3657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3505320"/>
              <a:ext cx="7632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E040-2DF9-450B-A88C-6EC420552B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P usando Q* (Q óptimo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400480" y="2286000"/>
                <a:ext cx="37335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∗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175480" y="3336840"/>
            <a:ext cx="56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lo que se obtiene un intervalo de r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amente ópt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413080" y="4876920"/>
                <a:ext cx="33368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'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7C73-BA05-423C-9223-DFF95D9BD1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 óptimo (Q*) = 1.0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diaria = 2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l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819520" y="3200400"/>
                <a:ext cx="5410080" cy="24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dí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50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450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2</m:t>
                        </m:r>
                        <m:r>
                          <m:rPr>
                            <m:lit/>
                            <m:nor/>
                          </m:rPr>
                          <m:t xml:space="preserve">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78C92-33BE-478E-BCF3-5016A5A831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revisar cada 5 días y llevar el nivel de inventario a 2.542 caj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1939680" y="2970360"/>
            <a:ext cx="652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ta: El sistema P considera 742 unidades de inventari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guridad, en cambio el sistema Q sólo 495. Esto se deb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el sistema P debe cubrir la demanda por más dí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B5D3-57BE-43F4-930F-FBC920C78B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303640" y="2367000"/>
            <a:ext cx="485928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E9E7-3183-4D8D-9155-4581CE68E4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P para demanda crecien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6172200" cy="32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9F71-C436-4A90-BCAB-5FD86AC0CF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tivos para llevar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tección contra la incertidumb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fabr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or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Economías de esc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ción por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ambios en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estac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tocks estraté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24704-D62A-4FE3-80B2-4D476A1980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ivel Promedio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735200" y="2714760"/>
                <a:ext cx="597672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vel promedio de inventari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nventario promedio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inventario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7A55-3F6D-4A14-BB7D-74B6EEAD37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833840" y="5411880"/>
            <a:ext cx="65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Nivel de Servicio versus Nivel de Inventario (Q=100, </a:t>
            </a:r>
            <a:r>
              <a:rPr b="0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 =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981080" y="1981080"/>
            <a:ext cx="5714280" cy="3352320"/>
            <a:chOff x="1981080" y="1981080"/>
            <a:chExt cx="5714280" cy="3352320"/>
          </a:xfrm>
        </p:grpSpPr>
        <p:grpSp>
          <p:nvGrpSpPr>
            <p:cNvPr id="261" name=""/>
            <p:cNvGrpSpPr/>
            <p:nvPr/>
          </p:nvGrpSpPr>
          <p:grpSpPr>
            <a:xfrm>
              <a:off x="1981080" y="1981080"/>
              <a:ext cx="5714280" cy="3352320"/>
              <a:chOff x="1981080" y="1981080"/>
              <a:chExt cx="5714280" cy="335232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981080" y="1981080"/>
                <a:ext cx="5714280" cy="3352320"/>
                <a:chOff x="1981080" y="1981080"/>
                <a:chExt cx="5714280" cy="3352320"/>
              </a:xfrm>
            </p:grpSpPr>
            <p:pic>
              <p:nvPicPr>
                <p:cNvPr id="26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981080" y="1981080"/>
                  <a:ext cx="5670720" cy="3352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" name=""/>
                <p:cNvSpPr/>
                <p:nvPr/>
              </p:nvSpPr>
              <p:spPr>
                <a:xfrm>
                  <a:off x="2693160" y="4610160"/>
                  <a:ext cx="500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 flipV="1">
                <a:off x="2707200" y="2151360"/>
                <a:ext cx="0" cy="247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3735360" y="4952880"/>
              <a:ext cx="2270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017720" y="3167640"/>
              <a:ext cx="2203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servicio (por cient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37880" y="41911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09040" y="379728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52120" y="35053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33160" y="32004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04480" y="29592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15680" y="277344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08760" y="2666880"/>
              <a:ext cx="59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01760" y="256536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2DABC-322C-4B53-8F21-E2D801AA0A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rtículos Múlti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n restricciones de capacidad y de capital de ope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penalizar (artificialmente) Q para reducir inventarios. Una penalización adecuada lleva a ocupar bien la capac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BE618-3263-49E1-9717-7BF48FC2052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stemas d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ministración ABC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: 20% de los artículos, 80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cuidad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o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: 50% de los artículos, 5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menos rigur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4837-8BD5-4BC1-B124-3FA552E86CB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Permite flexibilidad al momento de programa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ermite mantener el tránsito (inventarios en proces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.- Espec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B743-B7DB-4B67-BE1E-3D4EB412FC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principales decisiones relacionadas a la administración de inventarios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¿Qué artículos mantener en inventari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¿Cuánt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¿Cuánd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¿Qué tipo de sistema de administración de inventarios utiliz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DF32-1BEB-415E-9B58-07E479069C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Cos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estructuras del costo de inventario incorporan los siguientes tipos de co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Costo del artícu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Costo de poner ordenes de compra o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osto de inventar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macen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uros, pérdidas y obsolesc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 de inexist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rd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4488-38CE-4244-955A-A0E807AB74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tener en cuenta los siguientes concep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pend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ciclo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terminíst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alea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09674-40CD-4EBD-AD34-156A0CC36F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88800" y="533412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atrones de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11360" y="2286000"/>
            <a:ext cx="8051760" cy="2664000"/>
            <a:chOff x="711360" y="2286000"/>
            <a:chExt cx="8051760" cy="26640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820800" y="2286000"/>
              <a:ext cx="79423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68700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64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78200" y="2362320"/>
              <a:ext cx="182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aterias pri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51640" y="2362320"/>
              <a:ext cx="1962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in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s termin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artes de repue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72716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0932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248C-589C-4714-94B5-7B1BAAC577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Demanda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n ventas perdidas o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: demanda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largo del cicl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costo fijo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: costo del produc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: tasa anual de costo de inventario (interés + almacenamien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5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D71A3-308D-486C-A6F3-9C07257567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alumnodii</cp:lastModifiedBy>
  <cp:lastPrinted>2001-08-09T20:48:00Z</cp:lastPrinted>
  <dcterms:modified xsi:type="dcterms:W3CDTF">2007-09-26T20:31:41Z</dcterms:modified>
  <cp:revision>109</cp:revision>
  <dc:subject/>
  <dc:title>Modelamiento Físico de Interfaces</dc:title>
</cp:coreProperties>
</file>