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9D3B-D223-4953-A526-3AD38323D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BE61-5AB2-4E1D-9E2A-3F9189E1F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9289-6CBA-4678-9228-F940E8579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AA46-3B2C-4F73-BD09-10A21D044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69B4B-C0A8-41B6-ACE6-A9E617B7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5F99A-CCE0-4F66-B4B6-70F06632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5315F-D02F-40EB-9CCA-7D7BF397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5BE9C-B7F8-483C-AFE0-675E6841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057F7-33E3-4978-8DF5-AED429D8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C248D-D5D3-45B7-BF1F-54936A8A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18DE6-FA59-4DEC-8B06-BA045CD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3E03-22DA-4C46-8BE5-320AEE746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0FD7E-EDEA-4C27-B53D-8BE1EA3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7581A-AA54-44D6-87C0-8721959A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AA6DA-31BB-4B60-B3D0-58165FE7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5CDBD-3DAD-4767-A290-E6F5E30A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60544-6A49-4672-AAE1-052BA87D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E0B1-4295-455E-9A68-70A378474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3506-AB22-4C10-B5A0-F43A57FA7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9626-C9C6-4071-BA26-77FA60480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D080-7433-4E30-8838-99A216D9D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5223-B6C7-45C1-82FA-68FE8C046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B1312-34A3-4A61-BA7F-A13FF7155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DA8B4-D051-43F6-BB5E-E69AC08C1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ma 4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BFAF-1CBA-48CC-AB28-666B631C2F3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1027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1028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1029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1030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1031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1032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Tema 4: Selección Proceso Productivo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CCC4-048C-4AF4-A1D2-09638CC9EA41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14400" y="37339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4: Pronóstico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1C1C-040F-4D9F-A649-AB9CF4AF5E3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Picture 3" descr="cha83930_1302"/>
          <p:cNvPicPr/>
          <p:nvPr/>
        </p:nvPicPr>
        <p:blipFill>
          <a:blip r:embed="rId1"/>
          <a:stretch/>
        </p:blipFill>
        <p:spPr>
          <a:xfrm>
            <a:off x="214200" y="1785960"/>
            <a:ext cx="8663040" cy="3643200"/>
          </a:xfrm>
          <a:prstGeom prst="rect">
            <a:avLst/>
          </a:prstGeom>
          <a:ln w="0">
            <a:noFill/>
          </a:ln>
        </p:spPr>
      </p:pic>
      <p:sp>
        <p:nvSpPr>
          <p:cNvPr id="135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78E4-2077-42BE-81B3-CBCCBEE3F6F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E46B-0034-4DB8-A77C-B92A1736A79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t: demanda observada en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t+1: pronóstico para el período t+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t: promedio calculado para el período 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t = Dt - Ft : error de pro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conocen Dt-k,....., Dt y se bus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t+1, Ft+2,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E84B-3BBD-4807-B6AE-FC92DD8B2AD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toma Ft+1=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i la demanda es estable, el pronóstico de demanda basado en móviles es insesga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857680" y="2857680"/>
                <a:ext cx="3571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514A-4856-44F3-A9E1-A21559259BF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alculando Promedios Móviles 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1071720" y="1571760"/>
          <a:ext cx="6000480" cy="461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571760"/>
                    <a:ext cx="6000480" cy="46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Group 4"/>
          <p:cNvGrpSpPr/>
          <p:nvPr/>
        </p:nvGrpSpPr>
        <p:grpSpPr>
          <a:xfrm>
            <a:off x="3786120" y="1928880"/>
            <a:ext cx="2895480" cy="1090080"/>
            <a:chOff x="3786120" y="1928880"/>
            <a:chExt cx="2895480" cy="1090080"/>
          </a:xfrm>
        </p:grpSpPr>
        <p:sp>
          <p:nvSpPr>
            <p:cNvPr id="154" name="Text Box 5"/>
            <p:cNvSpPr/>
            <p:nvPr/>
          </p:nvSpPr>
          <p:spPr>
            <a:xfrm>
              <a:off x="3786120" y="1928880"/>
              <a:ext cx="2895480" cy="8229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= (650+678+720)/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= 682.6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4357440" y="2714400"/>
              <a:ext cx="53352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5500800" y="2714760"/>
            <a:ext cx="3276360" cy="1304280"/>
            <a:chOff x="5500800" y="2714760"/>
            <a:chExt cx="3276360" cy="1304280"/>
          </a:xfrm>
        </p:grpSpPr>
        <p:sp>
          <p:nvSpPr>
            <p:cNvPr id="157" name="Text Box 8"/>
            <p:cNvSpPr/>
            <p:nvPr/>
          </p:nvSpPr>
          <p:spPr>
            <a:xfrm>
              <a:off x="5500800" y="2714760"/>
              <a:ext cx="3276360" cy="109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(650+678+72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785+859+920)/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768.6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AutoShape 9"/>
            <p:cNvSpPr/>
            <p:nvPr/>
          </p:nvSpPr>
          <p:spPr>
            <a:xfrm>
              <a:off x="6072120" y="3714480"/>
              <a:ext cx="53352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7B67-0CD3-4E1C-9E4A-4A659901405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Gráficamente: Promedios Móviles 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Chart 13" descr=""/>
          <p:cNvPicPr/>
          <p:nvPr/>
        </p:nvPicPr>
        <p:blipFill>
          <a:blip r:embed="rId1"/>
          <a:stretch/>
        </p:blipFill>
        <p:spPr>
          <a:xfrm>
            <a:off x="1133640" y="1779480"/>
            <a:ext cx="7016760" cy="42246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7980-1A5F-4900-A6B1-B44E10FB201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es recomendable p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lej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deben llevar los registros de demanda histór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álculo de las ponder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2214720" y="3214800"/>
                <a:ext cx="485748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EC0F-317E-425E-B9E3-CFE9DA455B8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Gráficamente: Promedio Ponderad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Chart 9" descr=""/>
          <p:cNvPicPr/>
          <p:nvPr/>
        </p:nvPicPr>
        <p:blipFill>
          <a:blip r:embed="rId1"/>
          <a:stretch/>
        </p:blipFill>
        <p:spPr>
          <a:xfrm>
            <a:off x="1066680" y="1639800"/>
            <a:ext cx="7296120" cy="4511880"/>
          </a:xfrm>
          <a:prstGeom prst="rect">
            <a:avLst/>
          </a:prstGeom>
          <a:ln w="0">
            <a:noFill/>
          </a:ln>
        </p:spPr>
      </p:pic>
      <p:sp>
        <p:nvSpPr>
          <p:cNvPr id="172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31C2-F337-41FD-B73E-75FDBCEC9E5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t-1 refleja la histor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cree en la última demanda .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cree en la historia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1819440" y="2519280"/>
                <a:ext cx="5648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6357960" y="4572000"/>
                <a:ext cx="10335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6"/>
              <p:cNvSpPr txBox="1"/>
              <p:nvPr/>
            </p:nvSpPr>
            <p:spPr>
              <a:xfrm>
                <a:off x="6326280" y="4929120"/>
                <a:ext cx="109836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764E-F729-4465-9E9D-65F4433E722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efecto de los primeros periodo se va atenuando en forma exponenc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1643040" y="2857680"/>
                <a:ext cx="6175440" cy="22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α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9235-B2FB-4CBE-BD39-37E349F9F6C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nóstico: vital a para cualquier organización de negocio, base en la planificación de mediano y largo plaz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n embargo, no existe manera perfecta de predecir el futuro, más importante es tener criterio y buenas prácticas para sobrellevar la inexactitud de los pronóst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16B1-2B6E-4285-BDC6-D9651F72FE2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Gráficamente: Alisamiento Exponencial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7" name="Chart 6" descr=""/>
          <p:cNvPicPr/>
          <p:nvPr/>
        </p:nvPicPr>
        <p:blipFill>
          <a:blip r:embed="rId1"/>
          <a:stretch/>
        </p:blipFill>
        <p:spPr>
          <a:xfrm>
            <a:off x="1328760" y="1450800"/>
            <a:ext cx="6894360" cy="448632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C252-A435-4814-9542-D5B141448D3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.-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isamiento Exponencial con Tendenc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onde Tt es la tend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"/>
              <p:cNvSpPr txBox="1"/>
              <p:nvPr/>
            </p:nvSpPr>
            <p:spPr>
              <a:xfrm>
                <a:off x="1320840" y="2679840"/>
                <a:ext cx="68198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0677-F98C-4225-A65B-E77E68C33A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Gráficamente: Alisamiento Exponencial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Chart 7" descr=""/>
          <p:cNvPicPr/>
          <p:nvPr/>
        </p:nvPicPr>
        <p:blipFill>
          <a:blip r:embed="rId1"/>
          <a:stretch/>
        </p:blipFill>
        <p:spPr>
          <a:xfrm>
            <a:off x="1133640" y="1566720"/>
            <a:ext cx="7089480" cy="4510080"/>
          </a:xfrm>
          <a:prstGeom prst="rect">
            <a:avLst/>
          </a:prstGeom>
          <a:ln w="0">
            <a:noFill/>
          </a:ln>
        </p:spPr>
      </p:pic>
      <p:sp>
        <p:nvSpPr>
          <p:cNvPr id="19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669-DC03-4353-A5D6-F6C8F92F163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spcBef>
                <a:spcPts val="3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valor ideal de MAD es cero (ie, no existe error de pronóstic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entras mas grande MAD, menor la precisión del modelo. MAD se usa pa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arar distintos modelos de pronóstic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egir el “mejor” modelo dentro de una familia de model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000160" y="3500280"/>
                <a:ext cx="2898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5286240" y="3714840"/>
                <a:ext cx="3071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esve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436-3F0D-48FF-A17B-D2D6769BB55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AD: Ejempl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Chart 10" descr=""/>
          <p:cNvPicPr/>
          <p:nvPr/>
        </p:nvPicPr>
        <p:blipFill>
          <a:blip r:embed="rId1"/>
          <a:stretch/>
        </p:blipFill>
        <p:spPr>
          <a:xfrm>
            <a:off x="4657680" y="1468440"/>
            <a:ext cx="3992760" cy="2622600"/>
          </a:xfrm>
          <a:prstGeom prst="rect">
            <a:avLst/>
          </a:prstGeom>
          <a:ln w="0">
            <a:noFill/>
          </a:ln>
        </p:spPr>
      </p:pic>
      <p:pic>
        <p:nvPicPr>
          <p:cNvPr id="207" name="Chart 11" descr=""/>
          <p:cNvPicPr/>
          <p:nvPr/>
        </p:nvPicPr>
        <p:blipFill>
          <a:blip r:embed="rId2"/>
          <a:stretch/>
        </p:blipFill>
        <p:spPr>
          <a:xfrm>
            <a:off x="566640" y="1420920"/>
            <a:ext cx="4065840" cy="2565360"/>
          </a:xfrm>
          <a:prstGeom prst="rect">
            <a:avLst/>
          </a:prstGeom>
          <a:ln w="0">
            <a:noFill/>
          </a:ln>
        </p:spPr>
      </p:pic>
      <p:pic>
        <p:nvPicPr>
          <p:cNvPr id="208" name="Chart 13" descr=""/>
          <p:cNvPicPr/>
          <p:nvPr/>
        </p:nvPicPr>
        <p:blipFill>
          <a:blip r:embed="rId3"/>
          <a:stretch/>
        </p:blipFill>
        <p:spPr>
          <a:xfrm>
            <a:off x="633240" y="3925800"/>
            <a:ext cx="4071960" cy="256068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Chart 9" descr=""/>
          <p:cNvPicPr/>
          <p:nvPr/>
        </p:nvPicPr>
        <p:blipFill>
          <a:blip r:embed="rId4"/>
          <a:stretch/>
        </p:blipFill>
        <p:spPr>
          <a:xfrm>
            <a:off x="4730760" y="3895560"/>
            <a:ext cx="399240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83E6-DF57-45B5-91F3-F705D9D3A71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Regresión Line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x : variable inde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variable de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1928880" y="4214880"/>
                <a:ext cx="58244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928880" y="3071880"/>
                <a:ext cx="2858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2428920" y="2143080"/>
                <a:ext cx="1812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9C2F-0CC7-4AF9-9923-F966235A8B7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"/>
              <p:cNvSpPr txBox="1"/>
              <p:nvPr/>
            </p:nvSpPr>
            <p:spPr>
              <a:xfrm>
                <a:off x="2071800" y="2286000"/>
                <a:ext cx="4682880" cy="26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3E6D-414E-4E3B-8398-1F28C54E14C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Regresión Lineal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Chart 5" descr=""/>
          <p:cNvPicPr/>
          <p:nvPr/>
        </p:nvPicPr>
        <p:blipFill>
          <a:blip r:embed="rId1"/>
          <a:stretch/>
        </p:blipFill>
        <p:spPr>
          <a:xfrm>
            <a:off x="920880" y="1639800"/>
            <a:ext cx="7441920" cy="4084560"/>
          </a:xfrm>
          <a:prstGeom prst="rect">
            <a:avLst/>
          </a:prstGeom>
          <a:ln w="0">
            <a:noFill/>
          </a:ln>
        </p:spPr>
      </p:pic>
      <p:sp>
        <p:nvSpPr>
          <p:cNvPr id="226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F06E-E6F8-46F2-84D3-F4BF4930CA5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edida de Error: Regresión Lineal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R2 mide la proporción de la variación de y explicada por 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alores sobre el 50% se consideran buen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1500120" y="2286000"/>
                <a:ext cx="658656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55B6-12BF-45E4-AD00-EB2446CE5DC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 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1: 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2: ingreso per cá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3: grado de 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el método a formulaciones más comple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2071800" y="4929120"/>
                <a:ext cx="231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EB41-0DF0-4BC1-AD0B-D76ACA625FA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Tahoma"/>
              </a:rPr>
              <a:t>Métodos Cualitativos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subjetivos y están basados en estimaciones y opin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Tahoma"/>
              </a:rPr>
              <a:t>Métodos Cuantitativos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al característica: utilizar la información histórica para predecir su comportamiento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incluyen dentro de este grupo, métodos de series de tiempo y métod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645E-1EDE-4AD9-948E-203C828EA5D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 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1: 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2: ingreso per cá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3: grado de 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el método a formulaciones más comple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2071800" y="4929120"/>
                <a:ext cx="231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E800-3950-4F86-ACFA-D6B536E8C15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método ca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iere sofist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fácil cometer err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63BB-7479-4B4E-AE07-90265309882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uenos para identificar puntos de cambi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6700-9543-4DA3-AAE1-FF2B6B015DC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43000" y="17146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Simul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C258-2D1D-4239-A703-7E8B39BA6C1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rade-off entre costo y necesidad de calidad del pronóst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7B9A-9E4D-4CE3-9FA9-651EACBD6B4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Aplicación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7209000" cy="38908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7"/>
          <p:cNvSpPr/>
          <p:nvPr/>
        </p:nvSpPr>
        <p:spPr>
          <a:xfrm>
            <a:off x="218160" y="1643040"/>
            <a:ext cx="89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7254"/>
                </a:solidFill>
                <a:latin typeface="Tahoma"/>
              </a:rPr>
              <a:t>Estimación de Demanda para una Tienda por Departamen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2D9C-C715-4797-A5EC-7C81B3383BB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Aplicación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214280" y="1643040"/>
            <a:ext cx="6715440" cy="4421160"/>
          </a:xfrm>
          <a:prstGeom prst="rect">
            <a:avLst/>
          </a:prstGeom>
          <a:ln w="0">
            <a:noFill/>
          </a:ln>
        </p:spPr>
      </p:pic>
      <p:sp>
        <p:nvSpPr>
          <p:cNvPr id="266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A6AD-D287-4A3D-9539-94A47B3FAA4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Aplicación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571760" y="1390680"/>
            <a:ext cx="6286320" cy="4830840"/>
          </a:xfrm>
          <a:prstGeom prst="rect">
            <a:avLst/>
          </a:prstGeom>
          <a:ln w="0">
            <a:noFill/>
          </a:ln>
        </p:spPr>
      </p:pic>
      <p:sp>
        <p:nvSpPr>
          <p:cNvPr id="270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Aplicación: Model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8271000" cy="5143320"/>
          </a:xfrm>
          <a:prstGeom prst="rect">
            <a:avLst/>
          </a:prstGeom>
          <a:ln w="0">
            <a:noFill/>
          </a:ln>
        </p:spPr>
      </p:pic>
      <p:sp>
        <p:nvSpPr>
          <p:cNvPr id="27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BC4E-CFA1-4774-A956-1442B4506AD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25EB-BC93-4C0A-BF5A-7A4072BD3E6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Aplicación: Resultad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285920" y="1428840"/>
            <a:ext cx="6926040" cy="4714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5786280" y="2143080"/>
            <a:ext cx="2921040" cy="785880"/>
          </a:xfrm>
          <a:prstGeom prst="rect">
            <a:avLst/>
          </a:prstGeom>
          <a:ln w="0">
            <a:noFill/>
          </a:ln>
        </p:spPr>
      </p:pic>
      <p:sp>
        <p:nvSpPr>
          <p:cNvPr id="27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6868-9C55-4312-904C-2BFC5F7C0CB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posee poca inform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xiste alta incertidumb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tiene escasa capacidad de proce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Uso: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cisiones estratégic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lección de Merc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 de proces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lección de nuevos product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étodos más popular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nvestigación de Merc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nalogía de los Ciclos de Vi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anel de Consen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étodo de Delph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8535-B01C-4E29-A7C6-81E06A06EE3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Productos Estacion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143000" y="164304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iclos de venta muy cor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tamente estocá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ápidos cambios tecnológicos y de mo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 ropa de moda, juguetes, juegos computacionales, música, libros, artículos electrónicos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599E-C4BA-4466-8496-C5618CA7C9B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Productos Estacionales: Cost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un día típico en un supermercado típico, 8.2% de los productos están sin stock y este numero es casi el doble en productos que son promocion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34% de los quiebres de stock, los consumidores rehúsan comprar algún sustitutos y usualmente terminan comprando en la compet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stos asociados a los quiebres de stock en los supermercados de USA se estiman entre US$7 a US$12 billones (Anderson Consulting 1996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6B5F-895B-4C71-BEEB-5524E8E93FD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Productos Estacional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ar la distribución de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te alguna regla de decisión determinar el nivel de inventari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la determinación de la distribución de la demanda hay dos enfoqu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Asumir una distribución para la demanda y calibrar los parámetros de dicha distribució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Utilizar la distribución de la demanda empíric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862C-0351-4C20-A489-F21007FB061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Ejemplo: Modelo Newsboy Vendor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: demanda en el periodo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i: inventario en el periodo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i: ventas en el periodo i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: costo de una unidad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: precio de liquidación de una unidad de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4857840" y="2857680"/>
                <a:ext cx="17301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143000" y="5176800"/>
                <a:ext cx="757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8846-B855-4CF7-B6B1-7E0203E137A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Ejemplo: Modelo Newsboy Vendor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ractil ópt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: $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: $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: $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2000160" y="2643120"/>
                <a:ext cx="3071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9843-F0DC-49B1-9EDB-81548DE6695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Ejemplo: Modelo Newsboy Vendor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ractil óptimo: 0.7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óptimo: entre 825 y 850 un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Chart 7" descr=""/>
          <p:cNvPicPr/>
          <p:nvPr/>
        </p:nvPicPr>
        <p:blipFill>
          <a:blip r:embed="rId1"/>
          <a:stretch/>
        </p:blipFill>
        <p:spPr>
          <a:xfrm>
            <a:off x="1639800" y="2279520"/>
            <a:ext cx="4584960" cy="2756160"/>
          </a:xfrm>
          <a:prstGeom prst="rect">
            <a:avLst/>
          </a:prstGeom>
          <a:ln w="0">
            <a:noFill/>
          </a:ln>
        </p:spPr>
      </p:pic>
      <p:sp>
        <p:nvSpPr>
          <p:cNvPr id="30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DEB6-6742-4268-A747-01CAEC34505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cuesta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ípicamente se usan para probar nuevos product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rmiten identificar puntos de cambi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F227-B8B0-4BDA-AE62-545928EA120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alogía de los Ciclos de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iste en identificar en que etapa de su ciclo de vida se encuentra un producto, para esto se analizan curvas de crecimiento de productos simi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ntroducción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adur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atur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H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Juque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778E-E593-4688-AF1D-CCA91B73C8D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anel de Consen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puesto: la superposición de opiniones puede llevar a mejores pronó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sarrolla mediante reuniones abiertas donde se exponen opiniones libremente desde todos los niveles de la organ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: empleados de menor rango pueden verse intimidados por ejecutivos de cargos más al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vendedor de una línea de productos v/s gerente de marke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FF54-4BD1-466E-8181-39583DF2929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étodo de 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rupo de expertos, que sin revelar su identidad, y guiados por un moderador, busca consenso respecto de un tema en part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Se ocupa en la introducción de nuevos productos y cambios tecnológ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s regular en exactitud y puntos de camb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see un costo de mediano a alt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333-7A7A-4C36-A729-F7FFA25C497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 rot="21562800">
            <a:off x="6146280" y="6227280"/>
            <a:ext cx="227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ma 4: Pronóstico de Demanda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Felipe Castro A.</cp:lastModifiedBy>
  <cp:lastPrinted>2001-04-12T20:51:56Z</cp:lastPrinted>
  <dcterms:modified xsi:type="dcterms:W3CDTF">2004-03-25T01:56:50Z</dcterms:modified>
  <cp:revision>248</cp:revision>
  <dc:subject/>
  <dc:title>Comercio Electrónico</dc:title>
</cp:coreProperties>
</file>