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D532-0375-4894-9D22-31A5D101B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825F-DC12-4C5C-9F08-A9D8F60A8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F8A0-AFB7-41A0-8DFD-477320DB0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4D75-7854-4F4B-8B5E-49B2D8CE1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80AA1-0F8F-4ECE-930B-2CAA6ED2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52E9D-BF09-4C7E-A6E2-BA2EB3C8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A2311-875D-4142-9C31-4F17489A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ACB25-82CD-4D2F-821B-B91239C9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6EF1F-6FCE-4F59-A2F1-C8DF344D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1D9D3-6241-4E21-9E9A-59191970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21E43-5910-4DFD-990D-2384A485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7981-1152-428E-A004-266E41C32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AA700-B09F-4279-9887-D9AACE29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3BE4A-7928-44A8-B8E1-A8AB83E4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C0AB2-7E9B-473F-8CBF-B47BB1CC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4CE43-9E3C-42D8-A11C-C9505294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AFB40-8E6C-4CF6-AA75-EAF3740D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A1DF-289E-41CD-871B-11B0383B5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564F-9042-42A6-A45F-CEA873FD8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E7480-EC86-4B5B-8CD8-2EA9904D8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632F-0097-4B96-9B51-B22B5C1DB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865A-0478-409A-ADAF-7A9F94BF6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F2303-0D67-4246-A8B6-BBD6742B0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8246-4EC3-4139-8C42-61A1A74CD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349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ma 4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3FCC-5A47-4B4C-9D85-CA6BB3A7ECC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Tema 4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1F6E-AF5C-4A14-A0CC-12B5AFFB7F15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14400" y="3733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4: Pronóstico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C591-5259-4B17-AFE4-8448673AF9E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Picture 3" descr="cha83930_1302"/>
          <p:cNvPicPr/>
          <p:nvPr/>
        </p:nvPicPr>
        <p:blipFill>
          <a:blip r:embed="rId1"/>
          <a:stretch/>
        </p:blipFill>
        <p:spPr>
          <a:xfrm>
            <a:off x="214200" y="1785960"/>
            <a:ext cx="8663040" cy="3643200"/>
          </a:xfrm>
          <a:prstGeom prst="rect">
            <a:avLst/>
          </a:prstGeom>
          <a:ln w="0">
            <a:noFill/>
          </a:ln>
        </p:spPr>
      </p:pic>
      <p:sp>
        <p:nvSpPr>
          <p:cNvPr id="135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9F5C-CF44-40DF-A2CF-D8A869A0668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31CF-0741-42F1-9852-E4CA63E3248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t: demanda observada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t+1: pronóstico para el período t+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t: promedio calculado para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t = Dt - Ft : error de pro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conocen Dt-k,....., Dt y se bus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t+1, Ft+2,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410A-64A5-45A4-AC98-D748580BEE7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toma Ft+1=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i la demanda es estable, el pronóstico de demanda basado en móviles es insesgad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857680" y="2857680"/>
                <a:ext cx="3571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90D3-D3B5-4BA9-96F5-98A69CB7D76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alculando Promedios Móviles 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1" name="Object 2"/>
          <p:cNvGraphicFramePr/>
          <p:nvPr/>
        </p:nvGraphicFramePr>
        <p:xfrm>
          <a:off x="1071720" y="1571760"/>
          <a:ext cx="6000480" cy="461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571760"/>
                    <a:ext cx="6000480" cy="46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" name="Group 4"/>
          <p:cNvGrpSpPr/>
          <p:nvPr/>
        </p:nvGrpSpPr>
        <p:grpSpPr>
          <a:xfrm>
            <a:off x="3786120" y="1928880"/>
            <a:ext cx="2895480" cy="1090080"/>
            <a:chOff x="3786120" y="1928880"/>
            <a:chExt cx="2895480" cy="1090080"/>
          </a:xfrm>
        </p:grpSpPr>
        <p:sp>
          <p:nvSpPr>
            <p:cNvPr id="154" name="Text Box 5"/>
            <p:cNvSpPr/>
            <p:nvPr/>
          </p:nvSpPr>
          <p:spPr>
            <a:xfrm>
              <a:off x="3786120" y="1928880"/>
              <a:ext cx="2895480" cy="8229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= (650+678+720)/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= 682.6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>
              <a:off x="4357440" y="2714400"/>
              <a:ext cx="53352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5500800" y="2714760"/>
            <a:ext cx="3276360" cy="1304280"/>
            <a:chOff x="5500800" y="2714760"/>
            <a:chExt cx="3276360" cy="1304280"/>
          </a:xfrm>
        </p:grpSpPr>
        <p:sp>
          <p:nvSpPr>
            <p:cNvPr id="157" name="Text Box 8"/>
            <p:cNvSpPr/>
            <p:nvPr/>
          </p:nvSpPr>
          <p:spPr>
            <a:xfrm>
              <a:off x="5500800" y="2714760"/>
              <a:ext cx="3276360" cy="109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(650+678+72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785+859+920)/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768.6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>
              <a:off x="6072120" y="3714480"/>
              <a:ext cx="53352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C4AE-A2F9-472B-8E89-8A94C5A818F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Gráficamente: Promedios Móviles 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Chart 13" descr=""/>
          <p:cNvPicPr/>
          <p:nvPr/>
        </p:nvPicPr>
        <p:blipFill>
          <a:blip r:embed="rId1"/>
          <a:stretch/>
        </p:blipFill>
        <p:spPr>
          <a:xfrm>
            <a:off x="1133640" y="1779480"/>
            <a:ext cx="7016760" cy="42246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8A2C-B7E8-4DF8-BA47-76584368739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es recomendable p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lej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deben llevar los registros de demanda histór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álculo de las ponder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2214720" y="3214800"/>
                <a:ext cx="485748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5937-43E6-43DB-AB90-CB3F5DA3C28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Gráficamente: Promedio Ponderad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Chart 9" descr=""/>
          <p:cNvPicPr/>
          <p:nvPr/>
        </p:nvPicPr>
        <p:blipFill>
          <a:blip r:embed="rId1"/>
          <a:stretch/>
        </p:blipFill>
        <p:spPr>
          <a:xfrm>
            <a:off x="1066680" y="1639800"/>
            <a:ext cx="7296120" cy="4511880"/>
          </a:xfrm>
          <a:prstGeom prst="rect">
            <a:avLst/>
          </a:prstGeom>
          <a:ln w="0">
            <a:noFill/>
          </a:ln>
        </p:spPr>
      </p:pic>
      <p:sp>
        <p:nvSpPr>
          <p:cNvPr id="172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AE8D-85A7-488D-827F-9A3C9D8CA24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t-1 refleja la histor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se cree en la última demanda .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se cree en la historia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1819440" y="2519280"/>
                <a:ext cx="5648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6357960" y="4572000"/>
                <a:ext cx="10335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6"/>
              <p:cNvSpPr txBox="1"/>
              <p:nvPr/>
            </p:nvSpPr>
            <p:spPr>
              <a:xfrm>
                <a:off x="6326280" y="4929120"/>
                <a:ext cx="1098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CF3E-29B0-4C46-A9BB-046FD7A565A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efecto de los primeros periodo se va atenuando en forma exponenc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1643040" y="2857680"/>
                <a:ext cx="6175440" cy="22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28CB-5125-4B0B-AC63-F25AFFC106C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nóstico: vital a para cualquier organización de negocio, base en la planificación de mediano y largo plaz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n embargo, no existe manera perfecta de predecir el futuro, más importante es tener criterio y buenas prácticas para sobrellevar la inexactitud de los pronóst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001A-BD5A-47EA-8791-30CF8CCC8DB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Gráficamente: Alisamiento Exponencial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7" name="Chart 6" descr=""/>
          <p:cNvPicPr/>
          <p:nvPr/>
        </p:nvPicPr>
        <p:blipFill>
          <a:blip r:embed="rId1"/>
          <a:stretch/>
        </p:blipFill>
        <p:spPr>
          <a:xfrm>
            <a:off x="1328760" y="1450800"/>
            <a:ext cx="6894360" cy="4486320"/>
          </a:xfrm>
          <a:prstGeom prst="rect">
            <a:avLst/>
          </a:prstGeom>
          <a:ln w="0">
            <a:noFill/>
          </a:ln>
        </p:spPr>
      </p:pic>
      <p:sp>
        <p:nvSpPr>
          <p:cNvPr id="188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B7A7-85E5-452D-A5D0-AB79EE0D4A0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.-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isamiento Exponencial con Tendenc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nde Tt es la tendenc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"/>
              <p:cNvSpPr txBox="1"/>
              <p:nvPr/>
            </p:nvSpPr>
            <p:spPr>
              <a:xfrm>
                <a:off x="1320840" y="2679840"/>
                <a:ext cx="68198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A424-3B7B-48A9-AD42-B1602FA0FEB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Gráficamente: Alisamiento Exponencial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Chart 7" descr=""/>
          <p:cNvPicPr/>
          <p:nvPr/>
        </p:nvPicPr>
        <p:blipFill>
          <a:blip r:embed="rId1"/>
          <a:stretch/>
        </p:blipFill>
        <p:spPr>
          <a:xfrm>
            <a:off x="1133640" y="1566720"/>
            <a:ext cx="7089480" cy="4510080"/>
          </a:xfrm>
          <a:prstGeom prst="rect">
            <a:avLst/>
          </a:prstGeom>
          <a:ln w="0">
            <a:noFill/>
          </a:ln>
        </p:spPr>
      </p:pic>
      <p:sp>
        <p:nvSpPr>
          <p:cNvPr id="19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0AE2-0933-400C-AFBA-1B93650BFEF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spcBef>
                <a:spcPts val="3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valor ideal de MAD es cero (ie, no existe error de pronóstic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entras mas grande MAD, menor la precisión del modelo. MAD se usa pa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parar distintos modelos de pronóstic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egir el “mejor” modelo dentro de una familia de model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2000160" y="3500280"/>
                <a:ext cx="2898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5286240" y="3714840"/>
                <a:ext cx="3071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desve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FD86-61D5-44B9-916C-D89E88C72D3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AD: Ejempl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Chart 10" descr=""/>
          <p:cNvPicPr/>
          <p:nvPr/>
        </p:nvPicPr>
        <p:blipFill>
          <a:blip r:embed="rId1"/>
          <a:stretch/>
        </p:blipFill>
        <p:spPr>
          <a:xfrm>
            <a:off x="4657680" y="1468440"/>
            <a:ext cx="3992760" cy="2622600"/>
          </a:xfrm>
          <a:prstGeom prst="rect">
            <a:avLst/>
          </a:prstGeom>
          <a:ln w="0">
            <a:noFill/>
          </a:ln>
        </p:spPr>
      </p:pic>
      <p:pic>
        <p:nvPicPr>
          <p:cNvPr id="207" name="Chart 11" descr=""/>
          <p:cNvPicPr/>
          <p:nvPr/>
        </p:nvPicPr>
        <p:blipFill>
          <a:blip r:embed="rId2"/>
          <a:stretch/>
        </p:blipFill>
        <p:spPr>
          <a:xfrm>
            <a:off x="566640" y="1420920"/>
            <a:ext cx="4065840" cy="2565360"/>
          </a:xfrm>
          <a:prstGeom prst="rect">
            <a:avLst/>
          </a:prstGeom>
          <a:ln w="0">
            <a:noFill/>
          </a:ln>
        </p:spPr>
      </p:pic>
      <p:pic>
        <p:nvPicPr>
          <p:cNvPr id="208" name="Chart 13" descr=""/>
          <p:cNvPicPr/>
          <p:nvPr/>
        </p:nvPicPr>
        <p:blipFill>
          <a:blip r:embed="rId3"/>
          <a:stretch/>
        </p:blipFill>
        <p:spPr>
          <a:xfrm>
            <a:off x="633240" y="3925800"/>
            <a:ext cx="4071960" cy="256068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Chart 9" descr=""/>
          <p:cNvPicPr/>
          <p:nvPr/>
        </p:nvPicPr>
        <p:blipFill>
          <a:blip r:embed="rId4"/>
          <a:stretch/>
        </p:blipFill>
        <p:spPr>
          <a:xfrm>
            <a:off x="4730760" y="3895560"/>
            <a:ext cx="399240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584D-568A-4790-B4FC-E51CF9801B8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- Regresión Line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x : variable independ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variable depend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1928880" y="4214880"/>
                <a:ext cx="58244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928880" y="3071880"/>
                <a:ext cx="2858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2428920" y="2143080"/>
                <a:ext cx="1812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5DDD-0A38-4E98-B419-9EBD518D3ED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"/>
              <p:cNvSpPr txBox="1"/>
              <p:nvPr/>
            </p:nvSpPr>
            <p:spPr>
              <a:xfrm>
                <a:off x="2071800" y="2286000"/>
                <a:ext cx="4682880" cy="26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67C0-22FC-49E1-82D5-2E913ABDCBF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Regresión Lineal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Chart 5" descr=""/>
          <p:cNvPicPr/>
          <p:nvPr/>
        </p:nvPicPr>
        <p:blipFill>
          <a:blip r:embed="rId1"/>
          <a:stretch/>
        </p:blipFill>
        <p:spPr>
          <a:xfrm>
            <a:off x="920880" y="1639800"/>
            <a:ext cx="7441920" cy="4084560"/>
          </a:xfrm>
          <a:prstGeom prst="rect">
            <a:avLst/>
          </a:prstGeom>
          <a:ln w="0">
            <a:noFill/>
          </a:ln>
        </p:spPr>
      </p:pic>
      <p:sp>
        <p:nvSpPr>
          <p:cNvPr id="226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36B1-4273-4D57-AD72-54D90D5ABEE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edida de Error: Regresión Lineal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R2 mide la proporción de la variación de y explicada por 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alores sobre el 50% se consideran buen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1500120" y="2286000"/>
                <a:ext cx="658656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70B3-3475-4C81-B834-A323D3FA66B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 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1: 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2: ingreso per cá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3: grado de 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el método a formulaciones más comple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2071800" y="4929120"/>
                <a:ext cx="231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9CC8-ADBF-431D-8941-35C117C0E0D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Tahoma"/>
              </a:rPr>
              <a:t>Métodos Cualitativos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subjetivos y están basados en estimaciones y opin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Tahoma"/>
              </a:rPr>
              <a:t>Métodos Cuantitativos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ncipal característica: utilizar la información histórica para predecir su comportamiento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incluyen dentro de este grupo, métodos de series de tiempo y método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CBF2-5B49-4DC8-AA46-53EDA98FA8C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 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1: 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2: ingreso per cá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3: grado de 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el método a formulaciones más comple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2071800" y="4929120"/>
                <a:ext cx="231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0CD2-F2A5-460E-90D0-006FE4129F0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método ca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iere sofist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fácil cometer err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7D03-2D13-4E48-B7B3-7C52647125E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uenos para identificar puntos de cambi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BDCF-36AC-4C8D-8F9E-811D9DFEFF8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43000" y="17146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Simul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DA34-C414-45BF-9CF5-914202D49DE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rade-off entre costo y necesidad de calidad del pronóst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0E8F-AC9F-48F0-9AA6-19096D76B9B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Aplicación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7209000" cy="38908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7"/>
          <p:cNvSpPr/>
          <p:nvPr/>
        </p:nvSpPr>
        <p:spPr>
          <a:xfrm>
            <a:off x="218160" y="1643040"/>
            <a:ext cx="89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254"/>
                </a:solidFill>
                <a:latin typeface="Tahoma"/>
              </a:rPr>
              <a:t>Estimación de Demanda para una Tienda por Departame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2873-076D-4E1E-9A4F-D01BD7D68C4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Aplicación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6715440" cy="4421160"/>
          </a:xfrm>
          <a:prstGeom prst="rect">
            <a:avLst/>
          </a:prstGeom>
          <a:ln w="0">
            <a:noFill/>
          </a:ln>
        </p:spPr>
      </p:pic>
      <p:sp>
        <p:nvSpPr>
          <p:cNvPr id="266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0149-5F87-4FFB-A1FE-8873056F67B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Aplicación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571760" y="1390680"/>
            <a:ext cx="6286320" cy="4830840"/>
          </a:xfrm>
          <a:prstGeom prst="rect">
            <a:avLst/>
          </a:prstGeom>
          <a:ln w="0">
            <a:noFill/>
          </a:ln>
        </p:spPr>
      </p:pic>
      <p:sp>
        <p:nvSpPr>
          <p:cNvPr id="270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Aplicación: Model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8271000" cy="5143320"/>
          </a:xfrm>
          <a:prstGeom prst="rect">
            <a:avLst/>
          </a:prstGeom>
          <a:ln w="0">
            <a:noFill/>
          </a:ln>
        </p:spPr>
      </p:pic>
      <p:sp>
        <p:nvSpPr>
          <p:cNvPr id="27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9C52-2A86-454E-B6BA-E721BE59B53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FD83-A5FB-4A7E-A59A-47B400EBDE6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Aplicación: Resultad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285920" y="1428840"/>
            <a:ext cx="6926040" cy="4714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5786280" y="2143080"/>
            <a:ext cx="2921040" cy="785880"/>
          </a:xfrm>
          <a:prstGeom prst="rect">
            <a:avLst/>
          </a:prstGeom>
          <a:ln w="0">
            <a:noFill/>
          </a:ln>
        </p:spPr>
      </p:pic>
      <p:sp>
        <p:nvSpPr>
          <p:cNvPr id="27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2DE4-C806-406D-96DF-D78BE91187E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posee poca 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xiste alta incertidumb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tiene escasa capacidad de proce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Uso: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cisiones estratégic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lección de Merc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 de proces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lección de nuevos product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étodos más popular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nvestigación de Merc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nalogía de los Ciclos de Vi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anel de Consen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étodo de Delph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5654-1826-4606-83C5-B95993F89FC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Productos Estacion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143000" y="164304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iclos de venta muy cor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altamente estocás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ápidos cambios tecnológicos y de mo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ropa de moda, juguetes, juegos computacionales, música, libros, artículos electrónicos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FA3F-8859-4379-B6C5-BFEC8AA2024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Productos Estacionales: Cost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un día típico en un supermercado típico, 8.2% de los productos están sin stock y este numero es casi el doble en productos que son promocion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34% de los quiebres de stock, los consumidores rehúsan comprar algún sustitutos y usualmente terminan comprando en la compet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stos asociados a los quiebres de stock en los supermercados de USA se estiman entre US$7 a US$12 billones (Anderson Consulting 1996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A08D-0A70-4AD6-B8A9-7DE3D84ADD6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Productos Estacion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ar la distribución de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te alguna regla de decisión determinar el nivel de inventari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la determinación de la distribución de la demanda hay dos enfoqu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sumir una distribución para la demanda y calibrar los parámetros de dicha distribu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Utilizar la distribución de la demanda empíric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CB0F-1FE8-48E8-95C5-A0B9D34634A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Ejemplo: Modelo Newsboy Vendor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: demanda en el periodo 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i: inventario en el periodo 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i: ventas en el periodo i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: costo de una unidad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: precio de liquidación de una unidad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4857840" y="2857680"/>
                <a:ext cx="17301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143000" y="5176800"/>
                <a:ext cx="757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7D37-99FC-478B-B7D8-C5F7E024ECE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Ejemplo: Modelo Newsboy Vendor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ractil ópt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: $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: $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: $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2000160" y="2643120"/>
                <a:ext cx="3071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2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50A1-8C66-4F06-A32F-95FD3C27A7B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Ejemplo: Modelo Newsboy Vendor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ractil óptimo: 0.75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óptimo: entre 825 y 850 un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Chart 7" descr=""/>
          <p:cNvPicPr/>
          <p:nvPr/>
        </p:nvPicPr>
        <p:blipFill>
          <a:blip r:embed="rId1"/>
          <a:stretch/>
        </p:blipFill>
        <p:spPr>
          <a:xfrm>
            <a:off x="1639800" y="2279520"/>
            <a:ext cx="4584960" cy="2756160"/>
          </a:xfrm>
          <a:prstGeom prst="rect">
            <a:avLst/>
          </a:prstGeom>
          <a:ln w="0">
            <a:noFill/>
          </a:ln>
        </p:spPr>
      </p:pic>
      <p:sp>
        <p:nvSpPr>
          <p:cNvPr id="30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8D4A-D813-4E14-87B0-25A6BEF4DA8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cuesta de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ípicamente se usan para probar nuevos product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rmiten identificar puntos de cambi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1830-F109-46DE-8DE9-C3FBB46A573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alogía de los Ciclos de V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iste en identificar en que etapa de su ciclo de vida se encuentra un producto, para esto se analizan curvas de crecimiento de productos simi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ntroducc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adur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atur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H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Juque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6071-381B-41C2-AEE4-E7D3C0315AC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anel de Consen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puesto: la superposición de opiniones puede llevar a mejores pronó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sarrolla mediante reuniones abiertas donde se exponen opiniones libremente desde todos los niveles de la organ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: empleados de menor rango pueden verse intimidados por ejecutivos de cargos más al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vendedor de una línea de productos v/s gerente de marke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1F59-DABD-4613-A149-832ACEECCBB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étodo de Delp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rupo de expertos, que sin revelar su identidad, y guiados por un moderador, busca consenso respecto de un tema en part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ocupa en la introducción de nuevos productos y cambios tecnológ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s regular en exactitud y puntos de camb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see un costo de mediano a alt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0B3E-0DDF-4398-B1DB-182EC8B2916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Felipe Castro A.</cp:lastModifiedBy>
  <cp:lastPrinted>2001-04-12T20:51:56Z</cp:lastPrinted>
  <dcterms:modified xsi:type="dcterms:W3CDTF">2004-03-25T01:56:50Z</dcterms:modified>
  <cp:revision>248</cp:revision>
  <dc:subject/>
  <dc:title>Comercio Electrónico</dc:title>
</cp:coreProperties>
</file>