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CA630-1A04-4F11-915A-9C7E643841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41C6E-0331-4A9F-9085-CD80713DE1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4EB88-08CC-48D2-9D21-4C916A3C66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7D57C-BE6F-4239-A2CC-9C55C3E7CE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5A7E4D-33E4-43E3-B139-D5B5AA994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8D68B8-90AC-4DAF-8894-8A191B61D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A68A42-7F24-4CF3-BCB6-D04763C67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4DBC5C-22F4-43F5-84D9-D5B332B20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3E5C9C-6D64-4642-81DC-8060D53CF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CF15A0-AF2B-4465-A8D7-FE40A4ACC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288F4C-E3A0-49AA-93C4-81DDDD67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9356B-EA34-4157-994A-8D4911B216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E73ECB-A3C6-4E4B-BB58-342B3320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51B895-8A96-4AFA-A704-78C8679E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E56A40-EDCE-43DF-AAB9-39BDDC554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4470C5-39B1-4B0C-A406-7CD37317D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E73DD9-E0B4-4773-BA58-30914787E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1AD32-4128-4459-B714-A0A79ED748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342DB-5C1B-431F-BEDC-A86E76A819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9A932-A2DB-4373-ABBD-36EA2A8930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31E90-C50C-4FB9-9F64-7C79DCA17A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C1372-C4A7-49BA-A3BB-DC2E1D892B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6ED84-351E-43D1-8BDA-28D3822412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9051B-C7FD-43CA-810E-45D34A19C1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5434920" y="6273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3DB45-5237-4ACC-8B92-13E05ECA7A75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8B94A-0F71-4540-A560-8626BA83F2BB}" type="slidenum"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373392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Tema 3: Selección del Proceso Produc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strucción de un edific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strucción de un barc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yecto de consultorí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709DC-8AA6-4B76-B52A-F865BE210F5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uadro Resum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117880" y="1676520"/>
            <a:ext cx="5578200" cy="4456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83CC4-3CEA-4FE9-BDDD-6BD88CD69AD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Clasificación por Tipo de Cliente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A Pedid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s elaborados de acuerdo a especificaciones del cliente (fecha, precio, etc.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edidas de eficienci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umplimiento de plaz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umplimiento de especificac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staura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ast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mpren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lfombras Tejid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01961-487D-48C2-902C-730988D4999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Clasificación por Tipo de Cliente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Para Inventari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s son elaborados para venta por stock contra de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edidas de eficienci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rvicio (ventas no cumplida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u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V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c Donal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opa en Tien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6BF81-8D6E-4F36-8D74-0A2A5CCD608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Clasificación por Tipo de Cliente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uede ser convenient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binar pedidos e inventar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osponer el ensamble del producto fi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lmacenar inventario de producto genéri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 Caso Benett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073FC-C10B-48A0-B69B-A232E46EF59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uadro Resum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914400" y="2666880"/>
            <a:ext cx="7543800" cy="27403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219320" y="2057400"/>
            <a:ext cx="693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Tahoma"/>
              </a:rPr>
              <a:t>Fabricación para Inventario versus Fabricación por Pedi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C6CAA-48D7-4E10-AC37-9C7E75EB66C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jemp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752480" y="2057400"/>
            <a:ext cx="6324840" cy="349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D9B37-2195-4F9B-83FD-CEA1C8DBC43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Factores de Ele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Requerimientos de capital y costos de oper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ceso en línea requiere mayor costo de capital, pero menor costo operacio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Condiciones de mercad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olumen alto lleva a un proceso en líne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competencia puede exigir flexibi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Disponibilidad, costo y habilidades de la mano de obr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raslado de industrias a países en desarroll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5E412-D6D2-4703-8708-E595004105E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Factores de Ele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Capacidad administrativ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ubcontratación de algunos procesos (ejemplo: transport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5.- Disponibilidad y precio de la materia prim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lujo en línea necesita suministro continuo de insum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6.- Estado de la tecnologí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lujo en línea tiene mayor riesgo frente a factores de camb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F628F-3F30-4833-ACC6-7F4044D0AF2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Factores de Ele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demás, se debe ver en forma sistemática factibilidad técnico-económic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0ACC7-B11F-4F75-B4DC-844773C8123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selección del proceso productivo corresponde a una decisión de nivel estratégic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 relaciona fuertemente con el diseño del producto, los volúmenes de producción y las tecnologías utilizad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1F2BE-F8BB-4082-A7DC-85BD1E6942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strategia Producto-Proces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2848680" y="5748480"/>
            <a:ext cx="415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Tahoma"/>
              </a:rPr>
              <a:t>Matriz de Proceso-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692280" y="1523880"/>
            <a:ext cx="7543800" cy="4095720"/>
            <a:chOff x="692280" y="1523880"/>
            <a:chExt cx="7543800" cy="4095720"/>
          </a:xfrm>
        </p:grpSpPr>
        <p:sp>
          <p:nvSpPr>
            <p:cNvPr id="210" name=""/>
            <p:cNvSpPr/>
            <p:nvPr/>
          </p:nvSpPr>
          <p:spPr>
            <a:xfrm>
              <a:off x="692280" y="1530360"/>
              <a:ext cx="7532640" cy="407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389040" y="20890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570920" y="2089080"/>
              <a:ext cx="79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900400" y="2089080"/>
              <a:ext cx="11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II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009560" y="2089080"/>
              <a:ext cx="13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IV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387600" y="2265480"/>
              <a:ext cx="1158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Bajo volumen-baj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69120" y="2265480"/>
              <a:ext cx="1262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Productos múltiples,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900040" y="2265480"/>
              <a:ext cx="1044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Pocos product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007040" y="2265480"/>
              <a:ext cx="1082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Alto volumen-alt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84720" y="2440080"/>
              <a:ext cx="1020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estandarización,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570560" y="2440080"/>
              <a:ext cx="832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volumen baj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899680" y="2440080"/>
              <a:ext cx="773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importantes,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005960" y="2440080"/>
              <a:ext cx="1020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estandarización,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387240" y="2611440"/>
              <a:ext cx="1059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productos únic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898960" y="2611440"/>
              <a:ext cx="959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mayor volum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006680" y="2611440"/>
              <a:ext cx="1207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productos utilitari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761840" y="28004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758960" y="2975040"/>
              <a:ext cx="1158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Flujo desordenad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55000" y="3149640"/>
              <a:ext cx="1241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(taller de proyectos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61120" y="3510000"/>
              <a:ext cx="79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758960" y="3684600"/>
              <a:ext cx="1058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Flujo de línea si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757160" y="3860640"/>
              <a:ext cx="1232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conexión (por lotes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760040" y="4219560"/>
              <a:ext cx="11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II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757160" y="4395960"/>
              <a:ext cx="160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Flujo de línea relacionad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758240" y="4570560"/>
              <a:ext cx="1239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(línea de ensamble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761480" y="4930920"/>
              <a:ext cx="13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IV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760040" y="5105520"/>
              <a:ext cx="87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Flujo continu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19560" y="2055960"/>
              <a:ext cx="25200" cy="723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02160" y="2055960"/>
              <a:ext cx="27000" cy="71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834160" y="2055960"/>
              <a:ext cx="25200" cy="71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42240" y="2055960"/>
              <a:ext cx="25200" cy="71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210520" y="2055960"/>
              <a:ext cx="25560" cy="3563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706400" y="2752560"/>
              <a:ext cx="16383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706400" y="3463920"/>
              <a:ext cx="162720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706400" y="4173480"/>
              <a:ext cx="162720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706400" y="4883040"/>
              <a:ext cx="16272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706400" y="5594400"/>
              <a:ext cx="6529680" cy="2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486240" y="2781360"/>
              <a:ext cx="803160" cy="690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698280" y="3003480"/>
              <a:ext cx="485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Impresor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667320" y="3144960"/>
              <a:ext cx="517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Comercia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784760" y="3470400"/>
              <a:ext cx="803160" cy="69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039280" y="3693960"/>
              <a:ext cx="39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Equipo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023440" y="3836880"/>
              <a:ext cx="39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Pesad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977080" y="4200480"/>
              <a:ext cx="804600" cy="69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159960" y="442440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Ensambl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263640" y="456552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Aut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182000" y="4879800"/>
              <a:ext cx="803160" cy="69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386480" y="5103720"/>
              <a:ext cx="498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Refinería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437240" y="5245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Azúca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4254480" y="3263760"/>
              <a:ext cx="582480" cy="381240"/>
              <a:chOff x="4254480" y="3263760"/>
              <a:chExt cx="582480" cy="381240"/>
            </a:xfrm>
          </p:grpSpPr>
          <p:sp>
            <p:nvSpPr>
              <p:cNvPr id="260" name=""/>
              <p:cNvSpPr/>
              <p:nvPr/>
            </p:nvSpPr>
            <p:spPr>
              <a:xfrm>
                <a:off x="4254480" y="3263760"/>
                <a:ext cx="498600" cy="32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721400" y="3543480"/>
                <a:ext cx="115560" cy="101520"/>
              </a:xfrm>
              <a:custGeom>
                <a:avLst/>
                <a:gdLst/>
                <a:ahLst/>
                <a:rect l="l" t="t" r="r" b="b"/>
                <a:pathLst>
                  <a:path w="73" h="64">
                    <a:moveTo>
                      <a:pt x="0" y="55"/>
                    </a:moveTo>
                    <a:lnTo>
                      <a:pt x="73" y="64"/>
                    </a:lnTo>
                    <a:lnTo>
                      <a:pt x="36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5522760" y="4025880"/>
              <a:ext cx="497160" cy="339840"/>
              <a:chOff x="5522760" y="4025880"/>
              <a:chExt cx="497160" cy="339840"/>
            </a:xfrm>
          </p:grpSpPr>
          <p:sp>
            <p:nvSpPr>
              <p:cNvPr id="263" name=""/>
              <p:cNvSpPr/>
              <p:nvPr/>
            </p:nvSpPr>
            <p:spPr>
              <a:xfrm>
                <a:off x="5522760" y="4025880"/>
                <a:ext cx="412920" cy="28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904000" y="4264200"/>
                <a:ext cx="115920" cy="101520"/>
              </a:xfrm>
              <a:custGeom>
                <a:avLst/>
                <a:gdLst/>
                <a:ahLst/>
                <a:rect l="l" t="t" r="r" b="b"/>
                <a:pathLst>
                  <a:path w="73" h="64">
                    <a:moveTo>
                      <a:pt x="0" y="53"/>
                    </a:moveTo>
                    <a:lnTo>
                      <a:pt x="73" y="64"/>
                    </a:lnTo>
                    <a:lnTo>
                      <a:pt x="37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6694560" y="4726080"/>
              <a:ext cx="517320" cy="349200"/>
              <a:chOff x="6694560" y="4726080"/>
              <a:chExt cx="517320" cy="349200"/>
            </a:xfrm>
          </p:grpSpPr>
          <p:sp>
            <p:nvSpPr>
              <p:cNvPr id="266" name=""/>
              <p:cNvSpPr/>
              <p:nvPr/>
            </p:nvSpPr>
            <p:spPr>
              <a:xfrm>
                <a:off x="6694560" y="4726080"/>
                <a:ext cx="434880" cy="29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095960" y="4973760"/>
                <a:ext cx="115920" cy="101520"/>
              </a:xfrm>
              <a:custGeom>
                <a:avLst/>
                <a:gdLst/>
                <a:ahLst/>
                <a:rect l="l" t="t" r="r" b="b"/>
                <a:pathLst>
                  <a:path w="73" h="64">
                    <a:moveTo>
                      <a:pt x="0" y="55"/>
                    </a:moveTo>
                    <a:lnTo>
                      <a:pt x="73" y="64"/>
                    </a:lnTo>
                    <a:lnTo>
                      <a:pt x="3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3325680" y="1819440"/>
              <a:ext cx="4902480" cy="129960"/>
              <a:chOff x="3325680" y="1819440"/>
              <a:chExt cx="4902480" cy="129960"/>
            </a:xfrm>
          </p:grpSpPr>
          <p:sp>
            <p:nvSpPr>
              <p:cNvPr id="269" name=""/>
              <p:cNvSpPr/>
              <p:nvPr/>
            </p:nvSpPr>
            <p:spPr>
              <a:xfrm>
                <a:off x="3325680" y="1874880"/>
                <a:ext cx="4775400" cy="1908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8097840" y="1819440"/>
                <a:ext cx="130320" cy="129960"/>
              </a:xfrm>
              <a:custGeom>
                <a:avLst/>
                <a:gdLst/>
                <a:ahLst/>
                <a:rect l="l" t="t" r="r" b="b"/>
                <a:pathLst>
                  <a:path w="82" h="82">
                    <a:moveTo>
                      <a:pt x="0" y="82"/>
                    </a:moveTo>
                    <a:lnTo>
                      <a:pt x="82" y="41"/>
                    </a:lnTo>
                    <a:lnTo>
                      <a:pt x="0" y="0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1465200" y="2781360"/>
              <a:ext cx="130320" cy="2828880"/>
              <a:chOff x="1465200" y="2781360"/>
              <a:chExt cx="130320" cy="2828880"/>
            </a:xfrm>
          </p:grpSpPr>
          <p:sp>
            <p:nvSpPr>
              <p:cNvPr id="272" name=""/>
              <p:cNvSpPr/>
              <p:nvPr/>
            </p:nvSpPr>
            <p:spPr>
              <a:xfrm>
                <a:off x="1521000" y="2781360"/>
                <a:ext cx="20520" cy="27018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465200" y="5479920"/>
                <a:ext cx="130320" cy="130320"/>
              </a:xfrm>
              <a:custGeom>
                <a:avLst/>
                <a:gdLst/>
                <a:ahLst/>
                <a:rect l="l" t="t" r="r" b="b"/>
                <a:pathLst>
                  <a:path w="82" h="82">
                    <a:moveTo>
                      <a:pt x="0" y="0"/>
                    </a:moveTo>
                    <a:lnTo>
                      <a:pt x="41" y="82"/>
                    </a:lnTo>
                    <a:lnTo>
                      <a:pt x="8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3336840" y="4530600"/>
              <a:ext cx="1859040" cy="1060560"/>
            </a:xfrm>
            <a:custGeom>
              <a:avLst/>
              <a:gdLst/>
              <a:ahLst/>
              <a:rect l="l" t="t" r="r" b="b"/>
              <a:pathLst>
                <a:path w="1171" h="668">
                  <a:moveTo>
                    <a:pt x="0" y="0"/>
                  </a:moveTo>
                  <a:lnTo>
                    <a:pt x="0" y="668"/>
                  </a:lnTo>
                  <a:lnTo>
                    <a:pt x="1171" y="6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426840" y="4952880"/>
              <a:ext cx="1347840" cy="50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Fábrica automatizad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con poca producció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378480" y="2749680"/>
              <a:ext cx="1838520" cy="1069920"/>
            </a:xfrm>
            <a:custGeom>
              <a:avLst/>
              <a:gdLst/>
              <a:ahLst/>
              <a:rect l="l" t="t" r="r" b="b"/>
              <a:pathLst>
                <a:path w="1158" h="674">
                  <a:moveTo>
                    <a:pt x="1158" y="674"/>
                  </a:moveTo>
                  <a:lnTo>
                    <a:pt x="1158" y="0"/>
                  </a:lnTo>
                  <a:lnTo>
                    <a:pt x="0" y="0"/>
                  </a:lnTo>
                  <a:lnTo>
                    <a:pt x="1158" y="67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161480" y="2870280"/>
              <a:ext cx="943920" cy="50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Transporte ma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llevad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305160" y="1523880"/>
              <a:ext cx="25779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351600" y="1557360"/>
              <a:ext cx="1190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Estructura del product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345840" y="1698480"/>
              <a:ext cx="1820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Etapa del ciclo de vida del product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87560" y="2781360"/>
              <a:ext cx="390240" cy="280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6200000">
              <a:off x="624240" y="4898520"/>
              <a:ext cx="1152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Estructura del proces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6200000">
              <a:off x="452160" y="4588200"/>
              <a:ext cx="1782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Etapa del ciclo de vida del proces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5C464-6960-4980-99E5-8CA0C58C34B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strategia Producto-Proces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terpret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 masivo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estandarización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proceso en líne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n cambio de producto esta ligado a un cambio de proces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se atrasa el avance en los procesos aumentan los costos, si se adelanta se pierde flexibi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conveniente moverse sobre la diago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C25A5-4733-491D-9199-37FE021D882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strategia Producto-Proces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ctualmente se busca la producción masiva pero flexible (FMS: Sistemas de Manufactura Flexibl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s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Bicicletas en Jap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8DBC0-CE17-46E3-8A8A-7C1F72D7567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egración Vertic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Hacia Atrás (a la materia prima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entaj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fiabilidad en el suministr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lanta celulos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bosqu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dena de supermercados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camp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lanta pesquer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bar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D502F-E576-4C39-9826-03DE87492D9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egración Vertic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Hacia Adelante (a los mercados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entaj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trol de merc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tacto con el clie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ábrica textil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negocios de vent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operativa de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plant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distribución.                                     productores de lech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CEF8C-485A-4DFF-9FE6-FC77BD4B41F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egración Vertic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tegración Vertical a Nivel Global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artes se hacen en Estados Unidos, son ensambladas en México y se distribuyen desde Estados Uni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blemas de la Integr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stos de capital elev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abilidades gerenciales requerid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320CE-41A2-4A78-ADCC-CB5DC8ABFD7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egración Horizon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nsiste en aprovechar las ventajas comparativas para expandirse a áreas similar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us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estigio en el merca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ristian Dior: perfumes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ropa, joyas y reloj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ecnologí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ead: ski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teni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ces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enda de rop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multitienda (Falabella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ultitiend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financie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07D4D-CC6B-46CD-8F36-E53BF661C80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egración Horizon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Ventaj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pertura de nuevos merc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blem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sperfilarse hacia negocios en los cuales se tiene baja experi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BFC61-BF72-4401-AD12-35F4F0B1649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Flujo en Líne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rresponde a una secuencia lineal de operaci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905120" y="3402000"/>
            <a:ext cx="5181480" cy="839880"/>
            <a:chOff x="1905120" y="3402000"/>
            <a:chExt cx="5181480" cy="839880"/>
          </a:xfrm>
        </p:grpSpPr>
        <p:sp>
          <p:nvSpPr>
            <p:cNvPr id="105" name=""/>
            <p:cNvSpPr/>
            <p:nvPr/>
          </p:nvSpPr>
          <p:spPr>
            <a:xfrm>
              <a:off x="2514600" y="3695760"/>
              <a:ext cx="533520" cy="533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657600" y="3695760"/>
              <a:ext cx="533520" cy="533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00600" y="3695760"/>
              <a:ext cx="533520" cy="533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943600" y="3708360"/>
              <a:ext cx="533520" cy="533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905120" y="39625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48120" y="39625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91120" y="39625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39625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477120" y="39625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578560" y="3402000"/>
              <a:ext cx="450720" cy="41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657440" y="5378400"/>
            <a:ext cx="3583080" cy="794520"/>
            <a:chOff x="1657440" y="5378400"/>
            <a:chExt cx="3583080" cy="794520"/>
          </a:xfrm>
        </p:grpSpPr>
        <p:grpSp>
          <p:nvGrpSpPr>
            <p:cNvPr id="116" name=""/>
            <p:cNvGrpSpPr/>
            <p:nvPr/>
          </p:nvGrpSpPr>
          <p:grpSpPr>
            <a:xfrm>
              <a:off x="1657440" y="5378400"/>
              <a:ext cx="3583080" cy="533160"/>
              <a:chOff x="1657440" y="5378400"/>
              <a:chExt cx="3583080" cy="533160"/>
            </a:xfrm>
          </p:grpSpPr>
          <p:sp>
            <p:nvSpPr>
              <p:cNvPr id="117" name=""/>
              <p:cNvSpPr/>
              <p:nvPr/>
            </p:nvSpPr>
            <p:spPr>
              <a:xfrm>
                <a:off x="1657440" y="5378400"/>
                <a:ext cx="533160" cy="5331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410920" y="5454360"/>
                <a:ext cx="2829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Tarea o estación de trabajo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1670040" y="5835600"/>
              <a:ext cx="2714040" cy="337320"/>
              <a:chOff x="1670040" y="5835600"/>
              <a:chExt cx="2714040" cy="337320"/>
            </a:xfrm>
          </p:grpSpPr>
          <p:sp>
            <p:nvSpPr>
              <p:cNvPr id="120" name=""/>
              <p:cNvSpPr/>
              <p:nvPr/>
            </p:nvSpPr>
            <p:spPr>
              <a:xfrm>
                <a:off x="1670040" y="6019920"/>
                <a:ext cx="609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421720" y="5835600"/>
                <a:ext cx="196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Flujo del producto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444840" y="4605480"/>
            <a:ext cx="18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Tahoma"/>
              </a:rPr>
              <a:t>Flujo Lin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84531-5374-4715-AE8E-7807308F74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Product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asiv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rat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standarizad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Proces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ntinu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n poca flexibilid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utomatizad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quiere equipo especializad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ficient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 fácil contro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B7DB2-D79B-4C69-AEEE-534348C7578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versión al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ajo inventar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ficiencia del 90% aproximadame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no de obra poco especializa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elícula “Tiempos Modernos” de Chapli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íneas de ensam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feterí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dustria Químic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dustria Electrónic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peler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dustria del Acer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F91AE-759A-4537-8815-5517DAFD8C0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Flujo Intermitente (taller de trabajo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rresponde a la producción por lotes, en forma intermit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3407040" y="4800600"/>
            <a:ext cx="27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Tahoma"/>
              </a:rPr>
              <a:t>Flujo Intermit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743200" y="3048120"/>
            <a:ext cx="4038480" cy="1345680"/>
            <a:chOff x="2743200" y="3048120"/>
            <a:chExt cx="4038480" cy="1345680"/>
          </a:xfrm>
        </p:grpSpPr>
        <p:sp>
          <p:nvSpPr>
            <p:cNvPr id="131" name=""/>
            <p:cNvSpPr/>
            <p:nvPr/>
          </p:nvSpPr>
          <p:spPr>
            <a:xfrm>
              <a:off x="2743200" y="42033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743200" y="40510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3251160" y="3048120"/>
              <a:ext cx="3530520" cy="1345680"/>
              <a:chOff x="3251160" y="3048120"/>
              <a:chExt cx="3530520" cy="1345680"/>
            </a:xfrm>
          </p:grpSpPr>
          <p:sp>
            <p:nvSpPr>
              <p:cNvPr id="134" name=""/>
              <p:cNvSpPr/>
              <p:nvPr/>
            </p:nvSpPr>
            <p:spPr>
              <a:xfrm>
                <a:off x="3352680" y="3848040"/>
                <a:ext cx="533520" cy="5331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95680" y="3848040"/>
                <a:ext cx="533520" cy="5331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638680" y="3860640"/>
                <a:ext cx="533520" cy="5331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886200" y="411480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029200" y="411480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172200" y="403848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341320" y="3462840"/>
                <a:ext cx="393120" cy="46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860640" y="3048120"/>
                <a:ext cx="533520" cy="5331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003640" y="3048120"/>
                <a:ext cx="533520" cy="5331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251160" y="331452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94160" y="331452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537160" y="331452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289400" y="3533760"/>
                <a:ext cx="300600" cy="39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V="1">
                <a:off x="3689640" y="3498480"/>
                <a:ext cx="278640" cy="34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V="1">
                <a:off x="4820040" y="3503160"/>
                <a:ext cx="278280" cy="34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172200" y="419076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0" name=""/>
          <p:cNvGrpSpPr/>
          <p:nvPr/>
        </p:nvGrpSpPr>
        <p:grpSpPr>
          <a:xfrm>
            <a:off x="1657440" y="5378400"/>
            <a:ext cx="3583080" cy="946800"/>
            <a:chOff x="1657440" y="5378400"/>
            <a:chExt cx="3583080" cy="946800"/>
          </a:xfrm>
        </p:grpSpPr>
        <p:grpSp>
          <p:nvGrpSpPr>
            <p:cNvPr id="151" name=""/>
            <p:cNvGrpSpPr/>
            <p:nvPr/>
          </p:nvGrpSpPr>
          <p:grpSpPr>
            <a:xfrm>
              <a:off x="1657440" y="5378400"/>
              <a:ext cx="3583080" cy="533520"/>
              <a:chOff x="1657440" y="5378400"/>
              <a:chExt cx="3583080" cy="533520"/>
            </a:xfrm>
          </p:grpSpPr>
          <p:sp>
            <p:nvSpPr>
              <p:cNvPr id="152" name=""/>
              <p:cNvSpPr/>
              <p:nvPr/>
            </p:nvSpPr>
            <p:spPr>
              <a:xfrm>
                <a:off x="1657440" y="5378400"/>
                <a:ext cx="533160" cy="53352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410920" y="5454720"/>
                <a:ext cx="2829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Tarea o estación de trabajo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1670040" y="60199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22440" y="5987880"/>
              <a:ext cx="196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ahoma"/>
                </a:rPr>
                <a:t>Flujo del producto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63560" y="61722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663560" y="632448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75088-8AF7-44A1-A455-29F657446C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equipo y mano de obra se organizan en centros o equipos de trabajo por tipos similares de habilida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nor eficiencia (~ 20 - 40%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yor flexibil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nor invers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yor habilidad de la mano de ob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nor utilización de equip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quinaria más gener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trol más difíci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ventario más al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D6446-606A-4820-9F3E-2D3F066FCF8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Gara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aller de Mueb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sulto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77858-01E9-4B22-A5A3-00A5F0F3674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Flujo por Proyec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tintas etapas que se enlazan para realizar un trabaj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3416400" y="4800600"/>
            <a:ext cx="27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Tahoma"/>
              </a:rPr>
              <a:t>Flujo de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43200" y="3505320"/>
            <a:ext cx="838080" cy="533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omien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943600" y="3505320"/>
            <a:ext cx="914400" cy="533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F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5445360" y="3074400"/>
            <a:ext cx="636840" cy="51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60640" y="2692440"/>
            <a:ext cx="533520" cy="533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03640" y="2692440"/>
            <a:ext cx="533520" cy="533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394160" y="299736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3500280" y="3096000"/>
            <a:ext cx="37836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327560" y="3186000"/>
            <a:ext cx="770040" cy="1121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657440" y="5378400"/>
            <a:ext cx="3290760" cy="794520"/>
            <a:chOff x="1657440" y="5378400"/>
            <a:chExt cx="3290760" cy="794520"/>
          </a:xfrm>
        </p:grpSpPr>
        <p:grpSp>
          <p:nvGrpSpPr>
            <p:cNvPr id="174" name=""/>
            <p:cNvGrpSpPr/>
            <p:nvPr/>
          </p:nvGrpSpPr>
          <p:grpSpPr>
            <a:xfrm>
              <a:off x="1657440" y="5378400"/>
              <a:ext cx="2637000" cy="533160"/>
              <a:chOff x="1657440" y="5378400"/>
              <a:chExt cx="2637000" cy="533160"/>
            </a:xfrm>
          </p:grpSpPr>
          <p:sp>
            <p:nvSpPr>
              <p:cNvPr id="175" name=""/>
              <p:cNvSpPr/>
              <p:nvPr/>
            </p:nvSpPr>
            <p:spPr>
              <a:xfrm>
                <a:off x="1657440" y="5378400"/>
                <a:ext cx="533160" cy="5331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434320" y="5454360"/>
                <a:ext cx="1860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Tarea o actividad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1670040" y="5835600"/>
              <a:ext cx="3278160" cy="337320"/>
              <a:chOff x="1670040" y="5835600"/>
              <a:chExt cx="3278160" cy="337320"/>
            </a:xfrm>
          </p:grpSpPr>
          <p:sp>
            <p:nvSpPr>
              <p:cNvPr id="178" name=""/>
              <p:cNvSpPr/>
              <p:nvPr/>
            </p:nvSpPr>
            <p:spPr>
              <a:xfrm>
                <a:off x="1670040" y="6019920"/>
                <a:ext cx="609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400840" y="5835600"/>
                <a:ext cx="2547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Relación de precedencia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0" name=""/>
          <p:cNvSpPr/>
          <p:nvPr/>
        </p:nvSpPr>
        <p:spPr>
          <a:xfrm>
            <a:off x="3886200" y="4191120"/>
            <a:ext cx="533520" cy="533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4191120"/>
            <a:ext cx="533520" cy="533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445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29000" y="39625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5562720" y="39625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E796F-1003-4934-B122-F87856A65CF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14:21:15Z</dcterms:created>
  <dc:creator>Dpto. Ingeniería Industrial</dc:creator>
  <dc:description/>
  <dc:language>en-US</dc:language>
  <cp:lastModifiedBy>Felipe Castro A.</cp:lastModifiedBy>
  <cp:lastPrinted>2001-04-12T20:51:56Z</cp:lastPrinted>
  <dcterms:modified xsi:type="dcterms:W3CDTF">2004-03-25T01:46:43Z</dcterms:modified>
  <cp:revision>155</cp:revision>
  <dc:subject/>
  <dc:title>Comercio Electrónico</dc:title>
</cp:coreProperties>
</file>