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14A76-1C2A-4F6D-A688-6FE3159B2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E9B2E-E362-4307-852E-44C29873B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8F68-5B44-4D74-BCFD-CA0768C4A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238A1-E593-4C9A-9F5F-ADE0B4DB5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474A3-8904-47B1-8FE3-61284541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A52B9-6817-4EE8-9269-C7BC6E76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AFF4A-C8E2-4A9A-AE09-0551F2F8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F18B9-3FB5-49CE-B3F5-F244793D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4865C-5C2B-4504-8758-9D2035FE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448C4-A168-4054-A971-4FE1FC64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5AC9A-FD1C-4AA1-9C20-8C05910C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58403-06F8-418C-8E9B-C1EDC3172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E063C-6565-4239-B5A3-F5CF8D6C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0BC54-C485-4ED4-879A-A4934414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515FB-1B7A-4976-B9ED-CCE7BEF3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56DE1-FE2A-4FE2-977E-F8C80A15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9AD34-F9F9-4B34-BE26-559ABACC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333F5-DBC6-4EFA-B634-F9F9B6E23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33BF8-3E66-486F-875B-EF58322F0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AE155-5092-4FAE-9D63-82E5F861E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8B941-4A19-4658-A7FA-61BB37FF0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DFF4F-8EF2-4538-9397-1BD98D5354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78498-E313-438C-8AF2-02842F87A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18468-E023-4879-BCB2-2546E908E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4349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D5BF-49C8-4DC4-AA36-D56E08E6673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93E3-90A4-4B8A-A244-003964CBCCBB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733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3: Selección del Proceso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edif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bar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yecto de consulto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0F7C-6E18-40B4-91B0-461A69FD4E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117880" y="1676520"/>
            <a:ext cx="5578200" cy="445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A8106-0D01-408B-B4CC-22C010664C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A Ped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laborados de acuerdo a especificaciones del cliente (fecha, precio, etc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especif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aur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st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fombras Tej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01DFD-BBCE-481E-9B2A-067F59FD27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ara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son elaborados para venta por stock contr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 (ventas no cumplid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V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c Dona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opa en Ti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1E4E3-73C9-4B8B-9643-2406836298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conveni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r pedidos e invent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poner el ensamble d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r inventario de producto genér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Caso Benett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E7E8-2DF6-4612-A2EC-2075133C46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543800" cy="2740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219320" y="20574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ahoma"/>
              </a:rPr>
              <a:t>Fabricación para Inventario versus Fabricación por Ped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575B7-1ECD-4562-8F95-8B12E63546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324840" cy="34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54F6E-7EE7-4937-BCFE-100B7AC517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querimientos de capital y costos de op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en línea requiere mayor costo de capital, pero menor costo opera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Condicione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umen alto lleva a un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ompetencia puede exigir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ponibilidad, costo y habilidades de la mano de ob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slado de industrias a países en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228F1-E7FE-470C-B7B0-0175479867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apacidad administrat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bcontratación de algunos procesos (ejemplo: transpor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Disponibilidad y precio de la materia pri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necesita suministro continuo de insu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Estado de la tecn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tiene mayor riesgo frente a factor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8B8A8-36D2-4A80-97DB-A78D232DB7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emás, se debe ver en forma sistemática factibilidad técnico-económ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9B53-E085-4DEF-9C99-62A9ED13B6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selección del proceso productivo corresponde a una decisión de nivel estratég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elaciona fuertemente con el diseño del producto, los volúmenes de producción y las tecnologí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BEF0A-DE05-4A6F-BFF9-013E5F1970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848680" y="5748480"/>
            <a:ext cx="41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Matriz de Proceso-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92280" y="1523880"/>
            <a:ext cx="7543800" cy="4095720"/>
            <a:chOff x="692280" y="1523880"/>
            <a:chExt cx="7543800" cy="4095720"/>
          </a:xfrm>
        </p:grpSpPr>
        <p:sp>
          <p:nvSpPr>
            <p:cNvPr id="210" name=""/>
            <p:cNvSpPr/>
            <p:nvPr/>
          </p:nvSpPr>
          <p:spPr>
            <a:xfrm>
              <a:off x="692280" y="1530360"/>
              <a:ext cx="7532640" cy="407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9040" y="2089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0920" y="208908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00400" y="20890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09560" y="208908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87600" y="2265480"/>
              <a:ext cx="1158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Bajo volumen-baj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69120" y="2265480"/>
              <a:ext cx="1262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múltiples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00040" y="2265480"/>
              <a:ext cx="1044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ocos produc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07040" y="226548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lto volumen-al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84720" y="2440080"/>
              <a:ext cx="102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standarización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70560" y="2440080"/>
              <a:ext cx="83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volumen baj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99680" y="2440080"/>
              <a:ext cx="77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mportantes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05960" y="2440080"/>
              <a:ext cx="102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standarización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87240" y="2611440"/>
              <a:ext cx="1059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únic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98960" y="2611440"/>
              <a:ext cx="959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mayor volum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06680" y="2611440"/>
              <a:ext cx="1207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utilitari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61840" y="2800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58960" y="2975040"/>
              <a:ext cx="1158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sorden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5000" y="3149640"/>
              <a:ext cx="1241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(taller de proyecto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1120" y="35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58960" y="3684600"/>
              <a:ext cx="1058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 línea s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57160" y="3860640"/>
              <a:ext cx="123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nexión (por lote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60040" y="421956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57160" y="4395960"/>
              <a:ext cx="160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 línea relacion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58240" y="4570560"/>
              <a:ext cx="1239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(línea de ensamble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1480" y="49309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60040" y="510552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continu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9560" y="2055960"/>
              <a:ext cx="25200" cy="72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02160" y="2055960"/>
              <a:ext cx="270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34160" y="2055960"/>
              <a:ext cx="252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42240" y="2055960"/>
              <a:ext cx="252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10520" y="2055960"/>
              <a:ext cx="25560" cy="356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06400" y="2752560"/>
              <a:ext cx="16383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06400" y="3463920"/>
              <a:ext cx="16272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06400" y="4173480"/>
              <a:ext cx="16272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06400" y="4883040"/>
              <a:ext cx="16272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06400" y="5594400"/>
              <a:ext cx="652968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86240" y="2781360"/>
              <a:ext cx="803160" cy="690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98280" y="300348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Impres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7320" y="3144960"/>
              <a:ext cx="51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merci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84760" y="3470400"/>
              <a:ext cx="803160" cy="69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39280" y="369396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quip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23440" y="383688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Pes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77080" y="4200480"/>
              <a:ext cx="804600" cy="69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59960" y="442440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nsamb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63640" y="4565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u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82000" y="4879800"/>
              <a:ext cx="803160" cy="69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86480" y="5103720"/>
              <a:ext cx="49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Refinerí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37240" y="5245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zúc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254480" y="3263760"/>
              <a:ext cx="582480" cy="381240"/>
              <a:chOff x="4254480" y="3263760"/>
              <a:chExt cx="582480" cy="381240"/>
            </a:xfrm>
          </p:grpSpPr>
          <p:sp>
            <p:nvSpPr>
              <p:cNvPr id="260" name=""/>
              <p:cNvSpPr/>
              <p:nvPr/>
            </p:nvSpPr>
            <p:spPr>
              <a:xfrm>
                <a:off x="4254480" y="3263760"/>
                <a:ext cx="498600" cy="32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21400" y="3543480"/>
                <a:ext cx="11556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5"/>
                    </a:moveTo>
                    <a:lnTo>
                      <a:pt x="73" y="64"/>
                    </a:lnTo>
                    <a:lnTo>
                      <a:pt x="36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522760" y="4025880"/>
              <a:ext cx="497160" cy="339840"/>
              <a:chOff x="5522760" y="4025880"/>
              <a:chExt cx="497160" cy="339840"/>
            </a:xfrm>
          </p:grpSpPr>
          <p:sp>
            <p:nvSpPr>
              <p:cNvPr id="263" name=""/>
              <p:cNvSpPr/>
              <p:nvPr/>
            </p:nvSpPr>
            <p:spPr>
              <a:xfrm>
                <a:off x="5522760" y="4025880"/>
                <a:ext cx="41292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04000" y="426420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3"/>
                    </a:moveTo>
                    <a:lnTo>
                      <a:pt x="73" y="64"/>
                    </a:lnTo>
                    <a:lnTo>
                      <a:pt x="37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6694560" y="4726080"/>
              <a:ext cx="517320" cy="349200"/>
              <a:chOff x="6694560" y="4726080"/>
              <a:chExt cx="517320" cy="349200"/>
            </a:xfrm>
          </p:grpSpPr>
          <p:sp>
            <p:nvSpPr>
              <p:cNvPr id="266" name=""/>
              <p:cNvSpPr/>
              <p:nvPr/>
            </p:nvSpPr>
            <p:spPr>
              <a:xfrm>
                <a:off x="6694560" y="4726080"/>
                <a:ext cx="43488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095960" y="497376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5"/>
                    </a:moveTo>
                    <a:lnTo>
                      <a:pt x="73" y="64"/>
                    </a:lnTo>
                    <a:lnTo>
                      <a:pt x="3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325680" y="1819440"/>
              <a:ext cx="4902480" cy="129960"/>
              <a:chOff x="3325680" y="1819440"/>
              <a:chExt cx="4902480" cy="129960"/>
            </a:xfrm>
          </p:grpSpPr>
          <p:sp>
            <p:nvSpPr>
              <p:cNvPr id="269" name=""/>
              <p:cNvSpPr/>
              <p:nvPr/>
            </p:nvSpPr>
            <p:spPr>
              <a:xfrm>
                <a:off x="3325680" y="1874880"/>
                <a:ext cx="4775400" cy="190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097840" y="1819440"/>
                <a:ext cx="130320" cy="1299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1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465200" y="2781360"/>
              <a:ext cx="130320" cy="2828880"/>
              <a:chOff x="1465200" y="2781360"/>
              <a:chExt cx="130320" cy="2828880"/>
            </a:xfrm>
          </p:grpSpPr>
          <p:sp>
            <p:nvSpPr>
              <p:cNvPr id="272" name=""/>
              <p:cNvSpPr/>
              <p:nvPr/>
            </p:nvSpPr>
            <p:spPr>
              <a:xfrm>
                <a:off x="1521000" y="2781360"/>
                <a:ext cx="20520" cy="270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65200" y="5479920"/>
                <a:ext cx="130320" cy="130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0"/>
                    </a:moveTo>
                    <a:lnTo>
                      <a:pt x="41" y="82"/>
                    </a:lnTo>
                    <a:lnTo>
                      <a:pt x="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3336840" y="4530600"/>
              <a:ext cx="1859040" cy="1060560"/>
            </a:xfrm>
            <a:custGeom>
              <a:avLst/>
              <a:gdLst/>
              <a:ahLst/>
              <a:rect l="l" t="t" r="r" b="b"/>
              <a:pathLst>
                <a:path w="1171" h="668">
                  <a:moveTo>
                    <a:pt x="0" y="0"/>
                  </a:moveTo>
                  <a:lnTo>
                    <a:pt x="0" y="668"/>
                  </a:lnTo>
                  <a:lnTo>
                    <a:pt x="1171" y="6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26840" y="4952880"/>
              <a:ext cx="134784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ábrica automatizad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n poca produ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8480" y="2749680"/>
              <a:ext cx="1838520" cy="1069920"/>
            </a:xfrm>
            <a:custGeom>
              <a:avLst/>
              <a:gdLst/>
              <a:ahLst/>
              <a:rect l="l" t="t" r="r" b="b"/>
              <a:pathLst>
                <a:path w="1158" h="674">
                  <a:moveTo>
                    <a:pt x="1158" y="674"/>
                  </a:moveTo>
                  <a:lnTo>
                    <a:pt x="1158" y="0"/>
                  </a:lnTo>
                  <a:lnTo>
                    <a:pt x="0" y="0"/>
                  </a:lnTo>
                  <a:lnTo>
                    <a:pt x="1158" y="6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61480" y="2870280"/>
              <a:ext cx="94392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Transporte m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llev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05160" y="1523880"/>
              <a:ext cx="2577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51600" y="1557360"/>
              <a:ext cx="1190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structura del produ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45840" y="1698480"/>
              <a:ext cx="1820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tapa del ciclo de vida del produ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87560" y="2781360"/>
              <a:ext cx="390240" cy="28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624240" y="4898520"/>
              <a:ext cx="1152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structura del proces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452160" y="4588200"/>
              <a:ext cx="1782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tapa del ciclo de vida del proces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9BF5F-60EB-4D6C-9CD7-F4F459C978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pre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masiv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tandariza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ambio de producto esta ligado a un cambio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atrasa el avance en los procesos aumentan los costos, si se adelanta se pierde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conveniente moverse sobre la diag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CF882-7FD2-4163-A8BE-AFB48F2239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ctualmente se busca la producción masiva pero flexible (FMS: Sistemas de Manufactura Flex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icicletas en Jap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8D779-9D39-410B-98F8-6BD3785A5B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Hacia Atrás (a la materia prim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fiabilidad en el suminist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celulo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osq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ena de supermercad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am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esque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CBA8C-2B4C-472C-87C8-2C543ECDB3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Hacia Adelante (a los mercado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acto con 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textil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negocios de vent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operativa de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lant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.                                     productores de le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00BC3-2A8C-4B12-AC02-44BE5EE959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gración Vertical a Nivel Glob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tes se hacen en Estados Unidos, son ensambladas en México y se distribuyen desde Estados Uni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s de la Integ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de capital elev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bilidades gerenciales requer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A1EE4-AD38-47B5-A0F3-0C2E092DC8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ste en aprovechar las ventajas comparativas para expandirse a áreas simila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stigio en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istian Dior: perfum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opa, joyas y relo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ad: sk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en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da de rop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ultitienda (Falabell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ltitiend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financi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CEC03-BA3C-4645-852F-65F8F4634E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ntaj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ertura de nuevos merc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perfilarse hacia negocios en los cuales se tiene baja exper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7E1E-DC31-490C-9181-CC370655AD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Flujo en Líne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a secuencia lineal de oper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905120" y="3402000"/>
            <a:ext cx="5181480" cy="839880"/>
            <a:chOff x="1905120" y="3402000"/>
            <a:chExt cx="5181480" cy="839880"/>
          </a:xfrm>
        </p:grpSpPr>
        <p:sp>
          <p:nvSpPr>
            <p:cNvPr id="105" name=""/>
            <p:cNvSpPr/>
            <p:nvPr/>
          </p:nvSpPr>
          <p:spPr>
            <a:xfrm>
              <a:off x="2514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7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3600" y="37083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05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8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91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78560" y="3402000"/>
              <a:ext cx="45072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57440" y="5378400"/>
            <a:ext cx="3583080" cy="794520"/>
            <a:chOff x="1657440" y="5378400"/>
            <a:chExt cx="3583080" cy="794520"/>
          </a:xfrm>
        </p:grpSpPr>
        <p:grpSp>
          <p:nvGrpSpPr>
            <p:cNvPr id="116" name=""/>
            <p:cNvGrpSpPr/>
            <p:nvPr/>
          </p:nvGrpSpPr>
          <p:grpSpPr>
            <a:xfrm>
              <a:off x="1657440" y="5378400"/>
              <a:ext cx="3583080" cy="533160"/>
              <a:chOff x="1657440" y="5378400"/>
              <a:chExt cx="3583080" cy="533160"/>
            </a:xfrm>
          </p:grpSpPr>
          <p:sp>
            <p:nvSpPr>
              <p:cNvPr id="117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10920" y="545436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670040" y="5835600"/>
              <a:ext cx="2714040" cy="337320"/>
              <a:chOff x="1670040" y="5835600"/>
              <a:chExt cx="2714040" cy="337320"/>
            </a:xfrm>
          </p:grpSpPr>
          <p:sp>
            <p:nvSpPr>
              <p:cNvPr id="120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21720" y="5835600"/>
                <a:ext cx="196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Flujo del product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444840" y="460548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46A30-0461-4508-BF8C-2064F5C09E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duc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siv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ra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andar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ces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tinu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 poca flexibil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mat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iere equipo especial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fácil contr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A5613-C4F7-46ED-8FFC-511A66DD0C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rsión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jo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ficiencia del 90% aproximadam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 poco especializ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lícula “Tiempos Modernos” de Chapl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íneas de ensam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fet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Quím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Electrón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pel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del Ac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FB36B-A9A7-4858-B77E-998CD0E3A3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Flujo Intermitente (taller de trabaj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la producción por lotes, en forma intermit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407040" y="48006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Intermi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743200" y="3048120"/>
            <a:ext cx="4038480" cy="1345680"/>
            <a:chOff x="2743200" y="3048120"/>
            <a:chExt cx="4038480" cy="1345680"/>
          </a:xfrm>
        </p:grpSpPr>
        <p:sp>
          <p:nvSpPr>
            <p:cNvPr id="131" name=""/>
            <p:cNvSpPr/>
            <p:nvPr/>
          </p:nvSpPr>
          <p:spPr>
            <a:xfrm>
              <a:off x="2743200" y="420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43200" y="4051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251160" y="3048120"/>
              <a:ext cx="3530520" cy="1345680"/>
              <a:chOff x="3251160" y="3048120"/>
              <a:chExt cx="3530520" cy="1345680"/>
            </a:xfrm>
          </p:grpSpPr>
          <p:sp>
            <p:nvSpPr>
              <p:cNvPr id="134" name=""/>
              <p:cNvSpPr/>
              <p:nvPr/>
            </p:nvSpPr>
            <p:spPr>
              <a:xfrm>
                <a:off x="3352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95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638680" y="38606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86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29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172200" y="4038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41320" y="3462840"/>
                <a:ext cx="393120" cy="46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60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003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51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4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37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89400" y="3533760"/>
                <a:ext cx="300600" cy="39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3689640" y="3498480"/>
                <a:ext cx="27864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4820040" y="3503160"/>
                <a:ext cx="27828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72200" y="41907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1657440" y="5378400"/>
            <a:ext cx="3583080" cy="946800"/>
            <a:chOff x="1657440" y="5378400"/>
            <a:chExt cx="3583080" cy="946800"/>
          </a:xfrm>
        </p:grpSpPr>
        <p:grpSp>
          <p:nvGrpSpPr>
            <p:cNvPr id="151" name=""/>
            <p:cNvGrpSpPr/>
            <p:nvPr/>
          </p:nvGrpSpPr>
          <p:grpSpPr>
            <a:xfrm>
              <a:off x="1657440" y="5378400"/>
              <a:ext cx="3583080" cy="533520"/>
              <a:chOff x="1657440" y="5378400"/>
              <a:chExt cx="3583080" cy="533520"/>
            </a:xfrm>
          </p:grpSpPr>
          <p:sp>
            <p:nvSpPr>
              <p:cNvPr id="152" name=""/>
              <p:cNvSpPr/>
              <p:nvPr/>
            </p:nvSpPr>
            <p:spPr>
              <a:xfrm>
                <a:off x="1657440" y="5378400"/>
                <a:ext cx="533160" cy="5335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10920" y="545472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670040" y="6019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22440" y="5987880"/>
              <a:ext cx="196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Flujo del produc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63560" y="6172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63560" y="6324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69B51-EC1A-431D-BD40-295FD2D0F8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quipo y mano de obra se organizan en centros o equipos de trabajo por tipos similares de habil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eficiencia (~ 20 - 40%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inver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habilidad de la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utilización de equi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quinaria más gener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más difíc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 más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E0B8A-259A-433C-8C29-7EC2C908AD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a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ller de Mue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lt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5DAEE-8890-43FC-8AAA-F863BA94B2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Flujo por Proye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intas etapas que se enlazan para realizar un traba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416400" y="48006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3505320"/>
            <a:ext cx="83808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ien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3600" y="3505320"/>
            <a:ext cx="91440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445360" y="3074400"/>
            <a:ext cx="636840" cy="51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60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94160" y="29973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00280" y="3096000"/>
            <a:ext cx="37836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327560" y="3186000"/>
            <a:ext cx="770040" cy="1121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657440" y="5378400"/>
            <a:ext cx="3290760" cy="794520"/>
            <a:chOff x="1657440" y="5378400"/>
            <a:chExt cx="3290760" cy="794520"/>
          </a:xfrm>
        </p:grpSpPr>
        <p:grpSp>
          <p:nvGrpSpPr>
            <p:cNvPr id="174" name=""/>
            <p:cNvGrpSpPr/>
            <p:nvPr/>
          </p:nvGrpSpPr>
          <p:grpSpPr>
            <a:xfrm>
              <a:off x="1657440" y="5378400"/>
              <a:ext cx="2637000" cy="533160"/>
              <a:chOff x="1657440" y="5378400"/>
              <a:chExt cx="2637000" cy="533160"/>
            </a:xfrm>
          </p:grpSpPr>
          <p:sp>
            <p:nvSpPr>
              <p:cNvPr id="175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434320" y="5454360"/>
                <a:ext cx="1860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activida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670040" y="5835600"/>
              <a:ext cx="3278160" cy="337320"/>
              <a:chOff x="1670040" y="5835600"/>
              <a:chExt cx="3278160" cy="337320"/>
            </a:xfrm>
          </p:grpSpPr>
          <p:sp>
            <p:nvSpPr>
              <p:cNvPr id="178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00840" y="58356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Relación de precedencia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3886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445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962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5627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B9C3D-3D78-45A8-9DFA-B6B793EF0D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Felipe Castro A.</cp:lastModifiedBy>
  <cp:lastPrinted>2001-04-12T20:51:56Z</cp:lastPrinted>
  <dcterms:modified xsi:type="dcterms:W3CDTF">2004-03-25T01:46:43Z</dcterms:modified>
  <cp:revision>155</cp:revision>
  <dc:subject/>
  <dc:title>Comercio Electrónico</dc:title>
</cp:coreProperties>
</file>