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645E1-DBCE-4B07-9319-0ECBD04B1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48D1-42EA-4F32-AF00-C788F65C0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F3C2-1825-4203-B947-05DE79BF5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3005-1031-4660-9FE3-D0247BF14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A6997-A110-441E-B537-0C0D9025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52C23-48FC-46AE-9A16-AF4B879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8D69-5431-417D-88E7-AC81BB1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11B92-C4E9-4DF1-AA21-3F5E859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109D-A62D-47BE-8D00-3D9797B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5B703-B7D8-4057-A274-12CFC24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C91E9-59FB-4E75-BA4C-E7E8D1E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DAB4-3BEE-4FC5-8287-D99CEB2EB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AA3E-B337-4F93-B43B-EE4AD9F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8E4A-C093-46BB-8938-D352586A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7E2E0-61A1-4275-911F-19FF52E6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B9FB-D3D1-4381-A21E-071149AF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F3B06-AC39-48DE-944B-010B405B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2DAC-F490-4E6E-9FEC-B2958067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D60D-FF86-44C0-B63C-4A9748D7D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5C91-C164-419C-AD78-3742D569E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765F-2E35-4F26-8826-AC8672B95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0A63-A2ED-47B6-946A-59BD19C9E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53BE-78BB-4096-A740-21AFADEA2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0038-A352-4BAF-AF6E-B4E21E6CA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FEB-5E96-40F3-8CA0-3B3AF70736E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79B-278A-4AAA-87BE-8FC4ABFEEC07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3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638A-D2CA-4532-AD9D-EE52140D7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A560-2A15-41F7-B9F6-CD391D1F63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1FB3-4DF0-4B07-A984-A9DE45CCC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DD51-47C2-4C94-8D47-793CD0253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E023-6D30-4BAB-86F6-0A2491DE7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C5E0-F079-484A-AF20-E295D03CD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0811-56A6-4AB2-92F7-80D18D080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A65B-63DA-4AC6-8CC2-9BB31F84E0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AD7F-5C01-4B12-B7D8-A12E0899D4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CB0B-7DF9-460D-B7E4-8FCD21671E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A1DA-DFC4-42CC-AC95-2930231F2E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0B4D-4944-41E2-B9B5-9691622F95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865D-D409-4FB0-823E-869DED3592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5803-A54C-43AA-9C38-1FF7FC26B2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06E2-9653-4CB3-A6E7-77FDCCC3D1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7354-DF82-48B4-86BA-7A67AEB3B6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A653-329F-4C4B-9DC8-BD57A719F0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017C-31BD-4A78-9E19-F92BD0B709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36CB-7348-4C0D-940A-D89815CB5D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20B7-8D60-4891-9337-27A34CEFC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9AA3-3002-4685-AD04-70D989FD2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1863-5302-46ED-9222-41B2BFD4E1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AEFD-D82C-44C6-827B-42D56E8BC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05E7-0920-4E37-911E-F0D680F8A8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B6A0-C27A-430C-8202-F27CDA1009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2E43-0AD7-41BD-8340-2AD94144D2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46:43Z</dcterms:modified>
  <cp:revision>155</cp:revision>
  <dc:subject/>
  <dc:title>Comercio Electrónico</dc:title>
</cp:coreProperties>
</file>