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93A1-2DA0-4D30-9144-0730B3285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FB99-DF9B-44C3-9527-40F62010F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68AB-719C-4A5F-9A4B-EBEF5AB1F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FFC15-7A0D-486C-B239-57E78AEBB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49642-69CB-4220-B0A9-1CCEC57A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625C0-970E-4AAB-B5B8-B7E3F261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8FF00-EE16-48DF-B595-FEF19C3B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EE0DF-2AC7-4081-B5FD-60F75FFC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93AEC-B053-438E-AD85-B13E1897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D23CB-FB7D-4F8F-A6AF-E13B157D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8BCA8-2CCE-4EC5-AC2B-0F4346AA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A07C-D520-4F50-9F35-828EC3254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61EC0-99D5-4E94-8773-320A769F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6DD1C-53B6-408B-B772-9188B395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B4850-CC7B-4416-BD7E-DCC317C5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3D545-334C-4056-BD69-77867DD9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F4D49-F6FB-4B6C-B3A2-DF903F7F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2A26-EDC1-4303-B899-455E89ECF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FACC-9227-4856-965E-FE84DD982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A178-A69C-441F-A13A-FECB7AF83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6D87-81C5-400C-B379-8E33B231A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60A8C-6997-4863-8ACC-CE8128FF5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7983B-AF35-4502-8CDD-6AD3A73E4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7A82-FD98-406A-A7AF-18213DD43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349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69BC-E316-44D4-8AD2-F284C773B0D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0D66-5B20-481C-8B42-27ED65AA247A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733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3: Selección del 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bar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yecto de consult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AF586-6459-44D2-B7AA-A06842EFEB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17880" y="1676520"/>
            <a:ext cx="557820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6B0A-7A98-455B-8ECF-35604A2B9F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5719-0191-4475-8063-F20F716BC1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05B4-E7C3-48BF-9C33-9D78CDC665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C71F-C2AB-442F-BB5B-FF1E8D3DD9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543800" cy="2740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19320" y="2057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Fabricación para Inventario versus Fabricación por Pe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8C1B-4988-4DA6-BA59-86AEA1A88C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4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67FB-F73A-4F44-BDC1-E69D1BCEC9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B42F8-4C24-4821-AF38-513ADDC6D2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DC7B-B05C-4317-9677-105AE8F5CB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emás, se debe ver en forma sistemática factibilidad técnico-económ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FA8F8-EADE-436F-A744-6214DA5196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7E15-17CA-45A4-9708-E313F15B13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48680" y="5748480"/>
            <a:ext cx="41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Matriz de Proceso-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92280" y="1523880"/>
            <a:ext cx="7543800" cy="4095720"/>
            <a:chOff x="692280" y="1523880"/>
            <a:chExt cx="7543800" cy="4095720"/>
          </a:xfrm>
        </p:grpSpPr>
        <p:sp>
          <p:nvSpPr>
            <p:cNvPr id="210" name=""/>
            <p:cNvSpPr/>
            <p:nvPr/>
          </p:nvSpPr>
          <p:spPr>
            <a:xfrm>
              <a:off x="692280" y="1530360"/>
              <a:ext cx="7532640" cy="40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9040" y="2089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0920" y="208908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0400" y="20890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09560" y="208908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7600" y="226548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ajo volumen-baj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9120" y="2265480"/>
              <a:ext cx="126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múltipl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0040" y="2265480"/>
              <a:ext cx="104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oc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040" y="226548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lto volumen-al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472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0560" y="244008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volumen 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99680" y="2440080"/>
              <a:ext cx="77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mportant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0596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87240" y="2611440"/>
              <a:ext cx="105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ún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98960" y="2611440"/>
              <a:ext cx="95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yor volum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6680" y="2611440"/>
              <a:ext cx="120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utili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61840" y="2800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8960" y="297504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sorde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5000" y="3149640"/>
              <a:ext cx="124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taller de proyecto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1120" y="35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8960" y="3684600"/>
              <a:ext cx="105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s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7160" y="3860640"/>
              <a:ext cx="123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exión (por lote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0040" y="421956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7160" y="4395960"/>
              <a:ext cx="160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relacio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58240" y="4570560"/>
              <a:ext cx="123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línea de ensambl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1480" y="49309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60040" y="510552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continu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9560" y="2055960"/>
              <a:ext cx="2520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2160" y="2055960"/>
              <a:ext cx="270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416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4224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10520" y="2055960"/>
              <a:ext cx="25560" cy="356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06400" y="2752560"/>
              <a:ext cx="16383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06400" y="346392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6400" y="417348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6400" y="4883040"/>
              <a:ext cx="16272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06400" y="5594400"/>
              <a:ext cx="65296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86240" y="2781360"/>
              <a:ext cx="803160" cy="69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98280" y="300348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pres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7320" y="3144960"/>
              <a:ext cx="51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merci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4760" y="3470400"/>
              <a:ext cx="803160" cy="69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9280" y="369396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quip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3440" y="383688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es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77080" y="4200480"/>
              <a:ext cx="80460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59960" y="442440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nsam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63640" y="4565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u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82000" y="4879800"/>
              <a:ext cx="80316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86480" y="510372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finerí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37240" y="5245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zúc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54480" y="3263760"/>
              <a:ext cx="582480" cy="381240"/>
              <a:chOff x="4254480" y="3263760"/>
              <a:chExt cx="582480" cy="3812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4480" y="3263760"/>
                <a:ext cx="49860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1400" y="3543480"/>
                <a:ext cx="11556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522760" y="4025880"/>
              <a:ext cx="497160" cy="339840"/>
              <a:chOff x="5522760" y="4025880"/>
              <a:chExt cx="497160" cy="339840"/>
            </a:xfrm>
          </p:grpSpPr>
          <p:sp>
            <p:nvSpPr>
              <p:cNvPr id="263" name=""/>
              <p:cNvSpPr/>
              <p:nvPr/>
            </p:nvSpPr>
            <p:spPr>
              <a:xfrm>
                <a:off x="5522760" y="4025880"/>
                <a:ext cx="41292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04000" y="42642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3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694560" y="4726080"/>
              <a:ext cx="517320" cy="349200"/>
              <a:chOff x="6694560" y="4726080"/>
              <a:chExt cx="517320" cy="349200"/>
            </a:xfrm>
          </p:grpSpPr>
          <p:sp>
            <p:nvSpPr>
              <p:cNvPr id="266" name=""/>
              <p:cNvSpPr/>
              <p:nvPr/>
            </p:nvSpPr>
            <p:spPr>
              <a:xfrm>
                <a:off x="6694560" y="4726080"/>
                <a:ext cx="43488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95960" y="497376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325680" y="1819440"/>
              <a:ext cx="4902480" cy="129960"/>
              <a:chOff x="3325680" y="1819440"/>
              <a:chExt cx="4902480" cy="129960"/>
            </a:xfrm>
          </p:grpSpPr>
          <p:sp>
            <p:nvSpPr>
              <p:cNvPr id="269" name=""/>
              <p:cNvSpPr/>
              <p:nvPr/>
            </p:nvSpPr>
            <p:spPr>
              <a:xfrm>
                <a:off x="3325680" y="1874880"/>
                <a:ext cx="4775400" cy="190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97840" y="1819440"/>
                <a:ext cx="130320" cy="1299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1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465200" y="2781360"/>
              <a:ext cx="130320" cy="2828880"/>
              <a:chOff x="1465200" y="2781360"/>
              <a:chExt cx="130320" cy="2828880"/>
            </a:xfrm>
          </p:grpSpPr>
          <p:sp>
            <p:nvSpPr>
              <p:cNvPr id="272" name=""/>
              <p:cNvSpPr/>
              <p:nvPr/>
            </p:nvSpPr>
            <p:spPr>
              <a:xfrm>
                <a:off x="1521000" y="2781360"/>
                <a:ext cx="20520" cy="270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65200" y="547992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336840" y="4530600"/>
              <a:ext cx="1859040" cy="1060560"/>
            </a:xfrm>
            <a:custGeom>
              <a:avLst/>
              <a:gdLst/>
              <a:ahLst/>
              <a:rect l="l" t="t" r="r" b="b"/>
              <a:pathLst>
                <a:path w="1171" h="668">
                  <a:moveTo>
                    <a:pt x="0" y="0"/>
                  </a:moveTo>
                  <a:lnTo>
                    <a:pt x="0" y="668"/>
                  </a:lnTo>
                  <a:lnTo>
                    <a:pt x="1171" y="6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6840" y="4952880"/>
              <a:ext cx="13478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ábrica automatizad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 poca produ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8480" y="2749680"/>
              <a:ext cx="1838520" cy="1069920"/>
            </a:xfrm>
            <a:custGeom>
              <a:avLst/>
              <a:gdLst/>
              <a:ahLst/>
              <a:rect l="l" t="t" r="r" b="b"/>
              <a:pathLst>
                <a:path w="1158" h="674">
                  <a:moveTo>
                    <a:pt x="1158" y="67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158" y="6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61480" y="2870280"/>
              <a:ext cx="9439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Transporte m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lev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05160" y="1523880"/>
              <a:ext cx="2577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1600" y="1557360"/>
              <a:ext cx="119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45840" y="1698480"/>
              <a:ext cx="1820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87560" y="2781360"/>
              <a:ext cx="390240" cy="28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624240" y="4898520"/>
              <a:ext cx="1152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52160" y="4588200"/>
              <a:ext cx="178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45CB-9EE3-4AFF-B053-378A5A2403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1B36-E2C5-4104-BC3B-16A12AAFBB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49DD-A4A7-43B2-9D10-ADFF54D1E7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97CA-779E-4E95-BE23-5AA7A76159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C9B3-CB1B-4C89-B110-A9A4EDDE41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0BD1-1E7C-436B-B092-56E5ABD9CC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DF145-8EFD-4B68-8F44-A87BFC4F9F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30C0-4793-4107-98D8-39426D86F3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Flujo en Lín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a secuencia lineal de oper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05120" y="3402000"/>
            <a:ext cx="5181480" cy="839880"/>
            <a:chOff x="1905120" y="3402000"/>
            <a:chExt cx="5181480" cy="839880"/>
          </a:xfrm>
        </p:grpSpPr>
        <p:sp>
          <p:nvSpPr>
            <p:cNvPr id="105" name=""/>
            <p:cNvSpPr/>
            <p:nvPr/>
          </p:nvSpPr>
          <p:spPr>
            <a:xfrm>
              <a:off x="2514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37083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8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3402000"/>
              <a:ext cx="450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57440" y="5378400"/>
            <a:ext cx="3583080" cy="794520"/>
            <a:chOff x="1657440" y="5378400"/>
            <a:chExt cx="3583080" cy="794520"/>
          </a:xfrm>
        </p:grpSpPr>
        <p:grpSp>
          <p:nvGrpSpPr>
            <p:cNvPr id="116" name=""/>
            <p:cNvGrpSpPr/>
            <p:nvPr/>
          </p:nvGrpSpPr>
          <p:grpSpPr>
            <a:xfrm>
              <a:off x="1657440" y="5378400"/>
              <a:ext cx="3583080" cy="533160"/>
              <a:chOff x="1657440" y="5378400"/>
              <a:chExt cx="3583080" cy="533160"/>
            </a:xfrm>
          </p:grpSpPr>
          <p:sp>
            <p:nvSpPr>
              <p:cNvPr id="117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10920" y="545436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670040" y="5835600"/>
              <a:ext cx="2714040" cy="337320"/>
              <a:chOff x="1670040" y="5835600"/>
              <a:chExt cx="2714040" cy="337320"/>
            </a:xfrm>
          </p:grpSpPr>
          <p:sp>
            <p:nvSpPr>
              <p:cNvPr id="120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21720" y="5835600"/>
                <a:ext cx="196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Flujo del product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444840" y="4605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598B-187F-4FC5-843D-580C98941F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duc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inu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 poca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mat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iere equipo especial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287F-179C-4BD8-9E3E-9B9E8DEDBD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cia del 90% aproximad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 poco especi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 “Tiempos Modernos” de Chapl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s de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fet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Electrón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pel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del A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0A8C-963E-461F-8D6C-0F1DD90D41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Flujo Intermitente (taller de trabaj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la producción por lotes, en forma intermi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07040" y="48006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Inter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743200" y="3048120"/>
            <a:ext cx="4038480" cy="1345680"/>
            <a:chOff x="2743200" y="3048120"/>
            <a:chExt cx="4038480" cy="1345680"/>
          </a:xfrm>
        </p:grpSpPr>
        <p:sp>
          <p:nvSpPr>
            <p:cNvPr id="131" name=""/>
            <p:cNvSpPr/>
            <p:nvPr/>
          </p:nvSpPr>
          <p:spPr>
            <a:xfrm>
              <a:off x="2743200" y="42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405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251160" y="3048120"/>
              <a:ext cx="3530520" cy="1345680"/>
              <a:chOff x="3251160" y="3048120"/>
              <a:chExt cx="3530520" cy="1345680"/>
            </a:xfrm>
          </p:grpSpPr>
          <p:sp>
            <p:nvSpPr>
              <p:cNvPr id="134" name=""/>
              <p:cNvSpPr/>
              <p:nvPr/>
            </p:nvSpPr>
            <p:spPr>
              <a:xfrm>
                <a:off x="3352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5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38680" y="38606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86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9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7220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41320" y="3462840"/>
                <a:ext cx="39312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0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03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51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4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37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89400" y="3533760"/>
                <a:ext cx="30060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689640" y="3498480"/>
                <a:ext cx="27864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820040" y="3503160"/>
                <a:ext cx="2782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2200" y="41907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1657440" y="5378400"/>
            <a:ext cx="3583080" cy="946800"/>
            <a:chOff x="1657440" y="5378400"/>
            <a:chExt cx="3583080" cy="946800"/>
          </a:xfrm>
        </p:grpSpPr>
        <p:grpSp>
          <p:nvGrpSpPr>
            <p:cNvPr id="151" name=""/>
            <p:cNvGrpSpPr/>
            <p:nvPr/>
          </p:nvGrpSpPr>
          <p:grpSpPr>
            <a:xfrm>
              <a:off x="1657440" y="5378400"/>
              <a:ext cx="3583080" cy="533520"/>
              <a:chOff x="1657440" y="5378400"/>
              <a:chExt cx="3583080" cy="533520"/>
            </a:xfrm>
          </p:grpSpPr>
          <p:sp>
            <p:nvSpPr>
              <p:cNvPr id="152" name=""/>
              <p:cNvSpPr/>
              <p:nvPr/>
            </p:nvSpPr>
            <p:spPr>
              <a:xfrm>
                <a:off x="1657440" y="5378400"/>
                <a:ext cx="533160" cy="533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10920" y="545472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67004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22440" y="598788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Flujo del produc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3560" y="6172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63560" y="6324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C7BA-E64D-4A0A-B1D9-79AF318D10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po y mano de obra se organizan en centros o equipos de trabajo por tipos similares de h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eficiencia (~ 20 - 40%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inver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utilización de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ás gene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difíc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ás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8656-C8B4-48E9-9426-F6ACC0E711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ller de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CBFC-50FC-4AEC-A482-AC8FEB819B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Flujo por Proye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as etapas que se enlazan para realizar un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41640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505320"/>
            <a:ext cx="83808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35053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445360" y="3074400"/>
            <a:ext cx="636840" cy="51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0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94160" y="2997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00280" y="3096000"/>
            <a:ext cx="37836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327560" y="3186000"/>
            <a:ext cx="770040" cy="112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57440" y="5378400"/>
            <a:ext cx="3290760" cy="794520"/>
            <a:chOff x="1657440" y="5378400"/>
            <a:chExt cx="3290760" cy="794520"/>
          </a:xfrm>
        </p:grpSpPr>
        <p:grpSp>
          <p:nvGrpSpPr>
            <p:cNvPr id="174" name=""/>
            <p:cNvGrpSpPr/>
            <p:nvPr/>
          </p:nvGrpSpPr>
          <p:grpSpPr>
            <a:xfrm>
              <a:off x="1657440" y="5378400"/>
              <a:ext cx="2637000" cy="533160"/>
              <a:chOff x="1657440" y="5378400"/>
              <a:chExt cx="2637000" cy="53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34320" y="5454360"/>
                <a:ext cx="186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activida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70040" y="5835600"/>
              <a:ext cx="3278160" cy="337320"/>
              <a:chOff x="1670040" y="5835600"/>
              <a:chExt cx="3278160" cy="337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00840" y="58356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Relación de precedenc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886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962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627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3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12D2-964F-4B49-9720-DD0A083160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Felipe Castro A.</cp:lastModifiedBy>
  <cp:lastPrinted>2001-04-12T20:51:56Z</cp:lastPrinted>
  <dcterms:modified xsi:type="dcterms:W3CDTF">2004-03-25T01:46:43Z</dcterms:modified>
  <cp:revision>155</cp:revision>
  <dc:subject/>
  <dc:title>Comercio Electrónico</dc:title>
</cp:coreProperties>
</file>