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CA02-2AE1-4AEB-B303-8675A5FFC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A4B9-1878-4359-8AB1-B7E72C04E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AA58-0278-4BD4-83DA-A074A84BC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ADD6-0532-427A-95DF-90106834A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8D38E-8634-4763-A35E-E56D28D6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7BC97-A488-4E9B-8BF5-B46D8FB4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4D959-6B89-42ED-B7F5-04054E3D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11BC4-1F92-4238-B295-F6D79072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5351C-1C81-4337-A4EF-6E0FD93C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7E50-A291-4CF4-98A0-271E1E94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DFC8F-AD51-44B6-BC27-714E726D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7C3FC-DEFC-488F-A510-99A977196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043BF-B7E0-4A15-BCF8-408DD3D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770E2-D8A5-490D-8542-B20592D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AD867-4E01-4F53-9446-4F416004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2D4EB-556E-4FAD-8C0E-A9520C79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742C6-F74E-4106-99FE-249EA560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660C-76B1-4292-A054-7D7B19E62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6CCF-89C4-480A-BE9D-586B5783D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C943-63E7-4901-A31F-919CA93A8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BE574-73FD-4E8F-AC8D-573C5FD5C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3F97-E399-450D-B697-597D9142F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BF18-E335-4F73-9306-8CBE884B5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09D0-4607-4E95-8923-4A7C0425A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D4DA-599D-455A-A98C-3DA98B02B84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8D50-90E0-4B13-9DCB-CC1C59FB3970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505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2: Diseño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onstrucción del Prototi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 etapa del proceso consiste en producir un producto para prueb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da de 1.000 un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 o modelo de prueb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meros restaur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o servicio en sólo una sucurs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1983-19F0-47FA-9572-92695FA0FA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Prueb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scan verificar el comportamiento de los prototipos, es decir, verifican su desempeño técnico y comer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esca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pista o laborato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cuestas y medi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métic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hibición en tiendas para ver reacción de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úbl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3A03-3358-4F12-9EEF-48C8147382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Diseño Definitivo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sarrollan dibujos y especificaciones para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ción de CAM (Computer Aided Manufactu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301D-19EF-499A-86C2-B5E6BBEB21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64200" cy="402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18920" y="551988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Mortalidad de las Ideas de Nuevos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1093-7E2A-4300-AA09-23308288C1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Áreas funcionales normalmente involucradas en el proce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ven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geniería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diseñ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ufactura y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fabric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D199-CFD7-4E9D-832D-0C2D7ED79E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nombres de actual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Quality (DFQ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ted Product and Process Design (IPP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Manufacturability (DF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ality Function Deplyment (QF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ice of the Costumer (VO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lemento de las tecnologías habilitantes: CAD/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00FC-7FDE-4892-A7AD-BAE3808AD3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lla de alineación en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peraciones no puede fabricar el producto diseñado por el área de Investigación y Desarrollo (I&amp;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fraestructura existente puede no ser la más adecuada para la fabricación d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un enfoque simultáneo entre las áreas de Investigación y Desarrollo, Mercadotecnia y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tener un ambiente de innov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importante incluir a los provee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032C-80A1-471C-949B-B68A1C843F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844640"/>
            <a:ext cx="8077320" cy="3260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84000" y="521496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teracción entre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F9BE-5351-49C8-9470-B7A84004E9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subcontratistas (proveedores) fabrican parte del producto, luego su integración en el diseño es importa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tradicion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gar especificaciones y esperar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integrad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en conjunto con los proveedores para un mejor dis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lementar integración física e informátic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325A-0F4A-4ABC-9276-5FB9F57FB1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tros aspectos importante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de los clientes al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permanente de operaciones y fabricación con los diseñadores (diseño para la manufacturabilida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rucción temprana de prototip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4663-F933-4B03-91CA-A7C60E163C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diseño de nuevos productos es vital para la supervivencia de las empres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s líneas de ro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os modelos de a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bancarios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cluye tanto a bienes como a servic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22E2-A80C-43CA-A9DD-0DD2E885EF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tro de las medidas de efectividad y eficiencia que podemos aplicar al proceso se tien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Desarrol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icadores financi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el cliente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manufactura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 de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7063-0CD8-4829-92BB-D945406BD9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roductos van cambiando durante su ciclo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ise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ciones (tecnológicas o de mercad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 (Museo Ford en Detro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ículos domé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AF29-009A-4483-9DFA-41AE593C28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tapas en la innovación de productos y proce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con cambios constantes debido a a incertidumbre en el mercado o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nive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genéricos que se pueden ir cambiando con fac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 y proceso en fluid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as velocidades de innov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coordinación y eficiencia en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75EB-2F8D-4D11-A0D7-96D7687ABB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al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 por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álida para productos y proce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e competencia por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es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eficiencia y control de la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automat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volum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61E9-F29F-4738-A0EE-6B181F2036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ción de los productos llegando a convertirse en commod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competencia de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interconexión e integración entre producto y proce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flexibilidad producto - proceso (rigidez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4C0A-4B18-4242-A4E1-7550512B7C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278400" cy="445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91040" y="588168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Modelo Dinámico de la Innovación en el Producto y en 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5D67-E73D-4B53-A185-A3E2885A74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álisis del Va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iminar todo aquello que origina costos y no agrega valor al producto o serv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valor corresponde al percibido por el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2C96-8673-43E4-97FF-E91BCC8F9F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Variedad de Produ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acuerdo a los requerimientos de mercado es necesario tener alto número de productos (opciones para el client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leva a más ventas, pero también a mayores cost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el trade-off entre los costos directos e indirectos de una línea versus su impacto en las ventas glob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PR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E693-C7D3-424D-BF5B-FEAC5BC37F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seño Mod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 alta variedad de productos con un pequeño número de productos genér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reras universit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quetes turís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02B1-30E6-497B-8AB6-9646B78BAA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ende de las interacciones existentes entre el mercado, la tecnología y las oper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productos que dependen más del merca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 de productos que dependen más de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ónica (vide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ban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7E9E-B2F1-459B-A133-6C045E0874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Generación de Id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se pueden generar a partir del mercado (necesidades del consumidor) o a partir de la 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plantear muchas ideas para que resulten algu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6ABE-BCF3-4D64-AC4D-361B59D3D8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578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8034-0DDC-4BBF-81B9-76EA754532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elección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para nuevos productos deben pasar por las siguientes prueb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tencia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tibilidad con las operaciones, otros productos y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tibilidad técnica, económica y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análisis, preliminar, permite quedarse con las ideas más prometedo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5E2B-6BB9-438B-8AF9-694047F623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alta calida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capacidad tecnológic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s versus mejor 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lsa electrón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dispone de la tecnologí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xisten suficientes client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seguridad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 calza con los otros product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Le gustaría a algún sector del mercad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4E57-9559-45CA-8366-ABCDB84091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eño Preliminar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diseño preliminar se toma en cuenta una gran cantidad de trade-off ent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emp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é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ilidad de produc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un producto competitivo en un nicho y se obtiene el esqueleto del produc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554D-7C57-4081-A6EE-3E843C01DF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mún la utilización de la herramienta de diseño CAD (Computer Aided Design), muy común a nivel mund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casas, plantas, oficinas y fáb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sabor, envase, costo, mercad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pescado: diseño de proceso, planta, costos, mercado, capital de riesg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BEA5-9F90-4B09-8437-0DEF9231D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Felipe Castro A.</cp:lastModifiedBy>
  <cp:lastPrinted>2001-07-18T12:51:45Z</cp:lastPrinted>
  <dcterms:modified xsi:type="dcterms:W3CDTF">2004-03-25T01:45:21Z</dcterms:modified>
  <cp:revision>75</cp:revision>
  <dc:subject/>
  <dc:title>Modelamiento Físico de Interfaces</dc:title>
</cp:coreProperties>
</file>