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C7BCE-9692-4D8F-BD7C-EE862E181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2548E-ECFC-4A31-84F1-A53CED639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CC05B-B95B-4003-BCF0-98A0063EB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C35C-6915-46E4-B5DF-790CAF100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85928-669B-4E49-A246-E58C631D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F240C-E1E0-4529-A03A-4D359202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4DDF9-0897-442D-8A93-FA20C8EE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BEBC6-AEBA-4774-BA2B-502B54DC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4BB81-D36C-40F7-B30F-D84E81BD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920" y="17100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A5F16-264A-4287-9F22-3CCBF0BE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6391C-8510-4BCE-8A79-28EF7EE0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1BB4-3DD0-4605-81C7-B7EC81E18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C871F-46B9-4F9B-8B5E-73E66E0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C6782-727C-45D8-973C-57AB8745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1F603-E117-46BC-8BC8-D791109C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C894F-3136-4C43-8C00-4C99E954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11821-75A6-45B7-955A-2D835FB0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5BE1-38D2-47F9-8D04-6F6300719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80F3F-06A9-421B-BCD7-D19F2723A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4755-AF0B-4BE4-A5F7-F064CCACD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920" y="17100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D47EF-F643-4A20-93DA-7D09CB41A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D00C-B144-4787-B870-9D0E9B3A7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18DA-21ED-48F7-BDD4-5AAE1F7E1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6542-4699-460F-A857-F0D5D6ACF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349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968D-9387-43FF-9BE9-37D6EE27C20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8274-3F2F-4E12-BBDB-068C3C45BE33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3505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2: Diseño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onstrucción del Prototi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 etapa del proceso consiste en producir un producto para prueb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da de 1.000 un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 o modelo de prueb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ilo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meros restaur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n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o servicio en sólo una sucurs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6ADF-7F4B-4EB3-AA9F-0537191AF7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Prueb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scan verificar el comportamiento de los prototipos, es decir, verifican su desempeño técnico y comerc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ilo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esca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st en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st en pista o laborato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n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cuestas y medi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métic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hibición en tiendas para ver reacción de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úbl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26E2-68CE-46E4-833D-8BD56D737F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Diseño Definitivo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sarrollan dibujos y especificaciones para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tilización de CAM (Computer Aided Manufactu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36F8-51E0-4425-BC1E-E2343FF4E6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64200" cy="4020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18920" y="551988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Mortalidad de las Ideas de Nuevos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B0D0-E2EB-47EA-AB1B-4C80DBD5E1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Áreas funcionales normalmente involucradas en el proce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ket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ven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geniería de Diseñ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diseñ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ufactura y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fabric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8487-5B21-4D1A-B7C7-407DD36B79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nombres de actual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ign for Quality (DFQ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ted Product and Process Design (IPP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ign for Manufacturability (DFM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ality Function Deplyment (QF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ice of the Costumer (VO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lemento de las tecnologías habilitantes: CAD/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FA047-927D-44CB-9406-253CDA5AD7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la Tecn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tores 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lla de alineación en la tecnolog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peraciones no puede fabricar el producto diseñado por el área de Investigación y Desarrollo (I&amp;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fraestructura existente puede no ser la más adecuada para la fabricación d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giere un enfoque simultáneo entre las áreas de Investigación y Desarrollo, Mercadotecnia y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tener un ambiente de innov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importante incluir a los provee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2B22-B647-4AB7-BDAC-35896F6101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la Tecn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844640"/>
            <a:ext cx="8077320" cy="3260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84000" y="521496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Interacción entre l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2CED-97E6-47ED-A3EC-544D5944D4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para el Diseñ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subcontratistas (proveedores) fabrican parte del producto, luego su integración en el diseño es importa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tradicion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gar especificaciones y esperar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digma integrad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bajar en conjunto con los proveedores para un mejor dise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lementar integración física e informátic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F9B9-8530-478C-9D20-6B2845EBDC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para el Diseñ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tros aspectos importante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tegración de los clientes al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tegración permanente de operaciones y fabricación con los diseñadores (diseño para la manufacturabilida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trucción temprana de prototip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097E-23FB-4BC3-BD15-F6232D91D7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diseño de nuevos productos es vital para la supervivencia de las empres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as líneas de ro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os modelos de a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bancarios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cluye tanto a bienes como a servic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F1A7E-7BE0-465B-BE4F-534FEABD0D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ntro de las medidas de efectividad y eficiencia que podemos aplicar al proceso se tien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Desarrol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icadores financi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de Diseñ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el cliente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manufactura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 de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9E92-79A2-44E9-A536-E4619A7B7D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productos van cambiando durante su ciclo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dise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novaciones (tecnológicas o de mercad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 (Museo Ford en Detro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ículos domé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4D0F-1E2A-4433-AAED-F51C7A11ED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tapas en la innovación de productos y proce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con cambios constantes debido a a incertidumbre en el mercado o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nivel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genéricos que se pueden ir cambiando con fac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 y proceso en fluid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as velocidades de innov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a coordinación y eficiencia en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4CE4-CEEF-4119-92B9-52891FF6F5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al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 por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álida para productos y proce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e competencia por pre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es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eficiencia y control de la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automat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volum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3F18-8A13-421B-A29F-7A6CE3259D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I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ndarización de los productos llegando a convertirse en commod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rte competencia de pre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rte interconexión e integración entre producto y proce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a flexibilidad producto - proceso (rigidez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C37F-8B52-41FD-83DB-1A36F09AA8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6278400" cy="445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91040" y="588168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Modelo Dinámico de la Innovación en el Producto y en 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C43A-8C8A-4D92-9015-4B35C9D43E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álisis del Val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iminar todo aquello que origina costos y no agrega valor al producto o serv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valor corresponde al percibido por el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6ACAE-2B80-4B8B-B0DE-C95655F381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Variedad de Produ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acuerdo a los requerimientos de mercado es necesario tener alto número de productos (opciones para el client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leva a más ventas, pero también a mayores costo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el trade-off entre los costos directos e indirectos de una línea versus su impacto en las ventas glob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PR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B563-2FB5-4923-938A-55DFB9EAA0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iseño Mod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mite alta variedad de productos con un pequeño número de productos genér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reras universit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quetes turís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A902-A0BE-4726-977D-D1CA34E1B8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ende de las interacciones existentes entre el mercado, la tecnología y las opera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productos que dependen más del merca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 de productos que dependen más de la tecnolog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ectrónica (vide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ban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7BFB-18F4-4883-A20C-7303D5C883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Generación de Ide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ideas se pueden generar a partir del mercado (necesidades del consumidor) o a partir de la 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plantear muchas ideas para que resulten algu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8F16-402B-4EDD-85EA-06FC53BAF2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2578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60806-3322-4F90-92B0-69E503B5C0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elección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ideas para nuevos productos deben pasar por las siguientes prueb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tencia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tibilidad con las operaciones, otros productos y estrateg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ctibilidad técnica, económica y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e análisis, preliminar, permite quedarse con las ideas más prometedo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24A1-60B8-4B35-9B62-CA6E1461B2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 de alta calida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tiene la capacidad tecnológic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s versus mejor pre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olsa electrón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dispone de la tecnologí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xisten suficientes client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tiene la seguridad adecuad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ómo calza con los otros product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Le gustaría a algún sector del mercad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F4F3-C1DC-446D-9282-4A2771B91B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eño Preliminar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l diseño preliminar se toma en cuenta una gran cantidad de trade-off ent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empe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é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cilidad de produc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un producto competitivo en un nicho y se obtiene el esqueleto del product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1AE2-492C-4585-B4BF-5DE3A0DFAB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mún la utilización de la herramienta de diseño CAD (Computer Aided Design), muy común a nivel mund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casas, plantas, oficinas y fáb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 sabor, envase, costo, mercad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 de pescado: diseño de proceso, planta, costos, mercado, capital de riesg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50EEC-6527-479D-96D9-6F3068DFB4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Felipe Castro A.</cp:lastModifiedBy>
  <cp:lastPrinted>2001-07-18T12:51:45Z</cp:lastPrinted>
  <dcterms:modified xsi:type="dcterms:W3CDTF">2004-03-25T01:45:21Z</dcterms:modified>
  <cp:revision>75</cp:revision>
  <dc:subject/>
  <dc:title>Modelamiento Físico de Interfaces</dc:title>
</cp:coreProperties>
</file>