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A18DF-6CB6-475A-9774-F95B4680F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EC280-108F-44D0-84EA-F4C21500C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C4361-3D35-4722-82FA-1A7EF1CBA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8AE34-DB5A-4973-AF1F-BBCA318A7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B18A8-7712-4D1C-A125-118B21B3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A1F39-D4BD-4F8F-B5D3-4F3AFC11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D3A30-F91B-4ABB-9DDE-5C20D1A7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DEA5A-133A-4C02-8D5E-536EFBDD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CBD0F-1369-4F2F-A31F-D3DF77E8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920" y="17100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CD526-455A-4000-818A-903B8564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D8E2B-A3EA-4D14-8B4C-EEF1F799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39D8-BA50-4796-AAC4-BD1CB901D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6BF1F-0644-4126-BC27-28B223F8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878FE-2458-4244-A389-C332970B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397E5-BDF3-4ACB-B6B1-BFAEC35A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96F2F-4AA3-4309-91FC-3CA755FA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B3B9C-5F77-4183-B51C-E11CA748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A5963-3151-4144-BA1A-BABB671AB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2AECD-A2C8-4278-9A37-C5794A1F9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532C9-BFC1-4812-9091-75489322E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920" y="17100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13A3E-1B4C-490B-BBC5-03BAA28FF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632D-EE3D-434D-A452-84BB5DE17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40484-CB38-4118-AB8C-EF3FCC984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A2A00-BFC9-46A6-9206-9B573FE90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4349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01B6-DDB6-4B16-BFF8-ED1BA2948DB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52C2-2461-4C4E-8675-4CBDAD1D527F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3505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2: Diseño de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onstrucción del Prototip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 etapa del proceso consiste en producir un producto para prueb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oghurt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da de 1.000 unidad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 o modelo de prueb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ri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ilo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c Donald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meros restaur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n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uevo servicio en sólo una sucurs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A805-B0C9-45B9-A7C2-DA5F478904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Prueb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scan verificar el comportamiento de los prototipos, es decir, verifican su desempeño técnico y comerc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ilot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s de esca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oghurt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st en supermerc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st en pista o laborato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n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cuestas y medi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mético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hibición en tiendas para ver reacción de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úbl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02EB8-8DBF-4287-B2DA-E4F7F89634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Diseño Definitivo del Produ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sarrollan dibujos y especificaciones para 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tilización de CAM (Computer Aided Manufacturin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70DBF-EDD9-4C6E-B0E4-F9B2C6424C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6064200" cy="4020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18920" y="551988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Mortalidad de las Ideas de Nuevos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064C6-3EEF-45DC-8E80-41EE6A94AF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Áreas funcionales normalmente involucradas en el proce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rket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bjetivo: ven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geniería de Diseñ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bjetivo: diseñ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ufactura y opera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bjetivo: fabric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644EC-57AC-4EA6-95C1-B1D749F071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os nombres de actual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ign for Quality (DFQ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tegrated Product and Process Design (IPP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ign for Manufacturability (DFM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uality Function Deplyment (QF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ice of the Costumer (VO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lemento de las tecnologías habilitantes: CAD/C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8529-32ED-48D4-986C-CF03B9193E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la Tecnologí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ctores 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lla de alineación en la tecnologí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peraciones no puede fabricar el producto diseñado por el área de Investigación y Desarrollo (I&amp;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fraestructura existente puede no ser la más adecuada para la fabricación d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sugiere un enfoque simultáneo entre las áreas de Investigación y Desarrollo, Mercadotecnia y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necesario tener un ambiente de innov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importante incluir a los proveed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B2B9E-89C7-44FD-98CA-FC5C8856A1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la Tecnologí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844640"/>
            <a:ext cx="8077320" cy="3260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84000" y="521496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Interacción entre las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27988-4122-4541-B282-BFA9E06A68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para el Diseñ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subcontratistas (proveedores) fabrican parte del producto, luego su integración en el diseño es importa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 tradicion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tregar especificaciones y esperar result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digma integrad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bajar en conjunto con los proveedores para un mejor diseñ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lementar integración física e informátic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386F2-89CE-4849-8923-E9667AB603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para el Diseñ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tros aspectos importantes 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ntegración de los clientes al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ntegración permanente de operaciones y fabricación con los diseñadores (diseño para la manufacturabilida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trucción temprana de prototip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8C3A0-E5DC-45CC-BA05-6A43686685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716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diseño de nuevos productos es vital para la supervivencia de las empres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uevas líneas de ro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uevos modelos de a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bancarios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cluye tanto a bienes como a servic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76A3-877E-4466-B4F8-7C772D473D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dic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ntro de las medidas de efectividad y eficiencia que podemos aplicar al proceso se tien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de Desarrol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icadores financi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de recurs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 de Diseñ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el cliente fi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 manufactura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 de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64AFB-5E18-48C2-9321-DE4D261807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productos van cambiando durante su ciclo de vi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diseñ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novaciones (tecnológicas o de mercad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s (Museo Ford en Detroi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léfo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rtículos domés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C4905-CCAC-4014-A7DF-3773C7E5B7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tapas en la innovación de productos y proce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tapa 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 con cambios constantes debido a a incertidumbre en el mercado o cambios tecnoló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jo nivel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 genéricos que se pueden ir cambiando con fac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 y proceso en fluid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as velocidades de innov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a coordinación y eficiencia en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C7980-0DC8-4B8D-93C7-17CB7D21C2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al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etencia por produ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álida para productos y proces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tapa I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ece competencia por prec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es 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eficiencia y control de la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automatiz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volum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D34FD-1668-48D9-A8D3-988DF052ED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tapa II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dur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ndarización de los productos llegando a convertirse en commodit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uerte competencia de prec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uerte interconexión e integración entre producto y proce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a flexibilidad producto - proceso (rigidez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E7F09-4E83-48E0-8863-7E6DC25616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6278400" cy="4456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391040" y="5881680"/>
            <a:ext cx="71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Modelo Dinámico de la Innovación en el Producto y en el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1671-4090-451E-87F0-60FCF6518F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álisis del Val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iminar todo aquello que origina costos y no agrega valor al producto o servi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valor corresponde al percibido por el cl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F9F2D-DC52-4086-9B21-5333731107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Variedad de Produc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 acuerdo a los requerimientos de mercado es necesario tener alto número de productos (opciones para el client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leva a más ventas, pero también a mayores costos de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ver el trade-off entre los costos directos e indirectos de una línea versus su impacto en las ventas glob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PRO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8E343-A395-4DB2-91C9-303D1A735F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iseño Modu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rmite alta variedad de productos con un pequeño número de productos genér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e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reras universitar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quetes turíst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E4749-7B42-4045-BF4E-C57F018C3E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pende de las interacciones existentes entre el mercado, la tecnología y las opera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 de productos que dependen más del merca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op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lícul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i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 de productos que dependen más de la tecnologí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ectrónica (vide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ut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dbanc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FBB0B-E581-4A6C-8F04-DB86078611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Generación de Ide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ideas se pueden generar a partir del mercado (necesidades del consumidor) o a partir de la 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plantear muchas ideas para que resulten algun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92A2A-FC88-4551-AFA5-6A7B484418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25780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5234-17F7-4799-B563-3AA9663F08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elección del Produ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ideas para nuevos productos deben pasar por las siguientes prueb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tencial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atibilidad con las operaciones, otros productos y estrateg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actibilidad técnica, económica y financi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e análisis, preliminar, permite quedarse con las ideas más prometedo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E1DF5-D910-4274-B0CD-82FCD033EC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rina de alta calida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Se tiene la capacidad tecnológic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s versus mejor pre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olsa electrón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Se dispone de la tecnologí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xisten suficientes client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Se tiene la seguridad adecuad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oghurt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ómo calza con los otros producto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Le gustaría a algún sector del mercad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8AFA3-6AD8-4081-87AF-4F96BD3C0E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eño Preliminar del Produ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el diseño preliminar se toma en cuenta una gran cantidad de trade-off ent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empeñ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é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acilidad de produc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usca un producto competitivo en un nicho y se obtiene el esqueleto del product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54076-47CD-457B-B829-5F868DCBAF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común la utilización de la herramienta de diseño CAD (Computer Aided Design), muy común a nivel mund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eño de casas, plantas, oficinas y fábr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oghurt: sabor, envase, costo, mercado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rina de pescado: diseño de proceso, planta, costos, mercado, capital de riesgo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C6BCA-598B-4FDC-A99B-CF43242BF8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Felipe Castro A.</cp:lastModifiedBy>
  <cp:lastPrinted>2001-07-18T12:51:45Z</cp:lastPrinted>
  <dcterms:modified xsi:type="dcterms:W3CDTF">2004-03-25T01:45:21Z</dcterms:modified>
  <cp:revision>75</cp:revision>
  <dc:subject/>
  <dc:title>Modelamiento Físico de Interfaces</dc:title>
</cp:coreProperties>
</file>