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8B12-6B9B-460D-9A44-A94BBA673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DB24-BFFB-4D35-9E9E-DC2F9FEFB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4CA1-7E09-47E1-90AB-EFF6E73EC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A9D4-A1B5-4924-A68F-3FA66C350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9985C-DD6B-4AD4-B41A-B27E3E8E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D4682-204D-4F43-8640-65A749BF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9376D-56CE-42AF-BAA0-E009F929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D1C68-83DC-4837-B65D-FE1E546D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CF246-95D0-48CD-9FC8-119B2527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7B815-0653-4FED-B287-6F1A3FA8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F1DFA-2C92-409F-948C-6AF20F30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4D8B-A9D6-43D4-A5AD-A07D366F5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5D4F1-447E-483F-A771-4C4FDF8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1F43F-0143-4FF0-94AF-CA559D30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51FCA-C453-4BC8-8698-5E71A330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22AC5-96DC-47B7-B641-1299EC2D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6F040-FDEF-4FBB-9A1A-685BA44E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73ED9-4C3F-482D-B9A0-0D1EE62DA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16CD-4DA3-4366-9945-9359AB8E7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9E8B-7822-4B61-B1FF-9F1AF3B9B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7100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260D-0805-4635-A860-A173792E4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7A27-4AAF-4A90-B033-8D01ADFE3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E166-72A2-4592-84E3-D7A4DD231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A91A-0C6A-4451-A964-0C1E172669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349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99AF-7196-40FA-A6E2-BB9B0B497993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529B-C768-43DB-8434-D253BD39C649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505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2: Diseño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4.- Construcción del Prototi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 etapa del proceso consiste en producir un producto para prueb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da de 1.000 un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D o modelo de prueb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c Donald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meros restaur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o servicio en sólo una sucurs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7E761-E597-40BA-99C1-AA16C16037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5.- Prueb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scan verificar el comportamiento de los prototipos, es decir, verifican su desempeño técnico y comerc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lanta pilo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esca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supermerc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st en pista o laborato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nco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cuestas y medi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mético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hibición en tiendas para ver reacción de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úbl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6617-5DA0-40DD-8E46-4AC396B4F8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6.- Diseño Definitivo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sarrollan dibujos y especificaciones para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ción de CAM (Computer Aided Manufactu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D8FD-48A2-440F-A85A-9A7CF21D0D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64200" cy="402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18920" y="551988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Mortalidad de las Ideas de Nuevos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CADA4-DF98-4A24-BD75-9D6C383770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Áreas funcionales normalmente involucradas en el proces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ket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ven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geniería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diseñ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ufactura y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bjetivo: fabric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C98C-2F8D-4F77-A2C6-875A8A5442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nombres de actualida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Quality (DFQ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ted Product and Process Design (IPP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ign for Manufacturability (DF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ality Function Deplyment (QF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ice of the Costumer (VO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lemento de las tecnologías habilitantes: CAD/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8D6C-7BE3-4822-8CE6-251EE85C06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ctores 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lla de alineación en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peraciones no puede fabricar el producto diseñado por el área de Investigación y Desarrollo (I&amp;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fraestructura existente puede no ser la más adecuada para la fabricación d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sugiere un enfoque simultáneo entre las áreas de Investigación y Desarrollo, Mercadotecnia y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necesario tener un ambiente de innov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importante incluir a los provee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B8831-0BA9-4E39-9141-ABA5B904403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la Tecnologí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844640"/>
            <a:ext cx="8077320" cy="3260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84000" y="5214960"/>
            <a:ext cx="41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teracción entre l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7BD7-4116-42FA-A9BC-49B1F95B98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subcontratistas (proveedores) fabrican parte del producto, luego su integración en el diseño es importa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orma tradicion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tregar especificaciones y esperar resul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integrad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bajar en conjunto con los proveedores para un mejor dis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lementar integración física e informátic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83348-F337-4A3B-A0CE-23CF4C6C30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egración para el Diseñ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tros aspectos importante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de los clientes al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tegración permanente de operaciones y fabricación con los diseñadores (diseño para la manufacturabilida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rucción temprana de prototip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CCA9-4F98-4916-AEED-5499F6AE10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diseño de nuevos productos es vital para la supervivencia de las empres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as líneas de ro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uevos modelos de a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bancarios en lí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cluye tanto a bienes como a servici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DEB05-B855-4B73-A0E0-6642C58CD1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dicado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tro de las medidas de efectividad y eficiencia que podemos aplicar al proceso se tien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de Desarrol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dicadores financier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o de recur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de Diseñ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el cliente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a la manufactura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 de Desarrol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CEA81-08FA-48DD-9F37-6A230934FE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productos van cambiando durante su ciclo de vi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diseñ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ciones (tecnológicas o de mercad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tos (Museo Ford en Detro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léfo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rtículos domés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AD49-8BEC-44EC-BFD4-9A895B31B5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tapas en la innovación de productos y proce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con cambios constantes debido a a incertidumbre en el mercado o cambios tecnoló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jo nivel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 genéricos que se pueden ir cambiando con fac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 y proceso en fluid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tas velocidades de innov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coordinación y eficiencia en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A4ED-CA59-432D-A54B-1C985469FD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al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etencia por produc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álida para productos y proces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rece competencia por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nores cos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eficiencia y control de la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automatiz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volum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flexibi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83854-5507-45B2-B5D8-4DFC5A4024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tapa II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durez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ción de los productos llegando a convertirse en commod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competencia de prec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uerte interconexión e integración entre producto y proce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a flexibilidad producto - proceso (rigidez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4470-6703-4AE8-A5CE-B8114E8FED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Interacción entre Diseño de Producto y Proce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278400" cy="445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391040" y="588168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Modelo Dinámico de la Innovación en el Producto y en 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3B31-60E8-42B3-96A4-E6C986DDC6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álisis del Val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iminar todo aquello que origina costos y no agrega valor al producto o servic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 valor corresponde al percibido por el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1E71-4FAD-4E3F-82D3-EE59955AA8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Variedad de Product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 acuerdo a los requerimientos de mercado es necesario tener alto número de productos (opciones para el client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leva a más ventas, pero también a mayores costos de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ver el trade-off entre los costos directos e indirectos de una línea versus su impacto en las ventas glob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PR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i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EF5B-7695-4877-8339-1B8012F73C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iseño Mod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mite alta variedad de productos con un pequeño número de productos genér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reras universit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quetes turís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44E7-92CE-44BA-8582-EE54735E9C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pende de las interacciones existentes entre el mercado, la tecnología y las opera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 de productos que dependen más del merca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op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lícul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i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 de productos que dependen más de la tecnolog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ectrónica (vide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dban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E1EF-E1EB-47E2-AB81-DD6BC24C35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Generación de Ide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se pueden generar a partir del mercado (necesidades del consumidor) o a partir de la tecnolog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plantear muchas ideas para que resulten algu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22DD-7799-45CE-BE39-9D14B36D1C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2578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8724-0B30-4CF6-888B-56C1BB9852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Selección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ideas para nuevos productos deben pasar por las siguientes prueb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tencial de merc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atibilidad con las operaciones, otros productos y estrategi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tibilidad técnica, económica y financi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e análisis, preliminar, permite quedarse con las ideas más prometedor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51292-20EA-4D63-815F-F6D4741F06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alta calida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capacidad tecnológic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s versus mejor pre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olsa electrón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dispone de la tecnologí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xisten suficientes client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Se tiene la seguridad adecuad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ómo calza con los otros product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Le gustaría a algún sector del mercad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1DEE5-C93E-4078-A9EA-215D655357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3.- Diseño Preliminar del Produc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diseño preliminar se toma en cuenta una gran cantidad de trade-off ent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empe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é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acilidad de produci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un producto competitivo en un nicho y se obtiene el esqueleto del product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4DF36-5592-4CF8-B5DF-A75E43FFBD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920" y="17100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Proceso de Desarrollo de Nuevos Produc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común la utilización de la herramienta de diseño CAD (Computer Aided Design), muy común a nivel mund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casas, plantas, oficinas y fábr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Yoghurt: sabor, envase, costo, mercad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arina de pescado: diseño de proceso, planta, costos, mercado, capital de riesgo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2: Diseño de Produtos   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E923-D1B8-4E8B-A52B-0408890E91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Felipe Castro A.</cp:lastModifiedBy>
  <cp:lastPrinted>2001-07-18T12:51:45Z</cp:lastPrinted>
  <dcterms:modified xsi:type="dcterms:W3CDTF">2004-03-25T01:45:21Z</dcterms:modified>
  <cp:revision>75</cp:revision>
  <dc:subject/>
  <dc:title>Modelamiento Físico de Interfaces</dc:title>
</cp:coreProperties>
</file>