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C9B6-F055-4893-B43B-102500815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17AF-6215-4292-8CA2-65553B904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8E215-BD59-43DA-8A5D-2FDAC8236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B762-55B1-4CF9-84F0-BB7AB99A7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A8196-C7F5-4C5E-A7A7-DB02FE52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C1D9E-ADAF-432A-AE72-FD4CC3A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5B6FD-6231-4E2A-9A14-DBE63429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AE184-50B3-40A1-A901-797A2870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CFFB7-2A28-46C1-8446-66F29807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17100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1BB2A-12C9-46A3-9965-C8B4D389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1E0AA-7470-4DB1-856F-6D58C107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16A7-A651-4A5C-978E-AF97DCAEC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BE295-5AF2-4F75-90B9-4819AE69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C30E2-81BC-4B1F-B8C2-E33AE6AF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998E2-CFE6-4A83-AEE8-6CB5C425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88DF3-6898-4B43-B991-165EC62D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A8983-C323-4456-AF09-0B2CB378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C8D5-B7BF-4B94-8B23-50A26D9C3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3AB7-9E31-4B8B-92C5-575498DB8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25A6-3F7C-4214-BF88-25067E619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920" y="17100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1239-596D-474F-A0B1-59483E1FA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0AA4-B56E-41C5-9804-14048B2E6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2AAD-7095-472A-B065-405B95E1A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FC42-14EA-48A2-BA98-0ED836E96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991F-AA14-42BE-A47C-A24F3B17E5A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3130-E178-4F8D-9E08-F8A758B892EC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3505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2: Diseño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onstrucción del Prototi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 etapa del proceso consiste en producir un producto para prueb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da de 1.000 un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 o modelo de prueb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ilo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meros restaur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n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o servicio en sólo una sucurs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FB460-E0E3-4143-933B-855BC1A385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Prueb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scan verificar el comportamiento de los prototipos, es decir, verifican su desempeño técnico y comerc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ilo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esca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st en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st en pista o laborato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n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cuestas y medi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métic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hibición en tiendas para ver reacción de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úbl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23F3-91BA-42EE-AC9B-F2D34746C0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Diseño Definitivo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sarrollan dibujos y especificaciones para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ilización de CAM (Computer Aided Manufactu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4807-9EA1-4AEF-9EB8-8EB619039F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64200" cy="4020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18920" y="551988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Mortalidad de las Ideas de Nuevos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2D1B-05E4-4544-9897-8451653D23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Áreas funcionales normalmente involucradas en el proce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ket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ven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geniería de Diseñ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diseñ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ufactura y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fabric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FE88-5377-4EE1-B614-0B2EE2EC5E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nombres de actual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ign for Quality (DFQ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ted Product and Process Design (IPP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ign for Manufacturability (DFM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ality Function Deplyment (QF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ice of the Costumer (VO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lemento de las tecnologías habilitantes: CAD/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D657-3A42-4322-8860-944B84F4F3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la Tecn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es 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lla de alineación en la tecnolog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peraciones no puede fabricar el producto diseñado por el área de Investigación y Desarrollo (I&amp;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fraestructura existente puede no ser la más adecuada para la fabricación d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un enfoque simultáneo entre las áreas de Investigación y Desarrollo, Mercadotecnia y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tener un ambiente de innov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importante incluir a los provee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9FB0-C0D2-424D-A385-B98656E373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la Tecn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844640"/>
            <a:ext cx="8077320" cy="3260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84000" y="521496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teracción entre l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1124-B1E0-4BDD-AD14-4263B9C212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para el 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subcontratistas (proveedores) fabrican parte del producto, luego su integración en el diseño es importa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tradicion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gar especificaciones y esperar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integrad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bajar en conjunto con los proveedores para un mejor dise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lementar integración física e informátic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9282-E39F-408F-8F86-FE29E24444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para el 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tros aspectos importante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tegración de los clientes al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tegración permanente de operaciones y fabricación con los diseñadores (diseño para la manufacturabilida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rucción temprana de prototip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2162F-0D7F-44AB-B24D-E8414BC168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diseño de nuevos productos es vital para la supervivencia de las empres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as líneas de ro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os modelos de a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bancarios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cluye tanto a bienes como a servic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7471-B40D-4F15-8540-0463B53679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tro de las medidas de efectividad y eficiencia que podemos aplicar al proceso se tien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Desarrol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icadores financi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de Diseñ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el cliente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manufactura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 de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1634-AE97-448D-87AC-CDEBE46F89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roductos van cambiando durante su ciclo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dise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ciones (tecnológicas o de mercad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 (Museo Ford en Detro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ículos domé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A18C-4860-4D51-8062-9A6B1B4F89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tapas en la innovación de productos y proce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con cambios constantes debido a a incertidumbre en el mercado o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nivel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genéricos que se pueden ir cambiando con fac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 y proceso en fluid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as velocidades de innov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a coordinación y eficiencia en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1C586-A016-4DDD-8918-88A159A35F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al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 por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álida para productos y proce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e competencia por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es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eficiencia y control de la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automat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volum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8D87-8C29-4915-B132-BED4B76036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I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ción de los productos llegando a convertirse en commod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rte competencia de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rte interconexión e integración entre producto y proce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a flexibilidad producto - proceso (rigidez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DB22-F23E-4D85-A963-BD8C5069A6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278400" cy="445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91040" y="588168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Modelo Dinámico de la Innovación en el Producto y en 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869E-43E9-483E-B8F3-E4DFDCD38B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álisis del Val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iminar todo aquello que origina costos y no agrega valor al producto o serv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valor corresponde al percibido por el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41FC-B6B3-47D3-A6F6-ADEE53919C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Variedad de Produ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acuerdo a los requerimientos de mercado es necesario tener alto número de productos (opciones para el client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leva a más ventas, pero también a mayores cost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el trade-off entre los costos directos e indirectos de una línea versus su impacto en las ventas glob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PR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99CC-2AD6-4F5A-BE1D-554B86DE75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seño Mod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mite alta variedad de productos con un pequeño número de productos genér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reras universit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quetes turís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BD35-9935-4F7F-9EAE-4A90FF0CBD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ende de las interacciones existentes entre el mercado, la tecnología y las oper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productos que dependen más del merca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 de productos que dependen más de la tecnolog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ectrónica (vide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ban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FB62-38F8-447F-9D14-714F1A735A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Generación de Ide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ideas se pueden generar a partir del mercado (necesidades del consumidor) o a partir de la 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plantear muchas ideas para que resulten algu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3754-5D6E-4DD7-B0CF-26B036BCE3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2578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8F5A-6BDE-489D-B487-093B5B196C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elección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ideas para nuevos productos deben pasar por las siguientes prueb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tencia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tibilidad con las operaciones, otros productos y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tibilidad técnica, económica y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e análisis, preliminar, permite quedarse con las ideas más prometedo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C536-A53C-45AE-A830-967B9C4703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 de alta calida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tiene la capacidad tecnológic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s versus mejor pre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lsa electrón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dispone de la tecnologí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xisten suficientes client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tiene la seguridad adecuad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ómo calza con los otros product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Le gustaría a algún sector del mercad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5A00-717A-47DB-8C7B-E832EABCA0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eño Preliminar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diseño preliminar se toma en cuenta una gran cantidad de trade-off ent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empe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é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ilidad de produc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un producto competitivo en un nicho y se obtiene el esqueleto del product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1553-C06E-4987-8314-5104A0E1E8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mún la utilización de la herramienta de diseño CAD (Computer Aided Design), muy común a nivel mund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casas, plantas, oficinas y fáb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 sabor, envase, costo, mercad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 de pescado: diseño de proceso, planta, costos, mercado, capital de riesg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A8FC-FABD-4A74-B14E-3AB7F736B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Felipe Castro A.</cp:lastModifiedBy>
  <cp:lastPrinted>2001-07-18T12:51:45Z</cp:lastPrinted>
  <dcterms:modified xsi:type="dcterms:W3CDTF">2004-03-25T01:45:21Z</dcterms:modified>
  <cp:revision>75</cp:revision>
  <dc:subject/>
  <dc:title>Modelamiento Físico de Interfaces</dc:title>
</cp:coreProperties>
</file>