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AC31-A0D3-4239-849E-6A4835BA5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BA7BF-C784-4C60-B52F-A1DF86005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81C3-DAAD-4720-8439-A22370052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872A-F226-4758-A3D2-2D33613EF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559BE-ED14-45AA-AD20-E06E1911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E5FE4-B134-47C7-9355-8FC89B29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CCE51-59A3-475B-9D6F-292AA926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653E9-90A5-4B10-AC69-B06AAE9D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D8E60-83DC-4F4E-A06A-CA06E5E2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0F3CE-A9E8-47E7-96C5-62BAD6E6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FC822-D25C-4271-BC03-5B18719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E1F9-996D-4613-89D0-FBB86D97A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5C442-243A-4AC4-A556-6936D088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B8DCF-73DF-4571-A82E-7DED1A9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AA1FC-CA0F-4EE3-87C1-E6E16DC2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EC55F-15C3-4EAC-B326-F21C2E59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5FF8F-13A1-4D6F-9109-4F1AC52E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0772-906A-4186-A08F-585FA466C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AD40-8564-487D-B013-F601D9884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3F98-4F5E-4A02-8860-4C797BDAA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44E9-BECA-402C-8E5E-410855C4C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77CB-3603-4564-A7D7-237F575D0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EFF80-97E3-42B8-9EED-793B8649E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8250C-617C-4E73-A7B9-8FA13001B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097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B08E-B67C-45F4-A050-3CED31AD338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6BD6-D995-4112-9DA1-1C1FA356CE48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Comida Rápida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EAD4-3385-4FD2-BBFD-ADBC1FFA65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DF35-DBA6-48BC-B8E9-7DEE2D26DF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A13B-5062-4FE5-B0B9-96026156E1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DE222-222A-40F8-8A77-1BD029F833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en algunos casos a nivel de toda la cadena del val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7BB25-2006-47DE-B03E-3537378EEB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r a nuestros clientes con más y mejores productos en menos tiempo y cuando ellos lo quieran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se ve hoy como un área llamada a jugar un papel en la estrategia del negocio de la empresa moderna, convirtiéndose en un elemento de 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ventaja competitiv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A653-207F-4E63-8B2A-03F2366923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C48F5-748F-4924-B263-84145FE8B4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1108-1E02-4223-AD01-6E6AB1052B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389D-0B5A-42F6-BA4F-986D5831D6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F5FB-3C11-4D20-9CCC-ED4F434F9A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3A1D3-7E6F-4144-8B99-0FE479FD38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64CF-C181-42D4-86AE-45AAFBD073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B9F2-40ED-4712-94B8-CF0B6872F1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50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2265-47D6-4ABE-B734-1609183FE0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404F-C6EC-47A5-B652-B0A6FDC6B1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3CFC-6B18-4021-B46E-9F74A2A114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dela Empre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untos importantes hoy en d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empresas deben poseer una correcta visión del mercado en que se mueven y su evolució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estar integradas a cabalidad con otros aspectos de la empresa, en particular con la estrategia corporativa y la creación de nuevos produc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asegurar la calidad de los productos y procesos para que el cliente reciba lo que qui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A0F9-817C-4767-B9D1-6021C5B8C9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Organizaciones de Clase Mundi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ción de todas sus fun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la c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proporcionar VALOR a su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loración fuerte del capital huma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nov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tantemente miden su rendi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C8BA4-D9A4-455F-93F2-B3C86A8118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aradigmas de Ho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D19D-90DA-47F4-A52C-470304208B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57E6-5C35-45F8-A986-02E40F00B6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idades del Ámbito de las Op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ción de los product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acciones banc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los vuelos diarios de una línea aé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porte al interior de la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5CE7-1FD4-40E3-AAE3-1C41FAB73D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o de His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existe desde los inicios de la historia (pirámid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“artesanal” hasta el siglo XVII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Industr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as concepciones económ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visión del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ición de máqui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icio de la visión “productivista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2DD6-6288-4DB6-8591-13B56198A7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gunda Guerra Mund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genera una gran cantidad de problemas en el ámbito operacion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gística y abastecimien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ción “masivamente en masa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ece la Investigación de Op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úspide de la producción en masa tradicional en los años 7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6AF3-E813-4EA2-A03B-B3149C25E3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60DDB-B90C-4DDB-903E-EF45E038CD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C101-DFBB-4D93-ABCA-D87769A169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5AFCB-99C9-4798-926D-509E350C2C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Antoine Sauré Valenzuela</cp:lastModifiedBy>
  <cp:lastPrinted>2001-04-12T20:51:56Z</cp:lastPrinted>
  <dcterms:modified xsi:type="dcterms:W3CDTF">2001-08-28T15:47:28Z</dcterms:modified>
  <cp:revision>159</cp:revision>
  <dc:subject/>
  <dc:title>Comercio Electrónico</dc:title>
</cp:coreProperties>
</file>