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528C3-00D7-400D-8B55-71E3A25727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0404C-852E-4D52-BA42-8214ED39BF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DA2F4-91EF-46F0-8728-853F120639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F1D27-5D6E-4138-A9CC-78A15AEC7A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37D261-B1B5-4118-96F2-BF1044B0B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DC1BBB-27C1-4EC5-9A38-920825381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758FA7-1F6C-47DD-9D7B-F664A9B86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F07695-4950-4420-B8BB-0DC031ABF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28D857-5BDA-4631-B284-35B501A28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441EB6-907D-4715-9EB4-4EAAFF24C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C391B4-0594-4EF4-ABF2-AD0C694B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93DF1-BAC9-408E-869A-FC4B951649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D33AE0-EDC5-4172-BF20-29590C70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E37E6A-7240-46BB-A479-753564DA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684D79-C53D-4ACC-8EF1-68E1368B9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1F58F4-5730-4DE2-9F91-7D0A0F2D5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15A75F-F088-4E50-850A-C4937922B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7CCAD-01F2-44E3-B4D7-0DC7E4FC1D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96424-8C43-4C5C-977D-FB395B1DB2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45C83-97AC-4DB3-84F6-8C7CEEF01B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83568-380B-4A62-A2FC-B0A26A55AD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3EF31-D316-40CA-8C14-DC5193B29C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CD38D-EFDB-4663-B7C0-F86560588A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86586-36BE-440B-A268-7B49DBC494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5409720" y="6273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86085-06D8-4B66-A3A8-D300B935F247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DBC66-C00C-4835-9C5D-DECC940A7F2E}" type="slidenum"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342900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Tema 1: La Función de Oper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Decisiones Ti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blemática de la Industria de Comida Rápida (servicio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nsar en el mercado que se quiere atac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nsar en qué tipo de comidas ofrecer y cuál será el “tamaño” del merca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eñar los distintos menú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er cómo se preparará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nsar en las instalaciones: cuántos restaurantes tendremos y dón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veer los recursos financieros apropi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7AE85-D7B9-4E59-A0B8-621EA100BAD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Decisiones Ti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nsar en los equipos y tecnología que necesitarem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Ya en funcionamiento, hacer planes sobre los requerimientos para los próximos me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ía a día, coordinar todo, controlarlo todo y cumplir con la atención adecuada a nuestros clien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antener abastecidos a los diversos locales desde nuestras bodegas centr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tender reclamos y sugerenci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1BF84-DAC4-440E-9561-7008E1D57D5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Decisiones Ti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xisten decisiones que son comunes para manufacturas y servici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udiar mercados y su tamaño: deman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eñar productos y proces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nsar en instalaciones, equipos, tecnología y financiamien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lanificar” para los próximos meses o perío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solver los problemas de “logística”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tender adecuadamente  a los clientes, en la venta y postven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CC7FF-C8E5-405D-8DCA-48143E7000A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Decisiones Ti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dministrar inventar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segurar la calidad de los productos y servic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0CF54-E373-4145-B23A-5E598BDBB9F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Gestión de Operaciones abarca todos los temas anteriores, aunque algunos parezcan de otros ámbi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visión moderna se orienta a analizar y administrar las operaciones en forma integral y global a nivel de toda la empresa (en algunos casos a nivel de toda la cadena del valor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visión moderna va entonces mucho más allá de la tradicional “producción manufacturera”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73D0C-C5D7-46F6-A74C-536F7BC3940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ólo teniendo en cuenta lo anterior se puede lograr la EXCELENCI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Llegar a nuestros clientes con más y mejores productos en menos tiempo y cuando ellos lo quieran”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Gestión de Operaciones se ve hoy como un área llamada a jugar un papel en la estrategia del negocio de la empresa moderna, convirtiéndose en un elemento de </a:t>
            </a: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ventaja competitiva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5AC70-9B96-4FA7-A9FC-A341FB0FE5F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cisiones estratég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ablecer políticas administrativas y desarrollar recursos necesarios para satisfacer requerimientos consistentes con metas específic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finir metas, recursos necesarios y políticas básicas para el éxi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cisiones táct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ceso para asegurar la obtención y uso  eficiente de recursos para cumplir objetiv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lanificación agregada (anual), decisiones de producción, personal, inventario, marketing, finanza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7D70F-A9F2-4942-B512-B6A11AE6024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cisiones operativ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lacionadas a tareas específicas, a lo que se hace día a dí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454D3-FFC2-477A-BDF4-B1F965E4689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7620120" cy="324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BC02C-29E2-4E15-B094-9D604F64DE6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s conceptos de largo, mediano y corto plazo son relativos al período que toma cada ciclo del negocio. La magnitud de éstos cambia según la industr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dustria Forest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dustria Electrónica de Consum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dustria de Retail (Supermercados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factor “Incertidumbre” está presente en toda decisión y puede llegar a ser muy importante. Además varía según el nivel de decis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16FB4-D8E4-4B20-A1D6-56402119414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¿Qué es la Gestión de Operacion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udio de los conceptos, métodos y herramientas necesarias para enfrentar y resolver los problemas relacionados a la producción de BIENES y SERVIC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encuentra al centro de toda organización productiv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da empresa tiene algo que vender o proveer (satisfacer una  necesidad) y esto debe ser produci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78BE4-D63F-4B6F-9FC0-2E282F76DEC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cisiones estratég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Qué tipo de electrodomésticos fabricaremos y comercializaremo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Dónde ubicaremos nuestros restaurante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cisiones tác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Cuánto producir en los próximos 12 meses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Cuánto personal contrataremos para la temporada de ventas alta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Cuánta materia prima importada necesitamos para el próximo período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A2D99-2676-43DD-8630-2C1B5952469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Cuál es el número de camiones necesarios para transportar fruta en la siguiente temporada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cisiones operativ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signación de trabajos a maquinaria en fábricas (¿Qué hacer, y en qué máquinas, las próximas 2 horas?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edidos de repuestos y materias prim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gramación diaria de vehículos (¿Qué camiones despachamos durante la próxima hora?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gramación diaria de producción de leche y queso en una planta (¿Cuánto producir hoy?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2AE05-5D10-4144-8234-DA0B6518F81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gregación y desagregación de información y decision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371600" y="3047760"/>
            <a:ext cx="7229160" cy="2925720"/>
            <a:chOff x="1371600" y="3047760"/>
            <a:chExt cx="7229160" cy="2925720"/>
          </a:xfrm>
        </p:grpSpPr>
        <p:grpSp>
          <p:nvGrpSpPr>
            <p:cNvPr id="150" name=""/>
            <p:cNvGrpSpPr/>
            <p:nvPr/>
          </p:nvGrpSpPr>
          <p:grpSpPr>
            <a:xfrm>
              <a:off x="1846080" y="3047760"/>
              <a:ext cx="6308640" cy="2925720"/>
              <a:chOff x="1846080" y="3047760"/>
              <a:chExt cx="6308640" cy="2925720"/>
            </a:xfrm>
          </p:grpSpPr>
          <p:grpSp>
            <p:nvGrpSpPr>
              <p:cNvPr id="151" name=""/>
              <p:cNvGrpSpPr/>
              <p:nvPr/>
            </p:nvGrpSpPr>
            <p:grpSpPr>
              <a:xfrm>
                <a:off x="4131720" y="3048120"/>
                <a:ext cx="1554120" cy="2651040"/>
                <a:chOff x="4131720" y="3048120"/>
                <a:chExt cx="1554120" cy="265104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4131720" y="3048120"/>
                  <a:ext cx="1554120" cy="639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ahoma"/>
                    </a:rPr>
                    <a:t>NIVEL ESTRATEGIC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131720" y="4053600"/>
                  <a:ext cx="1554120" cy="639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ahoma"/>
                    </a:rPr>
                    <a:t>NIVEL TACTIC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131720" y="5059440"/>
                  <a:ext cx="1554120" cy="639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ahoma"/>
                    </a:rPr>
                    <a:t>NIVEL OPERATIV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4497120" y="3687480"/>
                  <a:ext cx="0" cy="3654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flipV="1">
                  <a:off x="4497120" y="4693320"/>
                  <a:ext cx="0" cy="3654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5320080" y="3687840"/>
                  <a:ext cx="0" cy="3654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5320080" y="4693680"/>
                  <a:ext cx="0" cy="3654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9" name=""/>
              <p:cNvSpPr/>
              <p:nvPr/>
            </p:nvSpPr>
            <p:spPr>
              <a:xfrm>
                <a:off x="2302920" y="3230640"/>
                <a:ext cx="146268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Largo Plaz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302920" y="4053600"/>
                <a:ext cx="146268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Mediano Plaz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302920" y="5242320"/>
                <a:ext cx="146268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Corto Plaz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V="1">
                <a:off x="2760120" y="368748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2760120" y="469332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308760" y="368784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308760" y="469368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960520" y="3048120"/>
                <a:ext cx="182844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Objetiv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Cliente - Product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143400" y="4053600"/>
                <a:ext cx="155412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Uso Eficiente de Recurs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869080" y="5059440"/>
                <a:ext cx="2102760" cy="91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Acciones sobre recursos, productos y agent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6417360" y="368748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V="1">
                <a:off x="6417360" y="469332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240320" y="368784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240320" y="469368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V="1">
                <a:off x="1846080" y="3047760"/>
                <a:ext cx="0" cy="2742840"/>
              </a:xfrm>
              <a:prstGeom prst="line">
                <a:avLst/>
              </a:prstGeom>
              <a:ln w="3168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154720" y="3048120"/>
                <a:ext cx="0" cy="2651400"/>
              </a:xfrm>
              <a:prstGeom prst="line">
                <a:avLst/>
              </a:prstGeom>
              <a:ln w="3168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 rot="16200000">
              <a:off x="655920" y="4259520"/>
              <a:ext cx="179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99"/>
                  </a:solidFill>
                  <a:latin typeface="Tahoma"/>
                </a:rPr>
                <a:t>INFORMAC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5418000">
              <a:off x="7787160" y="4188600"/>
              <a:ext cx="125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99"/>
                  </a:solidFill>
                  <a:latin typeface="Tahoma"/>
                </a:rPr>
                <a:t>DECI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0902B-3FC3-4FEC-A6F1-FBA7B98CB56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Proceso de Toma de Decisiones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etodologí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. Definición del Problema (¿Qué tipo de decisión es?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2. Generación de Alternativ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3. Evaluación de Alternativ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4. Selección de Alternativ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5. Implement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B6F7C-86C3-450D-9A11-0783F09A612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Proceso de Toma de Decisiones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ahoma"/>
              </a:rPr>
              <a:t>Criterios de elección: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Costos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Calidad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Confiabilidad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Flexibilidad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ahoma"/>
              </a:rPr>
              <a:t>Conceptos importantes: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Trade-off o intercambio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Múltiples objetivos (institucionales vs personales)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Riesgo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BNA, crecimiento, prestigio, porcentaje de mercado, etc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49C03-E057-4EFC-9AF2-3703F6609EF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strategia dela Empres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lgunos puntos importantes hoy en dí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s empresas deben poseer una correcta visión del mercado en que se mueven y su evolución a futur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s operaciones deben estar integradas a cabalidad con otros aspectos de la empresa, en particular con la estrategia corporativa y la creación de nuevos produc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s operaciones deben asegurar la calidad de los productos y procesos para que el cliente reciba lo que quie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4B3A8-6079-4270-ADD5-64859C3AB77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99"/>
                </a:solidFill>
                <a:latin typeface="Tahoma"/>
              </a:rPr>
              <a:t>Organizaciones de Clase Mundial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ntegración de todas sus funci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uerte orientación a la cal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uerte orientación a proporcionar VALOR a sus clien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aloración fuerte del capital human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nnovativ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nstantemente miden su rendimien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97C12-D3DE-4FE8-A018-60BFE921EBC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aradigmas de Ho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43000" y="17161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lidad Total y Mejoramiento Continu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ción Ajustada (Lean Productio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Just in Time (JIT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ingenierí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ptimización integral de la cadena de agregación de valor (Suma Positiva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eño integrado para la calidad y la manufacturabil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D, CAM, CAE, CI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s de apoyo a la toma de decisiones (MRP, ERP, etc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5723B-163D-4D46-BF9B-E884C50398F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152000" y="2819520"/>
            <a:ext cx="4596480" cy="2189520"/>
            <a:chOff x="1152000" y="2819520"/>
            <a:chExt cx="4596480" cy="2189520"/>
          </a:xfrm>
        </p:grpSpPr>
        <p:sp>
          <p:nvSpPr>
            <p:cNvPr id="104" name=""/>
            <p:cNvSpPr/>
            <p:nvPr/>
          </p:nvSpPr>
          <p:spPr>
            <a:xfrm>
              <a:off x="1152000" y="2819520"/>
              <a:ext cx="1531080" cy="2189520"/>
            </a:xfrm>
            <a:prstGeom prst="rect">
              <a:avLst/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INSUMOS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Mano de O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Materia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Energí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Inform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191120" y="2819520"/>
              <a:ext cx="1557360" cy="2189520"/>
            </a:xfrm>
            <a:prstGeom prst="rect">
              <a:avLst/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PRODUCTOS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Bie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Servici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43200" y="3505320"/>
              <a:ext cx="1371600" cy="761760"/>
            </a:xfrm>
            <a:custGeom>
              <a:avLst/>
              <a:gdLst>
                <a:gd name="textAreaLeft" fmla="*/ 214200 w 1371600"/>
                <a:gd name="textAreaRight" fmla="*/ 1200240 w 1371600"/>
                <a:gd name="textAreaTop" fmla="*/ 190440 h 761760"/>
                <a:gd name="textAreaBottom" fmla="*/ 57132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Proces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6629400" y="3962520"/>
            <a:ext cx="1905120" cy="218952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SERVICI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du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alu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rr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Transpor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munic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629400" y="1676520"/>
            <a:ext cx="1905120" cy="218952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BIEN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elulo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ue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ine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Zapa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Fru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77120" y="1523880"/>
            <a:ext cx="2209680" cy="480060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1041A-954B-4098-8AB8-01276D368FE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ctividades del Ámbito de las Operacion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cesos de Manufactur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tribución de los productos a los clien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ransacciones bancari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gramación de los vuelos diarios de una línea aére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ransporte al interior de la fábric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lmacenamien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21354-33DD-4532-B30E-647E5CF4793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Anteced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lgo de Histori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Gestión de Operaciones existe desde los inicios de la historia (pirámide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ción “artesanal” hasta el siglo XVII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volución Industria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uevas concepciones económic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ivisión del trabaj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parición de máquin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icio de la visión “productivista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3576A-28D9-4640-B1A6-9CED849FDF3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Anteced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47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gunda Guerra Mundia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247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genera una gran cantidad de problemas en el ámbito operacional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247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Logística y abastecimient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247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ducción “masivamente en masa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247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parece la Investigación de Operaci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247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úspide de la producción en masa tradicional en los años 70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247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247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FE45F-5249-463B-A4A8-4452FB52ABD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Anteced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volución Japones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o que no aporta valor agregado es desperdici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ventari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ransport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iezas fallad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lexibilidad: ajuste rápido a la deman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so bicicletas en Japó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so Aserrader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lidad: cumplir con las expectativas de los clie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ean Manufacturing, Total Quality y Just in Tim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3BE4F-ABC9-412D-A76F-2BEA7645AB2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Decisiones Ti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43000" y="17161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blemática de la Industria de electrodomésticos (manufactura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nsar en qué mercados queremos “atacar”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btener ideas de lo que el mercado necesita y su potencial demand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eñar el produc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eñar e implementar la forma de fabricarl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cidir si se necesitarán nuevas instalaciones, de qué características y en qué lug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veer los recursos financieros apropi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295C5-6911-4F2C-8EF1-4E2474A5811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Decisiones Ti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Ya en producción, hacer planes sobre requerimientos para los próximos doce me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mana a semana programar todos los procesos para cumplir con los pla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ía  a día “apagar los incendios” que se produzca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acer llegar los pedidos a los clien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tender los requerimientos de servicios en garantía y de postven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4E254-43F3-49A4-95BA-5C53B3C609E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6T14:21:15Z</dcterms:created>
  <dc:creator>Dpto. Ingeniería Industrial</dc:creator>
  <dc:description/>
  <dc:language>en-US</dc:language>
  <cp:lastModifiedBy>Antoine Sauré Valenzuela</cp:lastModifiedBy>
  <cp:lastPrinted>2001-04-12T20:51:56Z</cp:lastPrinted>
  <dcterms:modified xsi:type="dcterms:W3CDTF">2001-08-28T15:47:28Z</dcterms:modified>
  <cp:revision>159</cp:revision>
  <dc:subject/>
  <dc:title>Comercio Electrónico</dc:title>
</cp:coreProperties>
</file>