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39AE-5DBC-403B-87E0-5CD691F7B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71B8-442A-4505-9F12-68BFA3317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515E-7009-43BB-99DE-58336B183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919A-6C4A-42E6-88A9-D72ED46BA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BC135-FDEF-437A-A708-2BE626C4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D37D1-8AFE-41B2-B620-0A5923B2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FCB5B-BA2C-498C-9F15-CEBDD29F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68A2C-6C7D-4982-8D33-80205930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E6A69-DF29-405D-A2CB-654F8B13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B59B1-2605-4896-A132-73052B20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11E58-001B-4C5E-A7A6-07CD41BC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398C-81DF-44A4-B34A-554408AC9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B2096-F5BA-4BCE-8D25-18BF3AF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19034-3289-4765-AA9C-2587DC7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AE8A-67CF-490C-88E0-692E3737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0C963-2D94-4FEC-9294-BDD56D70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BC7BE-F4A4-4469-BA51-502671EF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19C1-F3B6-4E29-AB31-2E9DE3E02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7CE7-0AEB-4905-B7AD-7D2531115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90EB-86E8-4B4F-A8E6-0E7C78497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9F67-8FF5-4C3B-BB02-9DB4103C1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CBBE-1056-4514-95AB-178688B04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4ED2-F5DC-4EFD-8A37-83EB0AB51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3CD8-3804-437D-AFAD-6E69F5448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097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A986-7E41-4079-962D-2E1A513439F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43AF-7DA8-4776-9567-22571F679679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Comida Rápida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4B37-BCF8-47A7-A791-F204E3F99F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6FE9-BE1B-4993-B19A-BD39E41FC9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1C8F-6E29-4990-BBA2-C9822EEF4E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5E8D-14E2-465F-A022-BECDD91183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en algunos casos a nivel de toda la cadena del v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91EA-2579-46F2-B3CB-8AA39C8AA2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r a nuestros clientes con más y mejores productos en menos tiempo y cuando ellos lo quiera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se ve hoy como un área llamada a jugar un papel en la estrategia del negocio de la empresa moderna, convirtiéndose en un elemento de 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ventaja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5075-EAF8-4E6D-9634-BB9D21462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2D38-DB3E-4200-BCD4-AFFDAEE0B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370F-0008-4D4F-9A6A-CD0612EB13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3E6A-167B-40FA-BF81-7F811FF0AA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0C1D-1B78-40EB-B2ED-06E0F1A8B6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2C4F-E5E9-431D-A48B-C053ACDFC7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8CFB-33B9-4442-AE61-B291BA0606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7917-874F-4CC3-AB0B-E520D08F96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50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AB82-86F9-433A-9915-010BD5EEE6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FAAB-106E-4DBD-A87D-FDC52622FB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7EC6-872A-4EA5-8EB0-AB3AF80402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dela Emp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untos importantes hoy en d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empresas deben poseer una correcta visión del mercado en que se mueven y su evolució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estar integradas a cabalidad con otros aspectos de la empresa, en particular con la estrategia corporativa y la creación de nuevos produ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asegurar la calidad de los productos y procesos para que el cliente reciba lo que qui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8094-558A-45E8-811E-150E1A9016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Organizaciones de Clase Mund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de todas sus fun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l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proporcionar VALOR a su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ación fuerte del capital hum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antemente miden su rend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7C51-18B2-4735-B23A-4BB4DE24E9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aradigmas de Ho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127E-5AA2-4D0A-8967-77D85D3CD9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800F-CE83-4253-AA88-538B07FB2E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idades del Ámbito de las Op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os product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acciones banc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los vuelos diarios de una línea aé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porte al interior de la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F0A3-6934-4A97-80D3-8E1FCCA0B0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o de His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existe desde los inicios de la historia (pirámi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“artesanal” hasta el siglo X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Industr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as concepciones económ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s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ición de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icio de la visión “productivista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6B01-336D-4110-8CCF-ED98A640CB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 Guerra Mund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genera una gran cantidad de problemas en el ámbito operacion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gística y abastecimi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ción “masivamente en mas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ece la Investigación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úspide de la producción en masa tradicional en los años 7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5CCF-E627-4A5C-977B-F69F77286F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AA43-1C3E-4AEA-A919-3BAEC28557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FBB9-52C3-490A-A16F-47A9890E1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3AE4-DA8F-4E98-97F0-0BF476AAEC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Antoine Sauré Valenzuela</cp:lastModifiedBy>
  <cp:lastPrinted>2001-04-12T20:51:56Z</cp:lastPrinted>
  <dcterms:modified xsi:type="dcterms:W3CDTF">2001-08-28T15:47:28Z</dcterms:modified>
  <cp:revision>159</cp:revision>
  <dc:subject/>
  <dc:title>Comercio Electrónico</dc:title>
</cp:coreProperties>
</file>