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B0079-CB9B-40C9-A364-29730095E9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A967E-349D-44E0-805F-AF4C68981F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C8EC6-194E-464E-9243-5F044B9E29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17E7D-FDF0-420F-A824-1BB5BE0841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1EEB11-6A48-4C28-AAA0-7264D803A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AB0802-FCAF-4323-84F7-6B9F20277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A740CE-7926-4CEA-8F3E-1AD962DB2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9EF696-6C05-4294-96AB-E7DA77584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F5AC64-DA83-4D9C-970A-9394B9540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447FF8-2853-4FB9-A69F-CEAA45BB3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5A8CA2-BF8D-4E29-850C-17C5387D2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228A1-84D3-465A-87B0-14BF2497C5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AE7C9B-D014-48AE-A973-D11110DF2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D73256-4F3D-4509-AFAD-9F2A6B35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B84E9B-972C-4AD0-B926-5B393DC97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566854-CB57-49DA-8EBE-7A75DB200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B941F7-13FD-46F8-99CF-9D02804BE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BF097-B346-4D08-8E07-F2B90EB0BE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E94A5-8742-4BF1-AFB2-6E539D2276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FAFC9-58BE-482D-B00E-A8A03EE344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8E0FF-3942-4583-B696-FAA0279E66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C40A5-8C53-4188-AE30-F56A211ABF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707A4-B4C7-4806-B8B9-3E0AFC6F28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1B8EC-DCEB-40A8-9E88-9DAE9CCBB0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 rot="21562800">
            <a:off x="5409720" y="6273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1DAEB-4E0C-43A4-9D9B-066AB6863649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D6071-58AA-4E7B-9A16-82502A9A2DDD}" type="slidenum"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342900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Tema 1: La Función de Oper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Decisiones Ti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blemática de la Industria de Comida Rápida (servicio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ensar en el mercado que se quiere atac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ensar en qué tipo de comidas ofrecer y cuál será el “tamaño” del mercad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señar los distintos menú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er cómo se preparará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ensar en las instalaciones: cuántos restaurantes tendremos y dón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veer los recursos financieros apropia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7DE7C-A423-4976-A693-F0F25B5C658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Decisiones Ti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ensar en los equipos y tecnología que necesitarem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Ya en funcionamiento, hacer planes sobre los requerimientos para los próximos me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ía a día, coordinar todo, controlarlo todo y cumplir con la atención adecuada a nuestros clien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antener abastecidos a los diversos locales desde nuestras bodegas centra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tender reclamos y sugerenci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42F39-8F1F-414E-AE17-3CE9312C897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Decisiones Ti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xisten decisiones que son comunes para manufacturas y servici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udiar mercados y su tamaño: deman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señar productos y proces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ensar en instalaciones, equipos, tecnología y financiamien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lanificar” para los próximos meses o perío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solver los problemas de “logística”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tender adecuadamente  a los clientes, en la venta y postven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60E9B-D1E4-4459-820B-D1153469594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Decisiones Ti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dministrar inventar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segurar la calidad de los productos y servic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C42AA-DD4E-44C8-BC32-4C097CF4472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Gestión de Operaciones abarca todos los temas anteriores, aunque algunos parezcan de otros ámbi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visión moderna se orienta a analizar y administrar las operaciones en forma integral y global a nivel de toda la empresa (en algunos casos a nivel de toda la cadena del valor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visión moderna va entonces mucho más allá de la tradicional “producción manufacturera”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3ECBE-4F37-4383-B1E4-C57BDFC43EB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ólo teniendo en cuenta lo anterior se puede lograr la EXCELENCI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Llegar a nuestros clientes con más y mejores productos en menos tiempo y cuando ellos lo quieran”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Gestión de Operaciones se ve hoy como un área llamada a jugar un papel en la estrategia del negocio de la empresa moderna, convirtiéndose en un elemento de </a:t>
            </a: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ventaja competitiva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0978E-CBBB-433B-BE50-C092916353B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iveles de 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cisiones estratégic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ablecer políticas administrativas y desarrollar recursos necesarios para satisfacer requerimientos consistentes con metas específic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finir metas, recursos necesarios y políticas básicas para el éxi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cisiones táctic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ceso para asegurar la obtención y uso  eficiente de recursos para cumplir objetiv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lanificación agregada (anual), decisiones de producción, personal, inventario, marketing, finanza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64B44-6649-40CE-8A3F-2A023D72836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iveles de 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cisiones operativ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lacionadas a tareas específicas, a lo que se hace día a dí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5684E-9E79-4BE7-9DCD-9740637626E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iveles de 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838080" y="2438280"/>
            <a:ext cx="7620120" cy="324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CE96B-DE46-46F5-B163-3420A843607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iveles de 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os conceptos de largo, mediano y corto plazo son relativos al período que toma cada ciclo del negocio. La magnitud de éstos cambia según la industr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dustria Foresta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dustria Electrónica de Consum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dustria de Retail (Supermercados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factor “Incertidumbre” está presente en toda decisión y puede llegar a ser muy importante. Además varía según el nivel de decis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5FF76-8A81-4C02-B41A-2691059CDE7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¿Qué es la Gestión de Operacion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udio de los conceptos, métodos y herramientas necesarias para enfrentar y resolver los problemas relacionados a la producción de BIENES y SERVIC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encuentra al centro de toda organización productiv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da empresa tiene algo que vender o proveer (satisfacer una  necesidad) y esto debe ser producid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A3FC1-0B0E-497E-A025-2C42C453C26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iveles de 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cisiones estratég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Qué tipo de electrodomésticos fabricaremos y comercializaremo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Dónde ubicaremos nuestros restaurante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cisiones tác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Cuánto producir en los próximos 12 meses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Cuánto personal contrataremos para la temporada de ventas alta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Cuánta materia prima importada necesitamos para el próximo período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4F224-21BE-44EA-9737-6F36FAFB098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iveles de 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Cuál es el número de camiones necesarios para transportar fruta en la siguiente temporada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cisiones operativ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signación de trabajos a maquinaria en fábricas (¿Qué hacer, y en qué máquinas, las próximas 2 horas?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edidos de repuestos y materias prim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gramación diaria de vehículos (¿Qué camiones despachamos durante la próxima hora?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gramación diaria de producción de leche y queso en una planta (¿Cuánto producir hoy?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E57DE-98E9-4B65-8B1F-9277DBE292C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iveles de 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gregación y desagregación de información y decision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371600" y="3047760"/>
            <a:ext cx="7229160" cy="2925720"/>
            <a:chOff x="1371600" y="3047760"/>
            <a:chExt cx="7229160" cy="2925720"/>
          </a:xfrm>
        </p:grpSpPr>
        <p:grpSp>
          <p:nvGrpSpPr>
            <p:cNvPr id="150" name=""/>
            <p:cNvGrpSpPr/>
            <p:nvPr/>
          </p:nvGrpSpPr>
          <p:grpSpPr>
            <a:xfrm>
              <a:off x="1846080" y="3047760"/>
              <a:ext cx="6308640" cy="2925720"/>
              <a:chOff x="1846080" y="3047760"/>
              <a:chExt cx="6308640" cy="2925720"/>
            </a:xfrm>
          </p:grpSpPr>
          <p:grpSp>
            <p:nvGrpSpPr>
              <p:cNvPr id="151" name=""/>
              <p:cNvGrpSpPr/>
              <p:nvPr/>
            </p:nvGrpSpPr>
            <p:grpSpPr>
              <a:xfrm>
                <a:off x="4131720" y="3048120"/>
                <a:ext cx="1554120" cy="2651040"/>
                <a:chOff x="4131720" y="3048120"/>
                <a:chExt cx="1554120" cy="265104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4131720" y="3048120"/>
                  <a:ext cx="1554120" cy="639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ahoma"/>
                    </a:rPr>
                    <a:t>NIVEL ESTRATEGIC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131720" y="4053600"/>
                  <a:ext cx="1554120" cy="639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ahoma"/>
                    </a:rPr>
                    <a:t>NIVEL TACTIC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4131720" y="5059440"/>
                  <a:ext cx="1554120" cy="639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ahoma"/>
                    </a:rPr>
                    <a:t>NIVEL OPERATIV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4497120" y="3687480"/>
                  <a:ext cx="0" cy="36540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flipV="1">
                  <a:off x="4497120" y="4693320"/>
                  <a:ext cx="0" cy="36540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5320080" y="3687840"/>
                  <a:ext cx="0" cy="36540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5320080" y="4693680"/>
                  <a:ext cx="0" cy="36540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9" name=""/>
              <p:cNvSpPr/>
              <p:nvPr/>
            </p:nvSpPr>
            <p:spPr>
              <a:xfrm>
                <a:off x="2302920" y="3230640"/>
                <a:ext cx="1462680" cy="63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Largo Plaz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302920" y="4053600"/>
                <a:ext cx="1462680" cy="63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Mediano Plaz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302920" y="5242320"/>
                <a:ext cx="1462680" cy="63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Corto Plaz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V="1">
                <a:off x="2760120" y="368748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2760120" y="469332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308760" y="368784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308760" y="469368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960520" y="3048120"/>
                <a:ext cx="1828440" cy="63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Objetiv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Cliente - Product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143400" y="4053600"/>
                <a:ext cx="1554120" cy="63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Uso Eficiente de Recurs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869080" y="5059440"/>
                <a:ext cx="2102760" cy="91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Acciones sobre recursos, productos y agent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6417360" y="368748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V="1">
                <a:off x="6417360" y="469332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240320" y="368784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240320" y="469368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V="1">
                <a:off x="1846080" y="3047760"/>
                <a:ext cx="0" cy="2742840"/>
              </a:xfrm>
              <a:prstGeom prst="line">
                <a:avLst/>
              </a:prstGeom>
              <a:ln w="3168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154720" y="3048120"/>
                <a:ext cx="0" cy="2651400"/>
              </a:xfrm>
              <a:prstGeom prst="line">
                <a:avLst/>
              </a:prstGeom>
              <a:ln w="3168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 rot="16200000">
              <a:off x="655920" y="4259520"/>
              <a:ext cx="179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99"/>
                  </a:solidFill>
                  <a:latin typeface="Tahoma"/>
                </a:rPr>
                <a:t>INFORMAC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5418000">
              <a:off x="7787160" y="4188600"/>
              <a:ext cx="125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99"/>
                  </a:solidFill>
                  <a:latin typeface="Tahoma"/>
                </a:rPr>
                <a:t>DECI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ABF0E-FB1E-4201-9468-B4BBBA87DE4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3399"/>
                </a:solidFill>
                <a:latin typeface="Tahoma"/>
              </a:rPr>
              <a:t>Proceso de Toma de Decisiones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etodologí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. Definición del Problema (¿Qué tipo de decisión es?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2. Generación de Alternativ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3. Evaluación de Alternativ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4. Selección de Alternativ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5. Implement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45F1C-71C0-4EFD-87A8-2302BE60406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3399"/>
                </a:solidFill>
                <a:latin typeface="Tahoma"/>
              </a:rPr>
              <a:t>Proceso de Toma de Decisiones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Tahoma"/>
              </a:rPr>
              <a:t>Criterios de elección: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Costos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Calidad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Confiabilidad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Flexibilidad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Tahoma"/>
              </a:rPr>
              <a:t>Conceptos importantes: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Trade-off o intercambio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Múltiples objetivos (institucionales vs personales)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Riesgo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BNA, crecimiento, prestigio, porcentaje de mercado, etc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A01A8-C54C-4339-B409-00B31704567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strategia dela Empres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lgunos puntos importantes hoy en dí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s empresas deben poseer una correcta visión del mercado en que se mueven y su evolución a futur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s operaciones deben estar integradas a cabalidad con otros aspectos de la empresa, en particular con la estrategia corporativa y la creación de nuevos produc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s operaciones deben asegurar la calidad de los productos y procesos para que el cliente reciba lo que quie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B35E0-B7DF-4B4B-90DF-AC20718FA5D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99"/>
                </a:solidFill>
                <a:latin typeface="Tahoma"/>
              </a:rPr>
              <a:t>Organizaciones de Clase Mundial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ntegración de todas sus funci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uerte orientación a la cal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uerte orientación a proporcionar VALOR a sus clien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aloración fuerte del capital human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nnovativ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nstantemente miden su rendimien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71CE3-E937-46FC-B64B-838E815AF59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aradigmas de Ho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43000" y="17161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lidad Total y Mejoramiento Continu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ción Ajustada (Lean Productio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Just in Time (JIT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ingenierí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Optimización integral de la cadena de agregación de valor (Suma Positiva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seño integrado para la calidad y la manufacturabil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D, CAM, CAE, CI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stemas de apoyo a la toma de decisiones (MRP, ERP, etc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B7C1A-AED7-4503-B890-0F6730AC2E7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152000" y="2819520"/>
            <a:ext cx="4596480" cy="2189520"/>
            <a:chOff x="1152000" y="2819520"/>
            <a:chExt cx="4596480" cy="2189520"/>
          </a:xfrm>
        </p:grpSpPr>
        <p:sp>
          <p:nvSpPr>
            <p:cNvPr id="104" name=""/>
            <p:cNvSpPr/>
            <p:nvPr/>
          </p:nvSpPr>
          <p:spPr>
            <a:xfrm>
              <a:off x="1152000" y="2819520"/>
              <a:ext cx="1531080" cy="2189520"/>
            </a:xfrm>
            <a:prstGeom prst="rect">
              <a:avLst/>
            </a:prstGeom>
            <a:noFill/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INSUMOS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Mano de O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Materia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Energí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Inform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191120" y="2819520"/>
              <a:ext cx="1557360" cy="2189520"/>
            </a:xfrm>
            <a:prstGeom prst="rect">
              <a:avLst/>
            </a:prstGeom>
            <a:noFill/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PRODUCTOS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Bie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Servici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743200" y="3505320"/>
              <a:ext cx="1371600" cy="761760"/>
            </a:xfrm>
            <a:custGeom>
              <a:avLst/>
              <a:gdLst>
                <a:gd name="textAreaLeft" fmla="*/ 214200 w 1371600"/>
                <a:gd name="textAreaRight" fmla="*/ 1200240 w 1371600"/>
                <a:gd name="textAreaTop" fmla="*/ 190440 h 761760"/>
                <a:gd name="textAreaBottom" fmla="*/ 57132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Proces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6629400" y="3962520"/>
            <a:ext cx="1905120" cy="218952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SERVICI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du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alu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orr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Transpor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omunic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629400" y="1676520"/>
            <a:ext cx="1905120" cy="218952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BIEN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elulo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ue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iner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Zapa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Fru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77120" y="1523880"/>
            <a:ext cx="2209680" cy="480060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7E5E6-FC10-47EC-826B-665D70BF624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ctividades del Ámbito de las Operacion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cesos de Manufactur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stribución de los productos a los clien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ransacciones bancari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gramación de los vuelos diarios de una línea aére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ransporte al interior de la fábric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lmacenamien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C0246-F83E-4313-A7D9-79CB29A609B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Anteced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lgo de Histori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Gestión de Operaciones existe desde los inicios de la historia (pirámide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ción “artesanal” hasta el siglo XVIII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volución Industria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uevas concepciones económic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ivisión del trabaj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parición de máquin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icio de la visión “productivista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D473F-8D2A-447A-8F30-336C6A6768D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Anteced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479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gunda Guerra Mundia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2479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genera una gran cantidad de problemas en el ámbito operacional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2479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Logística y abastecimient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2479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oducción “masivamente en masa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2479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parece la Investigación de Operacion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2479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úspide de la producción en masa tradicional en los años 70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2479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2479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0FB6B-111A-4BD2-8042-B7C73159862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Anteced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volución Japones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o que no aporta valor agregado es desperdici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ventari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Transport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iezas fallad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Flexibilidad: ajuste rápido a la deman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so bicicletas en Japó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so Aserrader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lidad: cumplir con las expectativas de los clie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ean Manufacturing, Total Quality y Just in Tim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E52E7-D331-4FB8-9C08-8C1ABF7E12A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Decisiones Ti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43000" y="17161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blemática de la Industria de electrodomésticos (manufactura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ensar en qué mercados queremos “atacar”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Obtener ideas de lo que el mercado necesita y su potencial demand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señar el produc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señar e implementar la forma de fabricarl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cidir si se necesitarán nuevas instalaciones, de qué características y en qué lug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veer los recursos financieros apropia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A6BF3-5970-4582-BC5A-40ADDB21922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Decisiones Ti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Ya en producción, hacer planes sobre requerimientos para los próximos doce me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mana a semana programar todos los procesos para cumplir con los pla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ía  a día “apagar los incendios” que se produzca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acer llegar los pedidos a los clien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tender los requerimientos de servicios en garantía y de postven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88BEE-9324-4EE9-BA1E-15DC006F1C5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6T14:21:15Z</dcterms:created>
  <dc:creator>Dpto. Ingeniería Industrial</dc:creator>
  <dc:description/>
  <dc:language>en-US</dc:language>
  <cp:lastModifiedBy>Antoine Sauré Valenzuela</cp:lastModifiedBy>
  <cp:lastPrinted>2001-04-12T20:51:56Z</cp:lastPrinted>
  <dcterms:modified xsi:type="dcterms:W3CDTF">2001-08-28T15:47:28Z</dcterms:modified>
  <cp:revision>159</cp:revision>
  <dc:subject/>
  <dc:title>Comercio Electrónico</dc:title>
</cp:coreProperties>
</file>