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6D3E7-6FA3-4283-9EE2-70AB9E90ED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770E7-C5CB-4F15-ACF2-F71A3671A6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10AA1-80FB-4040-82FC-0D1B6FE2AA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6FA9A-B152-4908-983D-668084A545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B4225-4B47-4823-9A07-0E20A0689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9184A-B568-45D9-8EC1-8171733D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13BC4-9FA0-4E50-AEFD-429BC075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13A6F-C8B2-4418-AB60-24092EB4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B536C-A8F7-4579-B915-AAA7F188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0B1AF-57C2-41C9-B866-345BD89D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DA342-144D-4ED0-B26F-37A1B904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F9B83-4639-440C-A39F-CB1FC190BC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DDA69-636B-4EB2-97BA-AB1491BD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47503-33B1-4C21-862D-284B1132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63D9B-5C25-4215-A458-BC869F35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A25FB4-3B93-4195-A4B7-2867989CF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5AFCD1-9F14-4F0D-B516-CAF185EF4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1101D-D9DB-43FC-880E-63080E5021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97D3E-272A-4F1E-A306-DC3645922B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7A74B-DD91-4141-9C91-711D41ADA8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D8FF0-AE0D-4DFC-A06F-057EC91F80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F47F2-416C-4E5B-B5D8-79525C196A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C57A7-6E0E-4C07-BFBD-4551F4AA7D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61CC1-4423-487F-A9AF-8A2A250D6D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5409720" y="6273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831B-96A7-4284-A22F-984633758AE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4AFB-2B32-4EFA-A4B9-6E0604C35893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34290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Tema 1: La Función de Oper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ática de la Industria de Comida Rápida (servicio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el mercado que se quiere atac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qué tipo de comidas ofrecer y cuál será el “tamaño” del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los distintos menú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r cómo se preparará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las instalaciones: cuántos restaurantes tendremos y dón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los recursos financieros apropi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1CB81-9826-45A8-ADAB-F2AC9BF971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los equipos y tecnología que necesitarem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Ya en funcionamiento, hacer planes sobre los requerimientos para los próximos me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ía a día, coordinar todo, controlarlo todo y cumplir con la atención adecuada a nuestro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ntener abastecidos a los diversos locales desde nuestras bodegas centr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tender reclamos y sugerenci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3B58B-5821-4D4D-833A-51A92206F8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xisten decisiones que son comunes para manufacturas y servici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udiar mercados y su tamaño: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productos y proce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instalaciones, equipos, tecnología y financiamien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ificar” para los próximos meses o perío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solver los problemas de “logística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tender adecuadamente  a los clientes, en la venta y postv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57F31-F568-486C-A8A7-1F940E8E2A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dministrar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egurar la calidad de los productos y serv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3B5A6-0800-4EF1-8C8C-7AF7F2AFA9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Gestión de Operaciones abarca todos los temas anteriores, aunque algunos parezcan de otros ámbi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visión moderna se orienta a analizar y administrar las operaciones en forma integral y global a nivel de toda la empresa (en algunos casos a nivel de toda la cadena del valor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visión moderna va entonces mucho más allá de la tradicional “producción manufacturera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FE1D1-445C-43B2-8403-1F499F5A7F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ólo teniendo en cuenta lo anterior se puede lograr la EXCEL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Llegar a nuestros clientes con más y mejores productos en menos tiempo y cuando ellos lo quieran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Gestión de Operaciones se ve hoy como un área llamada a jugar un papel en la estrategia del negocio de la empresa moderna, convirtiéndose en un elemento de </a:t>
            </a: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ventaja competitiva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817BC-5DBF-4C48-930C-569AC99D9A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cisiones estratég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ablecer políticas administrativas y desarrollar recursos necesarios para satisfacer requerimientos consistentes con metas específ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finir metas, recursos necesarios y políticas básicas para el éxi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cisiones tác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para asegurar la obtención y uso  eficiente de recursos para cumplir objeti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ificación agregada (anual), decisiones de producción, personal, inventario, marketing, finanza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AC023-B2C1-4935-88A6-84A0D340E5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cisiones operativ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lacionadas a tareas específicas, a lo que se hace día a d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BF1C4-EFC0-446E-BB81-758D37602B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7620120" cy="324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2832F-836C-476F-BE7E-A4300AD8C0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conceptos de largo, mediano y corto plazo son relativos al período que toma cada ciclo del negocio. La magnitud de éstos cambia según la industr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dustria Forest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dustria Electrónica de Consum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dustria de Retail (Supermercados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factor “Incertidumbre” está presente en toda decisión y puede llegar a ser muy importante. Además varía según el nivel de decis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0FC4A-58D1-4E4D-9AF4-B449B04FA1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¿Qué es la Gestión de Operacion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udio de los conceptos, métodos y herramientas necesarias para enfrentar y resolver los problemas relacionados a la producción de BIENES y SERV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encuentra al centro de toda organización productiv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da empresa tiene algo que vender o proveer (satisfacer una  necesidad) y esto debe ser produci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E991D-F424-4AD5-8434-AF14D904CE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estratég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Qué tipo de electrodomésticos fabricaremos y comercializaremo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Dónde ubicaremos nuestros restaurant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tác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o producir en los próximos 12 meses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o personal contrataremos para la temporada de ventas alta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a materia prima importada necesitamos para el próximo períod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F4F39-6300-4691-91D6-F273794C85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l es el número de camiones necesarios para transportar fruta en la siguiente temporad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operativ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signación de trabajos a maquinaria en fábricas (¿Qué hacer, y en qué máquinas, las próximas 2 horas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didos de repuestos y materias prim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gramación diaria de vehículos (¿Qué camiones despachamos durante la próxima hora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gramación diaria de producción de leche y queso en una planta (¿Cuánto producir hoy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A61B2-CB90-41B6-A074-DCDB98B985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gregación y desagregación de información y decis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371600" y="3047760"/>
            <a:ext cx="7229160" cy="2925720"/>
            <a:chOff x="1371600" y="3047760"/>
            <a:chExt cx="7229160" cy="2925720"/>
          </a:xfrm>
        </p:grpSpPr>
        <p:grpSp>
          <p:nvGrpSpPr>
            <p:cNvPr id="150" name=""/>
            <p:cNvGrpSpPr/>
            <p:nvPr/>
          </p:nvGrpSpPr>
          <p:grpSpPr>
            <a:xfrm>
              <a:off x="1846080" y="3047760"/>
              <a:ext cx="6308640" cy="2925720"/>
              <a:chOff x="1846080" y="3047760"/>
              <a:chExt cx="6308640" cy="292572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4131720" y="3048120"/>
                <a:ext cx="1554120" cy="2651040"/>
                <a:chOff x="4131720" y="3048120"/>
                <a:chExt cx="1554120" cy="26510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4131720" y="3048120"/>
                  <a:ext cx="1554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ahoma"/>
                    </a:rPr>
                    <a:t>NIVEL ESTRATEG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131720" y="4053600"/>
                  <a:ext cx="1554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ahoma"/>
                    </a:rPr>
                    <a:t>NIVEL TACT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131720" y="5059440"/>
                  <a:ext cx="1554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ahoma"/>
                    </a:rPr>
                    <a:t>NIVEL OPERATIV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4497120" y="368748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>
                  <a:off x="4497120" y="469332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320080" y="368784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320080" y="469368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" name=""/>
              <p:cNvSpPr/>
              <p:nvPr/>
            </p:nvSpPr>
            <p:spPr>
              <a:xfrm>
                <a:off x="2302920" y="3230640"/>
                <a:ext cx="14626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Largo Plaz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302920" y="4053600"/>
                <a:ext cx="14626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Mediano Plaz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302920" y="5242320"/>
                <a:ext cx="14626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Corto Plaz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2760120" y="36874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2760120" y="469332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308760" y="368784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308760" y="46936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960520" y="3048120"/>
                <a:ext cx="182844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Objetiv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Cliente - Produc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143400" y="4053600"/>
                <a:ext cx="155412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Uso Eficiente de Recurs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869080" y="5059440"/>
                <a:ext cx="2102760" cy="9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Acciones sobre recursos, productos y ag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417360" y="36874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6417360" y="469332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240320" y="368784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240320" y="46936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1846080" y="3047760"/>
                <a:ext cx="0" cy="274284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154720" y="3048120"/>
                <a:ext cx="0" cy="265140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 rot="16200000">
              <a:off x="655920" y="4259520"/>
              <a:ext cx="179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INFORMAC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5418000">
              <a:off x="7787160" y="4188600"/>
              <a:ext cx="12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DECI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44236-0EA1-4BEB-805E-16BE9824F7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etodologí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 Definición del Problema (¿Qué tipo de decisión es?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 Generación de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 Evaluación de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. Selección de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5. Implement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3D81F-89AD-4ED0-8DF4-AF416C14FE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Criterios de elección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Calida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Confiabilida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Flexibilida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Conceptos importantes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Trade-off o intercambio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Múltiples objetivos (institucionales vs personales)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Riesgo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BNA, crecimiento, prestigio, porcentaje de mercado, etc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C3091-3550-46C2-A57A-081B388C79D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ategia dela Empres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lgunos puntos importantes hoy en dí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empresas deben poseer una correcta visión del mercado en que se mueven y su evolución a futu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operaciones deben estar integradas a cabalidad con otros aspectos de la empresa, en particular con la estrategia corporativa y la creación de nuevos produc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operaciones deben asegurar la calidad de los productos y procesos para que el cliente reciba lo que quie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D9B36-8E4E-4F6E-A959-E1975380BB4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99"/>
                </a:solidFill>
                <a:latin typeface="Tahoma"/>
              </a:rPr>
              <a:t>Organizaciones de Clase Mundi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tegración de todas sus fun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uerte orientación a la ca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uerte orientación a proporcionar VALOR a su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loración fuerte del capital human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nov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stantemente miden su rendimien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1F217-DCB4-4D83-9D4B-CC08FCFBC10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aradigmas de Ho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17161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lidad Total y Mejoramiento Continu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ción Ajustada (Lean Productio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Just in Time (JIT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ingenier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ptimización integral de la cadena de agregación de valor (Suma Positiv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o integrado para la calidad y la manufactura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D, CAM, CAE, CI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s de apoyo a la toma de decisiones (MRP, ERP, etc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1AB22-8B46-48AF-99B5-69D4D6E96AF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152000" y="2819520"/>
            <a:ext cx="4596480" cy="2189520"/>
            <a:chOff x="1152000" y="2819520"/>
            <a:chExt cx="4596480" cy="2189520"/>
          </a:xfrm>
        </p:grpSpPr>
        <p:sp>
          <p:nvSpPr>
            <p:cNvPr id="104" name=""/>
            <p:cNvSpPr/>
            <p:nvPr/>
          </p:nvSpPr>
          <p:spPr>
            <a:xfrm>
              <a:off x="1152000" y="2819520"/>
              <a:ext cx="1531080" cy="218952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INSUMO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ano de O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ateri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nergí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nform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91120" y="2819520"/>
              <a:ext cx="1557360" cy="218952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PRODUCTO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Bie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ervici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43200" y="3505320"/>
              <a:ext cx="1371600" cy="761760"/>
            </a:xfrm>
            <a:custGeom>
              <a:avLst/>
              <a:gdLst>
                <a:gd name="textAreaLeft" fmla="*/ 214200 w 1371600"/>
                <a:gd name="textAreaRight" fmla="*/ 1200240 w 1371600"/>
                <a:gd name="textAreaTop" fmla="*/ 190440 h 761760"/>
                <a:gd name="textAreaBottom" fmla="*/ 5713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Proce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629400" y="3962520"/>
            <a:ext cx="1905120" cy="21895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SERVICI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al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rr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munic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1676520"/>
            <a:ext cx="1905120" cy="21895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BIEN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elulo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ue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i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Zapa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ru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1523880"/>
            <a:ext cx="2209680" cy="48006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83305-1A79-444D-B5DC-598944A33D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idades del Ámbito de las Opera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s de Manufactu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tribución de los productos a lo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nsacciones bancari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gramación de los vuelos diarios de una línea aér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nsporte al interior de la fábr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macenamien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9C490-7DED-43BE-81CE-966C1C149F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lgo de Histor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Gestión de Operaciones existe desde los inicios de la historia (pirámide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ción “artesanal” hasta el siglo XVII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volución Industri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uevas concepciones económ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visión del traba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arición de máquin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icio de la visión “productivista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F6645-F11F-4F26-A338-E08B324DA8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gunda Guerra Mundi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genera una gran cantidad de problemas en el ámbito operaciona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ogística y abastecimient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ción “masivamente en masa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arece la Investigación de Oper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úspide de la producción en masa tradicional en los años 7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68A05-C66C-4C04-9861-A8B55E902B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volución Japones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 que no aporta valor agregado es desperdici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ranspor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iezas fallad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lexibilidad: ajuste rápido a la dema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so bicicletas en Jap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so Aserrader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: cumplir con las expectativas de los cli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ean Manufacturing, Total Quality y Just in Ti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696E8-DB4D-4606-9C29-29617CA79F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17161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ática de la Industria de electrodomésticos (manufactura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qué mercados queremos “atacar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btener ideas de lo que el mercado necesita y su potencial demand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el produ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e implementar la forma de fabricar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dir si se necesitarán nuevas instalaciones, de qué características y en qué lug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los recursos financieros apropi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D3C84-B17E-4AC5-9BB1-BE83FF51FA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Ya en producción, hacer planes sobre requerimientos para los próximos doce me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mana a semana programar todos los procesos para cumplir con los pla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ía  a día “apagar los incendios” que se produzc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cer llegar los pedidos a lo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tender los requerimientos de servicios en garantía y de postv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87DF5-9A4D-4111-BFD9-8797D68314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Antoine Sauré Valenzuela</cp:lastModifiedBy>
  <cp:lastPrinted>2001-04-12T20:51:56Z</cp:lastPrinted>
  <dcterms:modified xsi:type="dcterms:W3CDTF">2001-08-28T15:47:28Z</dcterms:modified>
  <cp:revision>159</cp:revision>
  <dc:subject/>
  <dc:title>Comercio Electrónico</dc:title>
</cp:coreProperties>
</file>