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CFA14-51FD-4D47-9CAD-C8A304A53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8FBCE-A2FF-457B-B07C-CAD5F998F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6A23C-240F-4DD7-B10B-31D24F2C1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D34F0-4A60-4854-B3D8-56E2AA224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8CB45-399E-4DAB-ADB1-5CAC4C52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3884F-ABD2-4E6B-BF0F-BCC84754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EA051-5755-4B9E-97A1-8632E263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0566D-E145-4C7B-A7AC-44E9E041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5A804-D24A-4FE7-BA70-3AEC891F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C4364-C584-43F2-ACAD-829A2633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EB27B-BEB0-4B29-A0AB-27B80CBE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2B2F7-1D7F-4387-9E43-71FA281B1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29AFE-3A75-4775-B9EA-CF85070F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7DF96-A62A-4321-BAD1-41CA498F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2C4AD-C27F-483A-85E8-B730B0BF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A02E3-E33C-4662-9322-CA4215B2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F0C46-E158-40A7-85DB-BA357B9B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D720B-7891-4A6B-8391-4382C053B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797B-B653-435E-8296-0826FFB0A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93779-95DA-4C96-BD9F-F8D70D862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B9322-4DE0-4D06-9CCE-2BE090A92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A07BB-D8F5-4770-A14A-F1ABE93FE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7BD6F-49BE-466B-85FB-062CB14B0E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FF7E9-9904-43D4-9E8B-7A3954EF1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409720" y="627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1802-76A9-4EF2-B687-919DB6D1831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32EC-4B0E-4210-9213-A52A838BF1C4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4290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1: La Función de Ope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ática de la Industria de Comida Rápida (servici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el mercado que se quiere atac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tipo de comidas ofrecer y cuál será el “tamaño” d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los distintos menú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r cómo se preparará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as instalaciones: cuántos restaurantes tendremos y dón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2784A-1A64-4143-838D-F4F04EE115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os equipos y tecnología que necesitare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funcionamiento, hacer planes sobre los requerimientos para los próximos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a día, coordinar todo, controlarlo todo y cumplir con la atención adecuada a nuestr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tener abastecidos a los diversos locales desde nuestras bodegas centr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reclamos y sugerenc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6ECAC-DF04-413B-84B6-C2D07CBBBE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xisten decisiones que son comunes para manufacturas y servic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ar mercados y su tamaño: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productos y 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instalaciones, equipos, tecnología y financia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r” para los próximos meses o perío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olver los problemas de “logística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adecuadamente  a los clientes, en la venta y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2767A-148B-4A3B-8A8D-AB026B4360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ministrar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r la calidad de los producto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DC672-4538-444D-8DAE-3A6907E5AA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Gestión de Operaciones abarca todos los temas anteriores, aunque algunos parezcan de otros ámbi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visión moderna se orienta a analizar y administrar las operaciones en forma integral y global a nivel de toda la empresa (en algunos casos a nivel de toda la cadena del valor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visión moderna va entonces mucho más allá de la tradicional “producción manufacturera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2770E-4593-495D-A0D5-7B2C1E54AC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ólo teniendo en cuenta lo anterior se puede lograr la EXCEL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legar a nuestros clientes con más y mejores productos en menos tiempo y cuando ellos lo quieran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Gestión de Operaciones se ve hoy como un área llamada a jugar un papel en la estrategia del negocio de la empresa moderna, convirtiéndose en un elemento de </a:t>
            </a: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ventaja competitiv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6A630-4A16-4828-878A-DA0C0E5A0D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blecer políticas administrativas y desarrollar recursos necesarios para satisfacer requerimientos consistentes con metas específ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ir metas, recursos necesarios y políticas básicas para el éxi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para asegurar la obtención y uso  eficiente de recursos para cumplir obje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ción agregada (anual), decisiones de producción, personal, inventario, marketing, finanza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BBA68-27D4-4B61-BAE9-4C1CB230B1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adas a tareas específicas, a lo que se hace día a d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21BB0-4AB9-49CD-8E5A-2A012C6A12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6201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8E6AD-5D0D-45DF-8CC4-C37F56AE53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conceptos de largo, mediano y corto plazo son relativos al período que toma cada ciclo del negocio. La magnitud de éstos cambia según la indust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Electrónica de Consum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de Retail (Supermercad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factor “Incertidumbre” está presente en toda decisión y puede llegar a ser muy importante. Además varía según el nivel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DB41F-CB0E-472A-AA30-0EA09801F1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Qué es la Gestión de Opera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o de los conceptos, métodos y herramientas necesarias para enfrentar y resolver los problemas relacionados a la producción de BIENE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encuentra al centro de toda organización productiv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empresa tiene algo que vender o proveer (satisfacer una  necesidad) y esto debe ser produ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2CEDF-5972-4B65-BB33-18726E565A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tipo de electrodomésticos fabricaremos y comercializaremo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ónde ubicaremos nuestros restaurant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roducir en los próximos 12 mese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ersonal contrataremos para la temporada de ventas alta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a materia prima importada necesitamos para el próximo perío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93E3D-986C-4D0E-BE63-CAA91C850B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l es el número de camiones necesarios para transportar fruta en la siguiente tempora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trabajos a maquinaria en fábricas (¿Qué hacer, y en qué máquinas, las próximas 2 horas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didos de repuestos y materias pri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vehículos (¿Qué camiones despachamos durante la próxima hora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producción de leche y queso en una planta (¿Cuánto producir hoy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43A7C-A491-4E53-BDC0-0D3E518384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gregación y desagregación de información y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371600" y="3047760"/>
            <a:ext cx="7229160" cy="2925720"/>
            <a:chOff x="1371600" y="3047760"/>
            <a:chExt cx="7229160" cy="2925720"/>
          </a:xfrm>
        </p:grpSpPr>
        <p:grpSp>
          <p:nvGrpSpPr>
            <p:cNvPr id="150" name=""/>
            <p:cNvGrpSpPr/>
            <p:nvPr/>
          </p:nvGrpSpPr>
          <p:grpSpPr>
            <a:xfrm>
              <a:off x="1846080" y="3047760"/>
              <a:ext cx="6308640" cy="2925720"/>
              <a:chOff x="1846080" y="3047760"/>
              <a:chExt cx="6308640" cy="292572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4131720" y="3048120"/>
                <a:ext cx="1554120" cy="2651040"/>
                <a:chOff x="4131720" y="3048120"/>
                <a:chExt cx="1554120" cy="26510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4131720" y="304812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ESTRATEG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131720" y="405360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TACT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131720" y="505944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OPERATIV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4497120" y="36874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4497120" y="469332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320080" y="368784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320080" y="46936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2302920" y="323064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Larg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02920" y="405360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Median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302920" y="524232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ort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276012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276012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30876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0876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960520" y="3048120"/>
                <a:ext cx="182844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Objetiv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liente - Produc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143400" y="4053600"/>
                <a:ext cx="155412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Uso Eficiente de Recurs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69080" y="5059440"/>
                <a:ext cx="2102760" cy="9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Acciones sobre recursos, productos y ag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41736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641736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4032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24032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1846080" y="3047760"/>
                <a:ext cx="0" cy="274284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154720" y="3048120"/>
                <a:ext cx="0" cy="26514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rot="16200000">
              <a:off x="655920" y="4259520"/>
              <a:ext cx="179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INFORMA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18000">
              <a:off x="7787160" y="4188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DEC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25A07-0382-43DF-A99C-29E3BE30A8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 Definición del Problema (¿Qué tipo de decisión es?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 Gener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 Evalu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 Selec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 Imple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C51FC-E73E-4B0A-A13D-A5F3BF2BAF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riterios de elección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a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nfia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Flexi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onceptos importantes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Trade-off o intercambi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Múltiples objetivos (institucionales vs personales)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Riesg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BNA, crecimiento, prestigio, porcentaje de mercado, etc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E0099-20CF-4F68-8F46-0A807991580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ategia dela Empres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os puntos importantes hoy en d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empresas deben poseer una correcta visión del mercado en que se mueven y su evolución a futu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operaciones deben estar integradas a cabalidad con otros aspectos de la empresa, en particular con la estrategia corporativa y la creación de nuevos produc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operaciones deben asegurar la calidad de los productos y procesos para que el cliente reciba lo que qui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E0054-5D3A-4E61-A075-07BD7C2136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99"/>
                </a:solidFill>
                <a:latin typeface="Tahoma"/>
              </a:rPr>
              <a:t>Organizaciones de Clase Mundi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tegración de todas sus fun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erte orientación a la ca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erte orientación a proporcionar VALOR a su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aloración fuerte del capital human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nov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stantemente miden su rendi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71867-CEF5-4CA2-AB36-6075D88A4B3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aradigmas de Ho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1716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 Total y Mejoramiento Continu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 Ajustada (Lean Produc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Just in Time (JI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ingenier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 integral de la cadena de agregación de valor (Suma Positiv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o integrado para la calidad y la manufactura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, CAM, CAE, CI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apoyo a la toma de decisiones (MRP, ERP, et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B884E-4401-4391-8FFC-3C43FDC15D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52000" y="2819520"/>
            <a:ext cx="4596480" cy="2189520"/>
            <a:chOff x="1152000" y="2819520"/>
            <a:chExt cx="4596480" cy="2189520"/>
          </a:xfrm>
        </p:grpSpPr>
        <p:sp>
          <p:nvSpPr>
            <p:cNvPr id="104" name=""/>
            <p:cNvSpPr/>
            <p:nvPr/>
          </p:nvSpPr>
          <p:spPr>
            <a:xfrm>
              <a:off x="1152000" y="2819520"/>
              <a:ext cx="153108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INSUM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no de O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ergí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91120" y="2819520"/>
              <a:ext cx="155736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PRODUCT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ie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3505320"/>
              <a:ext cx="1371600" cy="76176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629400" y="3962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SERVICI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rr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1676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BIE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elul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ue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Zap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r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1523880"/>
            <a:ext cx="2209680" cy="48006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93134-CD7F-48D2-9DAB-1253C30B20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idades del Ámbito de las Oper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s de Manufact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ribución de los productos a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acciones bancar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ción de los vuelos diarios de una línea aér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porte al interior de la fábr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4E5E3-51C9-4B5F-BAB3-FD2522DE17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o de Histo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Gestión de Operaciones existe desde los inicios de la historia (pirámid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 “artesanal” hasta el siglo XVII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volución Industr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uevas concepciones económ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visión del trabaj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arición de máqui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icio de la visión “productivista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7B38D-3708-4837-BC78-46C51D86A0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gunda Guerra Mundi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genera una gran cantidad de problemas en el ámbito operacion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gística y abastecimien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ción “masivamente en masa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arece la Investigación de Operac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úspide de la producción en masa tradicional en los años 7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2479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3F634-2367-4644-B924-77E8F9BB5C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volución Japones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 que no aporta valor agregado es desperdici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nspor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iezas falla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lexibilidad: ajuste rápido a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bicicletas en Jap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Aserrade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: cumplir con las expectativas de los cl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ean Manufacturing, Total Quality y Just in Ti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02D6B-2E46-4FE2-972A-C7A7AC262E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7161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ática de la Industria de electrodomésticos (manufactur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mercados queremos “atacar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tener ideas de lo que el mercado necesita y su potencial demand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l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 implementar la forma de fabricar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dir si se necesitarán nuevas instalaciones, de qué características y en qué lug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FBC5B-D135-445E-A798-1ABB8D1FF4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producción, hacer planes sobre requerimientos para los próximos doce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mana a semana programar todos los procesos para cumplir con los pla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 a día “apagar los incendios” que se produzc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cer llegar los pedidos a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los requerimientos de servicios en garantía y de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638BE-5B86-4BB6-8C57-DACE94B9B4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Antoine Sauré Valenzuela</cp:lastModifiedBy>
  <cp:lastPrinted>2001-04-12T20:51:56Z</cp:lastPrinted>
  <dcterms:modified xsi:type="dcterms:W3CDTF">2001-08-28T15:47:28Z</dcterms:modified>
  <cp:revision>159</cp:revision>
  <dc:subject/>
  <dc:title>Comercio Electrónico</dc:title>
</cp:coreProperties>
</file>