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90E-1F92-433C-AB93-766D6D098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9B9-24C3-49E8-9BDD-BDE06F3A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DFC-EE4E-46C6-B5A7-050BD276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FD0-BD9A-4134-8986-60FD65DA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39B4-8CA9-4834-AFAC-5684C9F0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6EBB-92AC-4A13-88F1-E197224EB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A6EA-9819-4645-83C3-83627CB8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F0C22-1ED3-4F32-A667-A956F410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47EB-932B-4D93-BF52-65642423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DBEA-265D-45B8-8450-10565AFC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2F44-0AE4-4257-A700-7D686C83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A8DE-90B0-4BE2-B7A8-90905B64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05EF-5D96-4AF3-BF79-2A6CEB9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489A-0E42-4F5D-9250-3FE28FC7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C410-EA89-429E-AA03-FA0AFFEE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BD4D-4EC4-4C8D-8D00-A10DBE3C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2DAB-F455-4D84-B0EC-5A6FDBAE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FC08-0FD4-4242-9633-C536C63E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9F2-A97B-41C2-A429-CB33EC46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6372-8308-4F90-829D-768AD535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D62-2861-40E8-8357-30345D95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AE7-F08A-4E60-AF20-257CFD43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79A-CFB1-4BEF-B3F4-B9EF7FAC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F89-C9C7-4BBD-B305-98229BA4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9030-E4A8-419F-B2EF-4D340E85C0A2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FBEE-11D6-4F5A-8CEE-13B534C68821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619280" y="2468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ahoma"/>
              </a:rPr>
              <a:t>Ejercicio Arquitectura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3530520"/>
            <a:ext cx="4465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N78Ñ – Arquitectura Empresa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Cristian Julio 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cjulio@ing.uchile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64072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5) Volviendo a la configuración inicial (sólo una cadena de valor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Gerente General está preocupado por la gobernabilidad de la empresa, específicamente en asegurar que los objetivos operacionales se cumplan, esto es: plan anual de ventas, satisfacción de SLA’s a clientes, minimización pérdidas operacionales, maximización uso de recursos productivos y cumplimientos de niveles de calidad de op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920" y="1915920"/>
            <a:ext cx="86407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eñe una arquitectura para cumplir con el pedido del gerente, y que contenga a lo men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) Identificación de los macroprocesos particip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b) Especificación detallada de los flujos que requieren los macroprocesos para ello. Piense en cómo debería ser, no en lo act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) Partición del (los) macroproceso(s), identificando dentro de cada uno de ellos los procesos necesarios para cumplir con el propósito; puede que requiera más de una partición para lograr una identificación adecu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) Especificación detallada de los flujos que deben relacionar los procesos dentro de cada partición. Estos flujos definen el “propósito” de cada proceso y sus requerimien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5.- a) y 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413080" y="2997360"/>
            <a:ext cx="1150920" cy="7538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932360" y="4508640"/>
            <a:ext cx="1079640" cy="706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906560" y="2873520"/>
            <a:ext cx="936720" cy="612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419640" y="3728880"/>
            <a:ext cx="973080" cy="636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965840" y="4540320"/>
            <a:ext cx="973080" cy="636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6694560" y="5405400"/>
            <a:ext cx="973080" cy="588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690560" y="2565360"/>
            <a:ext cx="1297080" cy="11527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61080" y="4292640"/>
            <a:ext cx="1223640" cy="107964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5.- c) y 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932360" y="4473720"/>
            <a:ext cx="1046160" cy="684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692360" y="2817720"/>
            <a:ext cx="934920" cy="611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421080" y="3575160"/>
            <a:ext cx="971640" cy="644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5234040" y="4508640"/>
            <a:ext cx="779400" cy="6350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7093080" y="5443560"/>
            <a:ext cx="779400" cy="5875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47640" y="2565360"/>
            <a:ext cx="1224000" cy="107964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3357720"/>
            <a:ext cx="1224000" cy="10792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85754E-006 L -0.00209 -0.611 E">
                                      <p:cBhvr>
                                        <p:cTn id="15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611 L 0.23212 -0.611 E">
                                      <p:cBhvr>
                                        <p:cTn id="16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5.- c) y 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38920" y="404640"/>
            <a:ext cx="1046160" cy="684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2556000" y="3182760"/>
            <a:ext cx="1150920" cy="750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5321160" y="4651200"/>
            <a:ext cx="1195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5.- c) y 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56000" y="3182760"/>
            <a:ext cx="1150920" cy="750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321160" y="4651200"/>
            <a:ext cx="1195560" cy="79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2162160" y="2593800"/>
          <a:ext cx="4818240" cy="349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62160" y="2593800"/>
                    <a:ext cx="4818240" cy="34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3995640" y="3646440"/>
            <a:ext cx="1368360" cy="1150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.01064 L 0.00017 -0.4068 E">
                                      <p:cBhvr>
                                        <p:cTn id="206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4068 L 0.46493 -0.4068 E">
                                      <p:cBhvr>
                                        <p:cTn id="209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835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5.- c) y 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219640" y="4591080"/>
            <a:ext cx="1206720" cy="782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556000" y="2698920"/>
            <a:ext cx="936360" cy="763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936720" cy="704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6804000" y="5219640"/>
            <a:ext cx="936720" cy="763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340000" y="2494080"/>
            <a:ext cx="1368360" cy="1150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8000" y="5014800"/>
            <a:ext cx="1368720" cy="11509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07123E-006 L -0.00296 -0.62489 E">
                                      <p:cBhvr>
                                        <p:cTn id="22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7 -0.62489 L 0.17829 -0.62489 E">
                                      <p:cBhvr>
                                        <p:cTn id="227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5.- c) y 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838920" y="404640"/>
            <a:ext cx="1117800" cy="7304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556000" y="3182760"/>
            <a:ext cx="1150920" cy="750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321160" y="4651200"/>
            <a:ext cx="1195560" cy="793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219640" y="4365720"/>
            <a:ext cx="1441440" cy="129672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5.- c) y 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321160" y="4651200"/>
            <a:ext cx="1195560" cy="79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1959120" y="2604960"/>
          <a:ext cx="48654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9120" y="2604960"/>
                    <a:ext cx="48654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2843280" y="3068640"/>
            <a:ext cx="1441440" cy="129708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11111E-006 L 0.00243 -0.62454 E">
                                      <p:cBhvr>
                                        <p:cTn id="252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-0.62454 L 0.22292 -0.62454 E">
                                      <p:cBhvr>
                                        <p:cTn id="25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619280" y="2468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ahoma"/>
              </a:rPr>
              <a:t>Ejercicio en Arquitectura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411280" y="3530520"/>
            <a:ext cx="4465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IN78Ñ – Arquitectura Empresa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Cristian Julio 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ahoma"/>
              </a:rPr>
              <a:t>cjulio@ing.uchile.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Repaso Clase Anterior: Macroproceso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610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Tahoma"/>
              </a:rPr>
              <a:t>Todas las empresas poseen 4 grandes procesos fundamentales para funcionar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Cadena de Valor (Macro 1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Línea de Digitalización Documentos Max Hub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Línea de Producción Minera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Desarrollo Nuevas Capacidades (Macro 2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Desarrollo de Productos LA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Desarrollo Nuevos Procesos Producción Minera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Planificación Estratégica (Macro 3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Estrategias de fusión con otras empresa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Líneas estratégicas para enfrentar mercado y medir desempeño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Gestión de Recursos Habilitadores (Macro 4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Gestión Recursos Tecnológicos empresa TI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lnSpc>
                <a:spcPct val="80000"/>
              </a:lnSpc>
              <a:spcBef>
                <a:spcPts val="425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ahoma"/>
              </a:rPr>
              <a:t>Gestión Recursos Financiero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Repaso Clase Anterior: Patrones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9610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Tahoma"/>
              </a:rPr>
              <a:t>Permiten diseñar cada uno de los Macroprocesos anteriores, estableciendo cómo éstos “deberían ser”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Tahoma"/>
              </a:rPr>
              <a:t>Proporcionan: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n caso de no existir el proceso, un punto de partida para su diseño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Tahoma"/>
              </a:rPr>
              <a:t>En caso de existir el proceso, una estructura propuesta de funcionamiento, incluidos los flujos entre procesos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Tahoma"/>
              </a:rPr>
              <a:t>En el diseño, se debe definir cuánto se desea acercar la estructura de los procesos de la empresa a los patron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 en Clas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961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mpresa “SFW”, que se dedica el desarrollo de soluciones TI para apoyar la gestión de empres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Básicamente, realiza lo sigu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tención al cliente y toma de requerimi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arrollo y Entrega (instalación) de la solución T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stventa de soluciones instaladas (garantí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 en Clas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961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1) Instanciar el primer nivel de Arquitec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06560" y="2770200"/>
            <a:ext cx="936720" cy="612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492360" y="3645000"/>
            <a:ext cx="973440" cy="636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038560" y="4581360"/>
            <a:ext cx="973440" cy="636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6767640" y="5445000"/>
            <a:ext cx="97308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 en Clas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961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2) Instanciar el segundo nivel: Cadena de Val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35280" y="2781360"/>
            <a:ext cx="934920" cy="61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3564000" y="3648240"/>
            <a:ext cx="971640" cy="644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376960" y="4581360"/>
            <a:ext cx="779400" cy="635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7236000" y="5516640"/>
            <a:ext cx="779400" cy="5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 en Clas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9610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TW” estima que el desarrollo de soluciones TI no le genera ventajas sustentables en el tiempo, además de la amplia competencia presente en 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or ello, ha decidido ofrecer adicionalmente consultorías de procesos, que le permitan conocer mejor el negocio del cliente y sus necesidades. A partir éstas y sólo si es de interés del cliente, se ofrecerá desarrollar soluciones TI para que los soport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7961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3) ¿Cómo cambia la Arquitectura de Proceso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08000" y="2708280"/>
            <a:ext cx="648000" cy="423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771640" y="3173400"/>
            <a:ext cx="613080" cy="399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219640" y="4737240"/>
            <a:ext cx="973080" cy="636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877080" y="5557680"/>
            <a:ext cx="647640" cy="392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14920" y="3728880"/>
            <a:ext cx="973080" cy="6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333399"/>
                </a:solidFill>
                <a:latin typeface="Tahoma"/>
              </a:rPr>
              <a:t>Ejercicio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4) ¿Cómo cambia la Arquitectura si desea compartir el área de investigación de mercado y mk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16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403280" y="2637000"/>
            <a:ext cx="647640" cy="423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195640" y="3029040"/>
            <a:ext cx="612720" cy="399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398920" y="4664160"/>
            <a:ext cx="973440" cy="636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877080" y="5557680"/>
            <a:ext cx="647640" cy="392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4246560" y="3944880"/>
            <a:ext cx="973080" cy="636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2987640" y="3195720"/>
            <a:ext cx="97308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2:06:21Z</dcterms:created>
  <dc:creator>Cristian Julio Amdan</dc:creator>
  <dc:description/>
  <dc:language>en-US</dc:language>
  <cp:lastModifiedBy>Cristian Julio Amdan</cp:lastModifiedBy>
  <dcterms:modified xsi:type="dcterms:W3CDTF">2009-08-21T20:44:28Z</dcterms:modified>
  <cp:revision>30</cp:revision>
  <dc:subject/>
  <dc:title>Diapositiva 1</dc:title>
</cp:coreProperties>
</file>