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7668-88DA-48CB-83E3-C4D28DDBA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07E0-90E2-4733-B550-9C17FBE9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8CA4-03EF-4172-B577-A7D680B43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BD9A-F660-4FD4-9FF2-3FF28A617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4A7E-2651-4B63-B056-2F405905A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F952-C3F6-4443-ABAF-E6A74ED0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72AA-D886-47F1-97A0-7B67CBC3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98FA-8C41-429D-AA14-A4DC1F18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FFB1-A68B-4B74-B675-94E5E78F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8B09-3359-4783-8BE4-EB821E65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F281-AF86-4D5C-91DB-FFFBD317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D374-A6D5-4CEC-A782-23FC48ED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88E4-61B5-49BD-A139-21BF74A2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DD1C-D66E-4FFF-B36D-776832E6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A1B4-AA7B-4854-BDF2-A605975D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CB00-7F95-47AB-91E0-CA3E87C42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0AF0-7BBE-43D1-8252-63F11364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5D89-0DD4-4FEC-AFB4-0BB1F72F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81A9-A7B0-46FA-B388-9E89DE10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08F0-D1A1-4194-981B-87CB63F6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E539-C4E2-4CDF-A650-0A0976BA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B6D6-242E-42BF-AE8E-144F9EFA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864A-91CF-4035-8920-3FDCB576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1832-19C8-4342-9C61-9E73D9C6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7CCD-4394-4594-8CD6-009FB6CC569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5D22-553D-4701-B436-C2AADD52C61D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161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619280" y="2468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ahoma"/>
              </a:rPr>
              <a:t>Ejercicio Arquitectura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3530520"/>
            <a:ext cx="4465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IN78Ñ – Arquitectura Empresar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Cristian Julio 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cjulio@ing.uchile.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8116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99"/>
                </a:solidFill>
                <a:latin typeface="Tahoma"/>
              </a:rPr>
              <a:t>Ejercici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640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5) Volviendo a la configuración inicial (sólo una cadena de valor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Gerente General está preocupado por la gobernabilidad de la empresa, específicamente en asegurar que los objetivos operacionales se cumplan, esto es: plan anual de ventas, satisfacción de SLA’s a clientes, minimización pérdidas operacionales, maximización uso de recursos productivos y cumplimientos de niveles de calidad de oper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8116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99"/>
                </a:solidFill>
                <a:latin typeface="Tahoma"/>
              </a:rPr>
              <a:t>Ejercici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920" y="1915920"/>
            <a:ext cx="864072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iseñe una arquitectura para cumplir con el pedido del gerente, y que contenga a lo men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) Identificación de los macroprocesos participan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b) Especificación detallada de los flujos que requieren los macroprocesos para ello. Piense en cómo debería ser, no en lo actu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) Partición del (los) macroproceso(s), identificando dentro de cada uno de ellos los procesos necesarios para cumplir con el propósito; puede que requiera más de una partición para lograr una identificación adecua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) Especificación detallada de los flujos que deben relacionar los procesos dentro de cada partición. Estos flujos definen el “propósito” de cada proceso y sus requerimient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8116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99"/>
                </a:solidFill>
                <a:latin typeface="Tahoma"/>
              </a:rPr>
              <a:t>Ejercici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16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5.- a) y 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413080" y="2997360"/>
            <a:ext cx="1150920" cy="7538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932360" y="4508640"/>
            <a:ext cx="1079640" cy="706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1906560" y="2873520"/>
            <a:ext cx="936720" cy="612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3419640" y="3728880"/>
            <a:ext cx="973080" cy="636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4965840" y="4540320"/>
            <a:ext cx="973080" cy="636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6694560" y="5405400"/>
            <a:ext cx="973080" cy="5889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690560" y="2565360"/>
            <a:ext cx="1297080" cy="11527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61080" y="4292640"/>
            <a:ext cx="1223640" cy="107964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8116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99"/>
                </a:solidFill>
                <a:latin typeface="Tahoma"/>
              </a:rPr>
              <a:t>Ejercici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161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5.- c) y 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932360" y="4473720"/>
            <a:ext cx="1046160" cy="684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1692360" y="2817720"/>
            <a:ext cx="934920" cy="611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3421080" y="3575160"/>
            <a:ext cx="971640" cy="6444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5234040" y="4508640"/>
            <a:ext cx="779400" cy="6350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7093080" y="5443560"/>
            <a:ext cx="779400" cy="5875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547640" y="2565360"/>
            <a:ext cx="1224000" cy="107964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3357720"/>
            <a:ext cx="1224000" cy="107928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85754E-006 L -0.00209 -0.611 E">
                                      <p:cBhvr>
                                        <p:cTn id="159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9 -0.611 L 0.23212 -0.611 E">
                                      <p:cBhvr>
                                        <p:cTn id="162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8116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99"/>
                </a:solidFill>
                <a:latin typeface="Tahoma"/>
              </a:rPr>
              <a:t>Ejercici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161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5.- c) y 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38920" y="404640"/>
            <a:ext cx="1046160" cy="684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2556000" y="3182760"/>
            <a:ext cx="1150920" cy="7509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5321160" y="4651200"/>
            <a:ext cx="119556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99"/>
                </a:solidFill>
                <a:latin typeface="Tahoma"/>
              </a:rPr>
              <a:t>Ejercici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5.- c) y 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161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556000" y="3182760"/>
            <a:ext cx="1150920" cy="7509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321160" y="4651200"/>
            <a:ext cx="1195560" cy="79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2162160" y="2593800"/>
          <a:ext cx="4818240" cy="3499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62160" y="2593800"/>
                    <a:ext cx="4818240" cy="34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3995640" y="3646440"/>
            <a:ext cx="1368360" cy="11509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0.01064 L 0.00017 -0.4068 E">
                                      <p:cBhvr>
                                        <p:cTn id="206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4068 L 0.46493 -0.4068 E">
                                      <p:cBhvr>
                                        <p:cTn id="209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99"/>
                </a:solidFill>
                <a:latin typeface="Tahoma"/>
              </a:rPr>
              <a:t>Ejercici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1835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5.- c) y 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161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219640" y="4591080"/>
            <a:ext cx="1206720" cy="782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2556000" y="2698920"/>
            <a:ext cx="936360" cy="763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4572000" y="3860640"/>
            <a:ext cx="936720" cy="7048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6804000" y="5219640"/>
            <a:ext cx="936720" cy="763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340000" y="2494080"/>
            <a:ext cx="1368360" cy="11509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88000" y="5014800"/>
            <a:ext cx="1368720" cy="11509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07123E-006 L -0.00296 -0.62489 E">
                                      <p:cBhvr>
                                        <p:cTn id="224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77 -0.62489 L 0.17829 -0.62489 E">
                                      <p:cBhvr>
                                        <p:cTn id="227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8116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99"/>
                </a:solidFill>
                <a:latin typeface="Tahoma"/>
              </a:rPr>
              <a:t>Ejercici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161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5.- c) y 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838920" y="404640"/>
            <a:ext cx="1117800" cy="730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2556000" y="3182760"/>
            <a:ext cx="1150920" cy="7509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5321160" y="4651200"/>
            <a:ext cx="1195560" cy="793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219640" y="4365720"/>
            <a:ext cx="1441440" cy="12967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99"/>
                </a:solidFill>
                <a:latin typeface="Tahoma"/>
              </a:rPr>
              <a:t>Ejercici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5.- c) y 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161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321160" y="4651200"/>
            <a:ext cx="1195560" cy="79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6" name=""/>
          <p:cNvGraphicFramePr/>
          <p:nvPr/>
        </p:nvGraphicFramePr>
        <p:xfrm>
          <a:off x="1959120" y="2604960"/>
          <a:ext cx="4865400" cy="341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9120" y="2604960"/>
                    <a:ext cx="486540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2843280" y="3068640"/>
            <a:ext cx="1441440" cy="129708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11111E-006 L 0.00243 -0.62454 E">
                                      <p:cBhvr>
                                        <p:cTn id="252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-0.62454 L 0.22292 -0.62454 E">
                                      <p:cBhvr>
                                        <p:cTn id="255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16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1619280" y="2468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ahoma"/>
              </a:rPr>
              <a:t>Ejercicio en Arquitectura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2411280" y="3530520"/>
            <a:ext cx="4465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IN78Ñ – Arquitectura Empresar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Cristian Julio 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cjulio@ing.uchile.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8116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99"/>
                </a:solidFill>
                <a:latin typeface="Tahoma"/>
              </a:rPr>
              <a:t>Repaso Clase Anterior: Macroproceso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9610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Tahoma"/>
              </a:rPr>
              <a:t>Todas las empresas poseen 4 grandes procesos fundamentales para funcionar: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ahoma"/>
              </a:rPr>
              <a:t>Cadena de Valor (Macro 1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80000"/>
              </a:lnSpc>
              <a:spcBef>
                <a:spcPts val="425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ahoma"/>
              </a:rPr>
              <a:t>Línea de Digitalización Documentos Max Hub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80000"/>
              </a:lnSpc>
              <a:spcBef>
                <a:spcPts val="425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ahoma"/>
              </a:rPr>
              <a:t>Línea de Producción Minera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ahoma"/>
              </a:rPr>
              <a:t>Desarrollo Nuevas Capacidades (Macro 2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80000"/>
              </a:lnSpc>
              <a:spcBef>
                <a:spcPts val="425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ahoma"/>
              </a:rPr>
              <a:t>Desarrollo de Productos LA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80000"/>
              </a:lnSpc>
              <a:spcBef>
                <a:spcPts val="425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ahoma"/>
              </a:rPr>
              <a:t>Desarrollo Nuevos Procesos Producción Minera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ahoma"/>
              </a:rPr>
              <a:t>Planificación Estratégica (Macro 3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80000"/>
              </a:lnSpc>
              <a:spcBef>
                <a:spcPts val="425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ahoma"/>
              </a:rPr>
              <a:t>Estrategias de fusión con otras empresa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80000"/>
              </a:lnSpc>
              <a:spcBef>
                <a:spcPts val="425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ahoma"/>
              </a:rPr>
              <a:t>Líneas estratégicas para enfrentar mercado y medir desempeño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ahoma"/>
              </a:rPr>
              <a:t>Gestión de Recursos Habilitadores (Macro 4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80000"/>
              </a:lnSpc>
              <a:spcBef>
                <a:spcPts val="425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ahoma"/>
              </a:rPr>
              <a:t>Gestión Recursos Tecnológicos empresa TI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80000"/>
              </a:lnSpc>
              <a:spcBef>
                <a:spcPts val="425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ahoma"/>
              </a:rPr>
              <a:t>Gestión Recursos Financiero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8116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99"/>
                </a:solidFill>
                <a:latin typeface="Tahoma"/>
              </a:rPr>
              <a:t>Repaso Clase Anterior: Patrone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7961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Tahoma"/>
              </a:rPr>
              <a:t>Permiten diseñar cada uno de los Macroprocesos anteriores, estableciendo cómo éstos “deberían ser”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Tahoma"/>
              </a:rPr>
              <a:t>Proporcionan: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ahoma"/>
              </a:rPr>
              <a:t>En caso de no existir el proceso, un punto de partida para su diseño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ahoma"/>
              </a:rPr>
              <a:t>En caso de existir el proceso, una estructura propuesta de funcionamiento, incluidos los flujos entre procesos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Tahoma"/>
              </a:rPr>
              <a:t>En el diseño, se debe definir cuánto se desea acercar la estructura de los procesos de la empresa a los patrone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8116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99"/>
                </a:solidFill>
                <a:latin typeface="Tahoma"/>
              </a:rPr>
              <a:t>Ejercicio en Clas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9610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mpresa “SFW”, que se dedica el desarrollo de soluciones TI para apoyar la gestión de empres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Básicamente, realiza lo siguien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tención al cliente y toma de requerimien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sarrollo y Entrega (instalación) de la solución T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ostventa de soluciones instaladas (garantí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8116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99"/>
                </a:solidFill>
                <a:latin typeface="Tahoma"/>
              </a:rPr>
              <a:t>Ejercicio en Clas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9610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1) Instanciar el primer nivel de Arquitectu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16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906560" y="2770200"/>
            <a:ext cx="936720" cy="612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492360" y="3645000"/>
            <a:ext cx="973440" cy="636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038560" y="4581360"/>
            <a:ext cx="973440" cy="636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6767640" y="5445000"/>
            <a:ext cx="97308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8116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99"/>
                </a:solidFill>
                <a:latin typeface="Tahoma"/>
              </a:rPr>
              <a:t>Ejercicio en Clas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9610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2) Instanciar el segundo nivel: Cadena de Val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16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835280" y="2781360"/>
            <a:ext cx="934920" cy="611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564000" y="3648240"/>
            <a:ext cx="971640" cy="644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376960" y="4581360"/>
            <a:ext cx="779400" cy="635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7236000" y="5516640"/>
            <a:ext cx="779400" cy="58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8116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99"/>
                </a:solidFill>
                <a:latin typeface="Tahoma"/>
              </a:rPr>
              <a:t>Ejercicio en Clas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9610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TW” estima que el desarrollo de soluciones TI no le genera ventajas sustentables en el tiempo, además de la amplia competencia presente en el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or ello, ha decidido ofrecer adicionalmente consultorías de procesos, que le permitan conocer mejor el negocio del cliente y sus necesidades. A partir éstas y sólo si es de interés del cliente, se ofrecerá desarrollar soluciones TI para que los soport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8116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99"/>
                </a:solidFill>
                <a:latin typeface="Tahoma"/>
              </a:rPr>
              <a:t>Ejercici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7961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3) ¿Cómo cambia la Arquitectura de Proceso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16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908000" y="2708280"/>
            <a:ext cx="648000" cy="423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771640" y="3173400"/>
            <a:ext cx="613080" cy="399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5219640" y="4737240"/>
            <a:ext cx="973080" cy="6364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6877080" y="5557680"/>
            <a:ext cx="647640" cy="392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14920" y="3728880"/>
            <a:ext cx="973080" cy="6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8116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99"/>
                </a:solidFill>
                <a:latin typeface="Tahoma"/>
              </a:rPr>
              <a:t>Ejercici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40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4) ¿Cómo cambia la Arquitectura si desea compartir el área de investigación de mercado y mk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16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403280" y="2637000"/>
            <a:ext cx="647640" cy="423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2195640" y="3029040"/>
            <a:ext cx="612720" cy="399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398920" y="4664160"/>
            <a:ext cx="973440" cy="6364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6877080" y="5557680"/>
            <a:ext cx="647640" cy="392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4246560" y="3944880"/>
            <a:ext cx="973080" cy="636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2987640" y="3195720"/>
            <a:ext cx="97308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22:06:21Z</dcterms:created>
  <dc:creator>Cristian Julio Amdan</dc:creator>
  <dc:description/>
  <dc:language>en-US</dc:language>
  <cp:lastModifiedBy>Cristian Julio Amdan</cp:lastModifiedBy>
  <dcterms:modified xsi:type="dcterms:W3CDTF">2009-08-21T20:44:28Z</dcterms:modified>
  <cp:revision>30</cp:revision>
  <dc:subject/>
  <dc:title>Diapositiva 1</dc:title>
</cp:coreProperties>
</file>