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6BFF2-5231-4E44-80FB-EC4E723FEAE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31B5B-1484-4C01-8E1D-2F7C04EEFBC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1A0BE-472D-4541-BCD6-AFEAAC853B9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33BB6-56CF-4FDB-89B0-FA98D9DCC06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EC2B5-AE09-40B6-A149-A012C220128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9ADE6-7B8E-4603-93B5-F1B1B0EB76B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361BD-BCD9-448B-877E-C22FB68E7EA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732C8-83CB-43F5-A04F-73BA1EBA0FD4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3835E-D015-4E6B-9196-24CDC5D8F42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3AE41-DDB1-49A3-B596-50CA889E1D4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03421-F203-4006-9218-90648B167C5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1861C-E728-43BD-A37F-F02176301A6B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0D0B0-6D1D-46E3-BDFD-CF79DAE3BB0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FFF38-F73A-4D86-B239-430103885E48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00CB8-B00A-45BF-AB6A-2770ABCA061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22EC0-8A5D-48A2-A752-32EF3D123047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2FC2C-A27D-49B9-8754-9AE520394250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DD673-9D9F-4560-9B60-92FCD29B447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28140-F7C3-4A31-94F5-E76924F3F58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54806-AFF8-436F-9485-F73DF83185D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02190-E34A-4DAB-90C1-7D628947615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2944F-1395-4792-84B0-07B2F7A23A2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B240B-12BF-49E5-A99A-0C20A75B74A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C832C-5BBF-4ECD-BF64-082F105B170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52C0B-E2DD-4053-B6B0-3F501EE5C9D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45714-8A7E-4B50-8EC9-014A9A6D0EB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893F3-89D3-4559-94E2-404D97AFA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8AF25-228D-4687-9451-47CF852A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6C92F-FC29-4406-A72B-C5CA326612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AAEE8-2915-47D3-82B9-59E59561A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5F834-FD50-4A9F-A396-9EC0E2359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5B2CB-48C6-4A84-B317-8773555BF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1314E-F152-464B-B3F8-E7DE46DB3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440C2-98B9-4CD1-8945-DC4999345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3D604-BC4A-4A1B-A217-D8EC5FD5C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139B1-FBF2-46BB-A9B2-1144D9D91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C61CE-0339-4784-8822-5C4A62AE2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32655A-D581-48F5-AEA5-1B30D9155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7F1DF-C5D9-4ABF-82F3-4FE1A2493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2D148-E200-4E65-A51E-2DBBAC51C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3B7A1-E081-4D90-9861-0CA59421D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52FB5-24D3-42F3-8D2D-97748A728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98FA0-F003-4387-A3D1-09A14CD88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EED828-395F-44CA-9310-C2372920B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10CF1-0837-407B-803C-4FB1E4108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4DACD-D628-4123-925F-A0A0EA4E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F0BC31-D467-4515-A28E-D2E6DA10E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00D2C-B66E-495C-97B2-29D64307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A4F57-3103-44B8-8EA0-BA16BEF0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82147-07F5-4645-8FDD-F4499A738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B1294-8842-4C51-970A-7A82E76C11AB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8F50C-B7FE-43EC-B4C9-E4A74319F590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2062080"/>
            <a:ext cx="60199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ffffff"/>
                </a:solidFill>
                <a:latin typeface="Arial"/>
              </a:rPr>
              <a:t>MARCA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228600" y="304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LA CREACIÓN DE CONCIENCIA DE MAR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impedimento es la gran cantidad de información recibida por los consumidores                                                               (La sociedad sobre informad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requiere una base de ventas altas. Por eso muchas empresas prefieren usar un nombre en muchos mercado-productos.                                                                          (General Electric, Honda, Luchet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so de canales alternativos.                                      (promociones, patrocinio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CALIDAD PERCIB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Calidad Percibida es un Driver de la Performance Financie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mo se crea la Percepción de Ca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be existir Calidad de ver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os errores se pag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alidad en  dimensión importante para los consumi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 importante entender que los consumidores usan pequeños trucos para evaluar la ca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n algunos casos se puede “capacitar” a los  consumi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33cc"/>
                </a:solidFill>
                <a:latin typeface="Arial"/>
              </a:rPr>
              <a:t>LEALT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Lealtad es Ren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ómo aumentar la “Lealtad”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lub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rogramas de Frecu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atabase market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ASOCIACIONES DE LA MAR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el elemento más importante del valor de mar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rresponde a las distintas asociaciones que hace el consumidor al oir o ver el nombre de la marc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conjunto de esas Asociaciones es la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IMAGE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de la mar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s asociaciones pueden incluir entre otr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ributos del Produc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a celebr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 símbo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 importante es la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IDENTIDAD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 Identidad gobierna las Asoci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dentidad de Marca es un conjunto UNICO  de asociaciones de marca que la estrategia aspira a crear o mantener. Estas Asociaciones representan lo que la marca significa y representa una promesa a los clientes de parte de los miembros de la organiz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¿QUÉ ES IDENTIDAD DE MARCA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026"/>
          <p:cNvSpPr/>
          <p:nvPr/>
        </p:nvSpPr>
        <p:spPr>
          <a:xfrm>
            <a:off x="1028880" y="609480"/>
            <a:ext cx="70866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MAGEN DE MAR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ómo es la Marca percibida actualm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IDENTIDAD DE MAR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ómo quiere la empresa que la Marca sea percibida por sus cli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1026"/>
          <p:cNvSpPr/>
          <p:nvPr/>
        </p:nvSpPr>
        <p:spPr>
          <a:xfrm>
            <a:off x="0" y="685800"/>
            <a:ext cx="9144000" cy="17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 Trampa de la Imagen de Marc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curre cuando existe una imagen posi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o tiende a ser lo que el cliente dice que 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magen de Marca Tác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dentidad de Marca Estratég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TRAMPAS EN LA IDENTIDAD DE MAR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0" y="685800"/>
            <a:ext cx="9144000" cy="178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Trampa de la Fijación en los Atributos del Produ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Marca es más que un Produ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imitaciones de Identidades basadas en Atribu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o permiten la diferenci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on fáciles de copi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umen un comportamiento ra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imitan las estrategias de Extensión de Mar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ducen Flexibilidad Estratégica en mercados cambia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TRAMPAS EN LA IDENTIDAD DE MAR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1026"/>
          <p:cNvSpPr/>
          <p:nvPr/>
        </p:nvSpPr>
        <p:spPr>
          <a:xfrm>
            <a:off x="268200" y="304920"/>
            <a:ext cx="86076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RODU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ORGANIZAC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ERSO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IMBO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CUATRO PERSPECTIVAS DE LA IDENTIDAD DE MAR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33cc"/>
                </a:solidFill>
                <a:latin typeface="Arial"/>
              </a:rPr>
              <a:t>LA MARCA COMO PRODUC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ociación con la Clase Producto. (Nestlé Lácte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problema con las Extensio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sociación con Atributos del producto (Peligro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lidad/Va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su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aís o Reg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CÓMO AYUDAN LAS MARCAS A LOS CONSUMID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implifican la elección rutinari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 (si todas las semanas compro jabón, no tengo que tomar una decisión cada vez, simplemente “echo” Le Sancy en el car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ducen el riesgo en decisiones más compleja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. (Cuando compro un equipo de audio la marca Sony me indica que ciertas cosas estoy seguro que NO me van a pasa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Una marca me puede producir beneficios emocionale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(Por algo la gente compra Gucci, o anda mostrando la Marca de algunos de sus compra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Generan algún sentido de “pertenenci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”. (La gente que tiene un computador Apple siente cierto grado de identificación con otros que usan la misma marca, y eso les hace sentirse bi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324000" y="549360"/>
            <a:ext cx="8530920" cy="53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000" spc="-1" strike="noStrike">
                <a:solidFill>
                  <a:srgbClr val="0033cc"/>
                </a:solidFill>
                <a:latin typeface="Arial"/>
              </a:rPr>
              <a:t>La marca como Organiz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ocalizada en atributos de la organización y no del producto.(Caso Saturn, Banco de Chi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000" spc="-1" strike="noStrike">
                <a:solidFill>
                  <a:srgbClr val="0033cc"/>
                </a:solidFill>
                <a:latin typeface="Arial"/>
              </a:rPr>
              <a:t>La Marca como Perso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personalidad de una marca puede ser la base para una relación con los consumid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4000" spc="-1" strike="noStrike">
                <a:solidFill>
                  <a:srgbClr val="0033cc"/>
                </a:solidFill>
                <a:latin typeface="Arial"/>
              </a:rPr>
              <a:t>La Marca como Símbo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 símbolo puede proveer cohesión a la identidad y permitir mayor reconocimiento y record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POLITICA DE</a:t>
            </a:r>
            <a:r>
              <a:rPr b="0" lang="es-ES_tradnl" sz="32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MARC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gún la mezcla de produc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rca por Produ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rca Paragu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rca por Línea de Produc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rca Doble (o Tripl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Arial"/>
              </a:rPr>
              <a:t>MARCA POR PRODU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 cada producto la empresa le asigna una marca y un posicionamiento específ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jemplos: Detergentes OMO, DRIVE, SKI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s la política tradicional de empresas como Procter &amp; Gamble y Lev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ENTAJA:  La empresa no “juega” su reputación en el resultado de un producto en el merc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1143000" y="1647720"/>
            <a:ext cx="68580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Arial"/>
              </a:rPr>
              <a:t>MARCA PARAGU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marca Paraguas acoge a varias Categorías de Produc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uchas empresas usan su nombre como marca Paraguas. Daewoo, Sony, IBM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609480" y="1793880"/>
            <a:ext cx="792504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Arial"/>
              </a:rPr>
              <a:t>MARCA POR LÍNEA DE PRODUC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 un intermedio entre la marca Paraguas y la Marca por producto. Se usa sobretodo cuando el producto no es de mucho volumen de ventas.  Es muy costoso una marca disti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 habla de extensión de mar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emplo: Salsa de Tomate Carozzi. Los refrescos en polvo son Cari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1066680" y="1647720"/>
            <a:ext cx="7010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cc"/>
                </a:solidFill>
                <a:latin typeface="Arial"/>
              </a:rPr>
              <a:t>JERARQUÍAS DE MAR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a marca es más amplia que la ot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uede haber varios niveles.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(Nestlé,  La Lechera, Producto específi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da uno manda un mensaje disti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estlé.... C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Lechera....Natural/Tradi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echa Asada....  Producto específ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 las marcas pueden ser un activo tan valioso, ¿por qué no se contabiliz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¿Qué es el Valor de Marca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1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2" descr="DIB2"/>
          <p:cNvPicPr/>
          <p:nvPr/>
        </p:nvPicPr>
        <p:blipFill>
          <a:blip r:embed="rId1"/>
          <a:stretch/>
        </p:blipFill>
        <p:spPr>
          <a:xfrm>
            <a:off x="1181160" y="762120"/>
            <a:ext cx="6781680" cy="48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Principales atributos de la Marcas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(Young&amp;Rubicam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FERENCI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rcas diferentes, claramente diferenciadas por la gente, con identidad propia, ún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LEVA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e esten de acuerdo con las expectativas, necesidades, anhelos y fantasías  de las persona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e haya generado en el respeto y la confianza de la población general. Proceso lento que requiere conocimiento y una cierta rel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OCIMEN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Que sean conocidas y estén presentes en el mundo cotidiano de las personas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338040" y="212760"/>
            <a:ext cx="8467920" cy="10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¿QUÉ ES EL VALOR DE MARCA?</a:t>
            </a:r>
            <a:br>
              <a:rPr sz="3600"/>
            </a:b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(Aaker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Valor de Marca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es un conjunto de Activos ligados al nombre o símbolo de una marca que agregan (o restan)  valor al producto o servicio entregado por la empres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s 4 categorías mayores de estos activos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CIENCIA DE MAR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EALTAD DE MAR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LIDAD PERCIB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SOCIACIONES DE LA MAR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1026"/>
          <p:cNvSpPr/>
          <p:nvPr/>
        </p:nvSpPr>
        <p:spPr>
          <a:xfrm>
            <a:off x="915840" y="611280"/>
            <a:ext cx="7921800" cy="16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CONOCIMIENT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onoce usted esta marc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CORD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Qué Marcas de esta clase Producto conoce us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"/>
              </a:rPr>
              <a:t>Top of M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CONCIENCIA DE MAR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3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154080" y="382680"/>
            <a:ext cx="8683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609480" y="1700280"/>
            <a:ext cx="7315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a Marca Familiar tiene ventaj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so Mantequilla de maní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609480" y="2971800"/>
            <a:ext cx="2971800" cy="2684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ST CIE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A      7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B       3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4419720" y="2971800"/>
            <a:ext cx="3352680" cy="26845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TEST CON MARCA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A      2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RCA B       7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RECONOCIMIENTO DE MAR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2 Marcador de pie de página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sch &amp;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914400" y="228600"/>
            <a:ext cx="7315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3" descr="DIB4"/>
          <p:cNvPicPr/>
          <p:nvPr/>
        </p:nvPicPr>
        <p:blipFill>
          <a:blip r:embed="rId1"/>
          <a:stretch/>
        </p:blipFill>
        <p:spPr>
          <a:xfrm>
            <a:off x="914400" y="1557360"/>
            <a:ext cx="7315200" cy="46735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33cc"/>
                </a:solidFill>
                <a:latin typeface="Arial"/>
              </a:rPr>
              <a:t>RECONOCIMIENTO Vs. RECORD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7T19:30:38Z</dcterms:created>
  <dc:creator>maximo bosch</dc:creator>
  <dc:description/>
  <dc:language>en-US</dc:language>
  <cp:lastModifiedBy>William Young</cp:lastModifiedBy>
  <dcterms:modified xsi:type="dcterms:W3CDTF">2009-04-27T03:42:49Z</dcterms:modified>
  <cp:revision>49</cp:revision>
  <dc:subject/>
  <dc:title>Sin título de diapositiva</dc:title>
</cp:coreProperties>
</file>