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0A93-8EB9-4740-9752-12F23E4E13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500D-D0BD-47C3-A4BD-1D12995466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6F81-1153-477E-A087-8BB59FD7C0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C0C2-2163-4F6F-96CA-098BDA031D7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92FD-ED90-4516-AEDC-3CF89DD2F3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EF69-6785-4E19-98A3-46C75A402B3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76A3-E6F3-472E-8554-77069949F3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487D-ADA0-4C49-90CC-628CCFD96DA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7494-56CB-44B3-ADD2-6728F90FBC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E367-C290-4B63-9720-30AE6BFDF89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A572-D2EF-468F-A966-4A2FC02196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6F95-1A56-40F9-9A73-54322F9E870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6C99-1466-4059-BF45-3C5741DFA6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C884-0B0F-4F0C-BA03-C245ADD5D8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14B3-DB50-4FA8-859D-71B0968A57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72FC-3285-4993-8617-7DEC3E8953E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C09B-A03A-4EFB-85B7-79DD3E9CCFC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D9B8-AFE8-487F-8E71-AF30F9C2308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A85F-FCE0-430B-A8A0-CA4F127113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B949-33FD-4360-8FDB-32C0D902BF6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2579-7DA4-4E02-B2EC-75CDDFBB89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8FDF-DD8E-49A3-B766-2BBB5520B8A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B022-EF18-4A85-BF46-0BD5C376ECA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7BA6-2060-4367-83CB-45EFC70FABA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2DCB-66E5-41C8-B3A5-66B9435201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9480-0833-4622-8C8A-50507805BCB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6D174-1579-4304-8CF9-A86D6191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74F65-E910-4C06-918A-7610E2A8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BAB63-0484-4284-A2A1-B8D4E383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060B-654E-4DD7-A1F9-F9A731A1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7007-BC27-4922-8948-D60062B2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E714-AF0C-4F25-9502-C7F943CC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501C-D2DC-4A66-ACC5-90D67B37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6FAD-3CAC-4E03-AD97-815BF1A7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4146-10C2-469A-A2D2-F504028F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F7CF-A8CC-448B-A091-90CE784B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5442-935F-4A9E-9671-55FBDC9B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488B6-94E0-4234-A9D1-BF16085E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7718-569E-4E58-A58F-51AF95D0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5596-38A1-4C6D-8940-1310F5D3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520D-E681-4EC9-9804-8AC446DA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5BDD-A7B6-44ED-80B9-2BF47D01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DD8A-47AD-49AC-A29C-6BE051B7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EADB9-4DFD-42D1-A846-C969DE22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1FE12-779D-49EF-B8EC-88250304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9D8B5-C1BD-47CB-AF54-26E45160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CC79F-9964-4C10-974C-06A412CA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3B71-BE7E-4148-AA73-872B8AEA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E57D-A698-4F72-87A8-B80175F6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57F6-9B4F-42DC-ACF3-223376EE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BE4E-31A1-4966-9083-67511710642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9F41-DE12-4C0A-8F5B-AA7A6C10A69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MARC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CREACIÓN DE 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 existir Calidad de ver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rrores se p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en  dimensión importante para los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importante entender que los consumidores usan pequeños trucos para evalu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algunos casos se puede “capacitar” a los 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EA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ealtad es R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aumentar la “Lealtad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gramas de Frec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abas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s distintas asociaciones que hace el consumidor al oir o ver el nombre de la mar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junto de esas Asociaciones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AG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asociaciones pueden incluir entre o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 del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celeb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ímb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ntidad gobierna las Asoc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IDENTIDAD DE MARC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26"/>
          <p:cNvSpPr/>
          <p:nvPr/>
        </p:nvSpPr>
        <p:spPr>
          <a:xfrm>
            <a:off x="1028880" y="609480"/>
            <a:ext cx="7086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26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Trampa de la Imagen de Mar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26"/>
          <p:cNvSpPr/>
          <p:nvPr/>
        </p:nvSpPr>
        <p:spPr>
          <a:xfrm>
            <a:off x="268200" y="304920"/>
            <a:ext cx="860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B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ATRO PERSPECTIVAS DE LA IDENTIDAD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/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 o Reg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Ó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fican la elección rut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si todas las semanas compro jabón, no tengo que tomar una decisión cada vez, simplemente “echo” Le Sancy en el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en el riesgo en decisiones más complej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Cuando compro un equipo de audio la marca Sony me indica que ciertas cosas estoy seguro que NO me van a pas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marca me puede producir beneficios emocion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or algo la gente compra Gucci, o anda mostrando la Marca de algunos de sus comp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algún sentido de “perten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”. (La gente que tiene un computador Apple siente cierto grado de identificación con otros que usan la misma marca, y eso les hace sentirse b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24000" y="549360"/>
            <a:ext cx="85309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Símb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LITICA DE</a:t>
            </a: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ún la mezcla de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ara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oble (o Tri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cada producto la empresa le asigna una marca y un posicionamiento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Detergentes OMO, DRIVE, SK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la política tradicional de empresas como Procter &amp; Gamble y L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TAJA:  La empresa no “juega” su reputación en el resultado de un producto en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143000" y="16477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AR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arca Paraguas acoge a varias Categorías de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as empresas usan su nombre como marca Paraguas. Daewoo, Sony, IB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09480" y="1793880"/>
            <a:ext cx="7925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LÍNEA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66680" y="1647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JERARQUÍAS DE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varios niveles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a Asada....  Produc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marcas pueden ser un activo tan valioso, ¿por qué no se contabiliz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DIB2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incipales atributos de la Marc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Young&amp;Rubic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s diferentes, claramente diferenciadas por la gente, con identidad propia, ú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EV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esten de acuerdo con las expectativas, necesidades, anhelos y fantasías  de las perso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ya generado en el respeto y la confianza de la población general. Proceso lento que requiere conocimiento y una cierta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sean conocidas y estén presentes en el mundo cotidiano de las persona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38040" y="212760"/>
            <a:ext cx="84679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Valor de Marc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ALTAD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26"/>
          <p:cNvSpPr/>
          <p:nvPr/>
        </p:nvSpPr>
        <p:spPr>
          <a:xfrm>
            <a:off x="915840" y="611280"/>
            <a:ext cx="7921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oce usted esta m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R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Marcas de esta clase Producto conoce 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op of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54080" y="382680"/>
            <a:ext cx="8683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09480" y="1700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CONOCIMIENTO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DIB4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4673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RECONOCIMIENTO Vs. RECOR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 Young</cp:lastModifiedBy>
  <dcterms:modified xsi:type="dcterms:W3CDTF">2009-04-27T03:42:49Z</dcterms:modified>
  <cp:revision>49</cp:revision>
  <dc:subject/>
  <dc:title>Sin título de diapositiva</dc:title>
</cp:coreProperties>
</file>